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8D88-B062-4E92-B597-51E5283B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383F-9212-49BC-8470-BBAE85DF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D6F77-A1A1-47C2-8A5C-0B440154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C3710-DC69-4D0B-A595-0CEE5C9C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F6C07-1E73-4A98-BD64-48E38908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34C97-6CBC-4830-BB13-031C7415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6BBC8-2CF6-4217-8C65-CF456E21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7CD90-B032-4B31-A671-17866EE1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C46FA-3738-40E9-A632-9A5C15D0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0B40D-463B-4951-8BFD-AE0456E3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6C632-4043-49E5-A1D3-625BE21F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C0EAC-39A4-4A6D-AFCA-8613EC2A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0146-4D23-493D-BC43-23AE8655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FE68C-9DD9-465F-906C-D82E5D72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B2D3D-8679-46D6-9ED7-4795DBB5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2513C-9BE9-4674-96BE-B3B45EC4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6CE48-486F-4D5A-B6AF-8C28B079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59DB8-F9B6-4CBD-BD2D-AD703297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597A5-5600-4A23-941C-2A69B24A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74867-FB94-4014-B8FC-F8E0C5FA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88DA6-4174-493C-849D-7B4FC9FB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9172D-C003-4D36-B4BC-587912E0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FFD56-EC7A-4435-8AE9-E17E2DCCB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ED16-B117-4BD0-A073-9F6B7998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975F8-384F-448E-82D5-1B5F8293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3C51F-447B-4023-BBBC-BD5B9422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AC7C0-CA46-4E1F-9108-2B9D5C94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C9DF8-962B-4058-9D7E-109298C1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FA82B-901F-422F-91E6-165BFF12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3B4C8-0A1D-4574-9153-30E11689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8AF96-9ADD-45B8-AA5B-BCA58F89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DFD5C-E3B0-4564-8020-C66FB653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28702-0CD9-4C3A-A33C-5E4746F5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4474B-987C-4A90-888D-13DD62D3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21FE-337B-46B0-B09A-CD8D730F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5DCC0-796B-4DE9-B126-9878CFED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BA6DE-8D2C-4C0F-B02A-12D42A27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3B133-07F9-4073-83FF-6DFD04E4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9C574-A2E4-4AC8-8487-0D96E23E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2B657-C486-4DAB-BC86-911A0028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D07F3-A5FC-46D1-B07C-9D2725CB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D8099-68BA-4FBE-B7F5-08CA8398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5FF7F-8BE7-4316-B00D-B42FD105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E6387-BD44-431A-9DB3-B0FE5577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F8154-BA26-4A9F-993A-4A4FDA5E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F997-6DDB-4622-BFEC-DC59D933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7E242-8159-46EF-9E25-051C606A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2FC92-C9B2-4CF9-8DEC-CBD838BC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B2048-C38C-4D02-BC66-440BB95D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86A9D-1341-425D-86B0-3CA57F64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129A9-9691-433D-A4ED-DC7CF61A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75E321-2273-432B-9E39-E9D5F46A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709D4E-B58D-4ECD-AB44-FA5B9C8C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B66F4-12A2-42A9-9B8D-B72AFFD7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904E4B-94CE-4459-B9B5-CAF7070C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F37882-BFD1-40B0-9749-1CCCC818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39F9-0F35-417D-915C-45969E7F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B8A30C-65B0-498F-98AF-E1794444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EA60A0-9484-49AD-B7B5-36BCF346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53F40F-7187-49E3-8C98-2321DAA2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880328-0BB7-4AB4-AF96-8C97CD75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91B492-3FC0-431C-A12D-1B7994D9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BBE481-1A7D-4341-89BF-F143551B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F55A26-9555-4502-9DCB-11A21434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480C-0FAB-4F67-BE14-8B12ECE9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8ADE-5138-48EF-A312-1A7D375E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97DB-0CEF-4EB8-BAAE-5155AB2A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4B92-9FCE-40BD-86F7-D755EB9A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55EF-722B-493C-970B-E92A698F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000E-E0AD-4FC4-BC9C-C9448E34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B16A-3D78-4453-B9E0-2395AC86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E323-50D0-4399-8743-C0DD2E64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B303-0731-4EDF-B550-35A3DE75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AF83-9A42-4672-90BF-B5EF5CE7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41982-2325-4E71-AFB0-D5764CFF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681AF-7A0A-4C54-A318-2C757151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D3367-D998-4248-8365-10398291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E63DB-140E-437A-8E38-D3AA906B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EF744-E032-49C6-B127-BCCE003A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FDD2-EF8F-4477-AC3B-DE2DD377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32535-4F4A-4A83-9E70-89A97D0B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164CE-8D1D-4C42-A5D3-03D8CBD6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73453-193A-46C7-A919-BF0BFDE9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C3902-140F-4866-903A-B88D8813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9FBF0-5CAC-4030-A417-DF6A2ACC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A028F-85E1-44F0-B0D3-712A29B0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99EB3-EE43-4D61-B84B-C0C732E2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1329C-5169-41F8-9E06-ECA01878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8B8B7-2C62-4598-B371-31369A3D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0307E-EC72-4807-8296-A54D7A3C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4636-2F96-4E04-B48E-818D3C0F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24324-89EB-4133-A690-245B4D62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16D8A-9C61-4D29-B511-5E72BBF0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F3A51-6BC2-4437-B463-8D1E8CCF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A56F2-9F5D-4CB6-BD4A-014592A7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FF740-85E6-4CE1-A917-DE6E92FF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59D8A-F82B-412A-9D52-D2F82FAC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33060-42DF-4B3C-B630-DD78C926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8DEFE-BF86-4438-BBD5-A0620202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E942D-3F6F-4F07-8301-E6FDE96C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4E029-CD92-4113-8F80-F7D4AFA7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3770-9AB6-4EDB-BCEB-B84458AD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6B680-0E53-429C-A356-CF7554B2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0A238-4F96-41F7-83DD-3CA3C7B9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F2968-18DC-4CD0-999F-7592B677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333D6-5614-44AA-957B-306E1A40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1173F-12B4-4357-8348-6FA3D07B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997EA-4DD9-4EAE-A978-C1098DC0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54A4A-B7F5-43F9-B3E7-AA6B44DB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3CAA0-C8B4-4F51-A133-27C55EA3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C93FD-65E8-4B7B-A6F0-09075358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232CD-E7D0-41B2-A2EC-3595907B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22A7-5F5E-47A3-AAD5-284C9CE5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E6913-BBED-4936-94F7-8A093661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91375-8624-41A3-9C47-DC701A70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3A981-A53B-419C-969D-F01D6F3B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35506-8E50-4C7E-92EB-9F5913E2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937DF-120B-47F5-AAC4-F6094F13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1BF9E-B113-4968-AAC4-61A780B3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2E55E-13CB-4B76-969A-15B01213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9288A-F789-4F0B-9064-B4F7F696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CDD01-5F5B-4360-8242-94316AA1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00C30-489F-4788-8BE3-F9939E85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4ED5-E877-4572-B73D-EC9CC8C8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12D18-44A5-47C0-86C0-9A663CAB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8A272-543E-4030-A6AE-E33A7B4F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39398-BE82-40F0-B8C7-17449E88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F53B7-AF1E-4F14-887D-FF44CD5D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BFE69-7CF5-4416-AAFB-A34C512C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8F5CA-2012-440F-A8B4-571C1239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D26A2-8AE7-4815-9005-6D67C3C1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40B89-523F-475D-9E00-923B43FD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E0CB8-62F0-4401-AF41-D709038E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D333B-9A17-4D85-82F7-5536A3DB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6747-554F-45C5-90B8-18867D8F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45F56-25D5-4C16-81AD-E69CDE90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5CE37-6FE9-465C-850B-07BE616E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8C84A-DBD3-437E-BF48-E6431594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D1448-8D49-4A5C-8486-3A665E89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9322D-6D78-4165-BD61-5DC8C989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37B81-7BD5-4189-A5D7-C538F577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BBB6C-037E-4F8F-82F4-BF670401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CF493-FBAC-4C83-8D53-DC6FCD0B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6BE3C-1FAA-401A-B09E-F288B505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41728-921E-4B83-BC8F-A7E7E9E3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9841-F4E4-4D6B-8A4E-A729187E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5A85D-AC19-4CAE-AED8-C549E232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3F1ED-983B-4CA3-8D4C-FAE15943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86CEF-0EC1-4B66-9EDC-23D2BA84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9ADD9-4312-474C-A5DA-4C618FEC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B4B43-8FD3-4E6A-94BF-BA8B2583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F6463-45BC-4D37-81E8-6DCE6911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BE0E3-DF42-4E49-92D7-17BB44B6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45E7F-7773-4827-9078-45C95166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9D396-11F2-4FEF-A544-80A3BBF7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970FA-7AB4-40B5-854C-1077316A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AF97-1F37-4FB7-8E3E-13E8FDE351A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08A5-4524-4DD5-BA8E-05172224BB9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C334-CE0D-47E3-AE51-6E5A0FD0654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AE09-E9AB-46B4-AC5D-C7519A4940B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BF9D-EAFF-4A0F-8AA3-01AC152A4A1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2E6E-75B0-4A23-ABB1-AD435593C0E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17F6-F5C4-431F-B24D-2F37CE3CEB0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53F1-17CC-41E7-92F7-0A18B4E5270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E502-B24D-4E62-A2D6-D2C2B800778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B93B-AA9E-4FDC-A0DD-7572BEB70B5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7142-56BD-4F54-B419-4ABCCD95DD0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CF61-FE1F-4817-82C3-8F36FD67DD8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B2EE-3335-4651-9824-B71A9DB1EB4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5CE1-749C-4BC2-9486-BCC9C8992C7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4AED-F748-4CC2-861F-C665A765836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DF45-0EB1-4118-BD43-CEBA8E07C53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279D-E3BE-4349-B161-05437713140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C488-7A19-47B2-8FC1-F12A11E9D03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AB10-2F9C-48D8-A13B-4944CF530F2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CDC1-274E-4189-90D0-2B12228AC84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A913-5247-400B-8096-1B3CCE3D472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C24C-B6A3-4582-9CD2-343EE15B2FD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D7DB-4C67-4C8F-BD9D-073C1A25C82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6397-2A53-4DAB-B8DD-4C2A26B6F20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1292-94DC-4BEB-B270-9253F257967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78EC-7545-4925-A238-2E2E384F60B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文本框 14337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4338"/>
          <p:cNvSpPr/>
          <p:nvPr/>
        </p:nvSpPr>
        <p:spPr>
          <a:xfrm>
            <a:off x="1854360" y="189000"/>
            <a:ext cx="47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三八妇女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8475-B35C-44D8-973D-C77D39AB85A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矩形 4"/>
          <p:cNvSpPr/>
          <p:nvPr/>
        </p:nvSpPr>
        <p:spPr>
          <a:xfrm>
            <a:off x="5508720" y="662796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15362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4T09:49:1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0:05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