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122BD-7091-4896-A036-235CB4B7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0F6D9-6863-4E3C-8743-5ECD1060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4F766-FBC9-4D3F-A136-03781323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36780-4C49-45FF-BD51-CBB577EC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39038-C656-4BDA-A94C-A8E73BD5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18F07-F80F-4FFA-95C7-6476D876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A787E-DCB8-43B3-8A7C-D640E22F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94DA2-2D62-4C02-9F27-9380A6B11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D47C0-0259-4B05-B81B-AC611B1AE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B555E-3A6B-4B3C-84AB-6588264E8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15CBD-FF08-4C02-8060-60562E34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59059-4191-43DC-94D1-2F0AD4B5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80BCA-ADF6-4C20-8B80-A6BD57FA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A5C20-0F16-416C-A565-EE0A1756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E0685-456E-425F-9FC3-F94525B3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C2097-A250-4F8B-AE85-FFAFE37E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93700-200B-4790-A506-6D494844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CC6EB-0A90-432D-AC58-E2FD10A2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8B468-A327-41AD-BA4A-33E9F9D3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28DF5-5F30-42C3-9B6E-26DF2C71D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CBF8D-ACF6-4E0F-BFF2-DBB3CE212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4BB32-B98F-4754-8851-232A4153A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E2A7E-41DF-4A8A-B968-96942044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C078F-1549-43C1-A1D3-1E2AF66C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3F5AF-2751-4A90-9F3F-EBEA88B3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06B5F-1742-405A-A346-E8ABF7FC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5C363-97F9-4C11-91A4-F3830AA0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35B4C-EFE1-48C8-B575-C5DAF204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71DEF-EF3D-4D79-816E-36A1455C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BDE26-2265-4EAC-BBEE-C9B69613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39DE8-94F0-493B-91FB-E38A608D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8766E-4233-44C3-8E29-73821712E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9C337-8AB7-445F-813F-BE54CF0F3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01E81-112A-445A-A9A7-E8E6A13D7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9E2E1-494F-4532-9BEB-95B42405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6C52E-3FB5-453F-A0A0-8AB5CE1F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034B7-98A8-4140-AE5E-BBAEB629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85FD9-45DB-4386-9F49-BEEAA868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FD1DB-52F4-4791-9843-5756283E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C65A6-4191-4FF7-AD09-3DA4ED4A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2279E-2960-470D-B0D8-04040704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35890-E880-42BF-86E1-87EE67B9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C1C54-BD3A-447F-AE99-372B8027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BF312-FA9B-436A-8FED-D1C3E82ED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AA141-CABD-413C-AA80-1F1EFE504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BAA0-C6D6-428E-9DFF-C990A9B8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4914-0983-45E3-BA17-FC5BF7D3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26BC-6981-4DF6-B746-643210D8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D83B-476B-4D6C-941A-5AE898A5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B044-A59B-4D43-8536-AD35A1A2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AE25-A5C7-4B2C-9FEA-D39CFD45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BAD3-3A4B-4EF1-B845-016D14CD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81A4-F460-4D87-A3DB-0BE63F96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329B-D0B7-43C6-AD4A-64D63296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459A-B4EB-43E8-B9CB-2057ECF0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700B-B1BF-46ED-9846-6D401AAD4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290F-7B51-410B-A1D8-50999D553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013E-D216-44A4-8DE9-679008C1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7785-A01E-4736-8702-7124D74A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2FBE-4BAA-4E9B-9CFF-3AC81D6D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CAD3-B846-4437-A972-C6C70BB4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C93D-495E-4A71-8330-8CFC131C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FE45-9373-4011-9D5A-72F15945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FBFE-6635-40E2-AB10-9A20427E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F85D-DEE5-4117-857C-89E9C7F2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66C1-651B-4823-91D9-7CE7359E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7855-C49E-4FCC-931C-F2F0D7FB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C2C1-A970-4835-A267-F00914A47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7BBD-AD48-4628-AB31-3B679FBDB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A29C5-D024-4699-AE91-0B1E7FCC3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7CB62-01EE-4466-A85C-ED27649D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84A4F-87F2-44EB-94E0-6F1C32E6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EDA79-B29F-4655-A766-E9B9EE91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3CA21-93E6-4A70-BEE6-F49CDB96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39B93-72BF-4C87-8B92-99B5377F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EC497-47E6-4B4E-84D4-ACF34250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6FD95-481C-42EB-B8AD-35472917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FBA14-5E64-48CE-B1FE-F77CEB8C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D2439-F196-483E-8D27-B8D980FA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D0B24-A914-4347-97F1-AF07C0EA0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45903-42F3-4BAD-B90A-9DC6D6CFB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7E8AC-771C-4BBB-8C50-93C39BA22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6BFCA-505F-4A8C-BE0E-8DD64155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B1E88-8C78-4A11-AD9A-105FAD1D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9D57F-05FD-447F-A437-BC012A9F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876D6-9E74-42F0-9582-98973D62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C361E-EF94-4A67-BC03-3A7FE931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C6828-23B7-4E4B-A85A-52C2D101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C9888-6268-4350-9C02-60CFEEBF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CDAE8-7825-4611-A9C8-C52EC83C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37430-B0E2-44A5-9123-4CB1CDFB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4C894-7963-4AD6-92A5-B1FBB6FCE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9CAB2-F470-44AB-AA10-ED502CA2C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B6755-7802-43EF-ACBC-E0E62CC84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A04A9-B792-4019-859F-3154C4F2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30F08-9339-4417-990B-FE0BBB5F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7EA88-EB05-4F4D-962F-18F711B2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DAB07-9767-4244-A257-17ABB850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E5B59-FEB2-4280-A046-BD4C260A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9B2E9-B0A1-44A4-83DF-C4DC0B2E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56183-FE5A-4899-B8EA-8A0D84B4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19DE4-80F2-425D-AB7E-DE75FF6E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9EC70-1B05-45F8-8F3C-06100A2F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D8B5F-B57F-4207-8F33-ACB1E96BC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12E30-DB48-4296-8823-53D689C9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4EB06-8B44-43EE-B4FA-05898AFD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C55CF-A294-43D1-8F61-3C71E772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3DE94-AE6F-4FB9-9922-5AE112CB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44B9-FCB8-40B4-B6F1-E11256115E25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2094-1CC3-4BE8-9BC1-8EED59AE9532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94BA-269E-49DA-AC61-DE7969491863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C38B-3881-4968-99C7-6DA6973B9CA8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D650-582E-4031-936D-47B1794FD06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007C-4461-463B-AC5C-E8899F9CF3E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8" name="矩形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5B27-300B-43E2-90DD-390FB26734C3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5F4F-662D-462B-B480-56FD72999A34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EAC5-1A85-4AD1-8050-5F9C96C99F3F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7165-A38F-4062-BC1D-9D18E235ADE4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4F7B-A23F-4AD4-A621-4D1E22F258D3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A724-F21F-40EC-93F3-E2FA3F966CE9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B5FD-4327-4C46-9856-FDAC49BA2B7B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D757-6D25-4BAF-A1F4-628893FB4F9A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CBA0-2C98-448D-A8CE-2D3A3C94BC43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760D-E7A3-4B4F-89C5-EF8C4DD36E78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24B4-6AD4-4CC7-89DE-8B357AFC9511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D1C2-500D-4342-8E75-CE17B8A3561C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16" descr=""/>
          <p:cNvPicPr/>
          <p:nvPr/>
        </p:nvPicPr>
        <p:blipFill>
          <a:blip r:embed="rId1"/>
          <a:stretch/>
        </p:blipFill>
        <p:spPr>
          <a:xfrm>
            <a:off x="2455920" y="449280"/>
            <a:ext cx="4230720" cy="42418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5" descr=""/>
          <p:cNvPicPr/>
          <p:nvPr/>
        </p:nvPicPr>
        <p:blipFill>
          <a:blip r:embed="rId2"/>
          <a:stretch/>
        </p:blipFill>
        <p:spPr>
          <a:xfrm>
            <a:off x="3354480" y="1353960"/>
            <a:ext cx="2433600" cy="243396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3" descr=""/>
          <p:cNvPicPr/>
          <p:nvPr/>
        </p:nvPicPr>
        <p:blipFill>
          <a:blip r:embed="rId3"/>
          <a:stretch/>
        </p:blipFill>
        <p:spPr>
          <a:xfrm>
            <a:off x="4014720" y="2013120"/>
            <a:ext cx="1114560" cy="11142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80" name="矩形 8"/>
          <p:cNvSpPr/>
          <p:nvPr/>
        </p:nvSpPr>
        <p:spPr>
          <a:xfrm>
            <a:off x="-22879080" y="-12868200"/>
            <a:ext cx="54903600" cy="30881520"/>
          </a:xfrm>
          <a:custGeom>
            <a:avLst/>
            <a:gdLst/>
            <a:ahLst/>
            <a:rect l="l" t="t" r="r" b="b"/>
            <a:pathLst>
              <a:path w="54904640" h="30883860">
                <a:moveTo>
                  <a:pt x="25714960" y="14464665"/>
                </a:moveTo>
                <a:lnTo>
                  <a:pt x="25714960" y="16419195"/>
                </a:lnTo>
                <a:lnTo>
                  <a:pt x="29189680" y="16419195"/>
                </a:lnTo>
                <a:lnTo>
                  <a:pt x="29189680" y="14464665"/>
                </a:lnTo>
                <a:lnTo>
                  <a:pt x="25714960" y="14464665"/>
                </a:lnTo>
                <a:close/>
                <a:moveTo>
                  <a:pt x="0" y="0"/>
                </a:moveTo>
                <a:lnTo>
                  <a:pt x="54904640" y="0"/>
                </a:lnTo>
                <a:lnTo>
                  <a:pt x="54904640" y="30883860"/>
                </a:lnTo>
                <a:lnTo>
                  <a:pt x="0" y="3088386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0200.wav" descr=""/>
          <p:cNvPicPr/>
          <p:nvPr/>
        </p:nvPicPr>
        <p:blipFill>
          <a:blip r:embed="rId5"/>
          <a:stretch/>
        </p:blipFill>
        <p:spPr>
          <a:xfrm>
            <a:off x="11018880" y="-11140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482" name="矩形 2"/>
          <p:cNvSpPr/>
          <p:nvPr/>
        </p:nvSpPr>
        <p:spPr>
          <a:xfrm>
            <a:off x="-3600" y="0"/>
            <a:ext cx="75816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3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300" spc="-1" strike="noStrike">
                <a:solidFill>
                  <a:srgbClr val="ffffff"/>
                </a:solidFill>
                <a:latin typeface="Calibri"/>
              </a:rPr>
              <a:t>www.1ppt.com/moban/ 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文本框 13320"/>
          <p:cNvSpPr/>
          <p:nvPr/>
        </p:nvSpPr>
        <p:spPr>
          <a:xfrm>
            <a:off x="108000" y="42292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文本框 13321"/>
          <p:cNvSpPr/>
          <p:nvPr/>
        </p:nvSpPr>
        <p:spPr>
          <a:xfrm>
            <a:off x="2401200" y="771480"/>
            <a:ext cx="454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三八妇女节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145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mph" presetID="8" repeatCount="3000">
                                  <p:stCondLst>
                                    <p:cond delay="250"/>
                                  </p:stCondLst>
                                  <p:childTnLst>
                                    <p:animRot by="-21599879">
                                      <p:cBhvr>
                                        <p:cTn id="20" dur="185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mph" presetID="8" repeatCount="2000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7" dur="265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23" presetSubtype="3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33" dur="2700" fill="hold"/>
                                        <p:tgtEl>
                                          <p:spTgt spid="480"/>
                                        </p:tgtEl>
                                      </p:cBhvr>
                                      <p:to x="3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mph" presetID="6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40" dur="1000" fill="hold"/>
                                        <p:tgtEl>
                                          <p:spTgt spid="480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2" descr="E:\工作夹\PPT模版\s1040妇女节\原图片\4.png"/>
          <p:cNvPicPr/>
          <p:nvPr/>
        </p:nvPicPr>
        <p:blipFill>
          <a:blip r:embed="rId1"/>
          <a:stretch/>
        </p:blipFill>
        <p:spPr>
          <a:xfrm>
            <a:off x="6032520" y="3247920"/>
            <a:ext cx="3114720" cy="18957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3" descr="E:\工作夹\PPT模版\s1040妇女节\原图片\5.png"/>
          <p:cNvPicPr/>
          <p:nvPr/>
        </p:nvPicPr>
        <p:blipFill>
          <a:blip r:embed="rId2"/>
          <a:stretch/>
        </p:blipFill>
        <p:spPr>
          <a:xfrm>
            <a:off x="4062240" y="573120"/>
            <a:ext cx="4486320" cy="1895400"/>
          </a:xfrm>
          <a:prstGeom prst="rect">
            <a:avLst/>
          </a:prstGeom>
          <a:ln w="0">
            <a:noFill/>
          </a:ln>
        </p:spPr>
      </p:pic>
      <p:sp>
        <p:nvSpPr>
          <p:cNvPr id="487" name="直接连接符 11"/>
          <p:cNvSpPr/>
          <p:nvPr/>
        </p:nvSpPr>
        <p:spPr>
          <a:xfrm>
            <a:off x="4140360" y="2678040"/>
            <a:ext cx="4330440" cy="0"/>
          </a:xfrm>
          <a:prstGeom prst="line">
            <a:avLst/>
          </a:prstGeom>
          <a:ln w="324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8" name="Picture 3" descr="E:\工作夹\PPT模版\s1040妇女节\原图片\5.png"/>
          <p:cNvPicPr/>
          <p:nvPr/>
        </p:nvPicPr>
        <p:blipFill>
          <a:blip r:embed="rId3"/>
          <a:stretch/>
        </p:blipFill>
        <p:spPr>
          <a:xfrm>
            <a:off x="4062240" y="573120"/>
            <a:ext cx="4486320" cy="189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55" dur="500" fill="hold"/>
                                        <p:tgtEl>
                                          <p:spTgt spid="4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6" presetSubtype="37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Group 2"/>
          <p:cNvGrpSpPr/>
          <p:nvPr/>
        </p:nvGrpSpPr>
        <p:grpSpPr>
          <a:xfrm>
            <a:off x="2189880" y="406440"/>
            <a:ext cx="6045120" cy="3763800"/>
            <a:chOff x="2189880" y="406440"/>
            <a:chExt cx="6045120" cy="3763800"/>
          </a:xfrm>
        </p:grpSpPr>
        <p:sp>
          <p:nvSpPr>
            <p:cNvPr id="490" name="任意多边形 16"/>
            <p:cNvSpPr/>
            <p:nvPr/>
          </p:nvSpPr>
          <p:spPr>
            <a:xfrm flipH="1" rot="214200">
              <a:off x="2526840" y="645480"/>
              <a:ext cx="5608800" cy="3353040"/>
            </a:xfrm>
            <a:custGeom>
              <a:avLst/>
              <a:gdLst/>
              <a:ahLst/>
              <a:rect l="l" t="t" r="r" b="b"/>
              <a:pathLst>
                <a:path w="5130112" h="3067205">
                  <a:moveTo>
                    <a:pt x="5130112" y="2190186"/>
                  </a:moveTo>
                  <a:lnTo>
                    <a:pt x="4572696" y="2312432"/>
                  </a:lnTo>
                  <a:cubicBezTo>
                    <a:pt x="4437230" y="2476120"/>
                    <a:pt x="3623949" y="2967880"/>
                    <a:pt x="2946816" y="3013338"/>
                  </a:cubicBezTo>
                  <a:cubicBezTo>
                    <a:pt x="2269683" y="3058796"/>
                    <a:pt x="1197654" y="3227008"/>
                    <a:pt x="509897" y="2585178"/>
                  </a:cubicBezTo>
                  <a:cubicBezTo>
                    <a:pt x="-177860" y="1943348"/>
                    <a:pt x="-112545" y="1167025"/>
                    <a:pt x="365365" y="564626"/>
                  </a:cubicBezTo>
                  <a:cubicBezTo>
                    <a:pt x="843275" y="-37773"/>
                    <a:pt x="1659280" y="-12377"/>
                    <a:pt x="2202650" y="7666"/>
                  </a:cubicBezTo>
                  <a:cubicBezTo>
                    <a:pt x="2746020" y="27709"/>
                    <a:pt x="3481079" y="237760"/>
                    <a:pt x="4015866" y="709211"/>
                  </a:cubicBezTo>
                  <a:cubicBezTo>
                    <a:pt x="4550653" y="1180662"/>
                    <a:pt x="4616102" y="1781114"/>
                    <a:pt x="4653732" y="2070862"/>
                  </a:cubicBezTo>
                  <a:lnTo>
                    <a:pt x="5130112" y="2190186"/>
                  </a:lnTo>
                  <a:close/>
                </a:path>
              </a:pathLst>
            </a:custGeom>
            <a:solidFill>
              <a:srgbClr val="d9d9d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任意多边形 15"/>
            <p:cNvSpPr/>
            <p:nvPr/>
          </p:nvSpPr>
          <p:spPr>
            <a:xfrm flipH="1" rot="214200">
              <a:off x="2288160" y="582480"/>
              <a:ext cx="5764320" cy="3354480"/>
            </a:xfrm>
            <a:custGeom>
              <a:avLst/>
              <a:gdLst/>
              <a:ahLst/>
              <a:rect l="l" t="t" r="r" b="b"/>
              <a:pathLst>
                <a:path w="5272396" h="3069961">
                  <a:moveTo>
                    <a:pt x="5272396" y="2177286"/>
                  </a:moveTo>
                  <a:lnTo>
                    <a:pt x="4487995" y="2274503"/>
                  </a:lnTo>
                  <a:cubicBezTo>
                    <a:pt x="4352529" y="2438191"/>
                    <a:pt x="3609832" y="2961559"/>
                    <a:pt x="2946816" y="3013338"/>
                  </a:cubicBezTo>
                  <a:cubicBezTo>
                    <a:pt x="2283800" y="3065117"/>
                    <a:pt x="1197654" y="3227008"/>
                    <a:pt x="509897" y="2585178"/>
                  </a:cubicBezTo>
                  <a:cubicBezTo>
                    <a:pt x="-177860" y="1943348"/>
                    <a:pt x="-112545" y="1167025"/>
                    <a:pt x="365365" y="564626"/>
                  </a:cubicBezTo>
                  <a:cubicBezTo>
                    <a:pt x="843275" y="-37773"/>
                    <a:pt x="1659280" y="-12377"/>
                    <a:pt x="2202650" y="7666"/>
                  </a:cubicBezTo>
                  <a:cubicBezTo>
                    <a:pt x="2746020" y="27709"/>
                    <a:pt x="3481079" y="237760"/>
                    <a:pt x="4015866" y="709211"/>
                  </a:cubicBezTo>
                  <a:cubicBezTo>
                    <a:pt x="4550653" y="1180662"/>
                    <a:pt x="4616102" y="1781114"/>
                    <a:pt x="4653732" y="2070862"/>
                  </a:cubicBezTo>
                  <a:lnTo>
                    <a:pt x="5272396" y="217728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32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2" name="矩形 2"/>
          <p:cNvSpPr/>
          <p:nvPr/>
        </p:nvSpPr>
        <p:spPr>
          <a:xfrm>
            <a:off x="3276720" y="1563840"/>
            <a:ext cx="45748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界因为有了女人，而显得分外美丽！问候只是短短的几行，却是一个浓浓的真意！祝三八节快乐，永远年轻漂亮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文本框 15365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f5f5f"/>
                </a:solidFill>
                <a:uFillTx/>
                <a:latin typeface="Calibri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5f5f5f"/>
                </a:solidFill>
                <a:uFillTx/>
                <a:latin typeface="Calibri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7486-2556-4D12-A763-53F6AA33A9B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" descr="E:\工作夹\PPT模版\s1040妇女节\原图片\3.png"/>
          <p:cNvPicPr/>
          <p:nvPr/>
        </p:nvPicPr>
        <p:blipFill>
          <a:blip r:embed="rId1"/>
          <a:stretch/>
        </p:blipFill>
        <p:spPr>
          <a:xfrm>
            <a:off x="4032360" y="1185840"/>
            <a:ext cx="4973400" cy="14684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3" descr="E:\工作夹\PPT模版\s1040妇女节\原图片\2.png"/>
          <p:cNvPicPr/>
          <p:nvPr/>
        </p:nvPicPr>
        <p:blipFill>
          <a:blip r:embed="rId2"/>
          <a:stretch/>
        </p:blipFill>
        <p:spPr>
          <a:xfrm>
            <a:off x="5388120" y="2822400"/>
            <a:ext cx="2071440" cy="3715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2" descr="E:\工作夹\PPT模版\s1040妇女节\原图片\4.png"/>
          <p:cNvPicPr/>
          <p:nvPr/>
        </p:nvPicPr>
        <p:blipFill>
          <a:blip r:embed="rId3"/>
          <a:stretch/>
        </p:blipFill>
        <p:spPr>
          <a:xfrm>
            <a:off x="6032520" y="3247920"/>
            <a:ext cx="3114720" cy="18957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2" descr="E:\工作夹\PPT模版\s1040妇女节\原图片\3.png"/>
          <p:cNvPicPr/>
          <p:nvPr/>
        </p:nvPicPr>
        <p:blipFill>
          <a:blip r:embed="rId4"/>
          <a:stretch/>
        </p:blipFill>
        <p:spPr>
          <a:xfrm>
            <a:off x="4032360" y="1185840"/>
            <a:ext cx="4973400" cy="146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76" dur="500" fill="hold"/>
                                        <p:tgtEl>
                                          <p:spTgt spid="5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16" presetSubtype="3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04:18:3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0:01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