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6214-96C5-4E71-A213-0396B9D59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A737-6F01-4546-B079-5C5527A7D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7B16-DF43-4E90-8723-95FA8FE0B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DFD6-0C6E-4F88-824A-4458BFA00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C5C4-7399-4506-BC2A-B7E0A3B2D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BD49-EA6C-47E1-9F9B-CB74E70DF0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D6D9D-2495-4B87-B819-65B1A0BF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ADDAD-EC17-4F67-B304-5DE24D6B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9F6DA-4782-4FD1-B995-632877C1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B832-5C8D-4F4E-BBD8-64C53BB16E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6640D-06FE-4617-9D77-D94D7357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E247D-79D1-43E4-BADF-DDE8C20C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797A0-EBD1-4E59-8371-3D9C67FE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96022-504C-4156-ACCC-9A28F2DE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1B538-FAA0-47CC-A9D8-B7285A51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19A82-52B2-422F-8A5C-D3C92DE4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D2A0A-8785-44F7-90FA-0AFEECA9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0560C-A8F2-4EAE-875F-BC709642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56F45-B682-4B56-A7D2-75FE6876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F4DF-C6B6-41D2-A891-33A63FAE3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5797-14EC-4F48-A84F-A5C351FEB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1F2D-5CDC-4E32-AC72-F715AD27A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FEA1-1420-45C6-AEE4-1789E9190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C302-3878-4570-941D-EA0B0975C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新年22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A336E4D-D3AF-4C1D-86FD-2BF035D7E7A3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38360" y="43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8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0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3349080" y="1486080"/>
              <a:ext cx="360" cy="576000"/>
              <a:chOff x="3349080" y="1486080"/>
              <a:chExt cx="360" cy="576000"/>
            </a:xfrm>
          </p:grpSpPr>
          <p:sp>
            <p:nvSpPr>
              <p:cNvPr id="63" name="Line 23"/>
              <p:cNvSpPr/>
              <p:nvPr/>
            </p:nvSpPr>
            <p:spPr>
              <a:xfrm>
                <a:off x="3349080" y="1486080"/>
                <a:ext cx="0" cy="5760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349080" y="148608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1" descr="新年11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2" descr="bg"/>
          <p:cNvPicPr/>
          <p:nvPr/>
        </p:nvPicPr>
        <p:blipFill>
          <a:blip r:embed="rId3"/>
          <a:stretch/>
        </p:blipFill>
        <p:spPr>
          <a:xfrm>
            <a:off x="46836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2904-B4D1-4678-9BA0-BFF8EB922BB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0EAB-2BEA-4AE5-9C89-82F0CF693D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8640" y="1550520"/>
            <a:ext cx="8218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幻灯片完整版免费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文本框 5122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AFFDC9E-3E8F-4584-8C0B-7AE1B23219B3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4120" y="1341000"/>
            <a:ext cx="7666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文本框 6148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ppt</a:t>
            </a:r>
            <a:r>
              <a:rPr b="0" i="1" lang="zh-CN" sz="1600" spc="-1" strike="noStrike" u="sng">
                <a:solidFill>
                  <a:srgbClr val="0099cc"/>
                </a:solidFill>
                <a:uFillTx/>
                <a:latin typeface="Arial"/>
                <a:hlinkClick r:id="rId2"/>
              </a:rPr>
              <a:t>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C857-8ED9-47D7-A1BC-67A59C8A8A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F6AC51E-16AF-47A3-B2B0-7A66D486FB17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新年33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2608200" y="1160640"/>
            <a:ext cx="42102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bg"/>
          <p:cNvPicPr/>
          <p:nvPr/>
        </p:nvPicPr>
        <p:blipFill>
          <a:blip r:embed="rId2"/>
          <a:stretch/>
        </p:blipFill>
        <p:spPr>
          <a:xfrm>
            <a:off x="468360" y="465120"/>
            <a:ext cx="1528560" cy="79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47Z</dcterms:modified>
  <cp:revision>15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