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1DEF-2683-4353-A25A-7DE35D9FB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F9CA-8761-467A-A43A-4F25D669B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AF24-7821-4E0F-9C33-0EA4FD1A8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FF9F-5792-4379-B07D-1F10AB793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842D-2CEC-48D9-AF99-6237529AA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10BE-8E29-4169-BCA8-743A6707BC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634E5-0D84-4183-9000-2A04B949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72640-8BC0-43FF-91AB-5CA003C2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25E8A-6053-4B7E-8AC2-035488B0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A2B1-9ACE-461E-A01F-05E423DD4B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26E22-2C1E-4779-B785-49DCF086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A3EDD-059E-4DB6-96E1-350077A4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8538A-CDBA-4878-92F9-69664C7C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C91A0-4346-4F14-91D9-F71C4A2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94740-6937-4FF7-95EF-66B579D1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BAC96-EE71-4913-B8E8-F01D3D79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521BB-2BB7-4BEB-82DA-445A5E62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E4923-04D3-46F5-9CC5-7E70BB7B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822C3-E8CC-4735-8798-54B97D2C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2EAA-46F1-4582-9F91-2C5013559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FC08-B44C-4648-AAF3-2EA396678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448E-5B9A-4446-A801-296ED8B90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B4CE-6299-42CE-A344-464BB63E2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FC90-7FDB-43F5-BC0E-D81C6CDC0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新年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C3AAE6E-6A81-471A-BB44-7B24FA49695D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84200" y="4874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3349080" y="1486080"/>
              <a:ext cx="360" cy="576000"/>
              <a:chOff x="3349080" y="1486080"/>
              <a:chExt cx="360" cy="576000"/>
            </a:xfrm>
          </p:grpSpPr>
          <p:sp>
            <p:nvSpPr>
              <p:cNvPr id="63" name="Line 23"/>
              <p:cNvSpPr/>
              <p:nvPr/>
            </p:nvSpPr>
            <p:spPr>
              <a:xfrm>
                <a:off x="3349080" y="1486080"/>
                <a:ext cx="0" cy="57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349080" y="148608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1" descr="新年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bg"/>
          <p:cNvPicPr/>
          <p:nvPr/>
        </p:nvPicPr>
        <p:blipFill>
          <a:blip r:embed="rId3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9FA0-74E7-4BE0-9AED-2ED831F0996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CCCF-D009-4B09-8ED2-A9AFDD306E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69840" y="2090880"/>
            <a:ext cx="68072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幻灯片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274920" y="3169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5124"/>
          <p:cNvSpPr/>
          <p:nvPr/>
        </p:nvSpPr>
        <p:spPr>
          <a:xfrm>
            <a:off x="92160" y="6072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A187BC1D-593A-49CB-A6B3-CCE5C6D85630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3040" y="1483920"/>
            <a:ext cx="7927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148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</a:t>
            </a:r>
            <a:r>
              <a:rPr b="0" i="1" lang="zh-CN" sz="1600" spc="-1" strike="noStrike" u="sng">
                <a:solidFill>
                  <a:srgbClr val="0099cc"/>
                </a:solidFill>
                <a:uFillTx/>
                <a:latin typeface="Arial"/>
                <a:hlinkClick r:id="rId2"/>
              </a:rPr>
              <a:t>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5A7D-81EE-4F71-B62B-214645EA9B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9AE2B9B-6DB5-4969-B291-1947A08FD2CA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新年3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1239840" y="2090880"/>
            <a:ext cx="42102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bg"/>
          <p:cNvPicPr/>
          <p:nvPr/>
        </p:nvPicPr>
        <p:blipFill>
          <a:blip r:embed="rId2"/>
          <a:stretch/>
        </p:blipFill>
        <p:spPr>
          <a:xfrm>
            <a:off x="7147080" y="465120"/>
            <a:ext cx="1528560" cy="79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46Z</dcterms:modified>
  <cp:revision>1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