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6052A-FA4E-41AC-9D99-1D6BB207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B8592-5B2E-4B50-814E-10A298F9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666440" y="66636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7C727-63AC-4E14-9D05-C97B3BAA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CC093-31E4-497A-9876-886E7AEB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B0C37-97EB-4364-874A-2CE6BABD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17B10-FAC9-4FD1-BCAC-7ECA1919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7B4E7-7A6B-4245-AF3A-55A7E11A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EEAD1-2853-415C-A0BF-B088BDC1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5208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940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0476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5208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940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D4DEA-F6E5-4416-A57A-EEBD5691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807A0-D48D-4FE1-AB07-CE03C65A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EA532-B396-444B-93AD-B8ECAFDD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4BB6B-437B-4730-B318-276B3ADA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4B8AF-3052-4AE2-B6D4-B21312D0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2E856-E632-4F98-98A4-0A342B58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666440" y="66636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6E8D1-9CAD-4DA1-A211-B9DB9DD4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A8D50-B423-4EEC-850D-137E8816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11CA3-1DF3-44ED-9B0F-F767335F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74B4C-E355-4F1B-B576-6AA58318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3BFF7-C6C0-4A54-962C-21B55295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A1B30-A97B-457B-A845-036ED72F7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208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40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476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208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40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5208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940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10476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5208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940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C6D41-073B-447E-9583-12211857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4D709-DA4A-462C-9C22-3CC60A76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D1118-F205-441A-8A37-B393EA53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ECA87-106C-4820-A8DF-8BC2C868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07DBE-AF12-43D9-BA4A-06CFD21F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94229-82DE-42CA-AA32-AAF0CB37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1666440" y="66636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E5DD0-6183-4A7E-A70B-1DF990B5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BF26E-552E-4D55-BCDD-230AACEA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05C1C-AA96-4B70-9CCF-AEB88AE3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87189-7061-448B-B43B-8A1A570B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60B6-45DF-4C9A-9014-29356D05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FB785-DAF9-401E-BED1-D00E24B3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50687-0027-431F-820D-59D33BE4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208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9940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10476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5208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9940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EBF62-4348-4D47-92C9-7DEAA3605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C5505-173E-46A5-A4F3-21A06BF0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AC0BF-9CC3-41DA-875A-4EC3A91E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0CF94-CE6D-4A9A-8965-72D4406A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8AE05-E420-4441-ADBA-9CA95B58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7F7B1-5F2C-4D01-B69A-734AC2D5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1666440" y="66636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892E1-8C37-49CA-A44F-FB9F68AA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060D0-2E7C-4224-85DA-AF3E710A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6344-A097-4E91-B78C-A30A3B66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891A4-A61A-4070-BAD0-51FA816F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A427A-73D0-4B29-9BB8-222A2599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DCA80-44C4-44EA-A011-EC90AD1F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19CEA-5BF1-40C7-A5B5-8F1AD87E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5208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9940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10476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5208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59940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49596-AA3E-4E36-ACF7-A13DFDC0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E5D68-2F78-4BC1-937B-34916E1B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BD65E-507F-4086-A47E-594B7616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57900-F052-42AB-ABCD-1CAD7358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94FD2-6115-40E3-901D-41D6E820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61C18-3466-44BE-A188-F1D1ED84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3E9B-31FC-4449-9A12-D835294A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1666440" y="66636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91FA5-54FF-4679-98DF-BD579791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26CC6-9103-4158-A1DF-F2258072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01F06-C034-4993-B6D9-5EFC0763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6E619-DC3D-4A56-A619-9540BEF2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5A8F9-A72B-443C-BB1F-240FDCE8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F36DC-10C8-4674-8DAF-19BE2FAB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5208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9940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10476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5208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9940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BEA42-1EB4-4EE7-B5B4-DCCF6578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DD894-A51C-4B11-A786-4C612E8E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7D6B9-5341-48A4-A053-BA11941C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44406-454F-4A1C-8B54-B0C397AC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6E7C-9AEA-4B0E-A462-F0A402B6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3BDE8-8611-405E-A091-1F08C769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0404E-D561-4617-9D0E-0AA208AC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1666440" y="66636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8C8D1-A188-4911-BAB3-F042D76B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790CB-A07F-4D4E-918B-AE35AA6F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05902-0482-4545-A30F-AE9E02F5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46BB4-0A84-4FDD-BB25-43E54E7C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9366C-2E19-4595-BA3B-627543E6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759A1-ADA1-4406-BA6D-C7B9E390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5208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940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10476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5208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940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F97D5-6045-461E-BD41-D54993BC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F24F-E8CD-4269-9A16-6697032C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66440" y="66636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CD9-2B5A-4380-B2D9-33BC4F80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A782-B319-4553-A4EA-45DEA0C6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7CA-E326-41F0-8A96-468CA1D7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9291-19EC-4FFD-B141-5AB7101A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050F-1243-4938-8540-CBC1A947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DF51-8484-452C-88D7-73DE1AFD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208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940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476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208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940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CAFA-C580-4E92-8EBA-0BD693E2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666440" y="66636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208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940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0476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208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940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D367-FD6E-4723-BA18-485F3386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D442-9060-4F6D-B304-7E33E5A9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AD2F-A10F-4365-B744-70D48688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AB23-C3F0-4054-BEC2-4DAD5EBC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789C-4E79-40FB-A047-14DD3742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666440" y="66636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6AFB-C386-4942-875E-97D8B4BC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B599-4932-4613-9D04-C34D8EDE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5BB1-2596-4900-8ADE-9BEDA315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5EFF-1AA4-4DD6-9E80-C8D51A52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00F9-6C28-4226-9083-3974DF75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67FD-C9A3-4EDA-9B26-CEA9D3B0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208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940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0476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208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940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D284-68D9-4D19-AD65-9D0F2A3E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8F2DF-C08F-4C13-98A4-05E13633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E9717-2C2A-48A4-B345-1758B1BB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AAAA9-63AB-41D4-B851-7FA0ED37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ACAA3-381F-482F-B49C-A7668633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5B0A0-48F5-4ACB-AAE1-73BA98E8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666440" y="66636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920A4-0F8E-4BEA-B9E9-DB95967B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FB2AF-4917-4833-8573-9CD66E5B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0F0FA-0666-4517-ABD4-F8E2B1BB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8A921-1D2F-4F70-96B0-37E73CD9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0511B-2B26-475D-9273-96553E84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49C11-6321-4224-BB8D-2A696818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666440" y="66636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5208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940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0476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5208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940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29FC0-F6D2-43BB-8C56-B65CC8AE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9E7A3-1710-4437-B237-568FCCFA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DF3A3-C15B-4C4B-BB1E-260F0726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C74F9-D051-407D-8334-98DE010B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E7887-4782-4626-98B8-1669E654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3BA77-31F3-44E4-BE2D-473B5CC7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666440" y="66636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41B88-C31C-4A2F-852F-B8FACEB2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9336A-35C9-4183-B5AA-D026C9C7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C7546-2CA7-4DD9-ACFD-735429E0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490F8-EC74-4AFC-9EE0-6B52FAAF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A97ED-91D7-47C6-A526-8BF9D14F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D4C71-11D7-4751-B0FB-2B7065B9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5208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940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0476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5208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940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0F06C-A644-49EB-8AED-48C628BD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40D5E-2508-4046-8BAA-43490D05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9E5DC-0184-445E-BAEB-7DEFBD2D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9543D-B50A-4B36-BCFD-11BC9058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2EB9E-CDE6-4AC4-B1B6-BA11DC69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A2AE9-4CB1-4593-8883-D4974AC2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666440" y="66636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0AA5D-08F2-408A-B767-24EDC33C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7099C-77AE-49A7-B4E1-B550A33E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A72BB-F4CF-49C1-817C-B9A50DB1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4DF5A-F9F0-42FC-B5DF-1B57F4FB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A6467-7E78-4B0F-BAD9-38F6772C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9B901-1B82-4D0B-8F9F-1EDD3D41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5208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940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0476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5208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940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4203D-37CA-4BD1-B7C1-5CC344F2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638C3-E512-48C3-8907-79D4C0E8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84EDB-5E15-4AFD-BD37-18C499A1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94DCB-D0CD-4E12-A25B-3FAF4114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0B723-EE7C-4341-B7CC-0E068F8B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FD615-DE67-4923-A76C-53F28802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666440" y="66636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C2ABC-2763-4E66-8FC1-79978135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18ED8-D39E-4FCB-8BAF-AB9941EA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4936B-6B95-417A-856D-69C44215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5CDA5-3064-4C28-9E7B-ED47DCF9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047600" y="41896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9411E-40D8-465B-98CF-F93B8781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96280" y="200016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04760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796280" y="41896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12BC8-6F8F-4C16-9789-24B6B84B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208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994000" y="200016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0476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208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994000" y="41896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75A79-7F38-473C-9FFA-01CC721A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C23AB-B739-46F2-987C-C5D4C9DA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881A0-3521-4E1F-A465-BCB27647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04EC4-6FFA-420B-89EE-19633B2C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66440" y="666360"/>
            <a:ext cx="7162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C465-8349-45B9-BA85-DDEB8D96D2B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EC96-F9F3-4D78-A73E-A06D71C5071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A0AF-5F1D-4173-8EC2-C78F94C69D2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8CA5-6917-4FF2-AE2D-9573CE5790A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C184-BF8A-4D81-83F0-B27772C00CD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F916-FC63-4B62-A71C-C3F002D1D3E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3B47-DA76-40A8-9B83-4977A8D23D9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A074-E4EB-4410-93F8-20197B16456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7A4C-FFE9-4CE0-90BD-26E73560A0B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899F-153D-4346-BFB3-66407493C93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748D-906A-4D17-B246-ED765E03A67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AA52-6DD6-44CF-AF2B-04EE1DC3210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66440" y="666360"/>
            <a:ext cx="7162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BCDC-AF98-4C32-BC85-9B6E791D390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60F6-0DDF-4CF2-B1E6-3A3D902457A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AB3E-B68D-44FF-ADE1-834CAAD7DE7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B143-2B2A-49DF-A916-33F75D9BED4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75BE-435C-43B2-BD2C-F8A51583E21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AF0B-0558-4399-A52C-29B9DA8A43B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5F79-F254-4CDC-B9A2-981149F1F44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6F81-6646-49DB-879B-134AE88949E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399D-F002-4611-A159-900F6FD6DAD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2030-7F28-4E6A-A010-50EF4BF1F25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C23D-173C-4F0D-B057-E6D0BF7D54B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2B15-3A57-4764-80D6-0F32EC824FF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文本框 15361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9" name="文本框 15362"/>
          <p:cNvSpPr/>
          <p:nvPr/>
        </p:nvSpPr>
        <p:spPr>
          <a:xfrm>
            <a:off x="2342880" y="32004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圣诞红球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666440" y="6422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047600" y="200016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内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AE94-D6FA-4267-8A0B-729860376A2C}" type="slidenum">
              <a:rPr b="0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81080" y="43272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6934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Arial"/>
                <a:ea typeface="宋体"/>
              </a:rPr>
              <a:t>单击此处添加内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文本框 17411"/>
          <p:cNvSpPr/>
          <p:nvPr/>
        </p:nvSpPr>
        <p:spPr>
          <a:xfrm>
            <a:off x="1905120" y="1447920"/>
            <a:ext cx="503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a401"/>
                </a:solidFill>
                <a:uFillTx/>
                <a:latin typeface="Arial"/>
                <a:ea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ffa401"/>
                </a:solidFill>
                <a:uFillTx/>
                <a:latin typeface="Arial"/>
                <a:ea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20:13:2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3:58Z</dcterms:modified>
  <cp:revision>6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