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469-163C-4F72-AE0E-3BC1AA22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24C-A974-41EB-A6E9-37A2E05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C9ED7-1F40-43B2-B8FE-F6DBFC7B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E4C39-65DD-4D7F-8E21-E71E4EB8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3B443-75B2-4630-8BA4-288E60F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D5C42-0A33-4C45-8B4B-941BEC4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94C03-4A6B-4291-9C81-1060F2C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78041-0283-4843-BCC0-127AEC2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71E43-9F25-4E9F-A481-A95599E2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9FF93-B4BE-4C97-8BE9-2D57845A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E6B01-6A5B-4A7A-B8DE-B202C3BB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4B275-EE7C-4616-9080-21809D59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82C-9E5E-49B0-8810-5802FEF2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961AE-05B8-498F-8517-6D78E238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85DD2-707B-475D-B16B-B1FD6C07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4E098-C327-43EE-896B-09B4B497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F763A-D319-4559-B256-A18ECB3B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55BCE-259C-4DC9-8E54-78BA3D5F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D5792-8099-4B76-97C3-A129E6D3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D2868-B502-4867-A936-39C77AE7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5BE58-B05F-4121-9AAF-8978E521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F7BBD-1DDC-40C0-8FBD-865626CB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60A64-8678-468A-BCDC-830B2A79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C3F-530B-4317-9E10-95432B0B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D4646-8288-43B4-97E5-DA52B661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4391C-6288-41B4-B1F0-4A0747F3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8CAE9-789F-43E4-9BA5-6DC04B94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EFEAF-4B02-410B-8FFF-2EAF8164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AD7E8-4281-4429-AAAF-D058DDCD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FFE59-95C4-46C7-B6D5-863E788F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727F1-23D2-42F4-87DE-D85141B8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4B8AF-C983-4F15-A19C-B79C991E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A3180-E32C-433A-B223-5CCC9316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65D72-554C-426C-A743-571717D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35C1-211F-4FEA-B882-A0FCAEE1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CBA46-5F03-4BCE-899E-7704C1E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1B2BB-96ED-4E3B-859F-3A9291A2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F7B57-ADA3-4BE6-A7B0-0AA695A9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306EC-A402-451F-A55C-12E54AB0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8EB8F-5269-4393-8533-99540338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5BA50-544C-49E3-A046-16CD580A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306CA-900E-4DC8-A2F6-B8535BB8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76B11-9EB1-41B1-B12F-4E99CB4B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B2CA7-9EDE-4CB3-A7CA-B77A7E03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51C0A-8775-4BBD-BB7E-84A3C74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0B72-3652-4449-AF7C-41FA981C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E0D4D-9C92-4CC7-B22C-BE4824A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41D81-0078-4625-B4EC-82EFADA1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0C056-E543-48FB-94F4-32A9A32E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60A2B-5857-4FFD-8860-10716820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BABD8-A259-462B-AFD7-52DEF6ED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0D29B-215E-4E4A-8DEC-5C0219E6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A17F6-EFAD-44BB-A20B-6E1FE6F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1DA75-74DB-42DD-98ED-625926AE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6AEFE-F106-4402-B982-308D6A3F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9316F-5C3F-4E1A-B3F1-1AE93CA4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981A-FF5F-4A64-8419-41B2500E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83EF4-BA28-4E86-8874-2452E008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030DB-A7A4-4D97-8A0D-D2175152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B596A-FD9A-41ED-B395-3A3F0D3C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77B0F-7149-4407-801D-DB70D12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04490-3671-4FCC-B44B-FE46B6E5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8F2FA-4295-4FF1-9688-BE4D4BBA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7C272-AE56-423C-A675-3D49D7D1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5928-B6E0-402B-8495-A8CCA85D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87CF-9E1B-4482-BD2B-D8C9242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67CA-CFBA-468E-8AC1-A48BC9D8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057C-CDB8-40BB-B3A0-AE960B11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D00-DC11-4205-9479-B471BE5F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F20C-49ED-41D4-B7C5-CF168AC9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7BAE-9B10-40D6-BAE1-AAEE88F5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60C2-49B4-4DFF-906E-00165E77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9DD5-5E2B-421B-BA26-228F6241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B67D-44E5-4E18-999B-8A932EB0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70D2-B0F3-4A3F-B050-633C576D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BD52-264E-462B-89BE-D3B129CE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49E5-4F55-4EED-901F-2DECEE38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F436-2F2C-4D97-80A7-3B0FFFED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046D1-8355-4D65-AA21-49CBA3FD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F94-6B7F-4340-A2DE-810C12E7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302F-A32B-4AA9-8EA4-4AD0551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C4CE-B219-4CA0-BDFB-EA767BDE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57CB-CA9D-4F85-9D03-497EFD6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8155-5222-48E3-A10E-0F8AB64E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E22E-6731-4218-9B52-4098B973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98E0B-F224-4DBB-9EBB-C78560C1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0771-BE92-47DF-AFB1-CB6E8E0A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D24E-47B7-48B8-9C33-3F5C8400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393B-0535-4228-898F-E64F4E84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6C225-CA7C-414A-B034-4ECDE7C2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34A-AEF0-4D92-8854-F415031B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BB95-6E19-4ACE-9055-32802E9A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0DD5-821D-4581-A537-68B3C8D4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A0C0-DD1B-4F3B-B711-8FF78422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2730-0933-4D7B-8B13-F67570C6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C072F-3B99-4300-B781-14FFB0C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225B-FC60-4CE3-B5B5-0F71007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7351-2A01-4754-9995-E68BFCB4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C193-B8A4-4991-9BF5-52E3B5ED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4833-CBBA-42A9-912C-204A1C13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0CC47-0009-48B3-A9F8-5B67ADC3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5CE-665C-438E-B472-2D0DE492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26C47-ED95-4FD1-9CD2-17F44DFD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C96F6-7716-409B-B1C0-F6D26D34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E4BC7-81D8-4069-92BA-AB65E898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3ED2B-6B06-4D8E-BFA7-A5812BEE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75A0E-94B5-4381-8531-9AE5DFF4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1CE05-97E9-4C1B-BB74-08FA1E7F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D6DDB-5D90-49E4-8C7A-7AAE927A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525FC-FCB8-4147-96F2-E5D6D50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74927-009B-45AB-8455-CE99ACBE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A62D5-8BE4-4652-8824-40172C12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6A9-F002-4141-9FF9-A7FD6312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99D3D-EE9E-4663-A746-3BBB2D2D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8FC98-C74E-47D4-BEA7-BF4973E9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D5645-3754-412D-BC81-1C35ECE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0C8F4-ED50-4227-AE07-EB4DE065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BC415-15C1-4F85-9088-4EFEB72E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6A48-3939-4528-85E2-584BF67F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0EA1E-FA2D-4F5B-8897-7423A5ED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2AFAD-7068-4438-BFA4-9DCB3920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9DA7-8DEC-4ABA-AE68-FF31FF9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D2B4-C9E3-4ED2-976E-5FFD27EF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2FD-3535-4F20-AF4F-3A346B3C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43B55-ECB3-4F1D-B155-DEE199F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DAE0-0721-42E1-BBC1-2BE74DE2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85B80-0AEF-4798-9ADD-E5FE7B1A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921BB-31C9-44A6-B5E8-482B0E3C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DFE99-26BD-49AE-A6C3-AA07EA3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B9F27-8BD1-4224-95ED-7BB79A0B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47CB3-1860-4368-9BB8-18D04890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D631F-25BF-4A88-A5F4-B1FD7388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84EBA-0844-4DC9-98DE-DF6D833B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987C-9936-4F49-8631-0E630DFF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AC6-DF05-4DB2-B333-4371A165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08446-4593-427D-A97B-9079A393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6EAE-3612-4890-A3BA-5123A90C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28F26-3560-4799-AEF7-24CE13ED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8C637-8A8B-4326-AC15-3251251C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BBC89-286D-482F-AAC2-D298128B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92F7-8C91-4B2C-90D4-7D73DCC7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39946-0009-47DB-8B8F-BC4EB4B4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82D7-D22D-4D53-94FB-0900EFE1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2079C-283E-4A50-BC9F-19ECA87C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43F10-D9B4-427D-81D9-DA2803B9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075-05B6-484F-9EB3-9E2FA61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98DF7-8AE3-4EDE-AD19-9F204299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1DBF4-AB5F-402E-8CE0-221BAE8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0AFBF-D055-4BCA-8053-200FFAB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984D4-7A0E-467E-B80E-ADD9D9D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38DCC-03ED-4155-AA2F-31592A9E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F8CC-81FD-4AA8-9436-CF18ECBB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BD36-843E-4B81-8405-EB89DBCE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FEC70-9F32-4356-84A4-CD588A0B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28841-351C-468D-889A-6633B84E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7C648-33DE-4663-A3D9-38735B61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8EC8-F9D2-4289-87FC-AA136E3EFC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8D9D-55B3-4520-8F04-B8991156F2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581-B8D6-4BA6-994F-8EFB6A6181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7F8-0C76-46BE-B8E6-1F4251A6DF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8E10-E025-40EC-B2D7-D9362F15CB0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9AC6-A48B-4E15-99F8-DC67713A1A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D266-739A-476B-A29B-97086BFA13F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3D68-C7F7-48DB-A5CD-3C652433F1F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B13A-BE05-4C15-90A9-09456AC37DC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A7B2-A095-4885-A483-2E92794410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B5DA-D425-49AE-BB00-4876FEAAEE6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717D-11AC-4B9D-B7C7-5B6C206F888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46F3-9512-4B02-99AC-B549E8E7CE7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A280-D9C8-4FFA-B64F-12DF6B694B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29F0-5FC5-478A-9E10-4DD88E59937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2CA3-FA8F-47B3-9FEA-0133E438DD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E296-5089-4F4A-B537-963274DEC0A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9401-241A-48C6-A2CB-4728B4D127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7621-5932-472B-8E35-A5ED2C0782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6D97-A1A8-44B2-BB1A-0A53ED92E4C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DED6-77FF-4FDC-A754-7ED8F590DA2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12F-A743-40F9-B39E-E806200DBE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659C-58F8-4949-99AA-903872FB598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F80-64D2-43ED-BCA2-5431D298B4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BDCB-0167-4F4A-9494-094883EAC9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68DD-8188-4B56-8155-CB5C1934EA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4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image" Target="../media/image7.png"/><Relationship Id="rId36" Type="http://schemas.openxmlformats.org/officeDocument/2006/relationships/image" Target="../media/image8.png"/><Relationship Id="rId37" Type="http://schemas.openxmlformats.org/officeDocument/2006/relationships/image" Target="../media/image6.png"/><Relationship Id="rId38" Type="http://schemas.openxmlformats.org/officeDocument/2006/relationships/image" Target="../media/image9.png"/><Relationship Id="rId39" Type="http://schemas.openxmlformats.org/officeDocument/2006/relationships/image" Target="../media/image5.png"/><Relationship Id="rId40" Type="http://schemas.openxmlformats.org/officeDocument/2006/relationships/image" Target="../media/image8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2.png"/><Relationship Id="rId44" Type="http://schemas.openxmlformats.org/officeDocument/2006/relationships/image" Target="../media/image13.png"/><Relationship Id="rId45" Type="http://schemas.openxmlformats.org/officeDocument/2006/relationships/image" Target="../media/image14.png"/><Relationship Id="rId46" Type="http://schemas.openxmlformats.org/officeDocument/2006/relationships/image" Target="../media/image15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image" Target="../media/image17.png"/><Relationship Id="rId53" Type="http://schemas.openxmlformats.org/officeDocument/2006/relationships/image" Target="../media/image17.png"/><Relationship Id="rId54" Type="http://schemas.openxmlformats.org/officeDocument/2006/relationships/image" Target="../media/image15.png"/><Relationship Id="rId55" Type="http://schemas.openxmlformats.org/officeDocument/2006/relationships/image" Target="../media/image15.png"/><Relationship Id="rId56" Type="http://schemas.openxmlformats.org/officeDocument/2006/relationships/image" Target="../media/image15.png"/><Relationship Id="rId57" Type="http://schemas.openxmlformats.org/officeDocument/2006/relationships/image" Target="../media/image16.png"/><Relationship Id="rId58" Type="http://schemas.openxmlformats.org/officeDocument/2006/relationships/image" Target="../media/image15.png"/><Relationship Id="rId59" Type="http://schemas.openxmlformats.org/officeDocument/2006/relationships/image" Target="../media/image18.png"/><Relationship Id="rId60" Type="http://schemas.openxmlformats.org/officeDocument/2006/relationships/image" Target="../media/image17.png"/><Relationship Id="rId61" Type="http://schemas.openxmlformats.org/officeDocument/2006/relationships/image" Target="../media/image19.png"/><Relationship Id="rId62" Type="http://schemas.openxmlformats.org/officeDocument/2006/relationships/image" Target="../media/image17.png"/><Relationship Id="rId63" Type="http://schemas.openxmlformats.org/officeDocument/2006/relationships/image" Target="../media/image18.png"/><Relationship Id="rId64" Type="http://schemas.openxmlformats.org/officeDocument/2006/relationships/image" Target="../media/image17.png"/><Relationship Id="rId65" Type="http://schemas.openxmlformats.org/officeDocument/2006/relationships/image" Target="../media/image18.png"/><Relationship Id="rId66" Type="http://schemas.openxmlformats.org/officeDocument/2006/relationships/image" Target="../media/image17.png"/><Relationship Id="rId67" Type="http://schemas.openxmlformats.org/officeDocument/2006/relationships/image" Target="../media/image18.png"/><Relationship Id="rId68" Type="http://schemas.openxmlformats.org/officeDocument/2006/relationships/image" Target="../media/image17.png"/><Relationship Id="rId69" Type="http://schemas.openxmlformats.org/officeDocument/2006/relationships/image" Target="../media/image18.png"/><Relationship Id="rId70" Type="http://schemas.openxmlformats.org/officeDocument/2006/relationships/image" Target="../media/image16.png"/><Relationship Id="rId71" Type="http://schemas.openxmlformats.org/officeDocument/2006/relationships/image" Target="../media/image18.png"/><Relationship Id="rId72" Type="http://schemas.openxmlformats.org/officeDocument/2006/relationships/image" Target="../media/image16.png"/><Relationship Id="rId73" Type="http://schemas.openxmlformats.org/officeDocument/2006/relationships/image" Target="../media/image18.png"/><Relationship Id="rId74" Type="http://schemas.openxmlformats.org/officeDocument/2006/relationships/image" Target="../media/image16.png"/><Relationship Id="rId75" Type="http://schemas.openxmlformats.org/officeDocument/2006/relationships/image" Target="../media/image18.png"/><Relationship Id="rId76" Type="http://schemas.openxmlformats.org/officeDocument/2006/relationships/image" Target="../media/image19.png"/><Relationship Id="rId77" Type="http://schemas.openxmlformats.org/officeDocument/2006/relationships/image" Target="../media/image19.png"/><Relationship Id="rId78" Type="http://schemas.openxmlformats.org/officeDocument/2006/relationships/image" Target="../media/image19.png"/><Relationship Id="rId79" Type="http://schemas.openxmlformats.org/officeDocument/2006/relationships/image" Target="../media/image19.png"/><Relationship Id="rId80" Type="http://schemas.openxmlformats.org/officeDocument/2006/relationships/image" Target="../media/image19.png"/><Relationship Id="rId81" Type="http://schemas.openxmlformats.org/officeDocument/2006/relationships/image" Target="../media/image19.png"/><Relationship Id="rId82" Type="http://schemas.openxmlformats.org/officeDocument/2006/relationships/image" Target="../media/image18.png"/><Relationship Id="rId83" Type="http://schemas.openxmlformats.org/officeDocument/2006/relationships/image" Target="../media/image18.png"/><Relationship Id="rId84" Type="http://schemas.openxmlformats.org/officeDocument/2006/relationships/image" Target="../media/image18.png"/><Relationship Id="rId85" Type="http://schemas.openxmlformats.org/officeDocument/2006/relationships/image" Target="../media/image18.png"/><Relationship Id="rId8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5.png"/><Relationship Id="rId21" Type="http://schemas.openxmlformats.org/officeDocument/2006/relationships/image" Target="../media/image18.png"/><Relationship Id="rId22" Type="http://schemas.openxmlformats.org/officeDocument/2006/relationships/image" Target="../media/image17.png"/><Relationship Id="rId23" Type="http://schemas.openxmlformats.org/officeDocument/2006/relationships/image" Target="../media/image19.png"/><Relationship Id="rId24" Type="http://schemas.openxmlformats.org/officeDocument/2006/relationships/image" Target="../media/image17.png"/><Relationship Id="rId25" Type="http://schemas.openxmlformats.org/officeDocument/2006/relationships/image" Target="../media/image18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7.png"/><Relationship Id="rId31" Type="http://schemas.openxmlformats.org/officeDocument/2006/relationships/image" Target="../media/image18.png"/><Relationship Id="rId32" Type="http://schemas.openxmlformats.org/officeDocument/2006/relationships/image" Target="../media/image16.png"/><Relationship Id="rId33" Type="http://schemas.openxmlformats.org/officeDocument/2006/relationships/image" Target="../media/image18.png"/><Relationship Id="rId34" Type="http://schemas.openxmlformats.org/officeDocument/2006/relationships/image" Target="../media/image16.png"/><Relationship Id="rId35" Type="http://schemas.openxmlformats.org/officeDocument/2006/relationships/image" Target="../media/image18.png"/><Relationship Id="rId36" Type="http://schemas.openxmlformats.org/officeDocument/2006/relationships/image" Target="../media/image16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21.png"/><Relationship Id="rId49" Type="http://schemas.openxmlformats.org/officeDocument/2006/relationships/hyperlink" Target="http://www.rapidppt.com/" TargetMode="External"/><Relationship Id="rId50" Type="http://schemas.openxmlformats.org/officeDocument/2006/relationships/image" Target="../media/image22.png"/><Relationship Id="rId51" Type="http://schemas.openxmlformats.org/officeDocument/2006/relationships/hyperlink" Target="http://www.eeppt.com" TargetMode="External"/><Relationship Id="rId52" Type="http://schemas.openxmlformats.org/officeDocument/2006/relationships/hyperlink" Target="http://www.eeppt.com" TargetMode="External"/><Relationship Id="rId5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5.png"/><Relationship Id="rId22" Type="http://schemas.openxmlformats.org/officeDocument/2006/relationships/image" Target="../media/image18.png"/><Relationship Id="rId23" Type="http://schemas.openxmlformats.org/officeDocument/2006/relationships/image" Target="../media/image17.png"/><Relationship Id="rId24" Type="http://schemas.openxmlformats.org/officeDocument/2006/relationships/image" Target="../media/image19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7.png"/><Relationship Id="rId30" Type="http://schemas.openxmlformats.org/officeDocument/2006/relationships/image" Target="../media/image18.png"/><Relationship Id="rId31" Type="http://schemas.openxmlformats.org/officeDocument/2006/relationships/image" Target="../media/image17.png"/><Relationship Id="rId32" Type="http://schemas.openxmlformats.org/officeDocument/2006/relationships/image" Target="../media/image18.png"/><Relationship Id="rId33" Type="http://schemas.openxmlformats.org/officeDocument/2006/relationships/image" Target="../media/image16.png"/><Relationship Id="rId34" Type="http://schemas.openxmlformats.org/officeDocument/2006/relationships/image" Target="../media/image18.png"/><Relationship Id="rId35" Type="http://schemas.openxmlformats.org/officeDocument/2006/relationships/image" Target="../media/image16.png"/><Relationship Id="rId36" Type="http://schemas.openxmlformats.org/officeDocument/2006/relationships/image" Target="../media/image18.png"/><Relationship Id="rId37" Type="http://schemas.openxmlformats.org/officeDocument/2006/relationships/image" Target="../media/image16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9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57" descr="23.png"/>
          <p:cNvPicPr/>
          <p:nvPr/>
        </p:nvPicPr>
        <p:blipFill>
          <a:blip r:embed="rId2"/>
          <a:stretch/>
        </p:blipFill>
        <p:spPr>
          <a:xfrm>
            <a:off x="3679920" y="-382680"/>
            <a:ext cx="217440" cy="21456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58" descr="23.png"/>
          <p:cNvPicPr/>
          <p:nvPr/>
        </p:nvPicPr>
        <p:blipFill>
          <a:blip r:embed="rId3"/>
          <a:stretch/>
        </p:blipFill>
        <p:spPr>
          <a:xfrm>
            <a:off x="2965320" y="-382680"/>
            <a:ext cx="217440" cy="21456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59" descr="23.png"/>
          <p:cNvPicPr/>
          <p:nvPr/>
        </p:nvPicPr>
        <p:blipFill>
          <a:blip r:embed="rId4"/>
          <a:stretch/>
        </p:blipFill>
        <p:spPr>
          <a:xfrm>
            <a:off x="2357280" y="-500040"/>
            <a:ext cx="285840" cy="2826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60" descr="23.png"/>
          <p:cNvPicPr/>
          <p:nvPr/>
        </p:nvPicPr>
        <p:blipFill>
          <a:blip r:embed="rId5"/>
          <a:stretch/>
        </p:blipFill>
        <p:spPr>
          <a:xfrm>
            <a:off x="522144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61" descr="23.png"/>
          <p:cNvPicPr/>
          <p:nvPr/>
        </p:nvPicPr>
        <p:blipFill>
          <a:blip r:embed="rId6"/>
          <a:stretch/>
        </p:blipFill>
        <p:spPr>
          <a:xfrm>
            <a:off x="628668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62" descr="23.png"/>
          <p:cNvPicPr/>
          <p:nvPr/>
        </p:nvPicPr>
        <p:blipFill>
          <a:blip r:embed="rId7"/>
          <a:stretch/>
        </p:blipFill>
        <p:spPr>
          <a:xfrm>
            <a:off x="1500120" y="-41760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63" descr="23.png"/>
          <p:cNvPicPr/>
          <p:nvPr/>
        </p:nvPicPr>
        <p:blipFill>
          <a:blip r:embed="rId8"/>
          <a:stretch/>
        </p:blipFill>
        <p:spPr>
          <a:xfrm>
            <a:off x="2143080" y="-27468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64" descr="23.png"/>
          <p:cNvPicPr/>
          <p:nvPr/>
        </p:nvPicPr>
        <p:blipFill>
          <a:blip r:embed="rId9"/>
          <a:stretch/>
        </p:blipFill>
        <p:spPr>
          <a:xfrm>
            <a:off x="2714760" y="-56052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65" descr="23.png"/>
          <p:cNvPicPr/>
          <p:nvPr/>
        </p:nvPicPr>
        <p:blipFill>
          <a:blip r:embed="rId10"/>
          <a:stretch/>
        </p:blipFill>
        <p:spPr>
          <a:xfrm>
            <a:off x="3357720" y="-27468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66" descr="23.png"/>
          <p:cNvPicPr/>
          <p:nvPr/>
        </p:nvPicPr>
        <p:blipFill>
          <a:blip r:embed="rId11"/>
          <a:stretch/>
        </p:blipFill>
        <p:spPr>
          <a:xfrm>
            <a:off x="4354560" y="-27468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7" descr="23.png"/>
          <p:cNvPicPr/>
          <p:nvPr/>
        </p:nvPicPr>
        <p:blipFill>
          <a:blip r:embed="rId12"/>
          <a:stretch/>
        </p:blipFill>
        <p:spPr>
          <a:xfrm>
            <a:off x="5857920" y="-41760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68" descr="23.png"/>
          <p:cNvPicPr/>
          <p:nvPr/>
        </p:nvPicPr>
        <p:blipFill>
          <a:blip r:embed="rId13"/>
          <a:stretch/>
        </p:blipFill>
        <p:spPr>
          <a:xfrm>
            <a:off x="6929280" y="-27468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69" descr="23.png"/>
          <p:cNvPicPr/>
          <p:nvPr/>
        </p:nvPicPr>
        <p:blipFill>
          <a:blip r:embed="rId14"/>
          <a:stretch/>
        </p:blipFill>
        <p:spPr>
          <a:xfrm>
            <a:off x="4546440" y="-488880"/>
            <a:ext cx="144720" cy="1429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70" descr="23.png"/>
          <p:cNvPicPr/>
          <p:nvPr/>
        </p:nvPicPr>
        <p:blipFill>
          <a:blip r:embed="rId15"/>
          <a:stretch/>
        </p:blipFill>
        <p:spPr>
          <a:xfrm>
            <a:off x="7429680" y="-27468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1" descr="23.png"/>
          <p:cNvPicPr/>
          <p:nvPr/>
        </p:nvPicPr>
        <p:blipFill>
          <a:blip r:embed="rId16"/>
          <a:stretch/>
        </p:blipFill>
        <p:spPr>
          <a:xfrm>
            <a:off x="5046840" y="-41760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72" descr="23.png"/>
          <p:cNvPicPr/>
          <p:nvPr/>
        </p:nvPicPr>
        <p:blipFill>
          <a:blip r:embed="rId17"/>
          <a:stretch/>
        </p:blipFill>
        <p:spPr>
          <a:xfrm>
            <a:off x="5475240" y="-27468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3" descr="23.png"/>
          <p:cNvPicPr/>
          <p:nvPr/>
        </p:nvPicPr>
        <p:blipFill>
          <a:blip r:embed="rId18"/>
          <a:stretch/>
        </p:blipFill>
        <p:spPr>
          <a:xfrm>
            <a:off x="6786720" y="-63180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74" descr="23.png"/>
          <p:cNvPicPr/>
          <p:nvPr/>
        </p:nvPicPr>
        <p:blipFill>
          <a:blip r:embed="rId19"/>
          <a:stretch/>
        </p:blipFill>
        <p:spPr>
          <a:xfrm>
            <a:off x="5757840" y="-48888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75" descr="23.png"/>
          <p:cNvPicPr/>
          <p:nvPr/>
        </p:nvPicPr>
        <p:blipFill>
          <a:blip r:embed="rId20"/>
          <a:stretch/>
        </p:blipFill>
        <p:spPr>
          <a:xfrm>
            <a:off x="4687920" y="-484200"/>
            <a:ext cx="285840" cy="28260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76" descr="23.png"/>
          <p:cNvPicPr/>
          <p:nvPr/>
        </p:nvPicPr>
        <p:blipFill>
          <a:blip r:embed="rId21"/>
          <a:stretch/>
        </p:blipFill>
        <p:spPr>
          <a:xfrm>
            <a:off x="7072200" y="-633240"/>
            <a:ext cx="285840" cy="28224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77" descr="23.png"/>
          <p:cNvPicPr/>
          <p:nvPr/>
        </p:nvPicPr>
        <p:blipFill>
          <a:blip r:embed="rId22"/>
          <a:stretch/>
        </p:blipFill>
        <p:spPr>
          <a:xfrm>
            <a:off x="92880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78" descr="23.png"/>
          <p:cNvPicPr/>
          <p:nvPr/>
        </p:nvPicPr>
        <p:blipFill>
          <a:blip r:embed="rId23"/>
          <a:stretch/>
        </p:blipFill>
        <p:spPr>
          <a:xfrm>
            <a:off x="3478320" y="-48888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79" descr="23.png"/>
          <p:cNvPicPr/>
          <p:nvPr/>
        </p:nvPicPr>
        <p:blipFill>
          <a:blip r:embed="rId24"/>
          <a:stretch/>
        </p:blipFill>
        <p:spPr>
          <a:xfrm>
            <a:off x="2906640" y="-41760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80" descr="23.png"/>
          <p:cNvPicPr/>
          <p:nvPr/>
        </p:nvPicPr>
        <p:blipFill>
          <a:blip r:embed="rId25"/>
          <a:stretch/>
        </p:blipFill>
        <p:spPr>
          <a:xfrm>
            <a:off x="317988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81" descr="23.png"/>
          <p:cNvPicPr/>
          <p:nvPr/>
        </p:nvPicPr>
        <p:blipFill>
          <a:blip r:embed="rId26"/>
          <a:stretch/>
        </p:blipFill>
        <p:spPr>
          <a:xfrm>
            <a:off x="171468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82" descr="23.png"/>
          <p:cNvPicPr/>
          <p:nvPr/>
        </p:nvPicPr>
        <p:blipFill>
          <a:blip r:embed="rId27"/>
          <a:stretch/>
        </p:blipFill>
        <p:spPr>
          <a:xfrm>
            <a:off x="1251000" y="-382680"/>
            <a:ext cx="217440" cy="21456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3" descr="23.png"/>
          <p:cNvPicPr/>
          <p:nvPr/>
        </p:nvPicPr>
        <p:blipFill>
          <a:blip r:embed="rId28"/>
          <a:stretch/>
        </p:blipFill>
        <p:spPr>
          <a:xfrm>
            <a:off x="400068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84" descr="23.png"/>
          <p:cNvPicPr/>
          <p:nvPr/>
        </p:nvPicPr>
        <p:blipFill>
          <a:blip r:embed="rId29"/>
          <a:stretch/>
        </p:blipFill>
        <p:spPr>
          <a:xfrm>
            <a:off x="5000760" y="-27468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85" descr="23.png"/>
          <p:cNvPicPr/>
          <p:nvPr/>
        </p:nvPicPr>
        <p:blipFill>
          <a:blip r:embed="rId30"/>
          <a:stretch/>
        </p:blipFill>
        <p:spPr>
          <a:xfrm>
            <a:off x="5680080" y="-668160"/>
            <a:ext cx="217440" cy="21420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86" descr="23.png"/>
          <p:cNvPicPr/>
          <p:nvPr/>
        </p:nvPicPr>
        <p:blipFill>
          <a:blip r:embed="rId31"/>
          <a:stretch/>
        </p:blipFill>
        <p:spPr>
          <a:xfrm>
            <a:off x="6037200" y="-382680"/>
            <a:ext cx="217440" cy="2145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87" descr="23.png"/>
          <p:cNvPicPr/>
          <p:nvPr/>
        </p:nvPicPr>
        <p:blipFill>
          <a:blip r:embed="rId32"/>
          <a:stretch/>
        </p:blipFill>
        <p:spPr>
          <a:xfrm>
            <a:off x="5295960" y="-668160"/>
            <a:ext cx="217440" cy="214200"/>
          </a:xfrm>
          <a:prstGeom prst="rect">
            <a:avLst/>
          </a:prstGeom>
          <a:ln w="0">
            <a:noFill/>
          </a:ln>
        </p:spPr>
      </p:pic>
      <p:pic>
        <p:nvPicPr>
          <p:cNvPr id="566" name="P1" descr="F:\临时\amy\模板\圣诞\场景\7.png"/>
          <p:cNvPicPr/>
          <p:nvPr/>
        </p:nvPicPr>
        <p:blipFill>
          <a:blip r:embed="rId33"/>
          <a:stretch/>
        </p:blipFill>
        <p:spPr>
          <a:xfrm>
            <a:off x="2625840" y="-353880"/>
            <a:ext cx="106200" cy="109440"/>
          </a:xfrm>
          <a:prstGeom prst="rect">
            <a:avLst/>
          </a:prstGeom>
          <a:ln w="0">
            <a:noFill/>
          </a:ln>
        </p:spPr>
      </p:pic>
      <p:pic>
        <p:nvPicPr>
          <p:cNvPr id="567" name="P2" descr="F:\临时\amy\模板\圣诞\场景\7.png"/>
          <p:cNvPicPr/>
          <p:nvPr/>
        </p:nvPicPr>
        <p:blipFill>
          <a:blip r:embed="rId34"/>
          <a:stretch/>
        </p:blipFill>
        <p:spPr>
          <a:xfrm>
            <a:off x="3263760" y="-560520"/>
            <a:ext cx="142920" cy="146160"/>
          </a:xfrm>
          <a:prstGeom prst="rect">
            <a:avLst/>
          </a:prstGeom>
          <a:ln w="0">
            <a:noFill/>
          </a:ln>
        </p:spPr>
      </p:pic>
      <p:pic>
        <p:nvPicPr>
          <p:cNvPr id="568" name="P3" descr="F:\临时\amy\模板\圣诞\场景\7.png"/>
          <p:cNvPicPr/>
          <p:nvPr/>
        </p:nvPicPr>
        <p:blipFill>
          <a:blip r:embed="rId35"/>
          <a:stretch/>
        </p:blipFill>
        <p:spPr>
          <a:xfrm>
            <a:off x="5256360" y="-388800"/>
            <a:ext cx="215640" cy="218880"/>
          </a:xfrm>
          <a:prstGeom prst="rect">
            <a:avLst/>
          </a:prstGeom>
          <a:ln w="0">
            <a:noFill/>
          </a:ln>
        </p:spPr>
      </p:pic>
      <p:pic>
        <p:nvPicPr>
          <p:cNvPr id="569" name="P4" descr="F:\临时\amy\模板\圣诞\场景\7.png"/>
          <p:cNvPicPr/>
          <p:nvPr/>
        </p:nvPicPr>
        <p:blipFill>
          <a:blip r:embed="rId36"/>
          <a:stretch/>
        </p:blipFill>
        <p:spPr>
          <a:xfrm>
            <a:off x="7229520" y="-322200"/>
            <a:ext cx="169920" cy="174600"/>
          </a:xfrm>
          <a:prstGeom prst="rect">
            <a:avLst/>
          </a:prstGeom>
          <a:ln w="0">
            <a:noFill/>
          </a:ln>
        </p:spPr>
      </p:pic>
      <p:pic>
        <p:nvPicPr>
          <p:cNvPr id="570" name="P5" descr="F:\临时\amy\模板\圣诞\场景\7.png"/>
          <p:cNvPicPr/>
          <p:nvPr/>
        </p:nvPicPr>
        <p:blipFill>
          <a:blip r:embed="rId37"/>
          <a:stretch/>
        </p:blipFill>
        <p:spPr>
          <a:xfrm>
            <a:off x="5045040" y="-560520"/>
            <a:ext cx="142920" cy="146160"/>
          </a:xfrm>
          <a:prstGeom prst="rect">
            <a:avLst/>
          </a:prstGeom>
          <a:ln w="0">
            <a:noFill/>
          </a:ln>
        </p:spPr>
      </p:pic>
      <p:pic>
        <p:nvPicPr>
          <p:cNvPr id="571" name="P6" descr="F:\临时\amy\模板\圣诞\场景\7.png"/>
          <p:cNvPicPr/>
          <p:nvPr/>
        </p:nvPicPr>
        <p:blipFill>
          <a:blip r:embed="rId38"/>
          <a:stretch/>
        </p:blipFill>
        <p:spPr>
          <a:xfrm>
            <a:off x="1911240" y="-647640"/>
            <a:ext cx="249480" cy="253800"/>
          </a:xfrm>
          <a:prstGeom prst="rect">
            <a:avLst/>
          </a:prstGeom>
          <a:ln w="0">
            <a:noFill/>
          </a:ln>
        </p:spPr>
      </p:pic>
      <p:pic>
        <p:nvPicPr>
          <p:cNvPr id="572" name="P7" descr="F:\临时\amy\模板\圣诞\场景\7.png"/>
          <p:cNvPicPr/>
          <p:nvPr/>
        </p:nvPicPr>
        <p:blipFill>
          <a:blip r:embed="rId39"/>
          <a:stretch/>
        </p:blipFill>
        <p:spPr>
          <a:xfrm>
            <a:off x="6554880" y="-434880"/>
            <a:ext cx="106200" cy="108000"/>
          </a:xfrm>
          <a:prstGeom prst="rect">
            <a:avLst/>
          </a:prstGeom>
          <a:ln w="0">
            <a:noFill/>
          </a:ln>
        </p:spPr>
      </p:pic>
      <p:pic>
        <p:nvPicPr>
          <p:cNvPr id="573" name="P8" descr="F:\临时\amy\模板\圣诞\场景\7.png"/>
          <p:cNvPicPr/>
          <p:nvPr/>
        </p:nvPicPr>
        <p:blipFill>
          <a:blip r:embed="rId40"/>
          <a:stretch/>
        </p:blipFill>
        <p:spPr>
          <a:xfrm>
            <a:off x="3586320" y="-474840"/>
            <a:ext cx="169560" cy="17496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4" descr="2.png"/>
          <p:cNvPicPr/>
          <p:nvPr/>
        </p:nvPicPr>
        <p:blipFill>
          <a:blip r:embed="rId4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5" descr="3.png"/>
          <p:cNvPicPr/>
          <p:nvPr/>
        </p:nvPicPr>
        <p:blipFill>
          <a:blip r:embed="rId42"/>
          <a:stretch/>
        </p:blipFill>
        <p:spPr>
          <a:xfrm>
            <a:off x="4702320" y="777960"/>
            <a:ext cx="2787480" cy="465120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6" descr="4.png"/>
          <p:cNvPicPr/>
          <p:nvPr/>
        </p:nvPicPr>
        <p:blipFill>
          <a:blip r:embed="rId43"/>
          <a:stretch/>
        </p:blipFill>
        <p:spPr>
          <a:xfrm>
            <a:off x="7203960" y="3876840"/>
            <a:ext cx="1150920" cy="156348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7" descr="5.png"/>
          <p:cNvPicPr/>
          <p:nvPr/>
        </p:nvPicPr>
        <p:blipFill>
          <a:blip r:embed="rId44"/>
          <a:stretch/>
        </p:blipFill>
        <p:spPr>
          <a:xfrm>
            <a:off x="6600960" y="4707000"/>
            <a:ext cx="906480" cy="8334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8" descr="6.png"/>
          <p:cNvPicPr/>
          <p:nvPr/>
        </p:nvPicPr>
        <p:blipFill>
          <a:blip r:embed="rId45"/>
          <a:stretch/>
        </p:blipFill>
        <p:spPr>
          <a:xfrm>
            <a:off x="4029120" y="4527720"/>
            <a:ext cx="1400040" cy="104292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0" descr="35.png"/>
          <p:cNvPicPr/>
          <p:nvPr/>
        </p:nvPicPr>
        <p:blipFill>
          <a:blip r:embed="rId46"/>
          <a:stretch/>
        </p:blipFill>
        <p:spPr>
          <a:xfrm>
            <a:off x="5873760" y="2714760"/>
            <a:ext cx="190440" cy="18072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14" descr="34.png"/>
          <p:cNvPicPr/>
          <p:nvPr/>
        </p:nvPicPr>
        <p:blipFill>
          <a:blip r:embed="rId47"/>
          <a:stretch/>
        </p:blipFill>
        <p:spPr>
          <a:xfrm>
            <a:off x="6546960" y="2857680"/>
            <a:ext cx="180720" cy="19044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15" descr="34.png"/>
          <p:cNvPicPr/>
          <p:nvPr/>
        </p:nvPicPr>
        <p:blipFill>
          <a:blip r:embed="rId48"/>
          <a:stretch/>
        </p:blipFill>
        <p:spPr>
          <a:xfrm>
            <a:off x="5603760" y="281952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8" descr="36.png"/>
          <p:cNvPicPr/>
          <p:nvPr/>
        </p:nvPicPr>
        <p:blipFill>
          <a:blip r:embed="rId49"/>
          <a:stretch/>
        </p:blipFill>
        <p:spPr>
          <a:xfrm>
            <a:off x="6261120" y="2355840"/>
            <a:ext cx="192240" cy="1922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20" descr="36.png"/>
          <p:cNvPicPr/>
          <p:nvPr/>
        </p:nvPicPr>
        <p:blipFill>
          <a:blip r:embed="rId50"/>
          <a:stretch/>
        </p:blipFill>
        <p:spPr>
          <a:xfrm>
            <a:off x="5280120" y="2666880"/>
            <a:ext cx="191880" cy="1908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22" descr="36.png"/>
          <p:cNvPicPr/>
          <p:nvPr/>
        </p:nvPicPr>
        <p:blipFill>
          <a:blip r:embed="rId51"/>
          <a:stretch/>
        </p:blipFill>
        <p:spPr>
          <a:xfrm>
            <a:off x="6375240" y="4172040"/>
            <a:ext cx="192240" cy="19044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24" descr="36.png"/>
          <p:cNvPicPr/>
          <p:nvPr/>
        </p:nvPicPr>
        <p:blipFill>
          <a:blip r:embed="rId52"/>
          <a:stretch/>
        </p:blipFill>
        <p:spPr>
          <a:xfrm>
            <a:off x="6203880" y="4581360"/>
            <a:ext cx="192240" cy="19080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25" descr="36.png"/>
          <p:cNvPicPr/>
          <p:nvPr/>
        </p:nvPicPr>
        <p:blipFill>
          <a:blip r:embed="rId53"/>
          <a:stretch/>
        </p:blipFill>
        <p:spPr>
          <a:xfrm>
            <a:off x="7147080" y="4467240"/>
            <a:ext cx="191880" cy="19044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27" descr="35.png"/>
          <p:cNvPicPr/>
          <p:nvPr/>
        </p:nvPicPr>
        <p:blipFill>
          <a:blip r:embed="rId54"/>
          <a:stretch/>
        </p:blipFill>
        <p:spPr>
          <a:xfrm>
            <a:off x="6531120" y="3838680"/>
            <a:ext cx="190440" cy="18072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28" descr="35.png"/>
          <p:cNvPicPr/>
          <p:nvPr/>
        </p:nvPicPr>
        <p:blipFill>
          <a:blip r:embed="rId55"/>
          <a:stretch/>
        </p:blipFill>
        <p:spPr>
          <a:xfrm>
            <a:off x="6873840" y="4390920"/>
            <a:ext cx="190440" cy="18108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29" descr="35.png"/>
          <p:cNvPicPr/>
          <p:nvPr/>
        </p:nvPicPr>
        <p:blipFill>
          <a:blip r:embed="rId56"/>
          <a:stretch/>
        </p:blipFill>
        <p:spPr>
          <a:xfrm>
            <a:off x="5057640" y="3343320"/>
            <a:ext cx="190800" cy="18108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0" descr="34.png"/>
          <p:cNvPicPr/>
          <p:nvPr/>
        </p:nvPicPr>
        <p:blipFill>
          <a:blip r:embed="rId57"/>
          <a:stretch/>
        </p:blipFill>
        <p:spPr>
          <a:xfrm>
            <a:off x="5391000" y="334332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31" descr="35.png"/>
          <p:cNvPicPr/>
          <p:nvPr/>
        </p:nvPicPr>
        <p:blipFill>
          <a:blip r:embed="rId58"/>
          <a:stretch/>
        </p:blipFill>
        <p:spPr>
          <a:xfrm>
            <a:off x="6273720" y="2009880"/>
            <a:ext cx="190440" cy="18072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37.png"/>
          <p:cNvPicPr/>
          <p:nvPr/>
        </p:nvPicPr>
        <p:blipFill>
          <a:blip r:embed="rId59"/>
          <a:stretch/>
        </p:blipFill>
        <p:spPr>
          <a:xfrm>
            <a:off x="6343560" y="2857680"/>
            <a:ext cx="347760" cy="347400"/>
          </a:xfrm>
          <a:prstGeom prst="rect">
            <a:avLst/>
          </a:prstGeom>
          <a:ln w="0">
            <a:noFill/>
          </a:ln>
        </p:spPr>
      </p:pic>
      <p:grpSp>
        <p:nvGrpSpPr>
          <p:cNvPr id="593" name="组合 54"/>
          <p:cNvGrpSpPr/>
          <p:nvPr/>
        </p:nvGrpSpPr>
        <p:grpSpPr>
          <a:xfrm>
            <a:off x="5956200" y="2062080"/>
            <a:ext cx="249480" cy="247680"/>
            <a:chOff x="5956200" y="2062080"/>
            <a:chExt cx="249480" cy="247680"/>
          </a:xfrm>
        </p:grpSpPr>
        <p:pic>
          <p:nvPicPr>
            <p:cNvPr id="594" name="图片 11" descr="36.png"/>
            <p:cNvPicPr/>
            <p:nvPr/>
          </p:nvPicPr>
          <p:blipFill>
            <a:blip r:embed="rId60"/>
            <a:stretch/>
          </p:blipFill>
          <p:spPr>
            <a:xfrm>
              <a:off x="5956200" y="2118240"/>
              <a:ext cx="191520" cy="1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图片 13" descr="38.png"/>
            <p:cNvPicPr/>
            <p:nvPr/>
          </p:nvPicPr>
          <p:blipFill>
            <a:blip r:embed="rId61"/>
            <a:stretch/>
          </p:blipFill>
          <p:spPr>
            <a:xfrm>
              <a:off x="5985720" y="2062080"/>
              <a:ext cx="219960" cy="21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6" name="组合 55"/>
          <p:cNvGrpSpPr/>
          <p:nvPr/>
        </p:nvGrpSpPr>
        <p:grpSpPr>
          <a:xfrm>
            <a:off x="6261120" y="3219480"/>
            <a:ext cx="353880" cy="347760"/>
            <a:chOff x="6261120" y="3219480"/>
            <a:chExt cx="353880" cy="347760"/>
          </a:xfrm>
        </p:grpSpPr>
        <p:pic>
          <p:nvPicPr>
            <p:cNvPr id="597" name="图片 19" descr="36.png"/>
            <p:cNvPicPr/>
            <p:nvPr/>
          </p:nvPicPr>
          <p:blipFill>
            <a:blip r:embed="rId62"/>
            <a:stretch/>
          </p:blipFill>
          <p:spPr>
            <a:xfrm>
              <a:off x="6261120" y="3289680"/>
              <a:ext cx="1915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图片 38" descr="37.png"/>
            <p:cNvPicPr/>
            <p:nvPr/>
          </p:nvPicPr>
          <p:blipFill>
            <a:blip r:embed="rId63"/>
            <a:stretch/>
          </p:blipFill>
          <p:spPr>
            <a:xfrm>
              <a:off x="6266880" y="3219480"/>
              <a:ext cx="34812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组合 52"/>
          <p:cNvGrpSpPr/>
          <p:nvPr/>
        </p:nvGrpSpPr>
        <p:grpSpPr>
          <a:xfrm>
            <a:off x="5581800" y="3838680"/>
            <a:ext cx="347400" cy="347400"/>
            <a:chOff x="5581800" y="3838680"/>
            <a:chExt cx="347400" cy="347400"/>
          </a:xfrm>
        </p:grpSpPr>
        <p:pic>
          <p:nvPicPr>
            <p:cNvPr id="600" name="图片 21" descr="36.png"/>
            <p:cNvPicPr/>
            <p:nvPr/>
          </p:nvPicPr>
          <p:blipFill>
            <a:blip r:embed="rId64"/>
            <a:stretch/>
          </p:blipFill>
          <p:spPr>
            <a:xfrm>
              <a:off x="5632920" y="388548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图片 39" descr="37.png"/>
            <p:cNvPicPr/>
            <p:nvPr/>
          </p:nvPicPr>
          <p:blipFill>
            <a:blip r:embed="rId65"/>
            <a:stretch/>
          </p:blipFill>
          <p:spPr>
            <a:xfrm>
              <a:off x="5581800" y="3838680"/>
              <a:ext cx="34740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2" name="组合 49"/>
          <p:cNvGrpSpPr/>
          <p:nvPr/>
        </p:nvGrpSpPr>
        <p:grpSpPr>
          <a:xfrm>
            <a:off x="5524560" y="4495680"/>
            <a:ext cx="347760" cy="347760"/>
            <a:chOff x="5524560" y="4495680"/>
            <a:chExt cx="347760" cy="347760"/>
          </a:xfrm>
        </p:grpSpPr>
        <p:pic>
          <p:nvPicPr>
            <p:cNvPr id="603" name="图片 23" descr="36.png"/>
            <p:cNvPicPr/>
            <p:nvPr/>
          </p:nvPicPr>
          <p:blipFill>
            <a:blip r:embed="rId66"/>
            <a:stretch/>
          </p:blipFill>
          <p:spPr>
            <a:xfrm>
              <a:off x="5546880" y="455220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图片 40" descr="37.png"/>
            <p:cNvPicPr/>
            <p:nvPr/>
          </p:nvPicPr>
          <p:blipFill>
            <a:blip r:embed="rId67"/>
            <a:stretch/>
          </p:blipFill>
          <p:spPr>
            <a:xfrm>
              <a:off x="5524560" y="4495680"/>
              <a:ext cx="3477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组合 50"/>
          <p:cNvGrpSpPr/>
          <p:nvPr/>
        </p:nvGrpSpPr>
        <p:grpSpPr>
          <a:xfrm>
            <a:off x="4805280" y="4429080"/>
            <a:ext cx="347760" cy="347760"/>
            <a:chOff x="4805280" y="4429080"/>
            <a:chExt cx="347760" cy="347760"/>
          </a:xfrm>
        </p:grpSpPr>
        <p:pic>
          <p:nvPicPr>
            <p:cNvPr id="606" name="图片 26" descr="36.png"/>
            <p:cNvPicPr/>
            <p:nvPr/>
          </p:nvPicPr>
          <p:blipFill>
            <a:blip r:embed="rId68"/>
            <a:stretch/>
          </p:blipFill>
          <p:spPr>
            <a:xfrm>
              <a:off x="4822920" y="453312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图片 42" descr="37.png"/>
            <p:cNvPicPr/>
            <p:nvPr/>
          </p:nvPicPr>
          <p:blipFill>
            <a:blip r:embed="rId69"/>
            <a:stretch/>
          </p:blipFill>
          <p:spPr>
            <a:xfrm>
              <a:off x="4805280" y="4429080"/>
              <a:ext cx="3477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组合 51"/>
          <p:cNvGrpSpPr/>
          <p:nvPr/>
        </p:nvGrpSpPr>
        <p:grpSpPr>
          <a:xfrm>
            <a:off x="5153040" y="4172040"/>
            <a:ext cx="347760" cy="347400"/>
            <a:chOff x="5153040" y="4172040"/>
            <a:chExt cx="347760" cy="347400"/>
          </a:xfrm>
        </p:grpSpPr>
        <p:pic>
          <p:nvPicPr>
            <p:cNvPr id="609" name="图片 17" descr="34.png"/>
            <p:cNvPicPr/>
            <p:nvPr/>
          </p:nvPicPr>
          <p:blipFill>
            <a:blip r:embed="rId70"/>
            <a:stretch/>
          </p:blipFill>
          <p:spPr>
            <a:xfrm>
              <a:off x="5153040" y="4276800"/>
              <a:ext cx="18108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图片 43" descr="37.png"/>
            <p:cNvPicPr/>
            <p:nvPr/>
          </p:nvPicPr>
          <p:blipFill>
            <a:blip r:embed="rId71"/>
            <a:stretch/>
          </p:blipFill>
          <p:spPr>
            <a:xfrm>
              <a:off x="5153040" y="4172040"/>
              <a:ext cx="34776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组合 56"/>
          <p:cNvGrpSpPr/>
          <p:nvPr/>
        </p:nvGrpSpPr>
        <p:grpSpPr>
          <a:xfrm>
            <a:off x="5724360" y="1619280"/>
            <a:ext cx="347760" cy="347760"/>
            <a:chOff x="5724360" y="1619280"/>
            <a:chExt cx="347760" cy="347760"/>
          </a:xfrm>
        </p:grpSpPr>
        <p:pic>
          <p:nvPicPr>
            <p:cNvPr id="612" name="图片 9" descr="34.png"/>
            <p:cNvPicPr/>
            <p:nvPr/>
          </p:nvPicPr>
          <p:blipFill>
            <a:blip r:embed="rId72"/>
            <a:stretch/>
          </p:blipFill>
          <p:spPr>
            <a:xfrm>
              <a:off x="5803920" y="1684800"/>
              <a:ext cx="18108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图片 44" descr="37.png"/>
            <p:cNvPicPr/>
            <p:nvPr/>
          </p:nvPicPr>
          <p:blipFill>
            <a:blip r:embed="rId73"/>
            <a:stretch/>
          </p:blipFill>
          <p:spPr>
            <a:xfrm>
              <a:off x="5724360" y="1619280"/>
              <a:ext cx="3477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组合 53"/>
          <p:cNvGrpSpPr/>
          <p:nvPr/>
        </p:nvGrpSpPr>
        <p:grpSpPr>
          <a:xfrm>
            <a:off x="7077240" y="3962520"/>
            <a:ext cx="347400" cy="347400"/>
            <a:chOff x="7077240" y="3962520"/>
            <a:chExt cx="347400" cy="347400"/>
          </a:xfrm>
        </p:grpSpPr>
        <p:pic>
          <p:nvPicPr>
            <p:cNvPr id="615" name="图片 16" descr="34.png"/>
            <p:cNvPicPr/>
            <p:nvPr/>
          </p:nvPicPr>
          <p:blipFill>
            <a:blip r:embed="rId74"/>
            <a:stretch/>
          </p:blipFill>
          <p:spPr>
            <a:xfrm>
              <a:off x="7137720" y="4067280"/>
              <a:ext cx="18108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图片 48" descr="37.png"/>
            <p:cNvPicPr/>
            <p:nvPr/>
          </p:nvPicPr>
          <p:blipFill>
            <a:blip r:embed="rId75"/>
            <a:stretch/>
          </p:blipFill>
          <p:spPr>
            <a:xfrm>
              <a:off x="7077240" y="3962520"/>
              <a:ext cx="347400" cy="34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7" name="图片 32" descr="38.png"/>
          <p:cNvPicPr/>
          <p:nvPr/>
        </p:nvPicPr>
        <p:blipFill>
          <a:blip r:embed="rId76"/>
          <a:stretch/>
        </p:blipFill>
        <p:spPr>
          <a:xfrm>
            <a:off x="6176880" y="185256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33" descr="38.png"/>
          <p:cNvPicPr/>
          <p:nvPr/>
        </p:nvPicPr>
        <p:blipFill>
          <a:blip r:embed="rId77"/>
          <a:stretch/>
        </p:blipFill>
        <p:spPr>
          <a:xfrm>
            <a:off x="5462640" y="2638440"/>
            <a:ext cx="218880" cy="2192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34" descr="38.png"/>
          <p:cNvPicPr/>
          <p:nvPr/>
        </p:nvPicPr>
        <p:blipFill>
          <a:blip r:embed="rId78"/>
          <a:stretch/>
        </p:blipFill>
        <p:spPr>
          <a:xfrm>
            <a:off x="6062760" y="317196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35" descr="38.png"/>
          <p:cNvPicPr/>
          <p:nvPr/>
        </p:nvPicPr>
        <p:blipFill>
          <a:blip r:embed="rId79"/>
          <a:stretch/>
        </p:blipFill>
        <p:spPr>
          <a:xfrm>
            <a:off x="5634000" y="367668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36" descr="38.png"/>
          <p:cNvPicPr/>
          <p:nvPr/>
        </p:nvPicPr>
        <p:blipFill>
          <a:blip r:embed="rId80"/>
          <a:stretch/>
        </p:blipFill>
        <p:spPr>
          <a:xfrm>
            <a:off x="6272280" y="3809880"/>
            <a:ext cx="218880" cy="21924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7" descr="38.png"/>
          <p:cNvPicPr/>
          <p:nvPr/>
        </p:nvPicPr>
        <p:blipFill>
          <a:blip r:embed="rId81"/>
          <a:stretch/>
        </p:blipFill>
        <p:spPr>
          <a:xfrm>
            <a:off x="6700680" y="418140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1" descr="37.png"/>
          <p:cNvPicPr/>
          <p:nvPr/>
        </p:nvPicPr>
        <p:blipFill>
          <a:blip r:embed="rId82"/>
          <a:stretch/>
        </p:blipFill>
        <p:spPr>
          <a:xfrm>
            <a:off x="6153120" y="4524480"/>
            <a:ext cx="347760" cy="34740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45" descr="37.png"/>
          <p:cNvPicPr/>
          <p:nvPr/>
        </p:nvPicPr>
        <p:blipFill>
          <a:blip r:embed="rId83"/>
          <a:stretch/>
        </p:blipFill>
        <p:spPr>
          <a:xfrm>
            <a:off x="5286240" y="221940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6" descr="37.png"/>
          <p:cNvPicPr/>
          <p:nvPr/>
        </p:nvPicPr>
        <p:blipFill>
          <a:blip r:embed="rId84"/>
          <a:stretch/>
        </p:blipFill>
        <p:spPr>
          <a:xfrm>
            <a:off x="6858000" y="3257640"/>
            <a:ext cx="347760" cy="34740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47" descr="37.png"/>
          <p:cNvPicPr/>
          <p:nvPr/>
        </p:nvPicPr>
        <p:blipFill>
          <a:blip r:embed="rId85"/>
          <a:stretch/>
        </p:blipFill>
        <p:spPr>
          <a:xfrm>
            <a:off x="5877000" y="2257560"/>
            <a:ext cx="347760" cy="34740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14431"/>
          <p:cNvSpPr/>
          <p:nvPr/>
        </p:nvSpPr>
        <p:spPr>
          <a:xfrm>
            <a:off x="49320" y="53481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4432"/>
          <p:cNvSpPr/>
          <p:nvPr/>
        </p:nvSpPr>
        <p:spPr>
          <a:xfrm>
            <a:off x="2309040" y="19699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dur="indefinite" nodeType="withEffect" fill="remove" presetClass="emph" presetID="35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remove" presetClass="emph" presetID="35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remove" presetClass="emph" presetID="35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remove" presetClass="emph" presetID="35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remove" presetClass="emph" presetID="35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remove" presetClass="emph" presetID="35" repeatCount="indefinite">
                                  <p:stCondLst>
                                    <p:cond delay="2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remove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remove" presetClass="emph" presetID="35" repeatCount="indefinite">
                                  <p:stCondLst>
                                    <p:cond delay="1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remove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remove" presetClass="emph" presetID="35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remove" presetClass="emph" presetID="35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6" dur="3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remove" presetClass="emph" presetID="35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remove" presetClass="emph" presetID="35" repeatCount="indefinite">
                                  <p:stCondLst>
                                    <p:cond delay="1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remove" presetClass="emph" presetID="35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4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remove" presetClass="emph" presetID="35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remove" presetClass="emph" presetID="35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6" dur="6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4.72222E-006 2.22222E-006 C 0.00122 0.01945 0.00382 0.0338 0.00834 0.05185 C 0.01042 0.05995 0.01736 0.06597 0.01945 0.07408 C 0.02136 0.08148 0.02361 0.08519 0.02778 0.09074 C 0.02882 0.09514 0.03403 0.10579 0.03611 0.10926 C 0.03837 0.11296 0.04219 0.11482 0.04445 0.11852 C 0.04827 0.12477 0.05035 0.13056 0.05556 0.13519 C 0.05868 0.14144 0.06285 0.14699 0.06528 0.1537 C 0.07205 0.17176 0.06441 0.15556 0.07084 0.16852 C 0.07257 0.17778 0.07518 0.1882 0.07917 0.1963 C 0.0842 0.22292 0.08907 0.24908 0.09306 0.27593 C 0.09497 0.3044 0.09445 0.3331 0.09861 0.36111 C 0.09966 0.37546 0.10105 0.38958 0.10278 0.4037 C 0.10365 0.41065 0.10452 0.40833 0.10695 0.41482 C 0.10816 0.41783 0.10903 0.42477 0.10973 0.42778 C 0.11146 0.43634 0.11459 0.44352 0.11667 0.45185 C 0.11771 0.51366 0.11355 0.54977 0.12917 0.60185 C 0.12848 0.6544 0.13125 0.68195 0.125 0.72408 C 0.12605 0.77176 0.12188 0.8125 0.14723 0.8463 C 0.14948 0.85833 0.15834 0.86273 0.1625 0.87408 C 0.16667 0.88542 0.17396 0.89445 0.17917 0.90556 C 0.18438 0.91644 0.18594 0.93195 0.1875 0.94445 C 0.18907 0.98148 0.19063 1.01875 0.18611 1.05556 C 0.18282 1.08125 0.17084 1.11181 0.17084 1.13704 E">
                                      <p:cBhvr>
                                        <p:cTn id="118" dur="5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0" dur="5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 repeatCount="indefinite">
                                  <p:stCondLst>
                                    <p:cond delay="5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2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0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4" dur="5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0" repeatCount="indefinite">
                                  <p:stCondLst>
                                    <p:cond delay="4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6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8" dur="5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30" dur="5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32" dur="5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34" dur="5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36" dur="5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38" dur="5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40" dur="5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42" dur="5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44" dur="5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46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48" dur="5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50" dur="5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52" dur="5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54" dur="5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56" dur="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58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60" dur="5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62" dur="5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64" dur="5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66" dur="5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68" dur="5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70" dur="5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72" dur="5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74" dur="5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76" dur="5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34 -0.01549 C 0.02431 0.05041 0.05313 0.11654 0.05608 0.2 C 0.05903 0.28347 0.01927 0.33203 0.01319 0.48555 C 0.00712 0.63862 -0.01146 1.01318 0.01944 1.12185 C 0.05035 1.23029 0.12465 1.18336 0.19896 1.13665 E">
                                      <p:cBhvr>
                                        <p:cTn id="178" dur="5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80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8.09249E-007 C 0.00104 0.03052 -0.00139 0.05364 0.01163 0.07491 C 0.01215 0.07838 0.01215 0.08208 0.01319 0.08509 C 0.01389 0.0874 0.01597 0.08832 0.01667 0.09064 C 0.01823 0.09549 0.01806 0.10127 0.01996 0.1059 C 0.02431 0.1163 0.02951 0.12509 0.03472 0.13457 C 0.04201 0.14774 0.0467 0.16347 0.05469 0.17595 C 0.05851 0.19399 0.06545 0.20994 0.07292 0.2252 C 0.075 0.23537 0.07778 0.24069 0.08264 0.24832 C 0.08733 0.2689 0.08056 0.24416 0.08941 0.2615 C 0.09045 0.26335 0.0901 0.26682 0.09097 0.26913 C 0.09201 0.27191 0.09653 0.27699 0.09774 0.27954 C 0.10295 0.28948 0.10955 0.31422 0.1125 0.32624 C 0.11406 0.41965 0.11562 0.72717 0.11927 0.74335 C 0.11962 0.76069 0.11996 0.8111 0.12257 0.83676 C 0.12326 0.84324 0.12587 0.84855 0.12743 0.8548 C 0.12951 0.86381 0.13021 0.87399 0.13246 0.88324 C 0.13663 0.90035 0.14479 0.91468 0.14896 0.93248 C 0.15243 0.94705 0.1533 0.96324 0.15885 0.97642 C 0.16719 1.01595 0.1566 0.96925 0.16719 1.00485 C 0.16979 1.01341 0.17222 1.02173 0.17378 1.03075 C 0.17431 1.03422 0.17448 1.03792 0.17535 1.04116 C 0.18056 1.06081 0.18403 1.06682 0.18698 1.08509 C 0.1875 1.09827 0.18837 1.11121 0.18871 1.12416 C 0.18941 1.1563 0.18889 1.18821 0.19045 1.22011 C 0.1908 1.22821 0.19531 1.24324 0.19531 1.24347 C 0.19687 1.2622 0.19861 1.28092 0.19861 1.30035 E">
                                      <p:cBhvr>
                                        <p:cTn id="182" dur="5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84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0" repeatCount="indefinite">
                                  <p:stCondLst>
                                    <p:cond delay="3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-5.78035E-006 C 0.00417 0.20624 0.00834 0.41271 -0.0144 0.55375 C -0.03715 0.69479 -0.11093 0.74635 -0.13663 0.84531 C -0.16232 0.9445 -0.16302 1.09733 -0.16822 1.14774 E">
                                      <p:cBhvr>
                                        <p:cTn id="186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 repeatCount="indefinite">
                                  <p:stCondLst>
                                    <p:cond delay="3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88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87 0.0007 C 0.04184 0.11492 0.08281 0.22937 0.09132 0.33457 C 0.09982 0.43954 0.0658 0.53434 0.05173 0.63052 C 0.03767 0.72648 0.0118 0.82151 0.00729 0.91145 C 0.00278 1.00185 0.01371 1.08671 0.02465 1.17157 E">
                                      <p:cBhvr>
                                        <p:cTn id="190" dur="5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92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88889E-006 1.44509E-006 C 0.01475 0.05803 0.02951 0.1163 0.05711 0.17757 C 0.08472 0.23861 0.146 0.29919 0.1651 0.36555 C 0.1842 0.43214 0.18229 0.51121 0.17152 0.57503 C 0.16076 0.63861 0.11927 0.67977 0.1 0.74821 C 0.08072 0.81711 0.06111 0.92439 0.05555 0.98728 C 0.05 1.04994 0.05833 1.08717 0.06666 1.12462 E">
                                      <p:cBhvr>
                                        <p:cTn id="194" dur="5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mph" presetID="8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96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5 3.98844E-006 C 0.02222 0.083 0.04479 0.16601 0.03941 0.26635 C 0.03403 0.3667 -0.01754 0.50034 -0.03212 0.60254 C -0.0467 0.70474 -0.05365 0.79722 -0.04792 0.8793 C -0.04219 0.96138 -0.00694 1.05202 0.00278 1.09502 C 0.0125 1.13803 0.01163 1.13757 0.01076 1.13734 E">
                                      <p:cBhvr>
                                        <p:cTn id="198" dur="5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200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0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2.89017E-007 C 0.00833 0.04162 0.01666 0.08323 0.01267 0.17341 C 0.00868 0.26358 -0.02969 0.45318 -0.02379 0.54127 C -0.01789 0.62913 0.04513 0.6074 0.04774 0.70173 C 0.05034 0.7963 0.02118 0.9519 -0.00782 1.10774 E">
                                      <p:cBhvr>
                                        <p:cTn id="202" dur="5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8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204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94444E-006 2.31214E-006 C -0.00416 0.00809 -0.00833 0.01642 -0.00642 0.06543 C -0.00451 0.11445 0.00868 0.22867 0.01112 0.29387 C 0.01355 0.35908 0.02587 0.38798 0.00782 0.45665 C -0.01024 0.52532 -0.075 0.6222 -0.09687 0.70613 C -0.11875 0.79006 -0.14062 0.89364 -0.12378 0.95977 C -0.10694 1.0259 -0.01666 1.07931 0.00469 1.10335 E">
                                      <p:cBhvr>
                                        <p:cTn id="206" dur="5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208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3.64162E-006 C 0.00609 0.0541 0.01216 0.10821 0.01112 0.24948 C 0.01008 0.39075 -0.00642 0.70104 -0.00642 0.84763 C -0.00642 0.99422 0.00227 1.0615 0.01112 1.12878 E">
                                      <p:cBhvr>
                                        <p:cTn id="210" dur="5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62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4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C:\Documents and Settings\Administrator\桌面\LOGO白副本.png"/>
          <p:cNvPicPr/>
          <p:nvPr/>
        </p:nvPicPr>
        <p:blipFill>
          <a:blip r:embed="rId3"/>
          <a:stretch/>
        </p:blipFill>
        <p:spPr>
          <a:xfrm>
            <a:off x="298440" y="4983120"/>
            <a:ext cx="1214280" cy="563760"/>
          </a:xfrm>
          <a:prstGeom prst="rect">
            <a:avLst/>
          </a:prstGeom>
          <a:ln w="0">
            <a:noFill/>
          </a:ln>
        </p:spPr>
      </p:pic>
      <p:grpSp>
        <p:nvGrpSpPr>
          <p:cNvPr id="633" name="组合 98"/>
          <p:cNvGrpSpPr/>
          <p:nvPr/>
        </p:nvGrpSpPr>
        <p:grpSpPr>
          <a:xfrm>
            <a:off x="4029120" y="777960"/>
            <a:ext cx="4325760" cy="4792680"/>
            <a:chOff x="4029120" y="777960"/>
            <a:chExt cx="4325760" cy="4792680"/>
          </a:xfrm>
        </p:grpSpPr>
        <p:pic>
          <p:nvPicPr>
            <p:cNvPr id="634" name="图片 5" descr="3.png"/>
            <p:cNvPicPr/>
            <p:nvPr/>
          </p:nvPicPr>
          <p:blipFill>
            <a:blip r:embed="rId4"/>
            <a:stretch/>
          </p:blipFill>
          <p:spPr>
            <a:xfrm>
              <a:off x="4700880" y="777960"/>
              <a:ext cx="2788920" cy="46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图片 6" descr="4.png"/>
            <p:cNvPicPr/>
            <p:nvPr/>
          </p:nvPicPr>
          <p:blipFill>
            <a:blip r:embed="rId5"/>
            <a:stretch/>
          </p:blipFill>
          <p:spPr>
            <a:xfrm>
              <a:off x="7202880" y="3877200"/>
              <a:ext cx="1152000" cy="15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7" descr="5.png"/>
            <p:cNvPicPr/>
            <p:nvPr/>
          </p:nvPicPr>
          <p:blipFill>
            <a:blip r:embed="rId6"/>
            <a:stretch/>
          </p:blipFill>
          <p:spPr>
            <a:xfrm>
              <a:off x="6600600" y="4707720"/>
              <a:ext cx="905040" cy="83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8" descr="6.png"/>
            <p:cNvPicPr/>
            <p:nvPr/>
          </p:nvPicPr>
          <p:blipFill>
            <a:blip r:embed="rId7"/>
            <a:stretch/>
          </p:blipFill>
          <p:spPr>
            <a:xfrm>
              <a:off x="4029120" y="4528080"/>
              <a:ext cx="139896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图片 10" descr="35.png"/>
            <p:cNvPicPr/>
            <p:nvPr/>
          </p:nvPicPr>
          <p:blipFill>
            <a:blip r:embed="rId8"/>
            <a:stretch/>
          </p:blipFill>
          <p:spPr>
            <a:xfrm>
              <a:off x="5872680" y="271440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图片 14" descr="34.png"/>
            <p:cNvPicPr/>
            <p:nvPr/>
          </p:nvPicPr>
          <p:blipFill>
            <a:blip r:embed="rId9"/>
            <a:stretch/>
          </p:blipFill>
          <p:spPr>
            <a:xfrm>
              <a:off x="6546240" y="2857320"/>
              <a:ext cx="1807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图片 15" descr="34.png"/>
            <p:cNvPicPr/>
            <p:nvPr/>
          </p:nvPicPr>
          <p:blipFill>
            <a:blip r:embed="rId10"/>
            <a:stretch/>
          </p:blipFill>
          <p:spPr>
            <a:xfrm>
              <a:off x="5603400" y="2819160"/>
              <a:ext cx="1807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图片 18" descr="36.png"/>
            <p:cNvPicPr/>
            <p:nvPr/>
          </p:nvPicPr>
          <p:blipFill>
            <a:blip r:embed="rId11"/>
            <a:stretch/>
          </p:blipFill>
          <p:spPr>
            <a:xfrm>
              <a:off x="6260760" y="235584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图片 20" descr="36.png"/>
            <p:cNvPicPr/>
            <p:nvPr/>
          </p:nvPicPr>
          <p:blipFill>
            <a:blip r:embed="rId12"/>
            <a:stretch/>
          </p:blipFill>
          <p:spPr>
            <a:xfrm>
              <a:off x="5279760" y="266616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图片 22" descr="36.png"/>
            <p:cNvPicPr/>
            <p:nvPr/>
          </p:nvPicPr>
          <p:blipFill>
            <a:blip r:embed="rId13"/>
            <a:stretch/>
          </p:blipFill>
          <p:spPr>
            <a:xfrm>
              <a:off x="6375240" y="417132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图片 24" descr="36.png"/>
            <p:cNvPicPr/>
            <p:nvPr/>
          </p:nvPicPr>
          <p:blipFill>
            <a:blip r:embed="rId14"/>
            <a:stretch/>
          </p:blipFill>
          <p:spPr>
            <a:xfrm>
              <a:off x="6203520" y="458100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图片 25" descr="36.png"/>
            <p:cNvPicPr/>
            <p:nvPr/>
          </p:nvPicPr>
          <p:blipFill>
            <a:blip r:embed="rId15"/>
            <a:stretch/>
          </p:blipFill>
          <p:spPr>
            <a:xfrm>
              <a:off x="7146720" y="446688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图片 27" descr="35.png"/>
            <p:cNvPicPr/>
            <p:nvPr/>
          </p:nvPicPr>
          <p:blipFill>
            <a:blip r:embed="rId16"/>
            <a:stretch/>
          </p:blipFill>
          <p:spPr>
            <a:xfrm>
              <a:off x="6530040" y="383832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图片 28" descr="35.png"/>
            <p:cNvPicPr/>
            <p:nvPr/>
          </p:nvPicPr>
          <p:blipFill>
            <a:blip r:embed="rId17"/>
            <a:stretch/>
          </p:blipFill>
          <p:spPr>
            <a:xfrm>
              <a:off x="6872760" y="439092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图片 29" descr="35.png"/>
            <p:cNvPicPr/>
            <p:nvPr/>
          </p:nvPicPr>
          <p:blipFill>
            <a:blip r:embed="rId18"/>
            <a:stretch/>
          </p:blipFill>
          <p:spPr>
            <a:xfrm>
              <a:off x="5056560" y="334296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图片 30" descr="34.png"/>
            <p:cNvPicPr/>
            <p:nvPr/>
          </p:nvPicPr>
          <p:blipFill>
            <a:blip r:embed="rId19"/>
            <a:stretch/>
          </p:blipFill>
          <p:spPr>
            <a:xfrm>
              <a:off x="5390280" y="3342960"/>
              <a:ext cx="1807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图片 31" descr="35.png"/>
            <p:cNvPicPr/>
            <p:nvPr/>
          </p:nvPicPr>
          <p:blipFill>
            <a:blip r:embed="rId20"/>
            <a:stretch/>
          </p:blipFill>
          <p:spPr>
            <a:xfrm>
              <a:off x="6272640" y="200916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图片 12" descr="37.png"/>
            <p:cNvPicPr/>
            <p:nvPr/>
          </p:nvPicPr>
          <p:blipFill>
            <a:blip r:embed="rId21"/>
            <a:stretch/>
          </p:blipFill>
          <p:spPr>
            <a:xfrm>
              <a:off x="6342840" y="285732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2" name="组合 54"/>
            <p:cNvGrpSpPr/>
            <p:nvPr/>
          </p:nvGrpSpPr>
          <p:grpSpPr>
            <a:xfrm>
              <a:off x="5955840" y="2061360"/>
              <a:ext cx="248760" cy="247320"/>
              <a:chOff x="5955840" y="2061360"/>
              <a:chExt cx="248760" cy="247320"/>
            </a:xfrm>
          </p:grpSpPr>
          <p:pic>
            <p:nvPicPr>
              <p:cNvPr id="653" name="图片 11" descr="36.png"/>
              <p:cNvPicPr/>
              <p:nvPr/>
            </p:nvPicPr>
            <p:blipFill>
              <a:blip r:embed="rId22"/>
              <a:stretch/>
            </p:blipFill>
            <p:spPr>
              <a:xfrm>
                <a:off x="5955840" y="2117520"/>
                <a:ext cx="19116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4" name="图片 13" descr="38.png"/>
              <p:cNvPicPr/>
              <p:nvPr/>
            </p:nvPicPr>
            <p:blipFill>
              <a:blip r:embed="rId23"/>
              <a:stretch/>
            </p:blipFill>
            <p:spPr>
              <a:xfrm>
                <a:off x="5985000" y="2061360"/>
                <a:ext cx="219600" cy="219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5" name="组合 55"/>
            <p:cNvGrpSpPr/>
            <p:nvPr/>
          </p:nvGrpSpPr>
          <p:grpSpPr>
            <a:xfrm>
              <a:off x="6260760" y="3219120"/>
              <a:ext cx="353160" cy="347400"/>
              <a:chOff x="6260760" y="3219120"/>
              <a:chExt cx="353160" cy="347400"/>
            </a:xfrm>
          </p:grpSpPr>
          <p:pic>
            <p:nvPicPr>
              <p:cNvPr id="656" name="图片 19" descr="36.png"/>
              <p:cNvPicPr/>
              <p:nvPr/>
            </p:nvPicPr>
            <p:blipFill>
              <a:blip r:embed="rId24"/>
              <a:stretch/>
            </p:blipFill>
            <p:spPr>
              <a:xfrm>
                <a:off x="6260760" y="3289320"/>
                <a:ext cx="19080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38" descr="37.png"/>
              <p:cNvPicPr/>
              <p:nvPr/>
            </p:nvPicPr>
            <p:blipFill>
              <a:blip r:embed="rId25"/>
              <a:stretch/>
            </p:blipFill>
            <p:spPr>
              <a:xfrm>
                <a:off x="6266520" y="321912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8" name="组合 52"/>
            <p:cNvGrpSpPr/>
            <p:nvPr/>
          </p:nvGrpSpPr>
          <p:grpSpPr>
            <a:xfrm>
              <a:off x="5581080" y="3838680"/>
              <a:ext cx="347400" cy="347400"/>
              <a:chOff x="5581080" y="3838680"/>
              <a:chExt cx="347400" cy="347400"/>
            </a:xfrm>
          </p:grpSpPr>
          <p:pic>
            <p:nvPicPr>
              <p:cNvPr id="659" name="图片 21" descr="36.png"/>
              <p:cNvPicPr/>
              <p:nvPr/>
            </p:nvPicPr>
            <p:blipFill>
              <a:blip r:embed="rId26"/>
              <a:stretch/>
            </p:blipFill>
            <p:spPr>
              <a:xfrm>
                <a:off x="5632200" y="3885480"/>
                <a:ext cx="19116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0" name="图片 39" descr="37.png"/>
              <p:cNvPicPr/>
              <p:nvPr/>
            </p:nvPicPr>
            <p:blipFill>
              <a:blip r:embed="rId27"/>
              <a:stretch/>
            </p:blipFill>
            <p:spPr>
              <a:xfrm>
                <a:off x="5581080" y="383868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1" name="组合 49"/>
            <p:cNvGrpSpPr/>
            <p:nvPr/>
          </p:nvGrpSpPr>
          <p:grpSpPr>
            <a:xfrm>
              <a:off x="5523840" y="4496040"/>
              <a:ext cx="347400" cy="347400"/>
              <a:chOff x="5523840" y="4496040"/>
              <a:chExt cx="347400" cy="347400"/>
            </a:xfrm>
          </p:grpSpPr>
          <p:pic>
            <p:nvPicPr>
              <p:cNvPr id="662" name="图片 23" descr="36.png"/>
              <p:cNvPicPr/>
              <p:nvPr/>
            </p:nvPicPr>
            <p:blipFill>
              <a:blip r:embed="rId28"/>
              <a:stretch/>
            </p:blipFill>
            <p:spPr>
              <a:xfrm>
                <a:off x="5546160" y="4552560"/>
                <a:ext cx="19116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3" name="图片 40" descr="37.png"/>
              <p:cNvPicPr/>
              <p:nvPr/>
            </p:nvPicPr>
            <p:blipFill>
              <a:blip r:embed="rId29"/>
              <a:stretch/>
            </p:blipFill>
            <p:spPr>
              <a:xfrm>
                <a:off x="5523840" y="449604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组合 50"/>
            <p:cNvGrpSpPr/>
            <p:nvPr/>
          </p:nvGrpSpPr>
          <p:grpSpPr>
            <a:xfrm>
              <a:off x="4804920" y="4429440"/>
              <a:ext cx="347400" cy="347400"/>
              <a:chOff x="4804920" y="4429440"/>
              <a:chExt cx="347400" cy="347400"/>
            </a:xfrm>
          </p:grpSpPr>
          <p:pic>
            <p:nvPicPr>
              <p:cNvPr id="665" name="图片 26" descr="36.png"/>
              <p:cNvPicPr/>
              <p:nvPr/>
            </p:nvPicPr>
            <p:blipFill>
              <a:blip r:embed="rId30"/>
              <a:stretch/>
            </p:blipFill>
            <p:spPr>
              <a:xfrm>
                <a:off x="4822560" y="4533480"/>
                <a:ext cx="19116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图片 42" descr="37.png"/>
              <p:cNvPicPr/>
              <p:nvPr/>
            </p:nvPicPr>
            <p:blipFill>
              <a:blip r:embed="rId31"/>
              <a:stretch/>
            </p:blipFill>
            <p:spPr>
              <a:xfrm>
                <a:off x="4804920" y="442944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7" name="组合 51"/>
            <p:cNvGrpSpPr/>
            <p:nvPr/>
          </p:nvGrpSpPr>
          <p:grpSpPr>
            <a:xfrm>
              <a:off x="5152320" y="4172040"/>
              <a:ext cx="347400" cy="347400"/>
              <a:chOff x="5152320" y="4172040"/>
              <a:chExt cx="347400" cy="347400"/>
            </a:xfrm>
          </p:grpSpPr>
          <p:pic>
            <p:nvPicPr>
              <p:cNvPr id="668" name="图片 17" descr="34.png"/>
              <p:cNvPicPr/>
              <p:nvPr/>
            </p:nvPicPr>
            <p:blipFill>
              <a:blip r:embed="rId32"/>
              <a:stretch/>
            </p:blipFill>
            <p:spPr>
              <a:xfrm>
                <a:off x="5152320" y="4276800"/>
                <a:ext cx="18108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43" descr="37.png"/>
              <p:cNvPicPr/>
              <p:nvPr/>
            </p:nvPicPr>
            <p:blipFill>
              <a:blip r:embed="rId33"/>
              <a:stretch/>
            </p:blipFill>
            <p:spPr>
              <a:xfrm>
                <a:off x="5152320" y="417204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0" name="组合 56"/>
            <p:cNvGrpSpPr/>
            <p:nvPr/>
          </p:nvGrpSpPr>
          <p:grpSpPr>
            <a:xfrm>
              <a:off x="5723640" y="1618560"/>
              <a:ext cx="347400" cy="347400"/>
              <a:chOff x="5723640" y="1618560"/>
              <a:chExt cx="347400" cy="347400"/>
            </a:xfrm>
          </p:grpSpPr>
          <p:pic>
            <p:nvPicPr>
              <p:cNvPr id="671" name="图片 9" descr="34.png"/>
              <p:cNvPicPr/>
              <p:nvPr/>
            </p:nvPicPr>
            <p:blipFill>
              <a:blip r:embed="rId34"/>
              <a:stretch/>
            </p:blipFill>
            <p:spPr>
              <a:xfrm>
                <a:off x="5803200" y="1684080"/>
                <a:ext cx="18108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" name="图片 44" descr="37.png"/>
              <p:cNvPicPr/>
              <p:nvPr/>
            </p:nvPicPr>
            <p:blipFill>
              <a:blip r:embed="rId35"/>
              <a:stretch/>
            </p:blipFill>
            <p:spPr>
              <a:xfrm>
                <a:off x="5723640" y="161856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3" name="组合 53"/>
            <p:cNvGrpSpPr/>
            <p:nvPr/>
          </p:nvGrpSpPr>
          <p:grpSpPr>
            <a:xfrm>
              <a:off x="7076520" y="3962520"/>
              <a:ext cx="347400" cy="347400"/>
              <a:chOff x="7076520" y="3962520"/>
              <a:chExt cx="347400" cy="347400"/>
            </a:xfrm>
          </p:grpSpPr>
          <p:pic>
            <p:nvPicPr>
              <p:cNvPr id="674" name="图片 16" descr="34.png"/>
              <p:cNvPicPr/>
              <p:nvPr/>
            </p:nvPicPr>
            <p:blipFill>
              <a:blip r:embed="rId36"/>
              <a:stretch/>
            </p:blipFill>
            <p:spPr>
              <a:xfrm>
                <a:off x="7137000" y="4067280"/>
                <a:ext cx="18108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图片 48" descr="37.png"/>
              <p:cNvPicPr/>
              <p:nvPr/>
            </p:nvPicPr>
            <p:blipFill>
              <a:blip r:embed="rId37"/>
              <a:stretch/>
            </p:blipFill>
            <p:spPr>
              <a:xfrm>
                <a:off x="7076520" y="396252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6" name="图片 32" descr="38.png"/>
            <p:cNvPicPr/>
            <p:nvPr/>
          </p:nvPicPr>
          <p:blipFill>
            <a:blip r:embed="rId38"/>
            <a:stretch/>
          </p:blipFill>
          <p:spPr>
            <a:xfrm>
              <a:off x="6175800" y="185184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图片 33" descr="38.png"/>
            <p:cNvPicPr/>
            <p:nvPr/>
          </p:nvPicPr>
          <p:blipFill>
            <a:blip r:embed="rId39"/>
            <a:stretch/>
          </p:blipFill>
          <p:spPr>
            <a:xfrm>
              <a:off x="5461560" y="263772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图片 34" descr="38.png"/>
            <p:cNvPicPr/>
            <p:nvPr/>
          </p:nvPicPr>
          <p:blipFill>
            <a:blip r:embed="rId40"/>
            <a:stretch/>
          </p:blipFill>
          <p:spPr>
            <a:xfrm>
              <a:off x="6061680" y="317124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图片 35" descr="38.png"/>
            <p:cNvPicPr/>
            <p:nvPr/>
          </p:nvPicPr>
          <p:blipFill>
            <a:blip r:embed="rId41"/>
            <a:stretch/>
          </p:blipFill>
          <p:spPr>
            <a:xfrm>
              <a:off x="5632920" y="367632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图片 36" descr="38.png"/>
            <p:cNvPicPr/>
            <p:nvPr/>
          </p:nvPicPr>
          <p:blipFill>
            <a:blip r:embed="rId42"/>
            <a:stretch/>
          </p:blipFill>
          <p:spPr>
            <a:xfrm>
              <a:off x="6271200" y="380952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图片 37" descr="38.png"/>
            <p:cNvPicPr/>
            <p:nvPr/>
          </p:nvPicPr>
          <p:blipFill>
            <a:blip r:embed="rId43"/>
            <a:stretch/>
          </p:blipFill>
          <p:spPr>
            <a:xfrm>
              <a:off x="6699960" y="418104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41" descr="37.png"/>
            <p:cNvPicPr/>
            <p:nvPr/>
          </p:nvPicPr>
          <p:blipFill>
            <a:blip r:embed="rId44"/>
            <a:stretch/>
          </p:blipFill>
          <p:spPr>
            <a:xfrm>
              <a:off x="6152400" y="452448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45" descr="37.png"/>
            <p:cNvPicPr/>
            <p:nvPr/>
          </p:nvPicPr>
          <p:blipFill>
            <a:blip r:embed="rId45"/>
            <a:stretch/>
          </p:blipFill>
          <p:spPr>
            <a:xfrm>
              <a:off x="5285520" y="221904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46" descr="37.png"/>
            <p:cNvPicPr/>
            <p:nvPr/>
          </p:nvPicPr>
          <p:blipFill>
            <a:blip r:embed="rId46"/>
            <a:stretch/>
          </p:blipFill>
          <p:spPr>
            <a:xfrm>
              <a:off x="6857280" y="325728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图片 47" descr="37.png"/>
            <p:cNvPicPr/>
            <p:nvPr/>
          </p:nvPicPr>
          <p:blipFill>
            <a:blip r:embed="rId47"/>
            <a:stretch/>
          </p:blipFill>
          <p:spPr>
            <a:xfrm>
              <a:off x="5876280" y="2256840"/>
              <a:ext cx="34740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103"/>
          <p:cNvGrpSpPr/>
          <p:nvPr/>
        </p:nvGrpSpPr>
        <p:grpSpPr>
          <a:xfrm>
            <a:off x="0" y="0"/>
            <a:ext cx="9144000" cy="5715000"/>
            <a:chOff x="0" y="0"/>
            <a:chExt cx="9144000" cy="5715000"/>
          </a:xfrm>
        </p:grpSpPr>
        <p:pic>
          <p:nvPicPr>
            <p:cNvPr id="687" name="图片 99" descr="39.png"/>
            <p:cNvPicPr/>
            <p:nvPr/>
          </p:nvPicPr>
          <p:blipFill>
            <a:blip r:embed="rId48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Box 101"/>
            <p:cNvSpPr/>
            <p:nvPr/>
          </p:nvSpPr>
          <p:spPr>
            <a:xfrm>
              <a:off x="3381840" y="1828800"/>
              <a:ext cx="285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Calibri"/>
                </a:rPr>
                <a:t>WINTER   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Box 102">
              <a:hlinkClick r:id="rId49"/>
            </p:cNvPr>
            <p:cNvSpPr/>
            <p:nvPr/>
          </p:nvSpPr>
          <p:spPr>
            <a:xfrm>
              <a:off x="3381480" y="2857320"/>
              <a:ext cx="275256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0" name="图片 100" descr="40.png"/>
          <p:cNvPicPr/>
          <p:nvPr/>
        </p:nvPicPr>
        <p:blipFill>
          <a:blip r:embed="rId50"/>
          <a:stretch/>
        </p:blipFill>
        <p:spPr>
          <a:xfrm>
            <a:off x="0" y="0"/>
            <a:ext cx="2633760" cy="2432160"/>
          </a:xfrm>
          <a:prstGeom prst="rect">
            <a:avLst/>
          </a:prstGeom>
          <a:ln w="0">
            <a:noFill/>
          </a:ln>
        </p:spPr>
      </p:pic>
      <p:sp>
        <p:nvSpPr>
          <p:cNvPr id="691" name="文本框 15423"/>
          <p:cNvSpPr/>
          <p:nvPr/>
        </p:nvSpPr>
        <p:spPr>
          <a:xfrm>
            <a:off x="1182600" y="3114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8A8F-D8D7-4019-B825-C0B5430DB6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5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3" descr="C:\Documents and Settings\Administrator\桌面\LOGO白副本.png"/>
          <p:cNvPicPr/>
          <p:nvPr/>
        </p:nvPicPr>
        <p:blipFill>
          <a:blip r:embed="rId1"/>
          <a:stretch/>
        </p:blipFill>
        <p:spPr>
          <a:xfrm>
            <a:off x="298440" y="4983120"/>
            <a:ext cx="1214280" cy="56376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62" descr="4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123"/>
          <p:cNvGrpSpPr/>
          <p:nvPr/>
        </p:nvGrpSpPr>
        <p:grpSpPr>
          <a:xfrm>
            <a:off x="-303120" y="-2123640"/>
            <a:ext cx="10922040" cy="7387920"/>
            <a:chOff x="-303120" y="-2123640"/>
            <a:chExt cx="10922040" cy="7387920"/>
          </a:xfrm>
        </p:grpSpPr>
        <p:pic>
          <p:nvPicPr>
            <p:cNvPr id="700" name="Picture 3" descr=""/>
            <p:cNvPicPr/>
            <p:nvPr/>
          </p:nvPicPr>
          <p:blipFill>
            <a:blip r:embed="rId3"/>
            <a:stretch/>
          </p:blipFill>
          <p:spPr>
            <a:xfrm rot="12798600">
              <a:off x="4289040" y="-1020600"/>
              <a:ext cx="5455800" cy="48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" descr=""/>
            <p:cNvPicPr/>
            <p:nvPr/>
          </p:nvPicPr>
          <p:blipFill>
            <a:blip r:embed="rId4"/>
            <a:stretch/>
          </p:blipFill>
          <p:spPr>
            <a:xfrm>
              <a:off x="-303120" y="450000"/>
              <a:ext cx="5455800" cy="481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图片 63" descr="3.png"/>
          <p:cNvPicPr/>
          <p:nvPr/>
        </p:nvPicPr>
        <p:blipFill>
          <a:blip r:embed="rId5"/>
          <a:stretch/>
        </p:blipFill>
        <p:spPr>
          <a:xfrm>
            <a:off x="5030640" y="515880"/>
            <a:ext cx="2789280" cy="465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pic>
        <p:nvPicPr>
          <p:cNvPr id="703" name="图片 64" descr="4.png"/>
          <p:cNvPicPr/>
          <p:nvPr/>
        </p:nvPicPr>
        <p:blipFill>
          <a:blip r:embed="rId6"/>
          <a:stretch/>
        </p:blipFill>
        <p:spPr>
          <a:xfrm>
            <a:off x="7532640" y="3614760"/>
            <a:ext cx="1152720" cy="1563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pic>
        <p:nvPicPr>
          <p:cNvPr id="704" name="图片 65" descr="5.png"/>
          <p:cNvPicPr/>
          <p:nvPr/>
        </p:nvPicPr>
        <p:blipFill>
          <a:blip r:embed="rId7"/>
          <a:stretch/>
        </p:blipFill>
        <p:spPr>
          <a:xfrm>
            <a:off x="6931080" y="4444920"/>
            <a:ext cx="904680" cy="83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pic>
        <p:nvPicPr>
          <p:cNvPr id="705" name="图片 66" descr="6.png"/>
          <p:cNvPicPr/>
          <p:nvPr/>
        </p:nvPicPr>
        <p:blipFill>
          <a:blip r:embed="rId8"/>
          <a:stretch/>
        </p:blipFill>
        <p:spPr>
          <a:xfrm>
            <a:off x="4359240" y="4265640"/>
            <a:ext cx="1398600" cy="1042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pic>
        <p:nvPicPr>
          <p:cNvPr id="706" name="图片 67" descr="35.png"/>
          <p:cNvPicPr/>
          <p:nvPr/>
        </p:nvPicPr>
        <p:blipFill>
          <a:blip r:embed="rId9"/>
          <a:stretch/>
        </p:blipFill>
        <p:spPr>
          <a:xfrm>
            <a:off x="6202440" y="2452680"/>
            <a:ext cx="191880" cy="181080"/>
          </a:xfrm>
          <a:prstGeom prst="rect">
            <a:avLst/>
          </a:prstGeom>
          <a:ln w="0">
            <a:noFill/>
          </a:ln>
        </p:spPr>
      </p:pic>
      <p:pic>
        <p:nvPicPr>
          <p:cNvPr id="707" name="图片 68" descr="34.png"/>
          <p:cNvPicPr/>
          <p:nvPr/>
        </p:nvPicPr>
        <p:blipFill>
          <a:blip r:embed="rId10"/>
          <a:stretch/>
        </p:blipFill>
        <p:spPr>
          <a:xfrm>
            <a:off x="6877080" y="259560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69" descr="34.png"/>
          <p:cNvPicPr/>
          <p:nvPr/>
        </p:nvPicPr>
        <p:blipFill>
          <a:blip r:embed="rId11"/>
          <a:stretch/>
        </p:blipFill>
        <p:spPr>
          <a:xfrm>
            <a:off x="5934240" y="2557440"/>
            <a:ext cx="180720" cy="19044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70" descr="36.png"/>
          <p:cNvPicPr/>
          <p:nvPr/>
        </p:nvPicPr>
        <p:blipFill>
          <a:blip r:embed="rId12"/>
          <a:stretch/>
        </p:blipFill>
        <p:spPr>
          <a:xfrm>
            <a:off x="6591240" y="2093760"/>
            <a:ext cx="190440" cy="19224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71" descr="36.png"/>
          <p:cNvPicPr/>
          <p:nvPr/>
        </p:nvPicPr>
        <p:blipFill>
          <a:blip r:embed="rId13"/>
          <a:stretch/>
        </p:blipFill>
        <p:spPr>
          <a:xfrm>
            <a:off x="5610240" y="24051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72" descr="36.png"/>
          <p:cNvPicPr/>
          <p:nvPr/>
        </p:nvPicPr>
        <p:blipFill>
          <a:blip r:embed="rId14"/>
          <a:stretch/>
        </p:blipFill>
        <p:spPr>
          <a:xfrm>
            <a:off x="6705720" y="3909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73" descr="36.png"/>
          <p:cNvPicPr/>
          <p:nvPr/>
        </p:nvPicPr>
        <p:blipFill>
          <a:blip r:embed="rId15"/>
          <a:stretch/>
        </p:blipFill>
        <p:spPr>
          <a:xfrm>
            <a:off x="6534000" y="4319640"/>
            <a:ext cx="190800" cy="19044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74" descr="36.png"/>
          <p:cNvPicPr/>
          <p:nvPr/>
        </p:nvPicPr>
        <p:blipFill>
          <a:blip r:embed="rId16"/>
          <a:stretch/>
        </p:blipFill>
        <p:spPr>
          <a:xfrm>
            <a:off x="7477200" y="420516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75" descr="35.png"/>
          <p:cNvPicPr/>
          <p:nvPr/>
        </p:nvPicPr>
        <p:blipFill>
          <a:blip r:embed="rId17"/>
          <a:stretch/>
        </p:blipFill>
        <p:spPr>
          <a:xfrm>
            <a:off x="6859440" y="3576600"/>
            <a:ext cx="192240" cy="18108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76" descr="35.png"/>
          <p:cNvPicPr/>
          <p:nvPr/>
        </p:nvPicPr>
        <p:blipFill>
          <a:blip r:embed="rId18"/>
          <a:stretch/>
        </p:blipFill>
        <p:spPr>
          <a:xfrm>
            <a:off x="7202520" y="4129200"/>
            <a:ext cx="191880" cy="18072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77" descr="35.png"/>
          <p:cNvPicPr/>
          <p:nvPr/>
        </p:nvPicPr>
        <p:blipFill>
          <a:blip r:embed="rId19"/>
          <a:stretch/>
        </p:blipFill>
        <p:spPr>
          <a:xfrm>
            <a:off x="5386320" y="3081240"/>
            <a:ext cx="192240" cy="18108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78" descr="34.png"/>
          <p:cNvPicPr/>
          <p:nvPr/>
        </p:nvPicPr>
        <p:blipFill>
          <a:blip r:embed="rId20"/>
          <a:stretch/>
        </p:blipFill>
        <p:spPr>
          <a:xfrm>
            <a:off x="5721480" y="3081240"/>
            <a:ext cx="180720" cy="1904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79" descr="35.png"/>
          <p:cNvPicPr/>
          <p:nvPr/>
        </p:nvPicPr>
        <p:blipFill>
          <a:blip r:embed="rId21"/>
          <a:stretch/>
        </p:blipFill>
        <p:spPr>
          <a:xfrm>
            <a:off x="6602400" y="1747800"/>
            <a:ext cx="192240" cy="1810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80" descr="37.png"/>
          <p:cNvPicPr/>
          <p:nvPr/>
        </p:nvPicPr>
        <p:blipFill>
          <a:blip r:embed="rId22"/>
          <a:stretch/>
        </p:blipFill>
        <p:spPr>
          <a:xfrm>
            <a:off x="6673680" y="2595600"/>
            <a:ext cx="347760" cy="347760"/>
          </a:xfrm>
          <a:prstGeom prst="rect">
            <a:avLst/>
          </a:prstGeom>
          <a:ln w="0">
            <a:noFill/>
          </a:ln>
        </p:spPr>
      </p:pic>
      <p:grpSp>
        <p:nvGrpSpPr>
          <p:cNvPr id="720" name="组合 81"/>
          <p:cNvGrpSpPr/>
          <p:nvPr/>
        </p:nvGrpSpPr>
        <p:grpSpPr>
          <a:xfrm>
            <a:off x="6286680" y="1800360"/>
            <a:ext cx="249120" cy="247680"/>
            <a:chOff x="6286680" y="1800360"/>
            <a:chExt cx="249120" cy="247680"/>
          </a:xfrm>
        </p:grpSpPr>
        <p:pic>
          <p:nvPicPr>
            <p:cNvPr id="721" name="图片 82" descr="36.png"/>
            <p:cNvPicPr/>
            <p:nvPr/>
          </p:nvPicPr>
          <p:blipFill>
            <a:blip r:embed="rId23"/>
            <a:stretch/>
          </p:blipFill>
          <p:spPr>
            <a:xfrm>
              <a:off x="6286680" y="1856520"/>
              <a:ext cx="191160" cy="1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83" descr="38.png"/>
            <p:cNvPicPr/>
            <p:nvPr/>
          </p:nvPicPr>
          <p:blipFill>
            <a:blip r:embed="rId24"/>
            <a:stretch/>
          </p:blipFill>
          <p:spPr>
            <a:xfrm>
              <a:off x="6316200" y="1800360"/>
              <a:ext cx="219600" cy="21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84"/>
          <p:cNvGrpSpPr/>
          <p:nvPr/>
        </p:nvGrpSpPr>
        <p:grpSpPr>
          <a:xfrm>
            <a:off x="6591240" y="2957400"/>
            <a:ext cx="354240" cy="347760"/>
            <a:chOff x="6591240" y="2957400"/>
            <a:chExt cx="354240" cy="347760"/>
          </a:xfrm>
        </p:grpSpPr>
        <p:pic>
          <p:nvPicPr>
            <p:cNvPr id="724" name="图片 85" descr="36.png"/>
            <p:cNvPicPr/>
            <p:nvPr/>
          </p:nvPicPr>
          <p:blipFill>
            <a:blip r:embed="rId25"/>
            <a:stretch/>
          </p:blipFill>
          <p:spPr>
            <a:xfrm>
              <a:off x="6591240" y="3027600"/>
              <a:ext cx="1915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图片 86" descr="37.png"/>
            <p:cNvPicPr/>
            <p:nvPr/>
          </p:nvPicPr>
          <p:blipFill>
            <a:blip r:embed="rId26"/>
            <a:stretch/>
          </p:blipFill>
          <p:spPr>
            <a:xfrm>
              <a:off x="6597000" y="2957400"/>
              <a:ext cx="34848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6" name="组合 87"/>
          <p:cNvGrpSpPr/>
          <p:nvPr/>
        </p:nvGrpSpPr>
        <p:grpSpPr>
          <a:xfrm>
            <a:off x="5911920" y="3576600"/>
            <a:ext cx="347760" cy="347760"/>
            <a:chOff x="5911920" y="3576600"/>
            <a:chExt cx="347760" cy="347760"/>
          </a:xfrm>
        </p:grpSpPr>
        <p:pic>
          <p:nvPicPr>
            <p:cNvPr id="727" name="图片 88" descr="36.png"/>
            <p:cNvPicPr/>
            <p:nvPr/>
          </p:nvPicPr>
          <p:blipFill>
            <a:blip r:embed="rId27"/>
            <a:stretch/>
          </p:blipFill>
          <p:spPr>
            <a:xfrm>
              <a:off x="5963040" y="362340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图片 89" descr="37.png"/>
            <p:cNvPicPr/>
            <p:nvPr/>
          </p:nvPicPr>
          <p:blipFill>
            <a:blip r:embed="rId28"/>
            <a:stretch/>
          </p:blipFill>
          <p:spPr>
            <a:xfrm>
              <a:off x="5911920" y="3576600"/>
              <a:ext cx="3477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组合 90"/>
          <p:cNvGrpSpPr/>
          <p:nvPr/>
        </p:nvGrpSpPr>
        <p:grpSpPr>
          <a:xfrm>
            <a:off x="5854680" y="4233960"/>
            <a:ext cx="347760" cy="347400"/>
            <a:chOff x="5854680" y="4233960"/>
            <a:chExt cx="347760" cy="347400"/>
          </a:xfrm>
        </p:grpSpPr>
        <p:pic>
          <p:nvPicPr>
            <p:cNvPr id="730" name="图片 91" descr="36.png"/>
            <p:cNvPicPr/>
            <p:nvPr/>
          </p:nvPicPr>
          <p:blipFill>
            <a:blip r:embed="rId29"/>
            <a:stretch/>
          </p:blipFill>
          <p:spPr>
            <a:xfrm>
              <a:off x="5877000" y="429048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图片 92" descr="37.png"/>
            <p:cNvPicPr/>
            <p:nvPr/>
          </p:nvPicPr>
          <p:blipFill>
            <a:blip r:embed="rId30"/>
            <a:stretch/>
          </p:blipFill>
          <p:spPr>
            <a:xfrm>
              <a:off x="5854680" y="4233960"/>
              <a:ext cx="34776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组合 93"/>
          <p:cNvGrpSpPr/>
          <p:nvPr/>
        </p:nvGrpSpPr>
        <p:grpSpPr>
          <a:xfrm>
            <a:off x="5135400" y="4167360"/>
            <a:ext cx="347760" cy="347400"/>
            <a:chOff x="5135400" y="4167360"/>
            <a:chExt cx="347760" cy="347400"/>
          </a:xfrm>
        </p:grpSpPr>
        <p:pic>
          <p:nvPicPr>
            <p:cNvPr id="733" name="图片 94" descr="36.png"/>
            <p:cNvPicPr/>
            <p:nvPr/>
          </p:nvPicPr>
          <p:blipFill>
            <a:blip r:embed="rId31"/>
            <a:stretch/>
          </p:blipFill>
          <p:spPr>
            <a:xfrm>
              <a:off x="5153040" y="427140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图片 95" descr="37.png"/>
            <p:cNvPicPr/>
            <p:nvPr/>
          </p:nvPicPr>
          <p:blipFill>
            <a:blip r:embed="rId32"/>
            <a:stretch/>
          </p:blipFill>
          <p:spPr>
            <a:xfrm>
              <a:off x="5135400" y="4167360"/>
              <a:ext cx="34776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5" name="组合 97"/>
          <p:cNvGrpSpPr/>
          <p:nvPr/>
        </p:nvGrpSpPr>
        <p:grpSpPr>
          <a:xfrm>
            <a:off x="5483160" y="3909960"/>
            <a:ext cx="346320" cy="347760"/>
            <a:chOff x="5483160" y="3909960"/>
            <a:chExt cx="346320" cy="347760"/>
          </a:xfrm>
        </p:grpSpPr>
        <p:pic>
          <p:nvPicPr>
            <p:cNvPr id="736" name="图片 98" descr="34.png"/>
            <p:cNvPicPr/>
            <p:nvPr/>
          </p:nvPicPr>
          <p:blipFill>
            <a:blip r:embed="rId33"/>
            <a:stretch/>
          </p:blipFill>
          <p:spPr>
            <a:xfrm>
              <a:off x="5483160" y="4014720"/>
              <a:ext cx="1803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图片 103" descr="37.png"/>
            <p:cNvPicPr/>
            <p:nvPr/>
          </p:nvPicPr>
          <p:blipFill>
            <a:blip r:embed="rId34"/>
            <a:stretch/>
          </p:blipFill>
          <p:spPr>
            <a:xfrm>
              <a:off x="5483160" y="3909960"/>
              <a:ext cx="34632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8" name="组合 104"/>
          <p:cNvGrpSpPr/>
          <p:nvPr/>
        </p:nvGrpSpPr>
        <p:grpSpPr>
          <a:xfrm>
            <a:off x="6054840" y="1357200"/>
            <a:ext cx="345960" cy="347760"/>
            <a:chOff x="6054840" y="1357200"/>
            <a:chExt cx="345960" cy="347760"/>
          </a:xfrm>
        </p:grpSpPr>
        <p:pic>
          <p:nvPicPr>
            <p:cNvPr id="739" name="图片 105" descr="34.png"/>
            <p:cNvPicPr/>
            <p:nvPr/>
          </p:nvPicPr>
          <p:blipFill>
            <a:blip r:embed="rId35"/>
            <a:stretch/>
          </p:blipFill>
          <p:spPr>
            <a:xfrm>
              <a:off x="6134040" y="1422720"/>
              <a:ext cx="1803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图片 106" descr="37.png"/>
            <p:cNvPicPr/>
            <p:nvPr/>
          </p:nvPicPr>
          <p:blipFill>
            <a:blip r:embed="rId36"/>
            <a:stretch/>
          </p:blipFill>
          <p:spPr>
            <a:xfrm>
              <a:off x="6054840" y="1357200"/>
              <a:ext cx="3459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1" name="组合 107"/>
          <p:cNvGrpSpPr/>
          <p:nvPr/>
        </p:nvGrpSpPr>
        <p:grpSpPr>
          <a:xfrm>
            <a:off x="7407360" y="3700440"/>
            <a:ext cx="347400" cy="347760"/>
            <a:chOff x="7407360" y="3700440"/>
            <a:chExt cx="347400" cy="347760"/>
          </a:xfrm>
        </p:grpSpPr>
        <p:pic>
          <p:nvPicPr>
            <p:cNvPr id="742" name="图片 108" descr="34.png"/>
            <p:cNvPicPr/>
            <p:nvPr/>
          </p:nvPicPr>
          <p:blipFill>
            <a:blip r:embed="rId37"/>
            <a:stretch/>
          </p:blipFill>
          <p:spPr>
            <a:xfrm>
              <a:off x="7467840" y="3805200"/>
              <a:ext cx="18108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图片 109" descr="37.png"/>
            <p:cNvPicPr/>
            <p:nvPr/>
          </p:nvPicPr>
          <p:blipFill>
            <a:blip r:embed="rId38"/>
            <a:stretch/>
          </p:blipFill>
          <p:spPr>
            <a:xfrm>
              <a:off x="7407360" y="3700440"/>
              <a:ext cx="347400" cy="34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4" name="图片 110" descr="38.png"/>
          <p:cNvPicPr/>
          <p:nvPr/>
        </p:nvPicPr>
        <p:blipFill>
          <a:blip r:embed="rId39"/>
          <a:stretch/>
        </p:blipFill>
        <p:spPr>
          <a:xfrm>
            <a:off x="6505560" y="1590840"/>
            <a:ext cx="220680" cy="21888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111" descr="38.png"/>
          <p:cNvPicPr/>
          <p:nvPr/>
        </p:nvPicPr>
        <p:blipFill>
          <a:blip r:embed="rId40"/>
          <a:stretch/>
        </p:blipFill>
        <p:spPr>
          <a:xfrm>
            <a:off x="5791320" y="2376360"/>
            <a:ext cx="220680" cy="21924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112" descr="38.png"/>
          <p:cNvPicPr/>
          <p:nvPr/>
        </p:nvPicPr>
        <p:blipFill>
          <a:blip r:embed="rId41"/>
          <a:stretch/>
        </p:blipFill>
        <p:spPr>
          <a:xfrm>
            <a:off x="6391440" y="2909880"/>
            <a:ext cx="220320" cy="21924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113" descr="38.png"/>
          <p:cNvPicPr/>
          <p:nvPr/>
        </p:nvPicPr>
        <p:blipFill>
          <a:blip r:embed="rId42"/>
          <a:stretch/>
        </p:blipFill>
        <p:spPr>
          <a:xfrm>
            <a:off x="5962680" y="3414600"/>
            <a:ext cx="220680" cy="21924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114" descr="38.png"/>
          <p:cNvPicPr/>
          <p:nvPr/>
        </p:nvPicPr>
        <p:blipFill>
          <a:blip r:embed="rId43"/>
          <a:stretch/>
        </p:blipFill>
        <p:spPr>
          <a:xfrm>
            <a:off x="6600960" y="3548160"/>
            <a:ext cx="220680" cy="21888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115" descr="38.png"/>
          <p:cNvPicPr/>
          <p:nvPr/>
        </p:nvPicPr>
        <p:blipFill>
          <a:blip r:embed="rId44"/>
          <a:stretch/>
        </p:blipFill>
        <p:spPr>
          <a:xfrm>
            <a:off x="7029360" y="3919680"/>
            <a:ext cx="220680" cy="21888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116" descr="37.png"/>
          <p:cNvPicPr/>
          <p:nvPr/>
        </p:nvPicPr>
        <p:blipFill>
          <a:blip r:embed="rId45"/>
          <a:stretch/>
        </p:blipFill>
        <p:spPr>
          <a:xfrm>
            <a:off x="6483240" y="426240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17" descr="37.png"/>
          <p:cNvPicPr/>
          <p:nvPr/>
        </p:nvPicPr>
        <p:blipFill>
          <a:blip r:embed="rId46"/>
          <a:stretch/>
        </p:blipFill>
        <p:spPr>
          <a:xfrm>
            <a:off x="5616720" y="1957320"/>
            <a:ext cx="345960" cy="34776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18" descr="37.png"/>
          <p:cNvPicPr/>
          <p:nvPr/>
        </p:nvPicPr>
        <p:blipFill>
          <a:blip r:embed="rId47"/>
          <a:stretch/>
        </p:blipFill>
        <p:spPr>
          <a:xfrm>
            <a:off x="7188120" y="299556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19" descr="37.png"/>
          <p:cNvPicPr/>
          <p:nvPr/>
        </p:nvPicPr>
        <p:blipFill>
          <a:blip r:embed="rId48"/>
          <a:stretch/>
        </p:blipFill>
        <p:spPr>
          <a:xfrm>
            <a:off x="6207120" y="1995480"/>
            <a:ext cx="345960" cy="347760"/>
          </a:xfrm>
          <a:prstGeom prst="rect">
            <a:avLst/>
          </a:prstGeom>
          <a:ln w="0">
            <a:noFill/>
          </a:ln>
        </p:spPr>
      </p:pic>
      <p:sp>
        <p:nvSpPr>
          <p:cNvPr id="754" name="TextBox 120"/>
          <p:cNvSpPr/>
          <p:nvPr/>
        </p:nvSpPr>
        <p:spPr>
          <a:xfrm>
            <a:off x="301680" y="3495600"/>
            <a:ext cx="50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rry Christ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withEffect" fill="hold" presetClass="entr" presetID="2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1" dur="indefinite" nodeType="withEffect" fill="remove" presetClass="emph" presetID="35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dur="indefinite" nodeType="withEffect" fill="remove" presetClass="emph" presetID="35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remove" presetClass="emph" presetID="35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remove" presetClass="emph" presetID="35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remove" presetClass="emph" presetID="35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2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remove" presetClass="emph" presetID="35" repeatCount="indefinite">
                                  <p:stCondLst>
                                    <p:cond delay="2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remove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remove" presetClass="emph" presetID="35" repeatCount="indefinite">
                                  <p:stCondLst>
                                    <p:cond delay="1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remove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0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remove" presetClass="emph" presetID="35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remove" presetClass="emph" presetID="35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4" dur="3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6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remove" presetClass="emph" presetID="35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remove" presetClass="emph" presetID="35" repeatCount="indefinite">
                                  <p:stCondLst>
                                    <p:cond delay="1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dur="indefinite" nodeType="withEffect" fill="remove" presetClass="emph" presetID="35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2" dur="4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remove" presetClass="emph" presetID="35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remove" presetClass="emph" presetID="35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44" dur="6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5">
                                  <p:stCondLst>
                                    <p:cond delay="1500"/>
                                  </p:stCondLst>
                                  <p:iterate type="lt">
                                    <p:tmAbs val="61.5359992980957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2:45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37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