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8C5-71CB-4474-8AD1-C45F03F6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703-A2D1-43BD-BF5C-3A550B8D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94942-8BCD-430E-BD4D-5E9A1F88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C27B0-EEB4-40BF-B992-35B3AE3E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551F3-E4FD-4DAB-A149-E71C9D2A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B133F-2889-4BCF-891B-6569BE3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D946-FB6B-4F51-BEB9-C6596338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1E148-5E02-4965-AF90-919E0BF8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2D825-823F-4022-BF76-CE48F4F6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B49CA-DC17-435F-BDD6-B56BA6C2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8B417-FF61-4E26-91C3-0E5510B4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263B1-6DC1-4C12-AD8C-6622583E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4C9-3BDB-45FE-8898-F04131D3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833F5-485F-4F38-9D33-4EA5C8B9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97C5B-8AEE-4545-9CA8-186E27F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E1F7F-6F91-47F5-96FC-7ADC2984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06332-5167-4130-B6A1-BE298763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0EBA4-A764-4933-9488-2CF692E7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66BCE-E591-4F88-97BD-B22051F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66DDB-6504-485B-89CA-3F7E223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9D553-DE96-4205-9618-3AF688F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0F6DE-7402-4360-A303-A22C63C4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68549-949C-4620-BAA0-3B2B5189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D19-0FFB-4B05-A52D-03AF46A8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6EE25-0E08-4BD5-B646-1244170A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4C24D-1B14-4CAD-8C4B-F2F23341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9D15D-3C21-4BE0-A049-14EBD783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1A356-6BF2-4B34-B1CF-A0522C64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61C2C-8175-4958-BCB7-F085045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DD131-8988-4A6D-A9FE-9B411ECD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75DFE-37AB-4B79-B9DB-C866A892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C7C29-0CC1-49A6-8F2A-1C1E81A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A675-B1A6-46C6-BD8D-1D55BE3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1852E-2969-4EDE-B91A-20A15A1A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831D-F729-4053-848D-CE4D369F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77C0B-7B64-47C4-BBA8-D35C4A46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37C8B-7E12-4586-A548-433DCC9D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9D370-3EBC-43CA-8923-D9269F54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E6C74-0627-4CDF-9B89-A31EF53D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D954D-F83B-43B9-9094-34249225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D8255-87BD-4802-AEC7-DD83E10E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E40CC-F767-4719-92BF-20D4765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D3763-8D0F-4B46-AED0-19C60A5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57A3C-47A7-40D0-9236-5CE2A973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3634E-32EC-43D6-AAB3-8E2C1DC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5D15-DA83-428B-8A28-7F3C2637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F98CC-B15A-4B26-8E65-5947261D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3851B-DD38-4345-8B33-A4BD8ED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91075-799E-48B0-B99E-6510194F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3A0E5-06AC-4666-A393-498B7006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9FC18-0B17-4156-95C5-EFD0ED77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D67E3-5AF9-44AE-AD72-1A0C845C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38CC1-F84A-4D2A-B7CB-361AC5E8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4A70E-3DCE-4A5E-8879-6244198F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BAFB8-11A9-4673-AA97-FDB16E34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1412A-CA80-4300-8BE7-E29BE15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B9D1-BC0A-481F-A712-FA142121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811BC-B637-4B86-BA4D-E3018207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DFF5A-E0B1-430C-919C-57C9340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94BB7-BAE2-4278-857A-A655990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97AE1-DA7D-471A-80AD-173A979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00342-E5B7-42C6-90EB-F913CEE9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8F75B-107D-46A1-83A8-4B964DE2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B5CB1-487B-404E-9AAE-51446292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E802-4859-4295-AA0A-70D0BD4B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349A-112B-4CEF-9243-C97FC4E1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CC5-6154-49DE-9AC9-1DA00A8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7401-EF59-4AF5-8978-7F8A8B68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A87-C156-445E-B806-AD9AAD34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AD63-C076-45F7-BE6E-B17112D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0587-3053-4CCA-AD84-0BA6C5F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4005-2302-44C9-9482-E5749932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3519-A87F-4D1A-9AA9-422E3C5F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B9F9-865E-4265-AFC2-DA8E4530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ACD2-5A8F-49D6-A39C-430A3E77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272B-1505-4594-BFED-E039B32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F3E1-3036-4D63-8A8C-F7397EC8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6317-8893-44DB-BC92-A6407850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3DBD-6AB2-471E-B57A-0F553185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A2B-5AC1-423F-9566-8F051214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EC1D-FFAB-44E5-A1F9-B60029D1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E2FC-7A5E-4C96-8ADD-A9F7183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DAFD-725E-4D88-BB3D-0E9193CD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4109-0A9C-4BA4-B4B4-57CE511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7B5C-415A-4639-949B-9B0308FF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B399-CA13-494A-BD42-B2FDC1E3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0ECC-F6BB-4642-B043-E77505B6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7EEE-B94C-4926-B145-D341B69A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D576-B6B4-447C-BAD7-9C6E3D14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3E28-363B-4E2E-8E65-107318D4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5E1-6A4D-4CE5-90FC-3B2D7C1E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E206-E7FF-4F3F-98B4-9693ECE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874D6-876C-49BD-8FD5-1882BA5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21AE-EFE9-4D05-9D7D-76C1D59A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4EC34-19DD-4308-A9AE-13D50F3A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0C04-53A8-47B4-8A8A-A55F9D9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BDB8-51CE-40C2-8163-11E7C7E0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F841-7566-4380-A65B-9F575D31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CD0AF-9E63-4150-A5FB-A42C9E9E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DB80-99BD-442A-B12B-C5034A45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4AB71-39C5-4775-8E7F-13EDBF0B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001-D58E-468D-A99D-FB0AF84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6C8C-1B01-4C8F-81E3-06C00195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C7EF-80B7-479D-823A-B0FB47D1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78A6-269B-438B-BD77-8BCE3BA0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3A6E0-4385-43BF-A1F5-B65AA45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2FD4-A696-4F66-8328-D93E7758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5842-2A0C-4B1A-A028-FA91AFB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D57C-4E9D-45C3-8A21-18E7511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3BD07-BA86-494B-9123-8E55949A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4534E-311B-451B-8300-BB823C08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D0C9A-F661-43D3-9D51-D4EDAD10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856-DAD9-470F-B113-F1EE396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928B-49CF-4F67-9771-6A5DA1D0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3BDC-7E09-4AC6-AAA2-D8C6FD5F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B99C-2C17-41A2-91AE-A1745A9F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FE02-BE0A-42F5-831D-2E9F5BA5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CB04E-D202-420D-8F0B-6220B3BA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651C6-64EF-4139-8E84-C0B86EB2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D4A88-9BDE-4E2F-9A9A-E6F1C2B8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3A455-62A1-4B6A-978A-B833EFE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0278-831C-459B-93C7-70527651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AD573-67E2-44ED-B3C5-D5C28AA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8C1-33AF-44E2-8049-985586A1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8CC1-7211-4757-9E14-AD9CC332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B808A-8A04-4D4A-85D0-1775F2CB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52740-EAF1-4326-B09A-7784520C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ED2F-569B-44B0-9E7D-E70A3C74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24999-9543-46AE-957E-E83C44CF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CC52-CB7D-4ED0-AEA4-E259EC24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29664-FFCF-42A1-A130-5ED44D82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ED47E-2ACD-4517-AC7F-68C8DA1D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8017D-A4E2-4EB0-8E50-C73E2D8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EC2D6-3893-4E6A-881B-44081068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7D0-C536-49CB-8E87-3F8A693A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5C58A-A022-4AAF-A587-9048B5C7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B0529-DA1E-4554-B077-D790392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02D5-DAA3-43A8-AEA2-B291D3D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0CA69-A8A2-4553-BBE0-6258CFCC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6FB1F-B21E-4780-9B79-F8B1D01C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D883C-7088-41BF-955F-6D32A89D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C5769-E66B-4C47-9F4A-4E086642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5580F-A3C3-442A-B2E3-DC5B9003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A0E79-B9ED-4C6F-B388-261C9251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33DDE-C9B5-4294-A144-9CD87D9F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D5E-175A-45FC-A942-CF65CEDB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AA4BB-4FE9-4143-8069-5BE461C9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93509-D695-41BA-A7ED-79779B7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EC2A6-0624-4CCD-8953-E5D206B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40A21-538B-4197-BA4B-462A3364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33FC7-2986-49F1-8F3A-8B70839D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801D8-7329-4934-A54C-DBC40521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81F40-CF27-4000-9165-D1184478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F8D14-8BD1-4B38-9AC5-D73324FA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8FCBB-2C8C-40D0-B06F-5429BE17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26C84-EDE4-419B-8222-6C628DAF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D36D-2D9D-4C8F-87FC-7D4BCB52C6DE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53E9-A49F-4801-B4A2-DAF30425FB9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DD89-090C-4516-B248-8D464ACBB3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6F20-E748-4D9B-9B9F-0B4B490EC41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F58-58F4-49B1-BECB-54A6E7B5D6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1255-EFDE-41B3-9588-CCDC4BD8826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AE28-82B0-4862-9C07-56E1DEE84A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594-5605-4BA1-914D-184553E6B6A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FBCE-58BD-4528-8DFC-1A6FAD69F9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1AE8-5D55-451F-A325-A9635410F25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12F3-708C-4B69-886D-E70409DD33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6046-68DD-48F9-B899-DDF86BE110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97E-E225-403B-94AD-E928F2A848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C5A-E73B-4EE0-9EA4-9E0CAAAD2E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A7EB-7AC3-4C93-8305-126FFCB7FFE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EBDE-C74E-4ED4-AB48-5B9B090EE4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95D-1E57-4B84-92E1-FFB3AB705F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9877-74E4-48E0-8AA9-E484F5A881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8A2D-BA1C-41BE-9D9B-045CCD26837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C151-260B-4ADE-9142-D3A846FFA7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4A16-63CA-4568-9BB7-D9C66F56968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E1A6-7B1B-4686-87F7-359720E5AF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4D7A-85CE-4B58-86F1-4BD8EB3384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287E-CDA6-4C42-BA17-1B499FE9FB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534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  <p:sp>
        <p:nvSpPr>
          <p:cNvPr id="535" name="矩形 6"/>
          <p:cNvSpPr/>
          <p:nvPr/>
        </p:nvSpPr>
        <p:spPr>
          <a:xfrm>
            <a:off x="971640" y="595008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5364"/>
          <p:cNvSpPr/>
          <p:nvPr/>
        </p:nvSpPr>
        <p:spPr>
          <a:xfrm>
            <a:off x="108000" y="515772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5365"/>
          <p:cNvSpPr/>
          <p:nvPr/>
        </p:nvSpPr>
        <p:spPr>
          <a:xfrm>
            <a:off x="3277800" y="12700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圣诞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未命名_副本    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未命名_副本a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未命名_副本  j"/>
          <p:cNvPicPr/>
          <p:nvPr/>
        </p:nvPicPr>
        <p:blipFill>
          <a:blip r:embed="rId5"/>
          <a:stretch/>
        </p:blipFill>
        <p:spPr>
          <a:xfrm>
            <a:off x="-3913200" y="262080"/>
            <a:ext cx="5451480" cy="3635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未命名_副本q"/>
          <p:cNvPicPr/>
          <p:nvPr/>
        </p:nvPicPr>
        <p:blipFill>
          <a:blip r:embed="rId6"/>
          <a:stretch/>
        </p:blipFill>
        <p:spPr>
          <a:xfrm>
            <a:off x="-4354560" y="2292480"/>
            <a:ext cx="5892840" cy="3930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未命名_副本s"/>
          <p:cNvPicPr/>
          <p:nvPr/>
        </p:nvPicPr>
        <p:blipFill>
          <a:blip r:embed="rId7"/>
          <a:stretch/>
        </p:blipFill>
        <p:spPr>
          <a:xfrm>
            <a:off x="7885080" y="-384120"/>
            <a:ext cx="5921280" cy="3946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未命名_副本b"/>
          <p:cNvPicPr/>
          <p:nvPr/>
        </p:nvPicPr>
        <p:blipFill>
          <a:blip r:embed="rId8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未命名_副本  "/>
          <p:cNvPicPr/>
          <p:nvPr/>
        </p:nvPicPr>
        <p:blipFill>
          <a:blip r:embed="rId3"/>
          <a:stretch/>
        </p:blipFill>
        <p:spPr>
          <a:xfrm>
            <a:off x="-1185840" y="3141720"/>
            <a:ext cx="5898960" cy="3933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未命名_副本o"/>
          <p:cNvPicPr/>
          <p:nvPr/>
        </p:nvPicPr>
        <p:blipFill>
          <a:blip r:embed="rId4"/>
          <a:stretch/>
        </p:blipFill>
        <p:spPr>
          <a:xfrm>
            <a:off x="2052720" y="-96840"/>
            <a:ext cx="485928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未命名_副本l"/>
          <p:cNvPicPr/>
          <p:nvPr/>
        </p:nvPicPr>
        <p:blipFill>
          <a:blip r:embed="rId3"/>
          <a:stretch/>
        </p:blipFill>
        <p:spPr>
          <a:xfrm>
            <a:off x="254160" y="-16992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未命名_副本qo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  <p:sp>
        <p:nvSpPr>
          <p:cNvPr id="551" name="文本框 18436"/>
          <p:cNvSpPr/>
          <p:nvPr/>
        </p:nvSpPr>
        <p:spPr>
          <a:xfrm>
            <a:off x="755640" y="1628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未命名_副本f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未命名_副本oi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未命名_副本人、"/>
          <p:cNvPicPr/>
          <p:nvPr/>
        </p:nvPicPr>
        <p:blipFill>
          <a:blip r:embed="rId5"/>
          <a:stretch/>
        </p:blipFill>
        <p:spPr>
          <a:xfrm>
            <a:off x="4826160" y="-2833560"/>
            <a:ext cx="410508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未命名_副本d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未命名_副本b"/>
          <p:cNvPicPr/>
          <p:nvPr/>
        </p:nvPicPr>
        <p:blipFill>
          <a:blip r:embed="rId4"/>
          <a:stretch/>
        </p:blipFill>
        <p:spPr>
          <a:xfrm>
            <a:off x="4178160" y="-25560"/>
            <a:ext cx="4572000" cy="304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1351-B104-4648-8BD6-36C016B797BE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564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0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