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A64-2E85-4E03-BFBD-BCA9F326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E4D-6FA0-4E36-8CB6-FF5587E8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CC5-27F3-4043-BE85-F6B0113A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585-CDF3-4CA0-838C-A2CC2921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223-935D-460A-8689-F02C02DD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DDFF-63E9-4A1B-97DB-7B1C3DE4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81B-F0FB-4011-AAFE-B6919557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7CC-35B7-4DC9-A96F-FFBCA1E8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D7A-D540-44B4-B68A-4D65931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6D83-1564-4340-9B6A-911BFBD6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890-0193-4E91-A0EC-0490705E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AE6-20E4-41BC-9164-B80C57BF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3-5.png"/>
          <p:cNvPicPr/>
          <p:nvPr/>
        </p:nvPicPr>
        <p:blipFill>
          <a:blip r:embed="rId3"/>
          <a:stretch/>
        </p:blipFill>
        <p:spPr>
          <a:xfrm>
            <a:off x="-69840" y="-69840"/>
            <a:ext cx="2427120" cy="111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2"/>
          <p:cNvGrpSpPr/>
          <p:nvPr/>
        </p:nvGrpSpPr>
        <p:grpSpPr>
          <a:xfrm>
            <a:off x="4648320" y="1635120"/>
            <a:ext cx="2200680" cy="2203920"/>
            <a:chOff x="4648320" y="1635120"/>
            <a:chExt cx="2200680" cy="2203920"/>
          </a:xfrm>
        </p:grpSpPr>
        <p:grpSp>
          <p:nvGrpSpPr>
            <p:cNvPr id="40" name="Group 3"/>
            <p:cNvGrpSpPr/>
            <p:nvPr/>
          </p:nvGrpSpPr>
          <p:grpSpPr>
            <a:xfrm>
              <a:off x="4648320" y="1635120"/>
              <a:ext cx="2200680" cy="2203920"/>
              <a:chOff x="4648320" y="1635120"/>
              <a:chExt cx="2200680" cy="2203920"/>
            </a:xfrm>
          </p:grpSpPr>
          <p:pic>
            <p:nvPicPr>
              <p:cNvPr id="41" name="矩形 10" descr=""/>
              <p:cNvPicPr/>
              <p:nvPr/>
            </p:nvPicPr>
            <p:blipFill>
              <a:blip r:embed="rId3"/>
              <a:stretch/>
            </p:blipFill>
            <p:spPr>
              <a:xfrm rot="21599400">
                <a:off x="4648320" y="1635120"/>
                <a:ext cx="2200320" cy="220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Text Box 5"/>
              <p:cNvSpPr/>
              <p:nvPr/>
            </p:nvSpPr>
            <p:spPr>
              <a:xfrm rot="925200">
                <a:off x="4956120" y="1888920"/>
                <a:ext cx="1630800" cy="163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" name="矩形 11"/>
            <p:cNvSpPr/>
            <p:nvPr/>
          </p:nvSpPr>
          <p:spPr>
            <a:xfrm rot="925800">
              <a:off x="5037480" y="2067120"/>
              <a:ext cx="1455480" cy="1297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7"/>
          <p:cNvGrpSpPr/>
          <p:nvPr/>
        </p:nvGrpSpPr>
        <p:grpSpPr>
          <a:xfrm>
            <a:off x="2525760" y="1645920"/>
            <a:ext cx="2408400" cy="2410200"/>
            <a:chOff x="2525760" y="1645920"/>
            <a:chExt cx="2408400" cy="2410200"/>
          </a:xfrm>
        </p:grpSpPr>
        <p:grpSp>
          <p:nvGrpSpPr>
            <p:cNvPr id="45" name="Group 8"/>
            <p:cNvGrpSpPr/>
            <p:nvPr/>
          </p:nvGrpSpPr>
          <p:grpSpPr>
            <a:xfrm>
              <a:off x="2525760" y="1645920"/>
              <a:ext cx="2408400" cy="2410200"/>
              <a:chOff x="2525760" y="1645920"/>
              <a:chExt cx="2408400" cy="2410200"/>
            </a:xfrm>
          </p:grpSpPr>
          <p:pic>
            <p:nvPicPr>
              <p:cNvPr id="46" name="矩形 13" descr=""/>
              <p:cNvPicPr/>
              <p:nvPr/>
            </p:nvPicPr>
            <p:blipFill>
              <a:blip r:embed="rId5"/>
              <a:stretch/>
            </p:blipFill>
            <p:spPr>
              <a:xfrm rot="21599400">
                <a:off x="2525760" y="1645920"/>
                <a:ext cx="2408040" cy="240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Text Box 10"/>
              <p:cNvSpPr/>
              <p:nvPr/>
            </p:nvSpPr>
            <p:spPr>
              <a:xfrm rot="20980200">
                <a:off x="2748240" y="1850040"/>
                <a:ext cx="1910520" cy="191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矩形 14"/>
            <p:cNvSpPr/>
            <p:nvPr/>
          </p:nvSpPr>
          <p:spPr>
            <a:xfrm rot="20980200">
              <a:off x="2833560" y="2024280"/>
              <a:ext cx="1742760" cy="151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15" descr="3-2.png"/>
          <p:cNvPicPr/>
          <p:nvPr/>
        </p:nvPicPr>
        <p:blipFill>
          <a:blip r:embed="rId7"/>
          <a:stretch/>
        </p:blipFill>
        <p:spPr>
          <a:xfrm>
            <a:off x="6311880" y="1714680"/>
            <a:ext cx="824040" cy="10713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6" descr="3-1.png"/>
          <p:cNvPicPr/>
          <p:nvPr/>
        </p:nvPicPr>
        <p:blipFill>
          <a:blip r:embed="rId8"/>
          <a:stretch/>
        </p:blipFill>
        <p:spPr>
          <a:xfrm>
            <a:off x="3541680" y="3516480"/>
            <a:ext cx="2621160" cy="1698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5A3A-B418-4AE5-AF35-F7777592CEE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E4BB-1DDD-42C9-89D0-FED49FF5E9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51pptmoban.com/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409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098"/>
          <p:cNvSpPr/>
          <p:nvPr/>
        </p:nvSpPr>
        <p:spPr>
          <a:xfrm>
            <a:off x="2514240" y="549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圣诞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7160" y="928440"/>
            <a:ext cx="74296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57160" y="2214720"/>
            <a:ext cx="542952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peace and joy wrap you in blankets of love, where hope has be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may your kind and gentle ways, be blessed with happy, peaceful day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SzPct val="22441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oming more beautiful with every thought, like every flake the earth has caugh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6143760" y="2286360"/>
            <a:ext cx="2668320" cy="2858400"/>
            <a:chOff x="6143760" y="2286360"/>
            <a:chExt cx="2668320" cy="2858400"/>
          </a:xfrm>
        </p:grpSpPr>
        <p:sp>
          <p:nvSpPr>
            <p:cNvPr id="135" name="矩形 6"/>
            <p:cNvSpPr/>
            <p:nvPr/>
          </p:nvSpPr>
          <p:spPr>
            <a:xfrm rot="1015800">
              <a:off x="6441840" y="2536560"/>
              <a:ext cx="2071440" cy="235728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2f2f2"/>
                </a:gs>
              </a:gsLst>
              <a:lin ang="2700000"/>
            </a:gradFill>
            <a:ln w="0">
              <a:noFill/>
            </a:ln>
            <a:effectLst>
              <a:outerShdw dist="76184" dir="4206565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7"/>
            <p:cNvSpPr/>
            <p:nvPr/>
          </p:nvSpPr>
          <p:spPr>
            <a:xfrm rot="1015800">
              <a:off x="6481440" y="2677680"/>
              <a:ext cx="2000160" cy="2035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图片 9" descr="3-7.png"/>
          <p:cNvPicPr/>
          <p:nvPr/>
        </p:nvPicPr>
        <p:blipFill>
          <a:blip r:embed="rId5"/>
          <a:stretch/>
        </p:blipFill>
        <p:spPr>
          <a:xfrm>
            <a:off x="6643800" y="464328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0" descr="3-4.png"/>
          <p:cNvPicPr/>
          <p:nvPr/>
        </p:nvPicPr>
        <p:blipFill>
          <a:blip r:embed="rId6"/>
          <a:stretch/>
        </p:blipFill>
        <p:spPr>
          <a:xfrm>
            <a:off x="8001000" y="2571840"/>
            <a:ext cx="826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57160" y="928440"/>
            <a:ext cx="74296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56800" y="2214720"/>
            <a:ext cx="735804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y peace and joy wrap you in blankets of love, where hope has be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d may your kind and gentle ways, be blessed with happy, peaceful days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SzPct val="18273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coming more beautiful with every thought, like every flake the earth has caugh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3012480" y="983772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51pptm 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148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6800" y="92844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istmas Gr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ontent Placeholder 15" descr="free-merry-christmas-screensaver.jpg"/>
          <p:cNvPicPr/>
          <p:nvPr/>
        </p:nvPicPr>
        <p:blipFill>
          <a:blip r:embed="rId1"/>
          <a:stretch/>
        </p:blipFill>
        <p:spPr>
          <a:xfrm>
            <a:off x="2143080" y="2000160"/>
            <a:ext cx="499608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5000-40F2-4615-B6DD-2473DBA010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标题 3" descr=""/>
          <p:cNvPicPr/>
          <p:nvPr/>
        </p:nvPicPr>
        <p:blipFill>
          <a:blip r:embed="rId1"/>
          <a:stretch/>
        </p:blipFill>
        <p:spPr>
          <a:xfrm>
            <a:off x="1859040" y="5413320"/>
            <a:ext cx="5700600" cy="719280"/>
          </a:xfrm>
          <a:prstGeom prst="rect">
            <a:avLst/>
          </a:prstGeom>
          <a:ln w="0">
            <a:noFill/>
          </a:ln>
        </p:spPr>
      </p:pic>
      <p:sp>
        <p:nvSpPr>
          <p:cNvPr id="150" name="矩形 3"/>
          <p:cNvSpPr/>
          <p:nvPr/>
        </p:nvSpPr>
        <p:spPr>
          <a:xfrm rot="21041400">
            <a:off x="3634920" y="16081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3:52:0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28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