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BB7-11CA-40DF-94E5-A5DBC899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6706-60ED-4BB7-B48A-B65CE57E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21B-316B-4D4E-97B0-F3C72532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14C-B1ED-4415-9557-560B2A82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EE65-AC0A-45C4-9976-6C383A9F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4FCE-FBA2-41DF-A3B0-AF533F83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167A-633C-41EB-B4BF-14E8975B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F07D-7411-4DD1-B7DF-9A46DCCF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CE37-339F-4337-97EB-A385715E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C848-4F56-4A38-8E93-A45F871A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4F19-7155-4621-89E7-F9FA2F04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A1F-B24D-4A79-8946-DE83D731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5533-27BD-4CD0-81AA-B401BE03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5B2A-81BC-41CA-8F9C-210B23B3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26BD-E13F-4EAC-8680-39FE83BF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03FA-608C-4AB4-9E27-8D1B2B09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56C6-7297-48FF-9807-C0B81336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519-EAED-4701-9EEF-ED0AC64B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A6B4-CAEF-47F2-98BF-74F1EC8B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C1BC-703F-4938-9A46-F5221024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D91-9EF0-4B6B-B5A8-9E5CDBA9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8E7-48A4-4628-B8BD-27199F98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BE82-2975-4410-B412-CE316C3B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68B-C8F0-463B-97D1-CF6FB202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E223-03E1-45DE-8E71-969EB30710D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5E65-DCDE-4468-B77E-F12CA6AF1EF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F95C-F6BC-4530-BFFC-46F4AE850FF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-9360" y="-17640"/>
            <a:ext cx="12201480" cy="6858000"/>
          </a:xfrm>
          <a:prstGeom prst="rect">
            <a:avLst/>
          </a:prstGeom>
          <a:solidFill>
            <a:srgbClr val="cbec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7920" y="4911840"/>
            <a:ext cx="12184200" cy="19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1"/>
          <p:cNvSpPr/>
          <p:nvPr/>
        </p:nvSpPr>
        <p:spPr>
          <a:xfrm>
            <a:off x="2575080" y="4857840"/>
            <a:ext cx="1774800" cy="2028600"/>
          </a:xfrm>
          <a:custGeom>
            <a:avLst/>
            <a:gdLst/>
            <a:ahLst/>
            <a:rect l="l" t="t" r="r" b="b"/>
            <a:pathLst>
              <a:path w="1774941" h="2027896">
                <a:moveTo>
                  <a:pt x="248718" y="0"/>
                </a:moveTo>
                <a:lnTo>
                  <a:pt x="784341" y="0"/>
                </a:lnTo>
                <a:cubicBezTo>
                  <a:pt x="683623" y="323695"/>
                  <a:pt x="706444" y="402452"/>
                  <a:pt x="787407" y="913472"/>
                </a:cubicBezTo>
                <a:cubicBezTo>
                  <a:pt x="868370" y="1424492"/>
                  <a:pt x="1231310" y="1575459"/>
                  <a:pt x="1774941" y="2027896"/>
                </a:cubicBezTo>
                <a:lnTo>
                  <a:pt x="391593" y="2027896"/>
                </a:lnTo>
                <a:cubicBezTo>
                  <a:pt x="10593" y="1247156"/>
                  <a:pt x="-189432" y="799790"/>
                  <a:pt x="248718" y="0"/>
                </a:cubicBezTo>
                <a:close/>
              </a:path>
            </a:pathLst>
          </a:custGeom>
          <a:solidFill>
            <a:srgbClr val="cbec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230"/>
          <p:cNvSpPr/>
          <p:nvPr/>
        </p:nvSpPr>
        <p:spPr>
          <a:xfrm flipV="1">
            <a:off x="1082520" y="6278400"/>
            <a:ext cx="578160" cy="30168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229"/>
          <p:cNvSpPr/>
          <p:nvPr/>
        </p:nvSpPr>
        <p:spPr>
          <a:xfrm flipV="1">
            <a:off x="9574200" y="6636600"/>
            <a:ext cx="576360" cy="19692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8"/>
          <p:cNvSpPr/>
          <p:nvPr/>
        </p:nvSpPr>
        <p:spPr>
          <a:xfrm>
            <a:off x="8001000" y="5375160"/>
            <a:ext cx="2805120" cy="95256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49"/>
          <p:cNvSpPr/>
          <p:nvPr/>
        </p:nvSpPr>
        <p:spPr>
          <a:xfrm>
            <a:off x="6310440" y="5187960"/>
            <a:ext cx="965160" cy="1479600"/>
          </a:xfrm>
          <a:custGeom>
            <a:avLst/>
            <a:gdLst/>
            <a:ahLst/>
            <a:rect l="l" t="t" r="r" b="b"/>
            <a:pathLst>
              <a:path w="965200" h="1479550">
                <a:moveTo>
                  <a:pt x="488950" y="0"/>
                </a:moveTo>
                <a:cubicBezTo>
                  <a:pt x="657287" y="0"/>
                  <a:pt x="793751" y="141230"/>
                  <a:pt x="793751" y="315446"/>
                </a:cubicBezTo>
                <a:cubicBezTo>
                  <a:pt x="793751" y="402554"/>
                  <a:pt x="759635" y="481416"/>
                  <a:pt x="704477" y="538500"/>
                </a:cubicBezTo>
                <a:lnTo>
                  <a:pt x="677040" y="561929"/>
                </a:lnTo>
                <a:lnTo>
                  <a:pt x="752427" y="602579"/>
                </a:lnTo>
                <a:cubicBezTo>
                  <a:pt x="880799" y="688735"/>
                  <a:pt x="965200" y="834638"/>
                  <a:pt x="965200" y="1000125"/>
                </a:cubicBezTo>
                <a:cubicBezTo>
                  <a:pt x="965200" y="1264904"/>
                  <a:pt x="749133" y="1479550"/>
                  <a:pt x="482600" y="1479550"/>
                </a:cubicBezTo>
                <a:cubicBezTo>
                  <a:pt x="216067" y="1479550"/>
                  <a:pt x="0" y="1264904"/>
                  <a:pt x="0" y="1000125"/>
                </a:cubicBezTo>
                <a:cubicBezTo>
                  <a:pt x="0" y="801541"/>
                  <a:pt x="121538" y="631157"/>
                  <a:pt x="294750" y="558376"/>
                </a:cubicBezTo>
                <a:lnTo>
                  <a:pt x="296183" y="557934"/>
                </a:lnTo>
                <a:lnTo>
                  <a:pt x="273423" y="538500"/>
                </a:lnTo>
                <a:cubicBezTo>
                  <a:pt x="218265" y="481416"/>
                  <a:pt x="184149" y="402554"/>
                  <a:pt x="184149" y="315446"/>
                </a:cubicBezTo>
                <a:cubicBezTo>
                  <a:pt x="184149" y="141230"/>
                  <a:pt x="320613" y="0"/>
                  <a:pt x="488950" y="0"/>
                </a:cubicBezTo>
                <a:close/>
              </a:path>
            </a:pathLst>
          </a:custGeom>
          <a:solidFill>
            <a:srgbClr val="ffffff">
              <a:alpha val="63000"/>
            </a:srgbClr>
          </a:solidFill>
          <a:ln w="12600">
            <a:solidFill>
              <a:srgbClr val="9cc2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34"/>
          <p:cNvSpPr/>
          <p:nvPr/>
        </p:nvSpPr>
        <p:spPr>
          <a:xfrm>
            <a:off x="6751800" y="5187960"/>
            <a:ext cx="523800" cy="1479600"/>
          </a:xfrm>
          <a:custGeom>
            <a:avLst/>
            <a:gdLst/>
            <a:ahLst/>
            <a:rect l="l" t="t" r="r" b="b"/>
            <a:pathLst>
              <a:path w="523875" h="1479550">
                <a:moveTo>
                  <a:pt x="47625" y="0"/>
                </a:moveTo>
                <a:cubicBezTo>
                  <a:pt x="215962" y="0"/>
                  <a:pt x="352426" y="141230"/>
                  <a:pt x="352426" y="315446"/>
                </a:cubicBezTo>
                <a:cubicBezTo>
                  <a:pt x="352426" y="402554"/>
                  <a:pt x="318310" y="481416"/>
                  <a:pt x="263152" y="538500"/>
                </a:cubicBezTo>
                <a:lnTo>
                  <a:pt x="235715" y="561929"/>
                </a:lnTo>
                <a:lnTo>
                  <a:pt x="311102" y="602579"/>
                </a:lnTo>
                <a:cubicBezTo>
                  <a:pt x="439474" y="688735"/>
                  <a:pt x="523875" y="834638"/>
                  <a:pt x="523875" y="1000125"/>
                </a:cubicBezTo>
                <a:cubicBezTo>
                  <a:pt x="523875" y="1264904"/>
                  <a:pt x="307808" y="1479550"/>
                  <a:pt x="41275" y="1479550"/>
                </a:cubicBezTo>
                <a:lnTo>
                  <a:pt x="0" y="1475417"/>
                </a:lnTo>
                <a:lnTo>
                  <a:pt x="55986" y="1469810"/>
                </a:lnTo>
                <a:cubicBezTo>
                  <a:pt x="275899" y="1425105"/>
                  <a:pt x="441325" y="1231807"/>
                  <a:pt x="441325" y="1000125"/>
                </a:cubicBezTo>
                <a:cubicBezTo>
                  <a:pt x="441325" y="834638"/>
                  <a:pt x="356924" y="688735"/>
                  <a:pt x="228552" y="602579"/>
                </a:cubicBezTo>
                <a:lnTo>
                  <a:pt x="153165" y="561929"/>
                </a:lnTo>
                <a:lnTo>
                  <a:pt x="180602" y="538500"/>
                </a:lnTo>
                <a:cubicBezTo>
                  <a:pt x="235760" y="481416"/>
                  <a:pt x="269876" y="402554"/>
                  <a:pt x="269876" y="315446"/>
                </a:cubicBezTo>
                <a:cubicBezTo>
                  <a:pt x="269876" y="163007"/>
                  <a:pt x="165396" y="35823"/>
                  <a:pt x="26503" y="6409"/>
                </a:cubicBezTo>
                <a:lnTo>
                  <a:pt x="6350" y="4306"/>
                </a:lnTo>
                <a:close/>
              </a:path>
            </a:pathLst>
          </a:custGeom>
          <a:solidFill>
            <a:srgbClr val="7dcdc4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36"/>
          <p:cNvSpPr/>
          <p:nvPr/>
        </p:nvSpPr>
        <p:spPr>
          <a:xfrm rot="570000">
            <a:off x="6611400" y="4900320"/>
            <a:ext cx="552600" cy="474480"/>
          </a:xfrm>
          <a:custGeom>
            <a:avLst/>
            <a:gdLst/>
            <a:ahLst/>
            <a:rect l="l" t="t" r="r" b="b"/>
            <a:pathLst>
              <a:path w="552450" h="473675">
                <a:moveTo>
                  <a:pt x="198951" y="0"/>
                </a:moveTo>
                <a:lnTo>
                  <a:pt x="327363" y="17"/>
                </a:lnTo>
                <a:cubicBezTo>
                  <a:pt x="376224" y="24"/>
                  <a:pt x="415827" y="39638"/>
                  <a:pt x="415821" y="88499"/>
                </a:cubicBezTo>
                <a:lnTo>
                  <a:pt x="415795" y="281162"/>
                </a:lnTo>
                <a:lnTo>
                  <a:pt x="412524" y="297349"/>
                </a:lnTo>
                <a:lnTo>
                  <a:pt x="471546" y="311071"/>
                </a:lnTo>
                <a:cubicBezTo>
                  <a:pt x="521533" y="328308"/>
                  <a:pt x="552450" y="352121"/>
                  <a:pt x="552450" y="378424"/>
                </a:cubicBezTo>
                <a:cubicBezTo>
                  <a:pt x="552450" y="431030"/>
                  <a:pt x="428780" y="473675"/>
                  <a:pt x="276225" y="473675"/>
                </a:cubicBezTo>
                <a:cubicBezTo>
                  <a:pt x="123670" y="473675"/>
                  <a:pt x="0" y="431030"/>
                  <a:pt x="0" y="378424"/>
                </a:cubicBezTo>
                <a:cubicBezTo>
                  <a:pt x="0" y="352121"/>
                  <a:pt x="30917" y="328308"/>
                  <a:pt x="80904" y="311071"/>
                </a:cubicBezTo>
                <a:lnTo>
                  <a:pt x="114891" y="303170"/>
                </a:lnTo>
                <a:lnTo>
                  <a:pt x="110443" y="281121"/>
                </a:lnTo>
                <a:lnTo>
                  <a:pt x="110469" y="88458"/>
                </a:lnTo>
                <a:cubicBezTo>
                  <a:pt x="110475" y="39597"/>
                  <a:pt x="150090" y="-6"/>
                  <a:pt x="198951" y="0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4"/>
          <p:cNvSpPr/>
          <p:nvPr/>
        </p:nvSpPr>
        <p:spPr>
          <a:xfrm>
            <a:off x="6610320" y="5927760"/>
            <a:ext cx="108000" cy="108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47"/>
          <p:cNvSpPr/>
          <p:nvPr/>
        </p:nvSpPr>
        <p:spPr>
          <a:xfrm>
            <a:off x="6556320" y="6118200"/>
            <a:ext cx="108000" cy="108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48"/>
          <p:cNvSpPr/>
          <p:nvPr/>
        </p:nvSpPr>
        <p:spPr>
          <a:xfrm>
            <a:off x="6673680" y="6311880"/>
            <a:ext cx="108000" cy="108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52"/>
          <p:cNvSpPr/>
          <p:nvPr/>
        </p:nvSpPr>
        <p:spPr>
          <a:xfrm>
            <a:off x="6645240" y="5435640"/>
            <a:ext cx="73080" cy="730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53"/>
          <p:cNvSpPr/>
          <p:nvPr/>
        </p:nvSpPr>
        <p:spPr>
          <a:xfrm>
            <a:off x="6831000" y="5435640"/>
            <a:ext cx="71280" cy="730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等腰三角形 5"/>
          <p:cNvSpPr/>
          <p:nvPr/>
        </p:nvSpPr>
        <p:spPr>
          <a:xfrm flipH="1" rot="15720000">
            <a:off x="6547320" y="5438880"/>
            <a:ext cx="88920" cy="381240"/>
          </a:xfrm>
          <a:custGeom>
            <a:avLst/>
            <a:gdLst/>
            <a:ahLst/>
            <a:rect l="l" t="t" r="r" b="b"/>
            <a:pathLst>
              <a:path w="190016" h="1149350">
                <a:moveTo>
                  <a:pt x="4080" y="1149350"/>
                </a:moveTo>
                <a:cubicBezTo>
                  <a:pt x="-18013" y="957792"/>
                  <a:pt x="55409" y="0"/>
                  <a:pt x="85836" y="0"/>
                </a:cubicBezTo>
                <a:cubicBezTo>
                  <a:pt x="116263" y="0"/>
                  <a:pt x="208735" y="957792"/>
                  <a:pt x="186642" y="1149350"/>
                </a:cubicBezTo>
                <a:lnTo>
                  <a:pt x="4080" y="1149350"/>
                </a:lnTo>
                <a:close/>
              </a:path>
            </a:pathLst>
          </a:custGeom>
          <a:solidFill>
            <a:srgbClr val="e671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56"/>
          <p:cNvSpPr/>
          <p:nvPr/>
        </p:nvSpPr>
        <p:spPr>
          <a:xfrm flipH="1" rot="15720000">
            <a:off x="6568920" y="5414760"/>
            <a:ext cx="41400" cy="380880"/>
          </a:xfrm>
          <a:custGeom>
            <a:avLst/>
            <a:gdLst/>
            <a:ahLst/>
            <a:rect l="l" t="t" r="r" b="b"/>
            <a:pathLst>
              <a:path w="87504" h="1149350">
                <a:moveTo>
                  <a:pt x="85836" y="0"/>
                </a:moveTo>
                <a:lnTo>
                  <a:pt x="87504" y="4958"/>
                </a:lnTo>
                <a:lnTo>
                  <a:pt x="87504" y="1149350"/>
                </a:lnTo>
                <a:lnTo>
                  <a:pt x="4080" y="1149350"/>
                </a:lnTo>
                <a:cubicBezTo>
                  <a:pt x="-18013" y="957792"/>
                  <a:pt x="55409" y="0"/>
                  <a:pt x="85836" y="0"/>
                </a:cubicBezTo>
                <a:close/>
              </a:path>
            </a:pathLst>
          </a:custGeom>
          <a:solidFill>
            <a:srgbClr val="f87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等腰三角形 5"/>
          <p:cNvSpPr/>
          <p:nvPr/>
        </p:nvSpPr>
        <p:spPr>
          <a:xfrm rot="3367200">
            <a:off x="7113240" y="5709960"/>
            <a:ext cx="63360" cy="368280"/>
          </a:xfrm>
          <a:custGeom>
            <a:avLst/>
            <a:gdLst/>
            <a:ahLst/>
            <a:rect l="l" t="t" r="r" b="b"/>
            <a:pathLst>
              <a:path w="190016" h="1149350">
                <a:moveTo>
                  <a:pt x="4080" y="1149350"/>
                </a:moveTo>
                <a:cubicBezTo>
                  <a:pt x="-18013" y="957792"/>
                  <a:pt x="55409" y="0"/>
                  <a:pt x="85836" y="0"/>
                </a:cubicBezTo>
                <a:cubicBezTo>
                  <a:pt x="116263" y="0"/>
                  <a:pt x="208735" y="957792"/>
                  <a:pt x="186642" y="1149350"/>
                </a:cubicBezTo>
                <a:lnTo>
                  <a:pt x="4080" y="1149350"/>
                </a:lnTo>
                <a:close/>
              </a:path>
            </a:pathLst>
          </a:custGeom>
          <a:solidFill>
            <a:srgbClr val="574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等腰三角形 5"/>
          <p:cNvSpPr/>
          <p:nvPr/>
        </p:nvSpPr>
        <p:spPr>
          <a:xfrm rot="6600000">
            <a:off x="7253280" y="5827320"/>
            <a:ext cx="31680" cy="171360"/>
          </a:xfrm>
          <a:custGeom>
            <a:avLst/>
            <a:gdLst/>
            <a:ahLst/>
            <a:rect l="l" t="t" r="r" b="b"/>
            <a:pathLst>
              <a:path w="190016" h="1149350">
                <a:moveTo>
                  <a:pt x="4080" y="1149350"/>
                </a:moveTo>
                <a:cubicBezTo>
                  <a:pt x="-18013" y="957792"/>
                  <a:pt x="55409" y="0"/>
                  <a:pt x="85836" y="0"/>
                </a:cubicBezTo>
                <a:cubicBezTo>
                  <a:pt x="116263" y="0"/>
                  <a:pt x="208735" y="957792"/>
                  <a:pt x="186642" y="1149350"/>
                </a:cubicBezTo>
                <a:lnTo>
                  <a:pt x="4080" y="1149350"/>
                </a:lnTo>
                <a:close/>
              </a:path>
            </a:pathLst>
          </a:custGeom>
          <a:solidFill>
            <a:srgbClr val="574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等腰三角形 5"/>
          <p:cNvSpPr/>
          <p:nvPr/>
        </p:nvSpPr>
        <p:spPr>
          <a:xfrm flipH="1" rot="480000">
            <a:off x="7103880" y="5746320"/>
            <a:ext cx="31680" cy="171360"/>
          </a:xfrm>
          <a:custGeom>
            <a:avLst/>
            <a:gdLst/>
            <a:ahLst/>
            <a:rect l="l" t="t" r="r" b="b"/>
            <a:pathLst>
              <a:path w="190016" h="1149350">
                <a:moveTo>
                  <a:pt x="4080" y="1149350"/>
                </a:moveTo>
                <a:cubicBezTo>
                  <a:pt x="-18013" y="957792"/>
                  <a:pt x="55409" y="0"/>
                  <a:pt x="85836" y="0"/>
                </a:cubicBezTo>
                <a:cubicBezTo>
                  <a:pt x="116263" y="0"/>
                  <a:pt x="208735" y="957792"/>
                  <a:pt x="186642" y="1149350"/>
                </a:cubicBezTo>
                <a:lnTo>
                  <a:pt x="4080" y="1149350"/>
                </a:lnTo>
                <a:close/>
              </a:path>
            </a:pathLst>
          </a:custGeom>
          <a:solidFill>
            <a:srgbClr val="574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等腰三角形 5"/>
          <p:cNvSpPr/>
          <p:nvPr/>
        </p:nvSpPr>
        <p:spPr>
          <a:xfrm rot="17716200">
            <a:off x="6304680" y="5659920"/>
            <a:ext cx="63360" cy="366840"/>
          </a:xfrm>
          <a:custGeom>
            <a:avLst/>
            <a:gdLst/>
            <a:ahLst/>
            <a:rect l="l" t="t" r="r" b="b"/>
            <a:pathLst>
              <a:path w="190016" h="1149350">
                <a:moveTo>
                  <a:pt x="4080" y="1149350"/>
                </a:moveTo>
                <a:cubicBezTo>
                  <a:pt x="-18013" y="957792"/>
                  <a:pt x="55409" y="0"/>
                  <a:pt x="85836" y="0"/>
                </a:cubicBezTo>
                <a:cubicBezTo>
                  <a:pt x="116263" y="0"/>
                  <a:pt x="208735" y="957792"/>
                  <a:pt x="186642" y="1149350"/>
                </a:cubicBezTo>
                <a:lnTo>
                  <a:pt x="4080" y="1149350"/>
                </a:lnTo>
                <a:close/>
              </a:path>
            </a:pathLst>
          </a:custGeom>
          <a:solidFill>
            <a:srgbClr val="574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等腰三角形 5"/>
          <p:cNvSpPr/>
          <p:nvPr/>
        </p:nvSpPr>
        <p:spPr>
          <a:xfrm flipH="1" rot="20949000">
            <a:off x="6285600" y="5579640"/>
            <a:ext cx="45720" cy="252360"/>
          </a:xfrm>
          <a:custGeom>
            <a:avLst/>
            <a:gdLst/>
            <a:ahLst/>
            <a:rect l="l" t="t" r="r" b="b"/>
            <a:pathLst>
              <a:path w="190016" h="1149350">
                <a:moveTo>
                  <a:pt x="4080" y="1149350"/>
                </a:moveTo>
                <a:cubicBezTo>
                  <a:pt x="-18013" y="957792"/>
                  <a:pt x="55409" y="0"/>
                  <a:pt x="85836" y="0"/>
                </a:cubicBezTo>
                <a:cubicBezTo>
                  <a:pt x="116263" y="0"/>
                  <a:pt x="208735" y="957792"/>
                  <a:pt x="186642" y="1149350"/>
                </a:cubicBezTo>
                <a:lnTo>
                  <a:pt x="4080" y="1149350"/>
                </a:lnTo>
                <a:close/>
              </a:path>
            </a:pathLst>
          </a:custGeom>
          <a:solidFill>
            <a:srgbClr val="574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13"/>
          <p:cNvSpPr/>
          <p:nvPr/>
        </p:nvSpPr>
        <p:spPr>
          <a:xfrm>
            <a:off x="9156600" y="4869000"/>
            <a:ext cx="316080" cy="992160"/>
          </a:xfrm>
          <a:custGeom>
            <a:avLst/>
            <a:gdLst>
              <a:gd name="textAreaLeft" fmla="*/ 40320 w 316080"/>
              <a:gd name="textAreaRight" fmla="*/ 275760 w 316080"/>
              <a:gd name="textAreaTop" fmla="*/ 40320 h 992160"/>
              <a:gd name="textAreaBottom" fmla="*/ 951840 h 992160"/>
            </a:gdLst>
            <a:ahLst/>
            <a:rect l="textAreaLeft" t="textAreaTop" r="textAreaRight" b="textAreaBottom"/>
            <a:pathLst>
              <a:path w="21600" h="67749">
                <a:moveTo>
                  <a:pt x="9463" y="0"/>
                </a:moveTo>
                <a:arcTo wR="9463" hR="9463" stAng="16200000" swAng="-5400000"/>
                <a:lnTo>
                  <a:pt x="0" y="58286"/>
                </a:lnTo>
                <a:arcTo wR="9463" hR="9463" stAng="10800000" swAng="-5400000"/>
                <a:lnTo>
                  <a:pt x="12137" y="67749"/>
                </a:lnTo>
                <a:arcTo wR="9463" hR="9463" stAng="5400000" swAng="-5400000"/>
                <a:lnTo>
                  <a:pt x="21600" y="9463"/>
                </a:lnTo>
                <a:arcTo wR="9463" hR="9463" stAng="0" swAng="-5400000"/>
                <a:close/>
              </a:path>
            </a:pathLst>
          </a:custGeom>
          <a:solidFill>
            <a:srgbClr val="593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79"/>
          <p:cNvSpPr/>
          <p:nvPr/>
        </p:nvSpPr>
        <p:spPr>
          <a:xfrm>
            <a:off x="9156600" y="4896000"/>
            <a:ext cx="82800" cy="965160"/>
          </a:xfrm>
          <a:custGeom>
            <a:avLst/>
            <a:gdLst/>
            <a:ahLst/>
            <a:rect l="l" t="t" r="r" b="b"/>
            <a:pathLst>
              <a:path w="81023" h="965165">
                <a:moveTo>
                  <a:pt x="81023" y="0"/>
                </a:moveTo>
                <a:lnTo>
                  <a:pt x="79687" y="6619"/>
                </a:lnTo>
                <a:lnTo>
                  <a:pt x="79687" y="965165"/>
                </a:lnTo>
                <a:lnTo>
                  <a:pt x="40524" y="938761"/>
                </a:lnTo>
                <a:cubicBezTo>
                  <a:pt x="15486" y="913723"/>
                  <a:pt x="0" y="879134"/>
                  <a:pt x="0" y="840927"/>
                </a:cubicBezTo>
                <a:lnTo>
                  <a:pt x="0" y="125139"/>
                </a:lnTo>
                <a:cubicBezTo>
                  <a:pt x="0" y="86933"/>
                  <a:pt x="15486" y="52343"/>
                  <a:pt x="40524" y="27305"/>
                </a:cubicBezTo>
                <a:close/>
              </a:path>
            </a:pathLst>
          </a:custGeom>
          <a:solidFill>
            <a:srgbClr val="6d5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74"/>
          <p:cNvSpPr/>
          <p:nvPr/>
        </p:nvSpPr>
        <p:spPr>
          <a:xfrm>
            <a:off x="7845480" y="1512720"/>
            <a:ext cx="3038400" cy="3691080"/>
          </a:xfrm>
          <a:custGeom>
            <a:avLst/>
            <a:gdLst/>
            <a:ahLst/>
            <a:rect l="l" t="t" r="r" b="b"/>
            <a:pathLst>
              <a:path w="3036889" h="3690562">
                <a:moveTo>
                  <a:pt x="1511576" y="0"/>
                </a:moveTo>
                <a:cubicBezTo>
                  <a:pt x="1701639" y="580271"/>
                  <a:pt x="1696438" y="1246268"/>
                  <a:pt x="2338939" y="1426489"/>
                </a:cubicBezTo>
                <a:lnTo>
                  <a:pt x="1792361" y="1426489"/>
                </a:lnTo>
                <a:lnTo>
                  <a:pt x="1802023" y="1449220"/>
                </a:lnTo>
                <a:cubicBezTo>
                  <a:pt x="1994867" y="1868866"/>
                  <a:pt x="2242318" y="2231601"/>
                  <a:pt x="2611439" y="2466496"/>
                </a:cubicBezTo>
                <a:lnTo>
                  <a:pt x="1935779" y="2466496"/>
                </a:lnTo>
                <a:lnTo>
                  <a:pt x="2019114" y="2593912"/>
                </a:lnTo>
                <a:cubicBezTo>
                  <a:pt x="2326059" y="3045804"/>
                  <a:pt x="2667768" y="3455667"/>
                  <a:pt x="3036889" y="3690562"/>
                </a:cubicBezTo>
                <a:lnTo>
                  <a:pt x="0" y="3677862"/>
                </a:lnTo>
                <a:cubicBezTo>
                  <a:pt x="255464" y="3545609"/>
                  <a:pt x="576615" y="3154842"/>
                  <a:pt x="908531" y="2677965"/>
                </a:cubicBezTo>
                <a:lnTo>
                  <a:pt x="1051863" y="2466496"/>
                </a:lnTo>
                <a:lnTo>
                  <a:pt x="501650" y="2466496"/>
                </a:lnTo>
                <a:cubicBezTo>
                  <a:pt x="757114" y="2334243"/>
                  <a:pt x="954241" y="1995565"/>
                  <a:pt x="1146631" y="1548454"/>
                </a:cubicBezTo>
                <a:lnTo>
                  <a:pt x="1196764" y="1426489"/>
                </a:lnTo>
                <a:lnTo>
                  <a:pt x="684212" y="1426489"/>
                </a:lnTo>
                <a:cubicBezTo>
                  <a:pt x="1069538" y="1370093"/>
                  <a:pt x="1402476" y="575509"/>
                  <a:pt x="1511576" y="0"/>
                </a:cubicBezTo>
                <a:close/>
              </a:path>
            </a:pathLst>
          </a:custGeom>
          <a:solidFill>
            <a:srgbClr val="acd6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75" descr=""/>
          <p:cNvPicPr/>
          <p:nvPr/>
        </p:nvPicPr>
        <p:blipFill>
          <a:blip r:embed="rId6"/>
          <a:stretch/>
        </p:blipFill>
        <p:spPr>
          <a:xfrm>
            <a:off x="7835760" y="1514520"/>
            <a:ext cx="2584440" cy="3689280"/>
          </a:xfrm>
          <a:prstGeom prst="rect">
            <a:avLst/>
          </a:prstGeom>
          <a:ln w="0">
            <a:noFill/>
          </a:ln>
        </p:spPr>
      </p:pic>
      <p:sp>
        <p:nvSpPr>
          <p:cNvPr id="107" name="五角星 107"/>
          <p:cNvSpPr/>
          <p:nvPr/>
        </p:nvSpPr>
        <p:spPr>
          <a:xfrm>
            <a:off x="9166320" y="1198440"/>
            <a:ext cx="401400" cy="325440"/>
          </a:xfrm>
          <a:custGeom>
            <a:avLst/>
            <a:gdLst/>
            <a:ahLst/>
            <a:rect l="l" t="t" r="r" b="b"/>
            <a:pathLst>
              <a:path w="401297" h="325015">
                <a:moveTo>
                  <a:pt x="0" y="156043"/>
                </a:moveTo>
                <a:lnTo>
                  <a:pt x="146182" y="145582"/>
                </a:lnTo>
                <a:cubicBezTo>
                  <a:pt x="164338" y="97055"/>
                  <a:pt x="166618" y="26302"/>
                  <a:pt x="200649" y="0"/>
                </a:cubicBezTo>
                <a:cubicBezTo>
                  <a:pt x="250554" y="48527"/>
                  <a:pt x="236960" y="97055"/>
                  <a:pt x="255115" y="145582"/>
                </a:cubicBezTo>
                <a:lnTo>
                  <a:pt x="401297" y="171918"/>
                </a:lnTo>
                <a:lnTo>
                  <a:pt x="257027" y="208853"/>
                </a:lnTo>
                <a:cubicBezTo>
                  <a:pt x="256287" y="239427"/>
                  <a:pt x="255546" y="270001"/>
                  <a:pt x="254806" y="300575"/>
                </a:cubicBezTo>
                <a:lnTo>
                  <a:pt x="200649" y="325015"/>
                </a:lnTo>
                <a:lnTo>
                  <a:pt x="156016" y="313275"/>
                </a:lnTo>
                <a:lnTo>
                  <a:pt x="141095" y="240603"/>
                </a:lnTo>
                <a:lnTo>
                  <a:pt x="0" y="1560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五角星 104"/>
          <p:cNvSpPr/>
          <p:nvPr/>
        </p:nvSpPr>
        <p:spPr>
          <a:xfrm>
            <a:off x="9166320" y="1217520"/>
            <a:ext cx="401400" cy="401760"/>
          </a:xfrm>
          <a:custGeom>
            <a:avLst/>
            <a:gdLst/>
            <a:ahLst/>
            <a:rect l="l" t="t" r="r" b="b"/>
            <a:pathLst>
              <a:path w="401638" h="401637">
                <a:moveTo>
                  <a:pt x="0" y="153411"/>
                </a:moveTo>
                <a:lnTo>
                  <a:pt x="153412" y="153412"/>
                </a:lnTo>
                <a:lnTo>
                  <a:pt x="200819" y="0"/>
                </a:lnTo>
                <a:lnTo>
                  <a:pt x="248225" y="153412"/>
                </a:lnTo>
                <a:lnTo>
                  <a:pt x="401637" y="153411"/>
                </a:lnTo>
                <a:lnTo>
                  <a:pt x="277523" y="248224"/>
                </a:lnTo>
                <a:lnTo>
                  <a:pt x="324931" y="401635"/>
                </a:lnTo>
                <a:lnTo>
                  <a:pt x="200819" y="306821"/>
                </a:lnTo>
                <a:lnTo>
                  <a:pt x="76706" y="401635"/>
                </a:lnTo>
                <a:lnTo>
                  <a:pt x="124114" y="248224"/>
                </a:lnTo>
                <a:close/>
              </a:path>
            </a:pathLst>
          </a:custGeom>
          <a:solidFill>
            <a:srgbClr val="fe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106"/>
          <p:cNvSpPr/>
          <p:nvPr/>
        </p:nvSpPr>
        <p:spPr>
          <a:xfrm>
            <a:off x="9244080" y="1504800"/>
            <a:ext cx="247680" cy="108000"/>
          </a:xfrm>
          <a:custGeom>
            <a:avLst/>
            <a:gdLst/>
            <a:ahLst/>
            <a:rect l="l" t="t" r="r" b="b"/>
            <a:pathLst>
              <a:path w="248015" h="108131">
                <a:moveTo>
                  <a:pt x="124007" y="0"/>
                </a:moveTo>
                <a:lnTo>
                  <a:pt x="233316" y="60564"/>
                </a:lnTo>
                <a:lnTo>
                  <a:pt x="248015" y="108131"/>
                </a:lnTo>
                <a:lnTo>
                  <a:pt x="124008" y="13397"/>
                </a:lnTo>
                <a:lnTo>
                  <a:pt x="0" y="108131"/>
                </a:lnTo>
                <a:lnTo>
                  <a:pt x="14700" y="60564"/>
                </a:lnTo>
                <a:close/>
              </a:path>
            </a:pathLst>
          </a:custGeom>
          <a:solidFill>
            <a:srgbClr val="d3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18"/>
          <p:cNvSpPr/>
          <p:nvPr/>
        </p:nvSpPr>
        <p:spPr>
          <a:xfrm>
            <a:off x="7099200" y="3878280"/>
            <a:ext cx="1413000" cy="933480"/>
          </a:xfrm>
          <a:custGeom>
            <a:avLst/>
            <a:gdLst/>
            <a:ahLst/>
            <a:rect l="l" t="t" r="r" b="b"/>
            <a:pathLst>
              <a:path w="1412062" h="933305">
                <a:moveTo>
                  <a:pt x="1412062" y="438511"/>
                </a:moveTo>
                <a:cubicBezTo>
                  <a:pt x="1135837" y="784585"/>
                  <a:pt x="658000" y="1016360"/>
                  <a:pt x="350025" y="905235"/>
                </a:cubicBezTo>
                <a:cubicBezTo>
                  <a:pt x="42050" y="794110"/>
                  <a:pt x="-237351" y="263885"/>
                  <a:pt x="316687" y="14648"/>
                </a:cubicBezTo>
                <a:cubicBezTo>
                  <a:pt x="567511" y="-53615"/>
                  <a:pt x="689749" y="130536"/>
                  <a:pt x="669112" y="281348"/>
                </a:cubicBezTo>
                <a:cubicBezTo>
                  <a:pt x="626250" y="438510"/>
                  <a:pt x="575449" y="460736"/>
                  <a:pt x="459562" y="443274"/>
                </a:cubicBezTo>
                <a:cubicBezTo>
                  <a:pt x="343675" y="425812"/>
                  <a:pt x="342087" y="360725"/>
                  <a:pt x="335737" y="243249"/>
                </a:cubicBezTo>
                <a:cubicBezTo>
                  <a:pt x="183337" y="317862"/>
                  <a:pt x="180161" y="605991"/>
                  <a:pt x="359549" y="700448"/>
                </a:cubicBezTo>
                <a:cubicBezTo>
                  <a:pt x="538937" y="794905"/>
                  <a:pt x="822306" y="956830"/>
                  <a:pt x="1412062" y="438511"/>
                </a:cubicBezTo>
                <a:close/>
              </a:path>
            </a:pathLst>
          </a:custGeom>
          <a:solidFill>
            <a:srgbClr val="64c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81"/>
          <p:cNvSpPr/>
          <p:nvPr/>
        </p:nvSpPr>
        <p:spPr>
          <a:xfrm>
            <a:off x="7132680" y="4119480"/>
            <a:ext cx="189000" cy="558720"/>
          </a:xfrm>
          <a:custGeom>
            <a:avLst/>
            <a:gdLst/>
            <a:ahLst/>
            <a:rect l="l" t="t" r="r" b="b"/>
            <a:pathLst>
              <a:path w="189173" h="739854">
                <a:moveTo>
                  <a:pt x="72584" y="0"/>
                </a:moveTo>
                <a:lnTo>
                  <a:pt x="45783" y="101923"/>
                </a:lnTo>
                <a:cubicBezTo>
                  <a:pt x="37338" y="150641"/>
                  <a:pt x="32903" y="201083"/>
                  <a:pt x="32903" y="252748"/>
                </a:cubicBezTo>
                <a:cubicBezTo>
                  <a:pt x="32903" y="407743"/>
                  <a:pt x="72817" y="551732"/>
                  <a:pt x="141172" y="671175"/>
                </a:cubicBezTo>
                <a:lnTo>
                  <a:pt x="189173" y="739854"/>
                </a:lnTo>
                <a:lnTo>
                  <a:pt x="185680" y="736972"/>
                </a:lnTo>
                <a:cubicBezTo>
                  <a:pt x="70958" y="622249"/>
                  <a:pt x="0" y="463762"/>
                  <a:pt x="0" y="288702"/>
                </a:cubicBezTo>
                <a:cubicBezTo>
                  <a:pt x="0" y="201172"/>
                  <a:pt x="17739" y="117785"/>
                  <a:pt x="49819" y="41941"/>
                </a:cubicBezTo>
                <a:close/>
              </a:path>
            </a:pathLst>
          </a:custGeom>
          <a:solidFill>
            <a:srgbClr val="83d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111"/>
          <p:cNvSpPr/>
          <p:nvPr/>
        </p:nvSpPr>
        <p:spPr>
          <a:xfrm>
            <a:off x="7702560" y="3029040"/>
            <a:ext cx="1028520" cy="679320"/>
          </a:xfrm>
          <a:custGeom>
            <a:avLst/>
            <a:gdLst/>
            <a:ahLst/>
            <a:rect l="l" t="t" r="r" b="b"/>
            <a:pathLst>
              <a:path w="1412062" h="933305">
                <a:moveTo>
                  <a:pt x="1412062" y="438511"/>
                </a:moveTo>
                <a:cubicBezTo>
                  <a:pt x="1135837" y="784585"/>
                  <a:pt x="658000" y="1016360"/>
                  <a:pt x="350025" y="905235"/>
                </a:cubicBezTo>
                <a:cubicBezTo>
                  <a:pt x="42050" y="794110"/>
                  <a:pt x="-237351" y="263885"/>
                  <a:pt x="316687" y="14648"/>
                </a:cubicBezTo>
                <a:cubicBezTo>
                  <a:pt x="567511" y="-53615"/>
                  <a:pt x="689749" y="130536"/>
                  <a:pt x="669112" y="281348"/>
                </a:cubicBezTo>
                <a:cubicBezTo>
                  <a:pt x="626250" y="438510"/>
                  <a:pt x="575449" y="460736"/>
                  <a:pt x="459562" y="443274"/>
                </a:cubicBezTo>
                <a:cubicBezTo>
                  <a:pt x="343675" y="425812"/>
                  <a:pt x="342087" y="360725"/>
                  <a:pt x="335737" y="243249"/>
                </a:cubicBezTo>
                <a:cubicBezTo>
                  <a:pt x="183337" y="317862"/>
                  <a:pt x="180161" y="605991"/>
                  <a:pt x="359549" y="700448"/>
                </a:cubicBezTo>
                <a:cubicBezTo>
                  <a:pt x="538937" y="794905"/>
                  <a:pt x="822306" y="956830"/>
                  <a:pt x="1412062" y="438511"/>
                </a:cubicBezTo>
                <a:close/>
              </a:path>
            </a:pathLst>
          </a:custGeom>
          <a:solidFill>
            <a:srgbClr val="64c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112"/>
          <p:cNvSpPr/>
          <p:nvPr/>
        </p:nvSpPr>
        <p:spPr>
          <a:xfrm>
            <a:off x="7726320" y="3205080"/>
            <a:ext cx="138240" cy="406440"/>
          </a:xfrm>
          <a:custGeom>
            <a:avLst/>
            <a:gdLst/>
            <a:ahLst/>
            <a:rect l="l" t="t" r="r" b="b"/>
            <a:pathLst>
              <a:path w="189173" h="739854">
                <a:moveTo>
                  <a:pt x="72584" y="0"/>
                </a:moveTo>
                <a:lnTo>
                  <a:pt x="45783" y="101923"/>
                </a:lnTo>
                <a:cubicBezTo>
                  <a:pt x="37338" y="150641"/>
                  <a:pt x="32903" y="201083"/>
                  <a:pt x="32903" y="252748"/>
                </a:cubicBezTo>
                <a:cubicBezTo>
                  <a:pt x="32903" y="407743"/>
                  <a:pt x="72817" y="551732"/>
                  <a:pt x="141172" y="671175"/>
                </a:cubicBezTo>
                <a:lnTo>
                  <a:pt x="189173" y="739854"/>
                </a:lnTo>
                <a:lnTo>
                  <a:pt x="185680" y="736972"/>
                </a:lnTo>
                <a:cubicBezTo>
                  <a:pt x="70958" y="622249"/>
                  <a:pt x="0" y="463762"/>
                  <a:pt x="0" y="288702"/>
                </a:cubicBezTo>
                <a:cubicBezTo>
                  <a:pt x="0" y="201172"/>
                  <a:pt x="17739" y="117785"/>
                  <a:pt x="49819" y="41941"/>
                </a:cubicBezTo>
                <a:close/>
              </a:path>
            </a:pathLst>
          </a:custGeom>
          <a:solidFill>
            <a:srgbClr val="83d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114"/>
          <p:cNvSpPr/>
          <p:nvPr/>
        </p:nvSpPr>
        <p:spPr>
          <a:xfrm>
            <a:off x="8156520" y="2344680"/>
            <a:ext cx="735120" cy="486000"/>
          </a:xfrm>
          <a:custGeom>
            <a:avLst/>
            <a:gdLst/>
            <a:ahLst/>
            <a:rect l="l" t="t" r="r" b="b"/>
            <a:pathLst>
              <a:path w="1412062" h="933305">
                <a:moveTo>
                  <a:pt x="1412062" y="438511"/>
                </a:moveTo>
                <a:cubicBezTo>
                  <a:pt x="1135837" y="784585"/>
                  <a:pt x="658000" y="1016360"/>
                  <a:pt x="350025" y="905235"/>
                </a:cubicBezTo>
                <a:cubicBezTo>
                  <a:pt x="42050" y="794110"/>
                  <a:pt x="-237351" y="263885"/>
                  <a:pt x="316687" y="14648"/>
                </a:cubicBezTo>
                <a:cubicBezTo>
                  <a:pt x="567511" y="-53615"/>
                  <a:pt x="689749" y="130536"/>
                  <a:pt x="669112" y="281348"/>
                </a:cubicBezTo>
                <a:cubicBezTo>
                  <a:pt x="626250" y="438510"/>
                  <a:pt x="575449" y="460736"/>
                  <a:pt x="459562" y="443274"/>
                </a:cubicBezTo>
                <a:cubicBezTo>
                  <a:pt x="343675" y="425812"/>
                  <a:pt x="342087" y="360725"/>
                  <a:pt x="335737" y="243249"/>
                </a:cubicBezTo>
                <a:cubicBezTo>
                  <a:pt x="183337" y="317862"/>
                  <a:pt x="180161" y="605991"/>
                  <a:pt x="359549" y="700448"/>
                </a:cubicBezTo>
                <a:cubicBezTo>
                  <a:pt x="538937" y="794905"/>
                  <a:pt x="822306" y="956830"/>
                  <a:pt x="1412062" y="438511"/>
                </a:cubicBezTo>
                <a:close/>
              </a:path>
            </a:pathLst>
          </a:custGeom>
          <a:solidFill>
            <a:srgbClr val="64c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115"/>
          <p:cNvSpPr/>
          <p:nvPr/>
        </p:nvSpPr>
        <p:spPr>
          <a:xfrm>
            <a:off x="8172360" y="2470320"/>
            <a:ext cx="98640" cy="291960"/>
          </a:xfrm>
          <a:custGeom>
            <a:avLst/>
            <a:gdLst/>
            <a:ahLst/>
            <a:rect l="l" t="t" r="r" b="b"/>
            <a:pathLst>
              <a:path w="189173" h="739854">
                <a:moveTo>
                  <a:pt x="72584" y="0"/>
                </a:moveTo>
                <a:lnTo>
                  <a:pt x="45783" y="101923"/>
                </a:lnTo>
                <a:cubicBezTo>
                  <a:pt x="37338" y="150641"/>
                  <a:pt x="32903" y="201083"/>
                  <a:pt x="32903" y="252748"/>
                </a:cubicBezTo>
                <a:cubicBezTo>
                  <a:pt x="32903" y="407743"/>
                  <a:pt x="72817" y="551732"/>
                  <a:pt x="141172" y="671175"/>
                </a:cubicBezTo>
                <a:lnTo>
                  <a:pt x="189173" y="739854"/>
                </a:lnTo>
                <a:lnTo>
                  <a:pt x="185680" y="736972"/>
                </a:lnTo>
                <a:cubicBezTo>
                  <a:pt x="70958" y="622249"/>
                  <a:pt x="0" y="463762"/>
                  <a:pt x="0" y="288702"/>
                </a:cubicBezTo>
                <a:cubicBezTo>
                  <a:pt x="0" y="201172"/>
                  <a:pt x="17739" y="117785"/>
                  <a:pt x="49819" y="41941"/>
                </a:cubicBezTo>
                <a:close/>
              </a:path>
            </a:pathLst>
          </a:custGeom>
          <a:solidFill>
            <a:srgbClr val="83d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117"/>
          <p:cNvSpPr/>
          <p:nvPr/>
        </p:nvSpPr>
        <p:spPr>
          <a:xfrm>
            <a:off x="8621640" y="1955880"/>
            <a:ext cx="534960" cy="353880"/>
          </a:xfrm>
          <a:custGeom>
            <a:avLst/>
            <a:gdLst/>
            <a:ahLst/>
            <a:rect l="l" t="t" r="r" b="b"/>
            <a:pathLst>
              <a:path w="1412062" h="933305">
                <a:moveTo>
                  <a:pt x="1412062" y="438511"/>
                </a:moveTo>
                <a:cubicBezTo>
                  <a:pt x="1135837" y="784585"/>
                  <a:pt x="658000" y="1016360"/>
                  <a:pt x="350025" y="905235"/>
                </a:cubicBezTo>
                <a:cubicBezTo>
                  <a:pt x="42050" y="794110"/>
                  <a:pt x="-237351" y="263885"/>
                  <a:pt x="316687" y="14648"/>
                </a:cubicBezTo>
                <a:cubicBezTo>
                  <a:pt x="567511" y="-53615"/>
                  <a:pt x="689749" y="130536"/>
                  <a:pt x="669112" y="281348"/>
                </a:cubicBezTo>
                <a:cubicBezTo>
                  <a:pt x="626250" y="438510"/>
                  <a:pt x="575449" y="460736"/>
                  <a:pt x="459562" y="443274"/>
                </a:cubicBezTo>
                <a:cubicBezTo>
                  <a:pt x="343675" y="425812"/>
                  <a:pt x="342087" y="360725"/>
                  <a:pt x="335737" y="243249"/>
                </a:cubicBezTo>
                <a:cubicBezTo>
                  <a:pt x="183337" y="317862"/>
                  <a:pt x="180161" y="605991"/>
                  <a:pt x="359549" y="700448"/>
                </a:cubicBezTo>
                <a:cubicBezTo>
                  <a:pt x="538937" y="794905"/>
                  <a:pt x="822306" y="956830"/>
                  <a:pt x="1412062" y="438511"/>
                </a:cubicBezTo>
                <a:close/>
              </a:path>
            </a:pathLst>
          </a:custGeom>
          <a:solidFill>
            <a:srgbClr val="64c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118"/>
          <p:cNvSpPr/>
          <p:nvPr/>
        </p:nvSpPr>
        <p:spPr>
          <a:xfrm>
            <a:off x="8634240" y="2048040"/>
            <a:ext cx="71640" cy="210960"/>
          </a:xfrm>
          <a:custGeom>
            <a:avLst/>
            <a:gdLst/>
            <a:ahLst/>
            <a:rect l="l" t="t" r="r" b="b"/>
            <a:pathLst>
              <a:path w="189173" h="739854">
                <a:moveTo>
                  <a:pt x="72584" y="0"/>
                </a:moveTo>
                <a:lnTo>
                  <a:pt x="45783" y="101923"/>
                </a:lnTo>
                <a:cubicBezTo>
                  <a:pt x="37338" y="150641"/>
                  <a:pt x="32903" y="201083"/>
                  <a:pt x="32903" y="252748"/>
                </a:cubicBezTo>
                <a:cubicBezTo>
                  <a:pt x="32903" y="407743"/>
                  <a:pt x="72817" y="551732"/>
                  <a:pt x="141172" y="671175"/>
                </a:cubicBezTo>
                <a:lnTo>
                  <a:pt x="189173" y="739854"/>
                </a:lnTo>
                <a:lnTo>
                  <a:pt x="185680" y="736972"/>
                </a:lnTo>
                <a:cubicBezTo>
                  <a:pt x="70958" y="622249"/>
                  <a:pt x="0" y="463762"/>
                  <a:pt x="0" y="288702"/>
                </a:cubicBezTo>
                <a:cubicBezTo>
                  <a:pt x="0" y="201172"/>
                  <a:pt x="17739" y="117785"/>
                  <a:pt x="49819" y="41941"/>
                </a:cubicBezTo>
                <a:close/>
              </a:path>
            </a:pathLst>
          </a:custGeom>
          <a:solidFill>
            <a:srgbClr val="83d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120"/>
          <p:cNvSpPr/>
          <p:nvPr/>
        </p:nvSpPr>
        <p:spPr>
          <a:xfrm>
            <a:off x="8912160" y="1650960"/>
            <a:ext cx="325440" cy="214200"/>
          </a:xfrm>
          <a:custGeom>
            <a:avLst/>
            <a:gdLst/>
            <a:ahLst/>
            <a:rect l="l" t="t" r="r" b="b"/>
            <a:pathLst>
              <a:path w="1412062" h="933305">
                <a:moveTo>
                  <a:pt x="1412062" y="438511"/>
                </a:moveTo>
                <a:cubicBezTo>
                  <a:pt x="1135837" y="784585"/>
                  <a:pt x="658000" y="1016360"/>
                  <a:pt x="350025" y="905235"/>
                </a:cubicBezTo>
                <a:cubicBezTo>
                  <a:pt x="42050" y="794110"/>
                  <a:pt x="-237351" y="263885"/>
                  <a:pt x="316687" y="14648"/>
                </a:cubicBezTo>
                <a:cubicBezTo>
                  <a:pt x="567511" y="-53615"/>
                  <a:pt x="689749" y="130536"/>
                  <a:pt x="669112" y="281348"/>
                </a:cubicBezTo>
                <a:cubicBezTo>
                  <a:pt x="626250" y="438510"/>
                  <a:pt x="575449" y="460736"/>
                  <a:pt x="459562" y="443274"/>
                </a:cubicBezTo>
                <a:cubicBezTo>
                  <a:pt x="343675" y="425812"/>
                  <a:pt x="342087" y="360725"/>
                  <a:pt x="335737" y="243249"/>
                </a:cubicBezTo>
                <a:cubicBezTo>
                  <a:pt x="183337" y="317862"/>
                  <a:pt x="180161" y="605991"/>
                  <a:pt x="359549" y="700448"/>
                </a:cubicBezTo>
                <a:cubicBezTo>
                  <a:pt x="538937" y="794905"/>
                  <a:pt x="822306" y="956830"/>
                  <a:pt x="1412062" y="438511"/>
                </a:cubicBezTo>
                <a:close/>
              </a:path>
            </a:pathLst>
          </a:custGeom>
          <a:solidFill>
            <a:srgbClr val="64c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任意多边形 121"/>
          <p:cNvSpPr/>
          <p:nvPr/>
        </p:nvSpPr>
        <p:spPr>
          <a:xfrm>
            <a:off x="8920080" y="1704960"/>
            <a:ext cx="44640" cy="130320"/>
          </a:xfrm>
          <a:custGeom>
            <a:avLst/>
            <a:gdLst/>
            <a:ahLst/>
            <a:rect l="l" t="t" r="r" b="b"/>
            <a:pathLst>
              <a:path w="189173" h="739854">
                <a:moveTo>
                  <a:pt x="72584" y="0"/>
                </a:moveTo>
                <a:lnTo>
                  <a:pt x="45783" y="101923"/>
                </a:lnTo>
                <a:cubicBezTo>
                  <a:pt x="37338" y="150641"/>
                  <a:pt x="32903" y="201083"/>
                  <a:pt x="32903" y="252748"/>
                </a:cubicBezTo>
                <a:cubicBezTo>
                  <a:pt x="32903" y="407743"/>
                  <a:pt x="72817" y="551732"/>
                  <a:pt x="141172" y="671175"/>
                </a:cubicBezTo>
                <a:lnTo>
                  <a:pt x="189173" y="739854"/>
                </a:lnTo>
                <a:lnTo>
                  <a:pt x="185680" y="736972"/>
                </a:lnTo>
                <a:cubicBezTo>
                  <a:pt x="70958" y="622249"/>
                  <a:pt x="0" y="463762"/>
                  <a:pt x="0" y="288702"/>
                </a:cubicBezTo>
                <a:cubicBezTo>
                  <a:pt x="0" y="201172"/>
                  <a:pt x="17739" y="117785"/>
                  <a:pt x="49819" y="41941"/>
                </a:cubicBezTo>
                <a:close/>
              </a:path>
            </a:pathLst>
          </a:custGeom>
          <a:solidFill>
            <a:srgbClr val="83d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137"/>
          <p:cNvSpPr/>
          <p:nvPr/>
        </p:nvSpPr>
        <p:spPr>
          <a:xfrm flipH="1">
            <a:off x="10213920" y="3886200"/>
            <a:ext cx="1411200" cy="933480"/>
          </a:xfrm>
          <a:custGeom>
            <a:avLst/>
            <a:gdLst/>
            <a:ahLst/>
            <a:rect l="l" t="t" r="r" b="b"/>
            <a:pathLst>
              <a:path w="1412062" h="933305">
                <a:moveTo>
                  <a:pt x="1412062" y="438511"/>
                </a:moveTo>
                <a:cubicBezTo>
                  <a:pt x="1135837" y="784585"/>
                  <a:pt x="658000" y="1016360"/>
                  <a:pt x="350025" y="905235"/>
                </a:cubicBezTo>
                <a:cubicBezTo>
                  <a:pt x="42050" y="794110"/>
                  <a:pt x="-237351" y="263885"/>
                  <a:pt x="316687" y="14648"/>
                </a:cubicBezTo>
                <a:cubicBezTo>
                  <a:pt x="567511" y="-53615"/>
                  <a:pt x="689749" y="130536"/>
                  <a:pt x="669112" y="281348"/>
                </a:cubicBezTo>
                <a:cubicBezTo>
                  <a:pt x="626250" y="438510"/>
                  <a:pt x="575449" y="460736"/>
                  <a:pt x="459562" y="443274"/>
                </a:cubicBezTo>
                <a:cubicBezTo>
                  <a:pt x="343675" y="425812"/>
                  <a:pt x="342087" y="360725"/>
                  <a:pt x="335737" y="243249"/>
                </a:cubicBezTo>
                <a:cubicBezTo>
                  <a:pt x="183337" y="317862"/>
                  <a:pt x="180161" y="605991"/>
                  <a:pt x="359549" y="700448"/>
                </a:cubicBezTo>
                <a:cubicBezTo>
                  <a:pt x="538937" y="794905"/>
                  <a:pt x="822306" y="956830"/>
                  <a:pt x="1412062" y="438511"/>
                </a:cubicBezTo>
                <a:close/>
              </a:path>
            </a:pathLst>
          </a:custGeom>
          <a:solidFill>
            <a:srgbClr val="64c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任意多边形 138"/>
          <p:cNvSpPr/>
          <p:nvPr/>
        </p:nvSpPr>
        <p:spPr>
          <a:xfrm flipH="1">
            <a:off x="11402280" y="4127400"/>
            <a:ext cx="189000" cy="559080"/>
          </a:xfrm>
          <a:custGeom>
            <a:avLst/>
            <a:gdLst/>
            <a:ahLst/>
            <a:rect l="l" t="t" r="r" b="b"/>
            <a:pathLst>
              <a:path w="189173" h="739854">
                <a:moveTo>
                  <a:pt x="72584" y="0"/>
                </a:moveTo>
                <a:lnTo>
                  <a:pt x="45783" y="101923"/>
                </a:lnTo>
                <a:cubicBezTo>
                  <a:pt x="37338" y="150641"/>
                  <a:pt x="32903" y="201083"/>
                  <a:pt x="32903" y="252748"/>
                </a:cubicBezTo>
                <a:cubicBezTo>
                  <a:pt x="32903" y="407743"/>
                  <a:pt x="72817" y="551732"/>
                  <a:pt x="141172" y="671175"/>
                </a:cubicBezTo>
                <a:lnTo>
                  <a:pt x="189173" y="739854"/>
                </a:lnTo>
                <a:lnTo>
                  <a:pt x="185680" y="736972"/>
                </a:lnTo>
                <a:cubicBezTo>
                  <a:pt x="70958" y="622249"/>
                  <a:pt x="0" y="463762"/>
                  <a:pt x="0" y="288702"/>
                </a:cubicBezTo>
                <a:cubicBezTo>
                  <a:pt x="0" y="201172"/>
                  <a:pt x="17739" y="117785"/>
                  <a:pt x="49819" y="41941"/>
                </a:cubicBezTo>
                <a:close/>
              </a:path>
            </a:pathLst>
          </a:custGeom>
          <a:solidFill>
            <a:srgbClr val="83d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135"/>
          <p:cNvSpPr/>
          <p:nvPr/>
        </p:nvSpPr>
        <p:spPr>
          <a:xfrm flipH="1">
            <a:off x="9994320" y="3036960"/>
            <a:ext cx="1027080" cy="679320"/>
          </a:xfrm>
          <a:custGeom>
            <a:avLst/>
            <a:gdLst/>
            <a:ahLst/>
            <a:rect l="l" t="t" r="r" b="b"/>
            <a:pathLst>
              <a:path w="1412062" h="933305">
                <a:moveTo>
                  <a:pt x="1412062" y="438511"/>
                </a:moveTo>
                <a:cubicBezTo>
                  <a:pt x="1135837" y="784585"/>
                  <a:pt x="658000" y="1016360"/>
                  <a:pt x="350025" y="905235"/>
                </a:cubicBezTo>
                <a:cubicBezTo>
                  <a:pt x="42050" y="794110"/>
                  <a:pt x="-237351" y="263885"/>
                  <a:pt x="316687" y="14648"/>
                </a:cubicBezTo>
                <a:cubicBezTo>
                  <a:pt x="567511" y="-53615"/>
                  <a:pt x="689749" y="130536"/>
                  <a:pt x="669112" y="281348"/>
                </a:cubicBezTo>
                <a:cubicBezTo>
                  <a:pt x="626250" y="438510"/>
                  <a:pt x="575449" y="460736"/>
                  <a:pt x="459562" y="443274"/>
                </a:cubicBezTo>
                <a:cubicBezTo>
                  <a:pt x="343675" y="425812"/>
                  <a:pt x="342087" y="360725"/>
                  <a:pt x="335737" y="243249"/>
                </a:cubicBezTo>
                <a:cubicBezTo>
                  <a:pt x="183337" y="317862"/>
                  <a:pt x="180161" y="605991"/>
                  <a:pt x="359549" y="700448"/>
                </a:cubicBezTo>
                <a:cubicBezTo>
                  <a:pt x="538937" y="794905"/>
                  <a:pt x="822306" y="956830"/>
                  <a:pt x="1412062" y="438511"/>
                </a:cubicBezTo>
                <a:close/>
              </a:path>
            </a:pathLst>
          </a:custGeom>
          <a:solidFill>
            <a:srgbClr val="64c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136"/>
          <p:cNvSpPr/>
          <p:nvPr/>
        </p:nvSpPr>
        <p:spPr>
          <a:xfrm flipH="1">
            <a:off x="10861560" y="3211560"/>
            <a:ext cx="136800" cy="406440"/>
          </a:xfrm>
          <a:custGeom>
            <a:avLst/>
            <a:gdLst/>
            <a:ahLst/>
            <a:rect l="l" t="t" r="r" b="b"/>
            <a:pathLst>
              <a:path w="189173" h="739854">
                <a:moveTo>
                  <a:pt x="72584" y="0"/>
                </a:moveTo>
                <a:lnTo>
                  <a:pt x="45783" y="101923"/>
                </a:lnTo>
                <a:cubicBezTo>
                  <a:pt x="37338" y="150641"/>
                  <a:pt x="32903" y="201083"/>
                  <a:pt x="32903" y="252748"/>
                </a:cubicBezTo>
                <a:cubicBezTo>
                  <a:pt x="32903" y="407743"/>
                  <a:pt x="72817" y="551732"/>
                  <a:pt x="141172" y="671175"/>
                </a:cubicBezTo>
                <a:lnTo>
                  <a:pt x="189173" y="739854"/>
                </a:lnTo>
                <a:lnTo>
                  <a:pt x="185680" y="736972"/>
                </a:lnTo>
                <a:cubicBezTo>
                  <a:pt x="70958" y="622249"/>
                  <a:pt x="0" y="463762"/>
                  <a:pt x="0" y="288702"/>
                </a:cubicBezTo>
                <a:cubicBezTo>
                  <a:pt x="0" y="201172"/>
                  <a:pt x="17739" y="117785"/>
                  <a:pt x="49819" y="41941"/>
                </a:cubicBezTo>
                <a:close/>
              </a:path>
            </a:pathLst>
          </a:custGeom>
          <a:solidFill>
            <a:srgbClr val="83d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任意多边形 133"/>
          <p:cNvSpPr/>
          <p:nvPr/>
        </p:nvSpPr>
        <p:spPr>
          <a:xfrm flipH="1">
            <a:off x="9833040" y="2352600"/>
            <a:ext cx="736560" cy="486000"/>
          </a:xfrm>
          <a:custGeom>
            <a:avLst/>
            <a:gdLst/>
            <a:ahLst/>
            <a:rect l="l" t="t" r="r" b="b"/>
            <a:pathLst>
              <a:path w="1412062" h="933305">
                <a:moveTo>
                  <a:pt x="1412062" y="438511"/>
                </a:moveTo>
                <a:cubicBezTo>
                  <a:pt x="1135837" y="784585"/>
                  <a:pt x="658000" y="1016360"/>
                  <a:pt x="350025" y="905235"/>
                </a:cubicBezTo>
                <a:cubicBezTo>
                  <a:pt x="42050" y="794110"/>
                  <a:pt x="-237351" y="263885"/>
                  <a:pt x="316687" y="14648"/>
                </a:cubicBezTo>
                <a:cubicBezTo>
                  <a:pt x="567511" y="-53615"/>
                  <a:pt x="689749" y="130536"/>
                  <a:pt x="669112" y="281348"/>
                </a:cubicBezTo>
                <a:cubicBezTo>
                  <a:pt x="626250" y="438510"/>
                  <a:pt x="575449" y="460736"/>
                  <a:pt x="459562" y="443274"/>
                </a:cubicBezTo>
                <a:cubicBezTo>
                  <a:pt x="343675" y="425812"/>
                  <a:pt x="342087" y="360725"/>
                  <a:pt x="335737" y="243249"/>
                </a:cubicBezTo>
                <a:cubicBezTo>
                  <a:pt x="183337" y="317862"/>
                  <a:pt x="180161" y="605991"/>
                  <a:pt x="359549" y="700448"/>
                </a:cubicBezTo>
                <a:cubicBezTo>
                  <a:pt x="538937" y="794905"/>
                  <a:pt x="822306" y="956830"/>
                  <a:pt x="1412062" y="438511"/>
                </a:cubicBezTo>
                <a:close/>
              </a:path>
            </a:pathLst>
          </a:custGeom>
          <a:solidFill>
            <a:srgbClr val="64c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134"/>
          <p:cNvSpPr/>
          <p:nvPr/>
        </p:nvSpPr>
        <p:spPr>
          <a:xfrm flipH="1">
            <a:off x="10452960" y="2478240"/>
            <a:ext cx="98280" cy="290520"/>
          </a:xfrm>
          <a:custGeom>
            <a:avLst/>
            <a:gdLst/>
            <a:ahLst/>
            <a:rect l="l" t="t" r="r" b="b"/>
            <a:pathLst>
              <a:path w="189173" h="739854">
                <a:moveTo>
                  <a:pt x="72584" y="0"/>
                </a:moveTo>
                <a:lnTo>
                  <a:pt x="45783" y="101923"/>
                </a:lnTo>
                <a:cubicBezTo>
                  <a:pt x="37338" y="150641"/>
                  <a:pt x="32903" y="201083"/>
                  <a:pt x="32903" y="252748"/>
                </a:cubicBezTo>
                <a:cubicBezTo>
                  <a:pt x="32903" y="407743"/>
                  <a:pt x="72817" y="551732"/>
                  <a:pt x="141172" y="671175"/>
                </a:cubicBezTo>
                <a:lnTo>
                  <a:pt x="189173" y="739854"/>
                </a:lnTo>
                <a:lnTo>
                  <a:pt x="185680" y="736972"/>
                </a:lnTo>
                <a:cubicBezTo>
                  <a:pt x="70958" y="622249"/>
                  <a:pt x="0" y="463762"/>
                  <a:pt x="0" y="288702"/>
                </a:cubicBezTo>
                <a:cubicBezTo>
                  <a:pt x="0" y="201172"/>
                  <a:pt x="17739" y="117785"/>
                  <a:pt x="49819" y="41941"/>
                </a:cubicBezTo>
                <a:close/>
              </a:path>
            </a:pathLst>
          </a:custGeom>
          <a:solidFill>
            <a:srgbClr val="83d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131"/>
          <p:cNvSpPr/>
          <p:nvPr/>
        </p:nvSpPr>
        <p:spPr>
          <a:xfrm flipH="1">
            <a:off x="9567720" y="1962000"/>
            <a:ext cx="534960" cy="354240"/>
          </a:xfrm>
          <a:custGeom>
            <a:avLst/>
            <a:gdLst/>
            <a:ahLst/>
            <a:rect l="l" t="t" r="r" b="b"/>
            <a:pathLst>
              <a:path w="1412062" h="933305">
                <a:moveTo>
                  <a:pt x="1412062" y="438511"/>
                </a:moveTo>
                <a:cubicBezTo>
                  <a:pt x="1135837" y="784585"/>
                  <a:pt x="658000" y="1016360"/>
                  <a:pt x="350025" y="905235"/>
                </a:cubicBezTo>
                <a:cubicBezTo>
                  <a:pt x="42050" y="794110"/>
                  <a:pt x="-237351" y="263885"/>
                  <a:pt x="316687" y="14648"/>
                </a:cubicBezTo>
                <a:cubicBezTo>
                  <a:pt x="567511" y="-53615"/>
                  <a:pt x="689749" y="130536"/>
                  <a:pt x="669112" y="281348"/>
                </a:cubicBezTo>
                <a:cubicBezTo>
                  <a:pt x="626250" y="438510"/>
                  <a:pt x="575449" y="460736"/>
                  <a:pt x="459562" y="443274"/>
                </a:cubicBezTo>
                <a:cubicBezTo>
                  <a:pt x="343675" y="425812"/>
                  <a:pt x="342087" y="360725"/>
                  <a:pt x="335737" y="243249"/>
                </a:cubicBezTo>
                <a:cubicBezTo>
                  <a:pt x="183337" y="317862"/>
                  <a:pt x="180161" y="605991"/>
                  <a:pt x="359549" y="700448"/>
                </a:cubicBezTo>
                <a:cubicBezTo>
                  <a:pt x="538937" y="794905"/>
                  <a:pt x="822306" y="956830"/>
                  <a:pt x="1412062" y="438511"/>
                </a:cubicBezTo>
                <a:close/>
              </a:path>
            </a:pathLst>
          </a:custGeom>
          <a:solidFill>
            <a:srgbClr val="64c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132"/>
          <p:cNvSpPr/>
          <p:nvPr/>
        </p:nvSpPr>
        <p:spPr>
          <a:xfrm flipH="1">
            <a:off x="10019520" y="2054160"/>
            <a:ext cx="71640" cy="211320"/>
          </a:xfrm>
          <a:custGeom>
            <a:avLst/>
            <a:gdLst/>
            <a:ahLst/>
            <a:rect l="l" t="t" r="r" b="b"/>
            <a:pathLst>
              <a:path w="189173" h="739854">
                <a:moveTo>
                  <a:pt x="72584" y="0"/>
                </a:moveTo>
                <a:lnTo>
                  <a:pt x="45783" y="101923"/>
                </a:lnTo>
                <a:cubicBezTo>
                  <a:pt x="37338" y="150641"/>
                  <a:pt x="32903" y="201083"/>
                  <a:pt x="32903" y="252748"/>
                </a:cubicBezTo>
                <a:cubicBezTo>
                  <a:pt x="32903" y="407743"/>
                  <a:pt x="72817" y="551732"/>
                  <a:pt x="141172" y="671175"/>
                </a:cubicBezTo>
                <a:lnTo>
                  <a:pt x="189173" y="739854"/>
                </a:lnTo>
                <a:lnTo>
                  <a:pt x="185680" y="736972"/>
                </a:lnTo>
                <a:cubicBezTo>
                  <a:pt x="70958" y="622249"/>
                  <a:pt x="0" y="463762"/>
                  <a:pt x="0" y="288702"/>
                </a:cubicBezTo>
                <a:cubicBezTo>
                  <a:pt x="0" y="201172"/>
                  <a:pt x="17739" y="117785"/>
                  <a:pt x="49819" y="41941"/>
                </a:cubicBezTo>
                <a:close/>
              </a:path>
            </a:pathLst>
          </a:custGeom>
          <a:solidFill>
            <a:srgbClr val="83d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129"/>
          <p:cNvSpPr/>
          <p:nvPr/>
        </p:nvSpPr>
        <p:spPr>
          <a:xfrm flipH="1">
            <a:off x="9486360" y="1657440"/>
            <a:ext cx="325080" cy="214200"/>
          </a:xfrm>
          <a:custGeom>
            <a:avLst/>
            <a:gdLst/>
            <a:ahLst/>
            <a:rect l="l" t="t" r="r" b="b"/>
            <a:pathLst>
              <a:path w="1412062" h="933305">
                <a:moveTo>
                  <a:pt x="1412062" y="438511"/>
                </a:moveTo>
                <a:cubicBezTo>
                  <a:pt x="1135837" y="784585"/>
                  <a:pt x="658000" y="1016360"/>
                  <a:pt x="350025" y="905235"/>
                </a:cubicBezTo>
                <a:cubicBezTo>
                  <a:pt x="42050" y="794110"/>
                  <a:pt x="-237351" y="263885"/>
                  <a:pt x="316687" y="14648"/>
                </a:cubicBezTo>
                <a:cubicBezTo>
                  <a:pt x="567511" y="-53615"/>
                  <a:pt x="689749" y="130536"/>
                  <a:pt x="669112" y="281348"/>
                </a:cubicBezTo>
                <a:cubicBezTo>
                  <a:pt x="626250" y="438510"/>
                  <a:pt x="575449" y="460736"/>
                  <a:pt x="459562" y="443274"/>
                </a:cubicBezTo>
                <a:cubicBezTo>
                  <a:pt x="343675" y="425812"/>
                  <a:pt x="342087" y="360725"/>
                  <a:pt x="335737" y="243249"/>
                </a:cubicBezTo>
                <a:cubicBezTo>
                  <a:pt x="183337" y="317862"/>
                  <a:pt x="180161" y="605991"/>
                  <a:pt x="359549" y="700448"/>
                </a:cubicBezTo>
                <a:cubicBezTo>
                  <a:pt x="538937" y="794905"/>
                  <a:pt x="822306" y="956830"/>
                  <a:pt x="1412062" y="438511"/>
                </a:cubicBezTo>
                <a:close/>
              </a:path>
            </a:pathLst>
          </a:custGeom>
          <a:solidFill>
            <a:srgbClr val="64c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130"/>
          <p:cNvSpPr/>
          <p:nvPr/>
        </p:nvSpPr>
        <p:spPr>
          <a:xfrm flipH="1">
            <a:off x="9760680" y="1712880"/>
            <a:ext cx="42840" cy="128520"/>
          </a:xfrm>
          <a:custGeom>
            <a:avLst/>
            <a:gdLst/>
            <a:ahLst/>
            <a:rect l="l" t="t" r="r" b="b"/>
            <a:pathLst>
              <a:path w="189173" h="739854">
                <a:moveTo>
                  <a:pt x="72584" y="0"/>
                </a:moveTo>
                <a:lnTo>
                  <a:pt x="45783" y="101923"/>
                </a:lnTo>
                <a:cubicBezTo>
                  <a:pt x="37338" y="150641"/>
                  <a:pt x="32903" y="201083"/>
                  <a:pt x="32903" y="252748"/>
                </a:cubicBezTo>
                <a:cubicBezTo>
                  <a:pt x="32903" y="407743"/>
                  <a:pt x="72817" y="551732"/>
                  <a:pt x="141172" y="671175"/>
                </a:cubicBezTo>
                <a:lnTo>
                  <a:pt x="189173" y="739854"/>
                </a:lnTo>
                <a:lnTo>
                  <a:pt x="185680" y="736972"/>
                </a:lnTo>
                <a:cubicBezTo>
                  <a:pt x="70958" y="622249"/>
                  <a:pt x="0" y="463762"/>
                  <a:pt x="0" y="288702"/>
                </a:cubicBezTo>
                <a:cubicBezTo>
                  <a:pt x="0" y="201172"/>
                  <a:pt x="17739" y="117785"/>
                  <a:pt x="49819" y="41941"/>
                </a:cubicBezTo>
                <a:close/>
              </a:path>
            </a:pathLst>
          </a:custGeom>
          <a:solidFill>
            <a:srgbClr val="83d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141"/>
          <p:cNvSpPr/>
          <p:nvPr/>
        </p:nvSpPr>
        <p:spPr>
          <a:xfrm>
            <a:off x="2217600" y="665280"/>
            <a:ext cx="995400" cy="511200"/>
          </a:xfrm>
          <a:custGeom>
            <a:avLst/>
            <a:gdLst/>
            <a:ahLst/>
            <a:rect l="l" t="t" r="r" b="b"/>
            <a:pathLst>
              <a:path w="995993" h="511870">
                <a:moveTo>
                  <a:pt x="483709" y="0"/>
                </a:moveTo>
                <a:cubicBezTo>
                  <a:pt x="583067" y="0"/>
                  <a:pt x="668316" y="44465"/>
                  <a:pt x="704730" y="107835"/>
                </a:cubicBezTo>
                <a:lnTo>
                  <a:pt x="717410" y="154064"/>
                </a:lnTo>
                <a:lnTo>
                  <a:pt x="756122" y="151130"/>
                </a:lnTo>
                <a:cubicBezTo>
                  <a:pt x="888599" y="151130"/>
                  <a:pt x="995993" y="231884"/>
                  <a:pt x="995993" y="331500"/>
                </a:cubicBezTo>
                <a:cubicBezTo>
                  <a:pt x="995993" y="431116"/>
                  <a:pt x="888599" y="511870"/>
                  <a:pt x="756122" y="511870"/>
                </a:cubicBezTo>
                <a:lnTo>
                  <a:pt x="723579" y="509403"/>
                </a:lnTo>
                <a:lnTo>
                  <a:pt x="723579" y="511869"/>
                </a:lnTo>
                <a:lnTo>
                  <a:pt x="209556" y="511869"/>
                </a:lnTo>
                <a:cubicBezTo>
                  <a:pt x="209554" y="511869"/>
                  <a:pt x="209552" y="511870"/>
                  <a:pt x="209550" y="511870"/>
                </a:cubicBezTo>
                <a:cubicBezTo>
                  <a:pt x="209548" y="511870"/>
                  <a:pt x="209546" y="511869"/>
                  <a:pt x="209544" y="511869"/>
                </a:cubicBezTo>
                <a:lnTo>
                  <a:pt x="127984" y="497995"/>
                </a:lnTo>
                <a:cubicBezTo>
                  <a:pt x="52773" y="471192"/>
                  <a:pt x="0" y="408443"/>
                  <a:pt x="0" y="335310"/>
                </a:cubicBezTo>
                <a:cubicBezTo>
                  <a:pt x="0" y="237799"/>
                  <a:pt x="93819" y="158750"/>
                  <a:pt x="209550" y="158750"/>
                </a:cubicBezTo>
                <a:lnTo>
                  <a:pt x="246977" y="165117"/>
                </a:lnTo>
                <a:lnTo>
                  <a:pt x="262689" y="107835"/>
                </a:lnTo>
                <a:cubicBezTo>
                  <a:pt x="299103" y="44465"/>
                  <a:pt x="384352" y="0"/>
                  <a:pt x="48370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142"/>
          <p:cNvSpPr/>
          <p:nvPr/>
        </p:nvSpPr>
        <p:spPr>
          <a:xfrm>
            <a:off x="2392200" y="893880"/>
            <a:ext cx="785880" cy="280800"/>
          </a:xfrm>
          <a:custGeom>
            <a:avLst/>
            <a:gdLst/>
            <a:ahLst/>
            <a:rect l="l" t="t" r="r" b="b"/>
            <a:pathLst>
              <a:path w="786450" h="280526">
                <a:moveTo>
                  <a:pt x="482621" y="277563"/>
                </a:moveTo>
                <a:lnTo>
                  <a:pt x="514036" y="280423"/>
                </a:lnTo>
                <a:lnTo>
                  <a:pt x="514036" y="280525"/>
                </a:lnTo>
                <a:lnTo>
                  <a:pt x="13" y="280525"/>
                </a:lnTo>
                <a:cubicBezTo>
                  <a:pt x="11" y="280525"/>
                  <a:pt x="9" y="280526"/>
                  <a:pt x="7" y="280526"/>
                </a:cubicBezTo>
                <a:cubicBezTo>
                  <a:pt x="5" y="280526"/>
                  <a:pt x="3" y="280525"/>
                  <a:pt x="1" y="280525"/>
                </a:cubicBezTo>
                <a:lnTo>
                  <a:pt x="0" y="280525"/>
                </a:lnTo>
                <a:lnTo>
                  <a:pt x="482621" y="280525"/>
                </a:lnTo>
                <a:close/>
                <a:moveTo>
                  <a:pt x="740748" y="0"/>
                </a:moveTo>
                <a:lnTo>
                  <a:pt x="767600" y="29948"/>
                </a:lnTo>
                <a:cubicBezTo>
                  <a:pt x="779738" y="51527"/>
                  <a:pt x="786450" y="75252"/>
                  <a:pt x="786450" y="100156"/>
                </a:cubicBezTo>
                <a:cubicBezTo>
                  <a:pt x="786450" y="199772"/>
                  <a:pt x="679056" y="280526"/>
                  <a:pt x="546579" y="280526"/>
                </a:cubicBezTo>
                <a:lnTo>
                  <a:pt x="529438" y="279227"/>
                </a:lnTo>
                <a:lnTo>
                  <a:pt x="563507" y="276125"/>
                </a:lnTo>
                <a:cubicBezTo>
                  <a:pt x="672812" y="255926"/>
                  <a:pt x="755035" y="168589"/>
                  <a:pt x="755035" y="63907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任意多边形 143"/>
          <p:cNvSpPr/>
          <p:nvPr/>
        </p:nvSpPr>
        <p:spPr>
          <a:xfrm>
            <a:off x="2495520" y="684360"/>
            <a:ext cx="250920" cy="164880"/>
          </a:xfrm>
          <a:custGeom>
            <a:avLst/>
            <a:gdLst/>
            <a:ahLst/>
            <a:rect l="l" t="t" r="r" b="b"/>
            <a:pathLst>
              <a:path w="251191" h="165117">
                <a:moveTo>
                  <a:pt x="235316" y="0"/>
                </a:moveTo>
                <a:lnTo>
                  <a:pt x="251191" y="1767"/>
                </a:lnTo>
                <a:lnTo>
                  <a:pt x="195736" y="7938"/>
                </a:lnTo>
                <a:cubicBezTo>
                  <a:pt x="128137" y="23414"/>
                  <a:pt x="73357" y="60308"/>
                  <a:pt x="46046" y="107835"/>
                </a:cubicBezTo>
                <a:lnTo>
                  <a:pt x="30334" y="165117"/>
                </a:lnTo>
                <a:lnTo>
                  <a:pt x="0" y="159957"/>
                </a:lnTo>
                <a:lnTo>
                  <a:pt x="14296" y="107835"/>
                </a:lnTo>
                <a:cubicBezTo>
                  <a:pt x="50710" y="44465"/>
                  <a:pt x="135959" y="0"/>
                  <a:pt x="235316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任意多边形 144"/>
          <p:cNvSpPr/>
          <p:nvPr/>
        </p:nvSpPr>
        <p:spPr>
          <a:xfrm>
            <a:off x="2247840" y="849240"/>
            <a:ext cx="184320" cy="300240"/>
          </a:xfrm>
          <a:custGeom>
            <a:avLst/>
            <a:gdLst/>
            <a:ahLst/>
            <a:rect l="l" t="t" r="r" b="b"/>
            <a:pathLst>
              <a:path w="241294" h="353120">
                <a:moveTo>
                  <a:pt x="209550" y="0"/>
                </a:moveTo>
                <a:lnTo>
                  <a:pt x="225425" y="2701"/>
                </a:lnTo>
                <a:lnTo>
                  <a:pt x="159734" y="13875"/>
                </a:lnTo>
                <a:cubicBezTo>
                  <a:pt x="84523" y="40679"/>
                  <a:pt x="31750" y="103427"/>
                  <a:pt x="31750" y="176560"/>
                </a:cubicBezTo>
                <a:cubicBezTo>
                  <a:pt x="31750" y="249693"/>
                  <a:pt x="84523" y="312442"/>
                  <a:pt x="159734" y="339245"/>
                </a:cubicBezTo>
                <a:lnTo>
                  <a:pt x="241294" y="353119"/>
                </a:lnTo>
                <a:lnTo>
                  <a:pt x="209556" y="353119"/>
                </a:lnTo>
                <a:cubicBezTo>
                  <a:pt x="209554" y="353119"/>
                  <a:pt x="209552" y="353120"/>
                  <a:pt x="209550" y="353120"/>
                </a:cubicBezTo>
                <a:cubicBezTo>
                  <a:pt x="209548" y="353120"/>
                  <a:pt x="209546" y="353119"/>
                  <a:pt x="209544" y="353119"/>
                </a:cubicBezTo>
                <a:lnTo>
                  <a:pt x="127984" y="339245"/>
                </a:lnTo>
                <a:cubicBezTo>
                  <a:pt x="52773" y="312442"/>
                  <a:pt x="0" y="249693"/>
                  <a:pt x="0" y="176560"/>
                </a:cubicBezTo>
                <a:cubicBezTo>
                  <a:pt x="0" y="79049"/>
                  <a:pt x="93819" y="0"/>
                  <a:pt x="209550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100"/>
          <p:cNvGrpSpPr/>
          <p:nvPr/>
        </p:nvGrpSpPr>
        <p:grpSpPr>
          <a:xfrm>
            <a:off x="9407520" y="1181160"/>
            <a:ext cx="90720" cy="217440"/>
            <a:chOff x="9407520" y="1181160"/>
            <a:chExt cx="90720" cy="217440"/>
          </a:xfrm>
        </p:grpSpPr>
        <p:sp>
          <p:nvSpPr>
            <p:cNvPr id="135" name="任意多边形 101"/>
            <p:cNvSpPr/>
            <p:nvPr/>
          </p:nvSpPr>
          <p:spPr>
            <a:xfrm>
              <a:off x="9407520" y="1181160"/>
              <a:ext cx="81720" cy="207360"/>
            </a:xfrm>
            <a:custGeom>
              <a:avLst/>
              <a:gdLst/>
              <a:ahLst/>
              <a:rect l="l" t="t" r="r" b="b"/>
              <a:pathLst>
                <a:path w="80962" h="207169">
                  <a:moveTo>
                    <a:pt x="80962" y="0"/>
                  </a:moveTo>
                  <a:lnTo>
                    <a:pt x="80962" y="164306"/>
                  </a:lnTo>
                  <a:cubicBezTo>
                    <a:pt x="18256" y="147637"/>
                    <a:pt x="7937" y="183356"/>
                    <a:pt x="0" y="207169"/>
                  </a:cubicBezTo>
                  <a:lnTo>
                    <a:pt x="0" y="207169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102"/>
            <p:cNvSpPr/>
            <p:nvPr/>
          </p:nvSpPr>
          <p:spPr>
            <a:xfrm rot="20634600">
              <a:off x="9428760" y="1344600"/>
              <a:ext cx="64440" cy="45720"/>
            </a:xfrm>
            <a:custGeom>
              <a:avLst/>
              <a:gdLst/>
              <a:ahLst/>
              <a:rect l="l" t="t" r="r" b="b"/>
              <a:pathLst>
                <a:path w="80962" h="47148">
                  <a:moveTo>
                    <a:pt x="80962" y="4285"/>
                  </a:moveTo>
                  <a:cubicBezTo>
                    <a:pt x="18256" y="-12384"/>
                    <a:pt x="7937" y="23335"/>
                    <a:pt x="0" y="47148"/>
                  </a:cubicBezTo>
                  <a:lnTo>
                    <a:pt x="0" y="47148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99"/>
          <p:cNvGrpSpPr/>
          <p:nvPr/>
        </p:nvGrpSpPr>
        <p:grpSpPr>
          <a:xfrm>
            <a:off x="9266400" y="1181160"/>
            <a:ext cx="88920" cy="217440"/>
            <a:chOff x="9266400" y="1181160"/>
            <a:chExt cx="88920" cy="217440"/>
          </a:xfrm>
        </p:grpSpPr>
        <p:sp>
          <p:nvSpPr>
            <p:cNvPr id="138" name="任意多边形 94"/>
            <p:cNvSpPr/>
            <p:nvPr/>
          </p:nvSpPr>
          <p:spPr>
            <a:xfrm>
              <a:off x="9266400" y="1181160"/>
              <a:ext cx="80280" cy="207360"/>
            </a:xfrm>
            <a:custGeom>
              <a:avLst/>
              <a:gdLst/>
              <a:ahLst/>
              <a:rect l="l" t="t" r="r" b="b"/>
              <a:pathLst>
                <a:path w="80962" h="207169">
                  <a:moveTo>
                    <a:pt x="80962" y="0"/>
                  </a:moveTo>
                  <a:lnTo>
                    <a:pt x="80962" y="164306"/>
                  </a:lnTo>
                  <a:cubicBezTo>
                    <a:pt x="18256" y="147637"/>
                    <a:pt x="7937" y="183356"/>
                    <a:pt x="0" y="207169"/>
                  </a:cubicBezTo>
                  <a:lnTo>
                    <a:pt x="0" y="207169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 95"/>
            <p:cNvSpPr/>
            <p:nvPr/>
          </p:nvSpPr>
          <p:spPr>
            <a:xfrm rot="20634600">
              <a:off x="9287280" y="1344960"/>
              <a:ext cx="63000" cy="45720"/>
            </a:xfrm>
            <a:custGeom>
              <a:avLst/>
              <a:gdLst/>
              <a:ahLst/>
              <a:rect l="l" t="t" r="r" b="b"/>
              <a:pathLst>
                <a:path w="80962" h="47148">
                  <a:moveTo>
                    <a:pt x="80962" y="4285"/>
                  </a:moveTo>
                  <a:cubicBezTo>
                    <a:pt x="18256" y="-12384"/>
                    <a:pt x="7937" y="23335"/>
                    <a:pt x="0" y="47148"/>
                  </a:cubicBezTo>
                  <a:lnTo>
                    <a:pt x="0" y="47148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82"/>
          <p:cNvGrpSpPr/>
          <p:nvPr/>
        </p:nvGrpSpPr>
        <p:grpSpPr>
          <a:xfrm>
            <a:off x="9078120" y="924480"/>
            <a:ext cx="195120" cy="78120"/>
            <a:chOff x="9078120" y="924480"/>
            <a:chExt cx="195120" cy="78120"/>
          </a:xfrm>
        </p:grpSpPr>
        <p:sp>
          <p:nvSpPr>
            <p:cNvPr id="141" name="等腰三角形 83"/>
            <p:cNvSpPr/>
            <p:nvPr/>
          </p:nvSpPr>
          <p:spPr>
            <a:xfrm flipV="1" rot="5727600">
              <a:off x="9145440" y="867960"/>
              <a:ext cx="60120" cy="190080"/>
            </a:xfrm>
            <a:prstGeom prst="triangle">
              <a:avLst>
                <a:gd name="adj" fmla="val 50000"/>
              </a:avLst>
            </a:prstGeom>
            <a:solidFill>
              <a:srgbClr val="f0c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84"/>
            <p:cNvSpPr/>
            <p:nvPr/>
          </p:nvSpPr>
          <p:spPr>
            <a:xfrm flipV="1" rot="5727600">
              <a:off x="9171000" y="862200"/>
              <a:ext cx="27720" cy="174240"/>
            </a:xfrm>
            <a:custGeom>
              <a:avLst/>
              <a:gdLst/>
              <a:ahLst/>
              <a:rect l="l" t="t" r="r" b="b"/>
              <a:pathLst>
                <a:path w="51437" h="228960">
                  <a:moveTo>
                    <a:pt x="51437" y="0"/>
                  </a:moveTo>
                  <a:lnTo>
                    <a:pt x="51437" y="228960"/>
                  </a:lnTo>
                  <a:lnTo>
                    <a:pt x="0" y="228960"/>
                  </a:lnTo>
                  <a:close/>
                </a:path>
              </a:pathLst>
            </a:custGeom>
            <a:solidFill>
              <a:srgbClr val="e9b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85"/>
          <p:cNvGrpSpPr/>
          <p:nvPr/>
        </p:nvGrpSpPr>
        <p:grpSpPr>
          <a:xfrm>
            <a:off x="9043920" y="850320"/>
            <a:ext cx="199800" cy="112320"/>
            <a:chOff x="9043920" y="850320"/>
            <a:chExt cx="199800" cy="112320"/>
          </a:xfrm>
        </p:grpSpPr>
        <p:sp>
          <p:nvSpPr>
            <p:cNvPr id="144" name="等腰三角形 86"/>
            <p:cNvSpPr/>
            <p:nvPr/>
          </p:nvSpPr>
          <p:spPr>
            <a:xfrm rot="17196600">
              <a:off x="9113400" y="811080"/>
              <a:ext cx="60480" cy="190440"/>
            </a:xfrm>
            <a:prstGeom prst="triangle">
              <a:avLst>
                <a:gd name="adj" fmla="val 50000"/>
              </a:avLst>
            </a:prstGeom>
            <a:solidFill>
              <a:srgbClr val="f0c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87"/>
            <p:cNvSpPr/>
            <p:nvPr/>
          </p:nvSpPr>
          <p:spPr>
            <a:xfrm rot="17196600">
              <a:off x="9133560" y="834840"/>
              <a:ext cx="27720" cy="174960"/>
            </a:xfrm>
            <a:custGeom>
              <a:avLst/>
              <a:gdLst/>
              <a:ahLst/>
              <a:rect l="l" t="t" r="r" b="b"/>
              <a:pathLst>
                <a:path w="51437" h="228960">
                  <a:moveTo>
                    <a:pt x="51437" y="0"/>
                  </a:moveTo>
                  <a:lnTo>
                    <a:pt x="51437" y="228960"/>
                  </a:lnTo>
                  <a:lnTo>
                    <a:pt x="0" y="228960"/>
                  </a:lnTo>
                  <a:close/>
                </a:path>
              </a:pathLst>
            </a:custGeom>
            <a:solidFill>
              <a:srgbClr val="e9b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椭圆 88"/>
          <p:cNvSpPr/>
          <p:nvPr/>
        </p:nvSpPr>
        <p:spPr>
          <a:xfrm>
            <a:off x="9553680" y="865080"/>
            <a:ext cx="46080" cy="4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89"/>
          <p:cNvSpPr/>
          <p:nvPr/>
        </p:nvSpPr>
        <p:spPr>
          <a:xfrm>
            <a:off x="9247320" y="744480"/>
            <a:ext cx="342720" cy="185760"/>
          </a:xfrm>
          <a:custGeom>
            <a:avLst/>
            <a:gdLst/>
            <a:ahLst/>
            <a:rect l="l" t="t" r="r" b="b"/>
            <a:pathLst>
              <a:path w="342900" h="185737">
                <a:moveTo>
                  <a:pt x="0" y="95250"/>
                </a:moveTo>
                <a:cubicBezTo>
                  <a:pt x="18256" y="39687"/>
                  <a:pt x="76995" y="793"/>
                  <a:pt x="233363" y="0"/>
                </a:cubicBezTo>
                <a:cubicBezTo>
                  <a:pt x="300831" y="5557"/>
                  <a:pt x="313532" y="42067"/>
                  <a:pt x="342900" y="123824"/>
                </a:cubicBezTo>
                <a:lnTo>
                  <a:pt x="323850" y="145256"/>
                </a:lnTo>
                <a:cubicBezTo>
                  <a:pt x="299244" y="124618"/>
                  <a:pt x="284162" y="87312"/>
                  <a:pt x="250031" y="83343"/>
                </a:cubicBezTo>
                <a:cubicBezTo>
                  <a:pt x="229394" y="136524"/>
                  <a:pt x="256381" y="151606"/>
                  <a:pt x="259556" y="185737"/>
                </a:cubicBezTo>
                <a:lnTo>
                  <a:pt x="0" y="95250"/>
                </a:lnTo>
                <a:close/>
              </a:path>
            </a:pathLst>
          </a:custGeom>
          <a:solidFill>
            <a:srgbClr val="fd0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任意多边形 90"/>
          <p:cNvSpPr/>
          <p:nvPr/>
        </p:nvSpPr>
        <p:spPr>
          <a:xfrm>
            <a:off x="9194760" y="860400"/>
            <a:ext cx="703440" cy="352440"/>
          </a:xfrm>
          <a:custGeom>
            <a:avLst/>
            <a:gdLst/>
            <a:ahLst/>
            <a:rect l="l" t="t" r="r" b="b"/>
            <a:pathLst>
              <a:path w="702936" h="352035">
                <a:moveTo>
                  <a:pt x="317173" y="76199"/>
                </a:moveTo>
                <a:cubicBezTo>
                  <a:pt x="376704" y="134937"/>
                  <a:pt x="417186" y="217486"/>
                  <a:pt x="495767" y="252412"/>
                </a:cubicBezTo>
                <a:cubicBezTo>
                  <a:pt x="560060" y="237331"/>
                  <a:pt x="583874" y="219868"/>
                  <a:pt x="652929" y="150018"/>
                </a:cubicBezTo>
                <a:cubicBezTo>
                  <a:pt x="656897" y="208755"/>
                  <a:pt x="668011" y="215106"/>
                  <a:pt x="629117" y="250031"/>
                </a:cubicBezTo>
                <a:cubicBezTo>
                  <a:pt x="653723" y="269875"/>
                  <a:pt x="685474" y="270668"/>
                  <a:pt x="702936" y="309562"/>
                </a:cubicBezTo>
                <a:cubicBezTo>
                  <a:pt x="640230" y="304799"/>
                  <a:pt x="634673" y="347662"/>
                  <a:pt x="514817" y="295274"/>
                </a:cubicBezTo>
                <a:cubicBezTo>
                  <a:pt x="423536" y="321467"/>
                  <a:pt x="298123" y="378222"/>
                  <a:pt x="155248" y="338137"/>
                </a:cubicBezTo>
                <a:cubicBezTo>
                  <a:pt x="12373" y="298052"/>
                  <a:pt x="-47952" y="138906"/>
                  <a:pt x="43329" y="11906"/>
                </a:cubicBezTo>
                <a:cubicBezTo>
                  <a:pt x="141754" y="-9526"/>
                  <a:pt x="197317" y="-9525"/>
                  <a:pt x="317173" y="76199"/>
                </a:cubicBezTo>
                <a:close/>
              </a:path>
            </a:pathLst>
          </a:custGeom>
          <a:solidFill>
            <a:srgbClr val="573e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任意多边形 91"/>
          <p:cNvSpPr/>
          <p:nvPr/>
        </p:nvSpPr>
        <p:spPr>
          <a:xfrm>
            <a:off x="9217080" y="838080"/>
            <a:ext cx="285840" cy="120600"/>
          </a:xfrm>
          <a:custGeom>
            <a:avLst/>
            <a:gdLst/>
            <a:ahLst/>
            <a:rect l="l" t="t" r="r" b="b"/>
            <a:pathLst>
              <a:path w="274126" h="120073">
                <a:moveTo>
                  <a:pt x="54768" y="0"/>
                </a:moveTo>
                <a:lnTo>
                  <a:pt x="68460" y="4734"/>
                </a:lnTo>
                <a:lnTo>
                  <a:pt x="82152" y="0"/>
                </a:lnTo>
                <a:lnTo>
                  <a:pt x="95844" y="4734"/>
                </a:lnTo>
                <a:lnTo>
                  <a:pt x="109536" y="0"/>
                </a:lnTo>
                <a:lnTo>
                  <a:pt x="123228" y="4734"/>
                </a:lnTo>
                <a:lnTo>
                  <a:pt x="136920" y="0"/>
                </a:lnTo>
                <a:lnTo>
                  <a:pt x="150612" y="4734"/>
                </a:lnTo>
                <a:lnTo>
                  <a:pt x="164304" y="0"/>
                </a:lnTo>
                <a:cubicBezTo>
                  <a:pt x="179428" y="0"/>
                  <a:pt x="191688" y="10235"/>
                  <a:pt x="191688" y="22860"/>
                </a:cubicBezTo>
                <a:lnTo>
                  <a:pt x="189945" y="26374"/>
                </a:lnTo>
                <a:lnTo>
                  <a:pt x="192579" y="27285"/>
                </a:lnTo>
                <a:lnTo>
                  <a:pt x="205377" y="22859"/>
                </a:lnTo>
                <a:cubicBezTo>
                  <a:pt x="220501" y="22859"/>
                  <a:pt x="232761" y="33094"/>
                  <a:pt x="232761" y="45719"/>
                </a:cubicBezTo>
                <a:lnTo>
                  <a:pt x="230279" y="50721"/>
                </a:lnTo>
                <a:lnTo>
                  <a:pt x="230974" y="50481"/>
                </a:lnTo>
                <a:cubicBezTo>
                  <a:pt x="246098" y="50481"/>
                  <a:pt x="258358" y="60716"/>
                  <a:pt x="258358" y="73341"/>
                </a:cubicBezTo>
                <a:lnTo>
                  <a:pt x="256229" y="77633"/>
                </a:lnTo>
                <a:lnTo>
                  <a:pt x="266106" y="81049"/>
                </a:lnTo>
                <a:cubicBezTo>
                  <a:pt x="271061" y="85186"/>
                  <a:pt x="274126" y="90901"/>
                  <a:pt x="274126" y="97213"/>
                </a:cubicBezTo>
                <a:cubicBezTo>
                  <a:pt x="274126" y="109838"/>
                  <a:pt x="261866" y="120073"/>
                  <a:pt x="246742" y="120073"/>
                </a:cubicBezTo>
                <a:cubicBezTo>
                  <a:pt x="231618" y="120073"/>
                  <a:pt x="219358" y="109838"/>
                  <a:pt x="219358" y="97213"/>
                </a:cubicBezTo>
                <a:lnTo>
                  <a:pt x="221488" y="92921"/>
                </a:lnTo>
                <a:lnTo>
                  <a:pt x="211611" y="89505"/>
                </a:lnTo>
                <a:lnTo>
                  <a:pt x="209041" y="84326"/>
                </a:lnTo>
                <a:lnTo>
                  <a:pt x="208362" y="85694"/>
                </a:lnTo>
                <a:cubicBezTo>
                  <a:pt x="203406" y="89831"/>
                  <a:pt x="196560" y="92390"/>
                  <a:pt x="188998" y="92390"/>
                </a:cubicBezTo>
                <a:cubicBezTo>
                  <a:pt x="181436" y="92390"/>
                  <a:pt x="174590" y="89831"/>
                  <a:pt x="169635" y="85694"/>
                </a:cubicBezTo>
                <a:lnTo>
                  <a:pt x="166762" y="79906"/>
                </a:lnTo>
                <a:lnTo>
                  <a:pt x="151792" y="85082"/>
                </a:lnTo>
                <a:cubicBezTo>
                  <a:pt x="144230" y="85082"/>
                  <a:pt x="137384" y="82523"/>
                  <a:pt x="132428" y="78386"/>
                </a:cubicBezTo>
                <a:lnTo>
                  <a:pt x="128995" y="71467"/>
                </a:lnTo>
                <a:lnTo>
                  <a:pt x="115487" y="76138"/>
                </a:lnTo>
                <a:cubicBezTo>
                  <a:pt x="100363" y="76138"/>
                  <a:pt x="88103" y="65903"/>
                  <a:pt x="88103" y="53278"/>
                </a:cubicBezTo>
                <a:lnTo>
                  <a:pt x="93862" y="41671"/>
                </a:lnTo>
                <a:lnTo>
                  <a:pt x="82152" y="45720"/>
                </a:lnTo>
                <a:lnTo>
                  <a:pt x="68460" y="40985"/>
                </a:lnTo>
                <a:lnTo>
                  <a:pt x="54768" y="45720"/>
                </a:lnTo>
                <a:lnTo>
                  <a:pt x="48287" y="43479"/>
                </a:lnTo>
                <a:lnTo>
                  <a:pt x="46747" y="46583"/>
                </a:lnTo>
                <a:cubicBezTo>
                  <a:pt x="41792" y="50720"/>
                  <a:pt x="34946" y="53279"/>
                  <a:pt x="27384" y="53279"/>
                </a:cubicBezTo>
                <a:cubicBezTo>
                  <a:pt x="12260" y="53279"/>
                  <a:pt x="0" y="43044"/>
                  <a:pt x="0" y="30419"/>
                </a:cubicBezTo>
                <a:cubicBezTo>
                  <a:pt x="0" y="17794"/>
                  <a:pt x="12260" y="7559"/>
                  <a:pt x="27384" y="7559"/>
                </a:cubicBezTo>
                <a:lnTo>
                  <a:pt x="33864" y="9800"/>
                </a:lnTo>
                <a:lnTo>
                  <a:pt x="35404" y="6696"/>
                </a:lnTo>
                <a:cubicBezTo>
                  <a:pt x="40360" y="2559"/>
                  <a:pt x="47206" y="0"/>
                  <a:pt x="54768" y="0"/>
                </a:cubicBezTo>
                <a:close/>
              </a:path>
            </a:pathLst>
          </a:custGeom>
          <a:solidFill>
            <a:srgbClr val="ffffff"/>
          </a:solidFill>
          <a:ln w="3240">
            <a:solidFill>
              <a:srgbClr val="9cc2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92"/>
          <p:cNvSpPr/>
          <p:nvPr/>
        </p:nvSpPr>
        <p:spPr>
          <a:xfrm>
            <a:off x="9350280" y="954000"/>
            <a:ext cx="273240" cy="233280"/>
          </a:xfrm>
          <a:custGeom>
            <a:avLst/>
            <a:gdLst/>
            <a:ahLst/>
            <a:rect l="l" t="t" r="r" b="b"/>
            <a:pathLst>
              <a:path w="273115" h="233980">
                <a:moveTo>
                  <a:pt x="18321" y="14905"/>
                </a:moveTo>
                <a:cubicBezTo>
                  <a:pt x="45309" y="-16051"/>
                  <a:pt x="128255" y="4192"/>
                  <a:pt x="168341" y="48244"/>
                </a:cubicBezTo>
                <a:cubicBezTo>
                  <a:pt x="208427" y="92296"/>
                  <a:pt x="209219" y="180798"/>
                  <a:pt x="273115" y="222074"/>
                </a:cubicBezTo>
                <a:cubicBezTo>
                  <a:pt x="200883" y="237156"/>
                  <a:pt x="195327" y="204611"/>
                  <a:pt x="156433" y="195880"/>
                </a:cubicBezTo>
                <a:lnTo>
                  <a:pt x="163577" y="231599"/>
                </a:lnTo>
                <a:lnTo>
                  <a:pt x="115952" y="188736"/>
                </a:lnTo>
                <a:lnTo>
                  <a:pt x="120715" y="233980"/>
                </a:lnTo>
                <a:cubicBezTo>
                  <a:pt x="-26526" y="169289"/>
                  <a:pt x="-8667" y="45861"/>
                  <a:pt x="18321" y="14905"/>
                </a:cubicBezTo>
                <a:close/>
              </a:path>
            </a:pathLst>
          </a:custGeom>
          <a:solidFill>
            <a:srgbClr val="8b65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93"/>
          <p:cNvSpPr/>
          <p:nvPr/>
        </p:nvSpPr>
        <p:spPr>
          <a:xfrm>
            <a:off x="9194760" y="981000"/>
            <a:ext cx="155520" cy="216000"/>
          </a:xfrm>
          <a:custGeom>
            <a:avLst/>
            <a:gdLst/>
            <a:ahLst/>
            <a:rect l="l" t="t" r="r" b="b"/>
            <a:pathLst>
              <a:path w="156046" h="215724">
                <a:moveTo>
                  <a:pt x="0" y="0"/>
                </a:moveTo>
                <a:lnTo>
                  <a:pt x="43328" y="23517"/>
                </a:lnTo>
                <a:cubicBezTo>
                  <a:pt x="86464" y="52659"/>
                  <a:pt x="120734" y="93927"/>
                  <a:pt x="141249" y="142429"/>
                </a:cubicBezTo>
                <a:lnTo>
                  <a:pt x="156046" y="215724"/>
                </a:lnTo>
                <a:lnTo>
                  <a:pt x="151841" y="214867"/>
                </a:lnTo>
                <a:cubicBezTo>
                  <a:pt x="80404" y="194825"/>
                  <a:pt x="29604" y="145017"/>
                  <a:pt x="8073" y="84345"/>
                </a:cubicBezTo>
                <a:close/>
              </a:path>
            </a:pathLst>
          </a:custGeom>
          <a:solidFill>
            <a:srgbClr val="8c0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146"/>
          <p:cNvSpPr/>
          <p:nvPr/>
        </p:nvSpPr>
        <p:spPr>
          <a:xfrm>
            <a:off x="9244080" y="920880"/>
            <a:ext cx="63360" cy="63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147"/>
          <p:cNvSpPr/>
          <p:nvPr/>
        </p:nvSpPr>
        <p:spPr>
          <a:xfrm>
            <a:off x="9258480" y="933480"/>
            <a:ext cx="34920" cy="363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148"/>
          <p:cNvSpPr/>
          <p:nvPr/>
        </p:nvSpPr>
        <p:spPr>
          <a:xfrm>
            <a:off x="9255240" y="947880"/>
            <a:ext cx="19080" cy="2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5"/>
          <p:cNvSpPr/>
          <p:nvPr/>
        </p:nvSpPr>
        <p:spPr>
          <a:xfrm>
            <a:off x="898560" y="2516040"/>
            <a:ext cx="4179960" cy="100080"/>
          </a:xfrm>
          <a:prstGeom prst="rect">
            <a:avLst/>
          </a:prstGeom>
          <a:solidFill>
            <a:srgbClr val="4db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6"/>
          <p:cNvSpPr/>
          <p:nvPr/>
        </p:nvSpPr>
        <p:spPr>
          <a:xfrm>
            <a:off x="898560" y="2606760"/>
            <a:ext cx="4179960" cy="2279520"/>
          </a:xfrm>
          <a:prstGeom prst="rect">
            <a:avLst/>
          </a:prstGeom>
          <a:solidFill>
            <a:srgbClr val="7dcd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5"/>
          <p:cNvSpPr/>
          <p:nvPr/>
        </p:nvSpPr>
        <p:spPr>
          <a:xfrm>
            <a:off x="2719440" y="3627360"/>
            <a:ext cx="703080" cy="1257480"/>
          </a:xfrm>
          <a:prstGeom prst="rect">
            <a:avLst/>
          </a:prstGeom>
          <a:solidFill>
            <a:srgbClr val="5b3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38"/>
          <p:cNvSpPr/>
          <p:nvPr/>
        </p:nvSpPr>
        <p:spPr>
          <a:xfrm>
            <a:off x="2784600" y="3659040"/>
            <a:ext cx="257040" cy="468360"/>
          </a:xfrm>
          <a:prstGeom prst="rect">
            <a:avLst/>
          </a:prstGeom>
          <a:solidFill>
            <a:srgbClr val="ffdf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9"/>
          <p:cNvSpPr/>
          <p:nvPr/>
        </p:nvSpPr>
        <p:spPr>
          <a:xfrm>
            <a:off x="3089160" y="3659040"/>
            <a:ext cx="257400" cy="468360"/>
          </a:xfrm>
          <a:prstGeom prst="rect">
            <a:avLst/>
          </a:prstGeom>
          <a:solidFill>
            <a:srgbClr val="ffdf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0"/>
          <p:cNvSpPr/>
          <p:nvPr/>
        </p:nvSpPr>
        <p:spPr>
          <a:xfrm>
            <a:off x="2784600" y="4344840"/>
            <a:ext cx="257040" cy="468360"/>
          </a:xfrm>
          <a:prstGeom prst="rect">
            <a:avLst/>
          </a:prstGeom>
          <a:solidFill>
            <a:srgbClr val="4a3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1"/>
          <p:cNvSpPr/>
          <p:nvPr/>
        </p:nvSpPr>
        <p:spPr>
          <a:xfrm>
            <a:off x="3089160" y="4344840"/>
            <a:ext cx="257400" cy="468360"/>
          </a:xfrm>
          <a:prstGeom prst="rect">
            <a:avLst/>
          </a:prstGeom>
          <a:solidFill>
            <a:srgbClr val="4a3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角三角形 42"/>
          <p:cNvSpPr/>
          <p:nvPr/>
        </p:nvSpPr>
        <p:spPr>
          <a:xfrm>
            <a:off x="2779560" y="4352760"/>
            <a:ext cx="257400" cy="468360"/>
          </a:xfrm>
          <a:prstGeom prst="rtTriangle">
            <a:avLst/>
          </a:prstGeom>
          <a:solidFill>
            <a:srgbClr val="3c28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角三角形 43"/>
          <p:cNvSpPr/>
          <p:nvPr/>
        </p:nvSpPr>
        <p:spPr>
          <a:xfrm>
            <a:off x="3083040" y="4352760"/>
            <a:ext cx="257040" cy="468360"/>
          </a:xfrm>
          <a:prstGeom prst="rtTriangle">
            <a:avLst/>
          </a:prstGeom>
          <a:solidFill>
            <a:srgbClr val="3c28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角三角形 44"/>
          <p:cNvSpPr/>
          <p:nvPr/>
        </p:nvSpPr>
        <p:spPr>
          <a:xfrm>
            <a:off x="2779560" y="3656160"/>
            <a:ext cx="257400" cy="468000"/>
          </a:xfrm>
          <a:prstGeom prst="rtTriangle">
            <a:avLst/>
          </a:prstGeom>
          <a:solidFill>
            <a:srgbClr val="dfc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角三角形 45"/>
          <p:cNvSpPr/>
          <p:nvPr/>
        </p:nvSpPr>
        <p:spPr>
          <a:xfrm>
            <a:off x="3083040" y="3665520"/>
            <a:ext cx="257040" cy="468360"/>
          </a:xfrm>
          <a:prstGeom prst="rtTriangle">
            <a:avLst/>
          </a:prstGeom>
          <a:solidFill>
            <a:srgbClr val="dfc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梯形 1"/>
          <p:cNvSpPr/>
          <p:nvPr/>
        </p:nvSpPr>
        <p:spPr>
          <a:xfrm flipV="1">
            <a:off x="752400" y="1622160"/>
            <a:ext cx="44784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061" y="21600"/>
                </a:lnTo>
                <a:lnTo>
                  <a:pt x="19539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任意多边形 12"/>
          <p:cNvSpPr/>
          <p:nvPr/>
        </p:nvSpPr>
        <p:spPr>
          <a:xfrm>
            <a:off x="1343160" y="1393920"/>
            <a:ext cx="245880" cy="390600"/>
          </a:xfrm>
          <a:custGeom>
            <a:avLst/>
            <a:gdLst/>
            <a:ahLst/>
            <a:rect l="l" t="t" r="r" b="b"/>
            <a:pathLst>
              <a:path w="195263" h="309563">
                <a:moveTo>
                  <a:pt x="0" y="0"/>
                </a:moveTo>
                <a:lnTo>
                  <a:pt x="195263" y="0"/>
                </a:lnTo>
                <a:lnTo>
                  <a:pt x="195263" y="100012"/>
                </a:lnTo>
                <a:lnTo>
                  <a:pt x="149568" y="100012"/>
                </a:lnTo>
                <a:lnTo>
                  <a:pt x="149568" y="309563"/>
                </a:lnTo>
                <a:lnTo>
                  <a:pt x="47625" y="309563"/>
                </a:lnTo>
                <a:lnTo>
                  <a:pt x="47625" y="100012"/>
                </a:lnTo>
                <a:lnTo>
                  <a:pt x="0" y="100012"/>
                </a:lnTo>
                <a:close/>
              </a:path>
            </a:pathLst>
          </a:custGeom>
          <a:solidFill>
            <a:srgbClr val="840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任意多边形 15"/>
          <p:cNvSpPr/>
          <p:nvPr/>
        </p:nvSpPr>
        <p:spPr>
          <a:xfrm flipH="1">
            <a:off x="1409040" y="1784520"/>
            <a:ext cx="190440" cy="210960"/>
          </a:xfrm>
          <a:custGeom>
            <a:avLst/>
            <a:gdLst/>
            <a:ahLst/>
            <a:rect l="l" t="t" r="r" b="b"/>
            <a:pathLst>
              <a:path w="151808" h="166687">
                <a:moveTo>
                  <a:pt x="151806" y="0"/>
                </a:moveTo>
                <a:lnTo>
                  <a:pt x="70545" y="0"/>
                </a:lnTo>
                <a:lnTo>
                  <a:pt x="43458" y="119062"/>
                </a:lnTo>
                <a:lnTo>
                  <a:pt x="11906" y="119062"/>
                </a:lnTo>
                <a:lnTo>
                  <a:pt x="0" y="166687"/>
                </a:lnTo>
                <a:lnTo>
                  <a:pt x="139902" y="166687"/>
                </a:lnTo>
                <a:lnTo>
                  <a:pt x="151808" y="119062"/>
                </a:lnTo>
                <a:lnTo>
                  <a:pt x="124719" y="119062"/>
                </a:lnTo>
                <a:close/>
              </a:path>
            </a:pathLst>
          </a:custGeom>
          <a:solidFill>
            <a:srgbClr val="cbed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任意多边形 16"/>
          <p:cNvSpPr/>
          <p:nvPr/>
        </p:nvSpPr>
        <p:spPr>
          <a:xfrm>
            <a:off x="1668600" y="1393920"/>
            <a:ext cx="245880" cy="390600"/>
          </a:xfrm>
          <a:custGeom>
            <a:avLst/>
            <a:gdLst/>
            <a:ahLst/>
            <a:rect l="l" t="t" r="r" b="b"/>
            <a:pathLst>
              <a:path w="195263" h="309563">
                <a:moveTo>
                  <a:pt x="0" y="0"/>
                </a:moveTo>
                <a:lnTo>
                  <a:pt x="195263" y="0"/>
                </a:lnTo>
                <a:lnTo>
                  <a:pt x="195263" y="100012"/>
                </a:lnTo>
                <a:lnTo>
                  <a:pt x="149568" y="100012"/>
                </a:lnTo>
                <a:lnTo>
                  <a:pt x="149568" y="309563"/>
                </a:lnTo>
                <a:lnTo>
                  <a:pt x="47625" y="309563"/>
                </a:lnTo>
                <a:lnTo>
                  <a:pt x="47625" y="100012"/>
                </a:lnTo>
                <a:lnTo>
                  <a:pt x="0" y="100012"/>
                </a:lnTo>
                <a:close/>
              </a:path>
            </a:pathLst>
          </a:custGeom>
          <a:solidFill>
            <a:srgbClr val="840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任意多边形 17"/>
          <p:cNvSpPr/>
          <p:nvPr/>
        </p:nvSpPr>
        <p:spPr>
          <a:xfrm flipH="1">
            <a:off x="1734480" y="1784520"/>
            <a:ext cx="191880" cy="210960"/>
          </a:xfrm>
          <a:custGeom>
            <a:avLst/>
            <a:gdLst/>
            <a:ahLst/>
            <a:rect l="l" t="t" r="r" b="b"/>
            <a:pathLst>
              <a:path w="151808" h="166687">
                <a:moveTo>
                  <a:pt x="151806" y="0"/>
                </a:moveTo>
                <a:lnTo>
                  <a:pt x="70545" y="0"/>
                </a:lnTo>
                <a:lnTo>
                  <a:pt x="43458" y="119062"/>
                </a:lnTo>
                <a:lnTo>
                  <a:pt x="11906" y="119062"/>
                </a:lnTo>
                <a:lnTo>
                  <a:pt x="0" y="166687"/>
                </a:lnTo>
                <a:lnTo>
                  <a:pt x="139902" y="166687"/>
                </a:lnTo>
                <a:lnTo>
                  <a:pt x="151808" y="119062"/>
                </a:lnTo>
                <a:lnTo>
                  <a:pt x="124719" y="119062"/>
                </a:lnTo>
                <a:close/>
              </a:path>
            </a:pathLst>
          </a:custGeom>
          <a:solidFill>
            <a:srgbClr val="cbed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任意多边形 20"/>
          <p:cNvSpPr/>
          <p:nvPr/>
        </p:nvSpPr>
        <p:spPr>
          <a:xfrm>
            <a:off x="752400" y="2073240"/>
            <a:ext cx="4478400" cy="463680"/>
          </a:xfrm>
          <a:custGeom>
            <a:avLst/>
            <a:gdLst/>
            <a:ahLst/>
            <a:rect l="l" t="t" r="r" b="b"/>
            <a:pathLst>
              <a:path w="3543300" h="328553">
                <a:moveTo>
                  <a:pt x="83421" y="149959"/>
                </a:moveTo>
                <a:cubicBezTo>
                  <a:pt x="163590" y="165834"/>
                  <a:pt x="292509" y="225763"/>
                  <a:pt x="452437" y="223778"/>
                </a:cubicBezTo>
                <a:cubicBezTo>
                  <a:pt x="612365" y="221793"/>
                  <a:pt x="747712" y="134877"/>
                  <a:pt x="1042987" y="138052"/>
                </a:cubicBezTo>
                <a:cubicBezTo>
                  <a:pt x="1338262" y="141227"/>
                  <a:pt x="1633537" y="252352"/>
                  <a:pt x="1900237" y="233302"/>
                </a:cubicBezTo>
                <a:cubicBezTo>
                  <a:pt x="2166937" y="214252"/>
                  <a:pt x="2351905" y="56296"/>
                  <a:pt x="2628899" y="33277"/>
                </a:cubicBezTo>
                <a:cubicBezTo>
                  <a:pt x="2905893" y="10258"/>
                  <a:pt x="3068586" y="-69910"/>
                  <a:pt x="3459879" y="149959"/>
                </a:cubicBezTo>
                <a:lnTo>
                  <a:pt x="3543300" y="328553"/>
                </a:lnTo>
                <a:lnTo>
                  <a:pt x="0" y="328553"/>
                </a:lnTo>
                <a:lnTo>
                  <a:pt x="83421" y="149959"/>
                </a:lnTo>
                <a:close/>
              </a:path>
            </a:pathLst>
          </a:custGeom>
          <a:solidFill>
            <a:srgbClr val="cbed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任意多边形 22"/>
          <p:cNvSpPr/>
          <p:nvPr/>
        </p:nvSpPr>
        <p:spPr>
          <a:xfrm>
            <a:off x="752400" y="2122560"/>
            <a:ext cx="4478400" cy="414360"/>
          </a:xfrm>
          <a:custGeom>
            <a:avLst/>
            <a:gdLst/>
            <a:ahLst/>
            <a:rect l="l" t="t" r="r" b="b"/>
            <a:pathLst>
              <a:path w="3543300" h="328553">
                <a:moveTo>
                  <a:pt x="83421" y="149959"/>
                </a:moveTo>
                <a:cubicBezTo>
                  <a:pt x="163590" y="165834"/>
                  <a:pt x="292509" y="225763"/>
                  <a:pt x="452437" y="223778"/>
                </a:cubicBezTo>
                <a:cubicBezTo>
                  <a:pt x="612365" y="221793"/>
                  <a:pt x="747712" y="134877"/>
                  <a:pt x="1042987" y="138052"/>
                </a:cubicBezTo>
                <a:cubicBezTo>
                  <a:pt x="1338262" y="141227"/>
                  <a:pt x="1633537" y="252352"/>
                  <a:pt x="1900237" y="233302"/>
                </a:cubicBezTo>
                <a:cubicBezTo>
                  <a:pt x="2166937" y="214252"/>
                  <a:pt x="2351905" y="56296"/>
                  <a:pt x="2628899" y="33277"/>
                </a:cubicBezTo>
                <a:cubicBezTo>
                  <a:pt x="2905893" y="10258"/>
                  <a:pt x="3068586" y="-69910"/>
                  <a:pt x="3459879" y="149959"/>
                </a:cubicBezTo>
                <a:lnTo>
                  <a:pt x="3543300" y="328553"/>
                </a:lnTo>
                <a:lnTo>
                  <a:pt x="0" y="328553"/>
                </a:lnTo>
                <a:lnTo>
                  <a:pt x="83421" y="149959"/>
                </a:lnTo>
                <a:close/>
              </a:path>
            </a:pathLst>
          </a:custGeom>
          <a:solidFill>
            <a:srgbClr val="840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3"/>
          <p:cNvSpPr/>
          <p:nvPr/>
        </p:nvSpPr>
        <p:spPr>
          <a:xfrm>
            <a:off x="1401840" y="3009960"/>
            <a:ext cx="102708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8"/>
          <p:cNvSpPr/>
          <p:nvPr/>
        </p:nvSpPr>
        <p:spPr>
          <a:xfrm>
            <a:off x="1498680" y="3098880"/>
            <a:ext cx="833400" cy="1278000"/>
          </a:xfrm>
          <a:prstGeom prst="rect">
            <a:avLst/>
          </a:prstGeom>
          <a:solidFill>
            <a:srgbClr val="ffdf5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1"/>
          <p:cNvSpPr/>
          <p:nvPr/>
        </p:nvSpPr>
        <p:spPr>
          <a:xfrm>
            <a:off x="3549600" y="3009960"/>
            <a:ext cx="102564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2"/>
          <p:cNvSpPr/>
          <p:nvPr/>
        </p:nvSpPr>
        <p:spPr>
          <a:xfrm>
            <a:off x="3645000" y="3098880"/>
            <a:ext cx="834840" cy="1278000"/>
          </a:xfrm>
          <a:prstGeom prst="rect">
            <a:avLst/>
          </a:prstGeom>
          <a:solidFill>
            <a:srgbClr val="ffdf5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任意多边形 21"/>
          <p:cNvSpPr/>
          <p:nvPr/>
        </p:nvSpPr>
        <p:spPr>
          <a:xfrm>
            <a:off x="668160" y="3397320"/>
            <a:ext cx="4642200" cy="210960"/>
          </a:xfrm>
          <a:custGeom>
            <a:avLst/>
            <a:gdLst/>
            <a:ahLst/>
            <a:rect l="l" t="t" r="r" b="b"/>
            <a:pathLst>
              <a:path w="3543300" h="178594">
                <a:moveTo>
                  <a:pt x="83421" y="0"/>
                </a:moveTo>
                <a:lnTo>
                  <a:pt x="3459879" y="0"/>
                </a:lnTo>
                <a:lnTo>
                  <a:pt x="3543300" y="178594"/>
                </a:lnTo>
                <a:lnTo>
                  <a:pt x="0" y="1785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任意多边形 151"/>
          <p:cNvSpPr/>
          <p:nvPr/>
        </p:nvSpPr>
        <p:spPr>
          <a:xfrm>
            <a:off x="5745240" y="1001880"/>
            <a:ext cx="1492200" cy="766440"/>
          </a:xfrm>
          <a:custGeom>
            <a:avLst/>
            <a:gdLst/>
            <a:ahLst/>
            <a:rect l="l" t="t" r="r" b="b"/>
            <a:pathLst>
              <a:path w="995993" h="511870">
                <a:moveTo>
                  <a:pt x="483709" y="0"/>
                </a:moveTo>
                <a:cubicBezTo>
                  <a:pt x="583067" y="0"/>
                  <a:pt x="668316" y="44465"/>
                  <a:pt x="704730" y="107835"/>
                </a:cubicBezTo>
                <a:lnTo>
                  <a:pt x="717410" y="154064"/>
                </a:lnTo>
                <a:lnTo>
                  <a:pt x="756122" y="151130"/>
                </a:lnTo>
                <a:cubicBezTo>
                  <a:pt x="888599" y="151130"/>
                  <a:pt x="995993" y="231884"/>
                  <a:pt x="995993" y="331500"/>
                </a:cubicBezTo>
                <a:cubicBezTo>
                  <a:pt x="995993" y="431116"/>
                  <a:pt x="888599" y="511870"/>
                  <a:pt x="756122" y="511870"/>
                </a:cubicBezTo>
                <a:lnTo>
                  <a:pt x="723579" y="509403"/>
                </a:lnTo>
                <a:lnTo>
                  <a:pt x="723579" y="511869"/>
                </a:lnTo>
                <a:lnTo>
                  <a:pt x="209556" y="511869"/>
                </a:lnTo>
                <a:cubicBezTo>
                  <a:pt x="209554" y="511869"/>
                  <a:pt x="209552" y="511870"/>
                  <a:pt x="209550" y="511870"/>
                </a:cubicBezTo>
                <a:cubicBezTo>
                  <a:pt x="209548" y="511870"/>
                  <a:pt x="209546" y="511869"/>
                  <a:pt x="209544" y="511869"/>
                </a:cubicBezTo>
                <a:lnTo>
                  <a:pt x="127984" y="497995"/>
                </a:lnTo>
                <a:cubicBezTo>
                  <a:pt x="52773" y="471192"/>
                  <a:pt x="0" y="408443"/>
                  <a:pt x="0" y="335310"/>
                </a:cubicBezTo>
                <a:cubicBezTo>
                  <a:pt x="0" y="237799"/>
                  <a:pt x="93819" y="158750"/>
                  <a:pt x="209550" y="158750"/>
                </a:cubicBezTo>
                <a:lnTo>
                  <a:pt x="246977" y="165117"/>
                </a:lnTo>
                <a:lnTo>
                  <a:pt x="262689" y="107835"/>
                </a:lnTo>
                <a:cubicBezTo>
                  <a:pt x="299103" y="44465"/>
                  <a:pt x="384352" y="0"/>
                  <a:pt x="48370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任意多边形 152"/>
          <p:cNvSpPr/>
          <p:nvPr/>
        </p:nvSpPr>
        <p:spPr>
          <a:xfrm>
            <a:off x="6006960" y="1346040"/>
            <a:ext cx="1177920" cy="420840"/>
          </a:xfrm>
          <a:custGeom>
            <a:avLst/>
            <a:gdLst/>
            <a:ahLst/>
            <a:rect l="l" t="t" r="r" b="b"/>
            <a:pathLst>
              <a:path w="786450" h="280526">
                <a:moveTo>
                  <a:pt x="482621" y="277563"/>
                </a:moveTo>
                <a:lnTo>
                  <a:pt x="514036" y="280423"/>
                </a:lnTo>
                <a:lnTo>
                  <a:pt x="514036" y="280525"/>
                </a:lnTo>
                <a:lnTo>
                  <a:pt x="13" y="280525"/>
                </a:lnTo>
                <a:cubicBezTo>
                  <a:pt x="11" y="280525"/>
                  <a:pt x="9" y="280526"/>
                  <a:pt x="7" y="280526"/>
                </a:cubicBezTo>
                <a:cubicBezTo>
                  <a:pt x="5" y="280526"/>
                  <a:pt x="3" y="280525"/>
                  <a:pt x="1" y="280525"/>
                </a:cubicBezTo>
                <a:lnTo>
                  <a:pt x="0" y="280525"/>
                </a:lnTo>
                <a:lnTo>
                  <a:pt x="482621" y="280525"/>
                </a:lnTo>
                <a:close/>
                <a:moveTo>
                  <a:pt x="740748" y="0"/>
                </a:moveTo>
                <a:lnTo>
                  <a:pt x="767600" y="29948"/>
                </a:lnTo>
                <a:cubicBezTo>
                  <a:pt x="779738" y="51527"/>
                  <a:pt x="786450" y="75252"/>
                  <a:pt x="786450" y="100156"/>
                </a:cubicBezTo>
                <a:cubicBezTo>
                  <a:pt x="786450" y="199772"/>
                  <a:pt x="679056" y="280526"/>
                  <a:pt x="546579" y="280526"/>
                </a:cubicBezTo>
                <a:lnTo>
                  <a:pt x="529438" y="279227"/>
                </a:lnTo>
                <a:lnTo>
                  <a:pt x="563507" y="276125"/>
                </a:lnTo>
                <a:cubicBezTo>
                  <a:pt x="672812" y="255926"/>
                  <a:pt x="755035" y="168589"/>
                  <a:pt x="755035" y="63907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任意多边形 153"/>
          <p:cNvSpPr/>
          <p:nvPr/>
        </p:nvSpPr>
        <p:spPr>
          <a:xfrm>
            <a:off x="6161040" y="1031760"/>
            <a:ext cx="376200" cy="247680"/>
          </a:xfrm>
          <a:custGeom>
            <a:avLst/>
            <a:gdLst/>
            <a:ahLst/>
            <a:rect l="l" t="t" r="r" b="b"/>
            <a:pathLst>
              <a:path w="251191" h="165117">
                <a:moveTo>
                  <a:pt x="235316" y="0"/>
                </a:moveTo>
                <a:lnTo>
                  <a:pt x="251191" y="1767"/>
                </a:lnTo>
                <a:lnTo>
                  <a:pt x="195736" y="7938"/>
                </a:lnTo>
                <a:cubicBezTo>
                  <a:pt x="128137" y="23414"/>
                  <a:pt x="73357" y="60308"/>
                  <a:pt x="46046" y="107835"/>
                </a:cubicBezTo>
                <a:lnTo>
                  <a:pt x="30334" y="165117"/>
                </a:lnTo>
                <a:lnTo>
                  <a:pt x="0" y="159957"/>
                </a:lnTo>
                <a:lnTo>
                  <a:pt x="14296" y="107835"/>
                </a:lnTo>
                <a:cubicBezTo>
                  <a:pt x="50710" y="44465"/>
                  <a:pt x="135959" y="0"/>
                  <a:pt x="235316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任意多边形 154"/>
          <p:cNvSpPr/>
          <p:nvPr/>
        </p:nvSpPr>
        <p:spPr>
          <a:xfrm>
            <a:off x="5791320" y="1279440"/>
            <a:ext cx="274680" cy="447840"/>
          </a:xfrm>
          <a:custGeom>
            <a:avLst/>
            <a:gdLst/>
            <a:ahLst/>
            <a:rect l="l" t="t" r="r" b="b"/>
            <a:pathLst>
              <a:path w="241294" h="353120">
                <a:moveTo>
                  <a:pt x="209550" y="0"/>
                </a:moveTo>
                <a:lnTo>
                  <a:pt x="225425" y="2701"/>
                </a:lnTo>
                <a:lnTo>
                  <a:pt x="159734" y="13875"/>
                </a:lnTo>
                <a:cubicBezTo>
                  <a:pt x="84523" y="40679"/>
                  <a:pt x="31750" y="103427"/>
                  <a:pt x="31750" y="176560"/>
                </a:cubicBezTo>
                <a:cubicBezTo>
                  <a:pt x="31750" y="249693"/>
                  <a:pt x="84523" y="312442"/>
                  <a:pt x="159734" y="339245"/>
                </a:cubicBezTo>
                <a:lnTo>
                  <a:pt x="241294" y="353119"/>
                </a:lnTo>
                <a:lnTo>
                  <a:pt x="209556" y="353119"/>
                </a:lnTo>
                <a:cubicBezTo>
                  <a:pt x="209554" y="353119"/>
                  <a:pt x="209552" y="353120"/>
                  <a:pt x="209550" y="353120"/>
                </a:cubicBezTo>
                <a:cubicBezTo>
                  <a:pt x="209548" y="353120"/>
                  <a:pt x="209546" y="353119"/>
                  <a:pt x="209544" y="353119"/>
                </a:cubicBezTo>
                <a:lnTo>
                  <a:pt x="127984" y="339245"/>
                </a:lnTo>
                <a:cubicBezTo>
                  <a:pt x="52773" y="312442"/>
                  <a:pt x="0" y="249693"/>
                  <a:pt x="0" y="176560"/>
                </a:cubicBezTo>
                <a:cubicBezTo>
                  <a:pt x="0" y="79049"/>
                  <a:pt x="93819" y="0"/>
                  <a:pt x="209550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156"/>
          <p:cNvSpPr/>
          <p:nvPr/>
        </p:nvSpPr>
        <p:spPr>
          <a:xfrm>
            <a:off x="10014120" y="-22320"/>
            <a:ext cx="1981080" cy="1017720"/>
          </a:xfrm>
          <a:custGeom>
            <a:avLst/>
            <a:gdLst/>
            <a:ahLst/>
            <a:rect l="l" t="t" r="r" b="b"/>
            <a:pathLst>
              <a:path w="995993" h="511870">
                <a:moveTo>
                  <a:pt x="483709" y="0"/>
                </a:moveTo>
                <a:cubicBezTo>
                  <a:pt x="583067" y="0"/>
                  <a:pt x="668316" y="44465"/>
                  <a:pt x="704730" y="107835"/>
                </a:cubicBezTo>
                <a:lnTo>
                  <a:pt x="717410" y="154064"/>
                </a:lnTo>
                <a:lnTo>
                  <a:pt x="756122" y="151130"/>
                </a:lnTo>
                <a:cubicBezTo>
                  <a:pt x="888599" y="151130"/>
                  <a:pt x="995993" y="231884"/>
                  <a:pt x="995993" y="331500"/>
                </a:cubicBezTo>
                <a:cubicBezTo>
                  <a:pt x="995993" y="431116"/>
                  <a:pt x="888599" y="511870"/>
                  <a:pt x="756122" y="511870"/>
                </a:cubicBezTo>
                <a:lnTo>
                  <a:pt x="723579" y="509403"/>
                </a:lnTo>
                <a:lnTo>
                  <a:pt x="723579" y="511869"/>
                </a:lnTo>
                <a:lnTo>
                  <a:pt x="209556" y="511869"/>
                </a:lnTo>
                <a:cubicBezTo>
                  <a:pt x="209554" y="511869"/>
                  <a:pt x="209552" y="511870"/>
                  <a:pt x="209550" y="511870"/>
                </a:cubicBezTo>
                <a:cubicBezTo>
                  <a:pt x="209548" y="511870"/>
                  <a:pt x="209546" y="511869"/>
                  <a:pt x="209544" y="511869"/>
                </a:cubicBezTo>
                <a:lnTo>
                  <a:pt x="127984" y="497995"/>
                </a:lnTo>
                <a:cubicBezTo>
                  <a:pt x="52773" y="471192"/>
                  <a:pt x="0" y="408443"/>
                  <a:pt x="0" y="335310"/>
                </a:cubicBezTo>
                <a:cubicBezTo>
                  <a:pt x="0" y="237799"/>
                  <a:pt x="93819" y="158750"/>
                  <a:pt x="209550" y="158750"/>
                </a:cubicBezTo>
                <a:lnTo>
                  <a:pt x="246977" y="165117"/>
                </a:lnTo>
                <a:lnTo>
                  <a:pt x="262689" y="107835"/>
                </a:lnTo>
                <a:cubicBezTo>
                  <a:pt x="299103" y="44465"/>
                  <a:pt x="384352" y="0"/>
                  <a:pt x="48370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任意多边形 157"/>
          <p:cNvSpPr/>
          <p:nvPr/>
        </p:nvSpPr>
        <p:spPr>
          <a:xfrm>
            <a:off x="10361520" y="433440"/>
            <a:ext cx="1565280" cy="557280"/>
          </a:xfrm>
          <a:custGeom>
            <a:avLst/>
            <a:gdLst/>
            <a:ahLst/>
            <a:rect l="l" t="t" r="r" b="b"/>
            <a:pathLst>
              <a:path w="786450" h="280526">
                <a:moveTo>
                  <a:pt x="482621" y="277563"/>
                </a:moveTo>
                <a:lnTo>
                  <a:pt x="514036" y="280423"/>
                </a:lnTo>
                <a:lnTo>
                  <a:pt x="514036" y="280525"/>
                </a:lnTo>
                <a:lnTo>
                  <a:pt x="13" y="280525"/>
                </a:lnTo>
                <a:cubicBezTo>
                  <a:pt x="11" y="280525"/>
                  <a:pt x="9" y="280526"/>
                  <a:pt x="7" y="280526"/>
                </a:cubicBezTo>
                <a:cubicBezTo>
                  <a:pt x="5" y="280526"/>
                  <a:pt x="3" y="280525"/>
                  <a:pt x="1" y="280525"/>
                </a:cubicBezTo>
                <a:lnTo>
                  <a:pt x="0" y="280525"/>
                </a:lnTo>
                <a:lnTo>
                  <a:pt x="482621" y="280525"/>
                </a:lnTo>
                <a:close/>
                <a:moveTo>
                  <a:pt x="740748" y="0"/>
                </a:moveTo>
                <a:lnTo>
                  <a:pt x="767600" y="29948"/>
                </a:lnTo>
                <a:cubicBezTo>
                  <a:pt x="779738" y="51527"/>
                  <a:pt x="786450" y="75252"/>
                  <a:pt x="786450" y="100156"/>
                </a:cubicBezTo>
                <a:cubicBezTo>
                  <a:pt x="786450" y="199772"/>
                  <a:pt x="679056" y="280526"/>
                  <a:pt x="546579" y="280526"/>
                </a:cubicBezTo>
                <a:lnTo>
                  <a:pt x="529438" y="279227"/>
                </a:lnTo>
                <a:lnTo>
                  <a:pt x="563507" y="276125"/>
                </a:lnTo>
                <a:cubicBezTo>
                  <a:pt x="672812" y="255926"/>
                  <a:pt x="755035" y="168589"/>
                  <a:pt x="755035" y="63907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158"/>
          <p:cNvSpPr/>
          <p:nvPr/>
        </p:nvSpPr>
        <p:spPr>
          <a:xfrm>
            <a:off x="10566360" y="15840"/>
            <a:ext cx="500040" cy="328680"/>
          </a:xfrm>
          <a:custGeom>
            <a:avLst/>
            <a:gdLst/>
            <a:ahLst/>
            <a:rect l="l" t="t" r="r" b="b"/>
            <a:pathLst>
              <a:path w="251191" h="165117">
                <a:moveTo>
                  <a:pt x="235316" y="0"/>
                </a:moveTo>
                <a:lnTo>
                  <a:pt x="251191" y="1767"/>
                </a:lnTo>
                <a:lnTo>
                  <a:pt x="195736" y="7938"/>
                </a:lnTo>
                <a:cubicBezTo>
                  <a:pt x="128137" y="23414"/>
                  <a:pt x="73357" y="60308"/>
                  <a:pt x="46046" y="107835"/>
                </a:cubicBezTo>
                <a:lnTo>
                  <a:pt x="30334" y="165117"/>
                </a:lnTo>
                <a:lnTo>
                  <a:pt x="0" y="159957"/>
                </a:lnTo>
                <a:lnTo>
                  <a:pt x="14296" y="107835"/>
                </a:lnTo>
                <a:cubicBezTo>
                  <a:pt x="50710" y="44465"/>
                  <a:pt x="135959" y="0"/>
                  <a:pt x="235316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159"/>
          <p:cNvSpPr/>
          <p:nvPr/>
        </p:nvSpPr>
        <p:spPr>
          <a:xfrm>
            <a:off x="10076040" y="344520"/>
            <a:ext cx="363240" cy="595440"/>
          </a:xfrm>
          <a:custGeom>
            <a:avLst/>
            <a:gdLst/>
            <a:ahLst/>
            <a:rect l="l" t="t" r="r" b="b"/>
            <a:pathLst>
              <a:path w="241294" h="353120">
                <a:moveTo>
                  <a:pt x="209550" y="0"/>
                </a:moveTo>
                <a:lnTo>
                  <a:pt x="225425" y="2701"/>
                </a:lnTo>
                <a:lnTo>
                  <a:pt x="159734" y="13875"/>
                </a:lnTo>
                <a:cubicBezTo>
                  <a:pt x="84523" y="40679"/>
                  <a:pt x="31750" y="103427"/>
                  <a:pt x="31750" y="176560"/>
                </a:cubicBezTo>
                <a:cubicBezTo>
                  <a:pt x="31750" y="249693"/>
                  <a:pt x="84523" y="312442"/>
                  <a:pt x="159734" y="339245"/>
                </a:cubicBezTo>
                <a:lnTo>
                  <a:pt x="241294" y="353119"/>
                </a:lnTo>
                <a:lnTo>
                  <a:pt x="209556" y="353119"/>
                </a:lnTo>
                <a:cubicBezTo>
                  <a:pt x="209554" y="353119"/>
                  <a:pt x="209552" y="353120"/>
                  <a:pt x="209550" y="353120"/>
                </a:cubicBezTo>
                <a:cubicBezTo>
                  <a:pt x="209548" y="353120"/>
                  <a:pt x="209546" y="353119"/>
                  <a:pt x="209544" y="353119"/>
                </a:cubicBezTo>
                <a:lnTo>
                  <a:pt x="127984" y="339245"/>
                </a:lnTo>
                <a:cubicBezTo>
                  <a:pt x="52773" y="312442"/>
                  <a:pt x="0" y="249693"/>
                  <a:pt x="0" y="176560"/>
                </a:cubicBezTo>
                <a:cubicBezTo>
                  <a:pt x="0" y="79049"/>
                  <a:pt x="93819" y="0"/>
                  <a:pt x="209550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3"/>
          <p:cNvSpPr/>
          <p:nvPr/>
        </p:nvSpPr>
        <p:spPr>
          <a:xfrm>
            <a:off x="5877000" y="1865160"/>
            <a:ext cx="260280" cy="26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160"/>
          <p:cNvSpPr/>
          <p:nvPr/>
        </p:nvSpPr>
        <p:spPr>
          <a:xfrm>
            <a:off x="6051600" y="224460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61"/>
          <p:cNvSpPr/>
          <p:nvPr/>
        </p:nvSpPr>
        <p:spPr>
          <a:xfrm>
            <a:off x="6153120" y="1989000"/>
            <a:ext cx="18900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62"/>
          <p:cNvSpPr/>
          <p:nvPr/>
        </p:nvSpPr>
        <p:spPr>
          <a:xfrm>
            <a:off x="6442200" y="1949400"/>
            <a:ext cx="260280" cy="260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163"/>
          <p:cNvSpPr/>
          <p:nvPr/>
        </p:nvSpPr>
        <p:spPr>
          <a:xfrm>
            <a:off x="6327720" y="2259000"/>
            <a:ext cx="168480" cy="16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164"/>
          <p:cNvSpPr/>
          <p:nvPr/>
        </p:nvSpPr>
        <p:spPr>
          <a:xfrm>
            <a:off x="6734160" y="1900080"/>
            <a:ext cx="260280" cy="26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165"/>
          <p:cNvSpPr/>
          <p:nvPr/>
        </p:nvSpPr>
        <p:spPr>
          <a:xfrm>
            <a:off x="6512040" y="2370240"/>
            <a:ext cx="260280" cy="260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166"/>
          <p:cNvSpPr/>
          <p:nvPr/>
        </p:nvSpPr>
        <p:spPr>
          <a:xfrm>
            <a:off x="6237360" y="2523960"/>
            <a:ext cx="158760" cy="15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167"/>
          <p:cNvSpPr/>
          <p:nvPr/>
        </p:nvSpPr>
        <p:spPr>
          <a:xfrm>
            <a:off x="6686640" y="2200320"/>
            <a:ext cx="166680" cy="16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68"/>
          <p:cNvSpPr/>
          <p:nvPr/>
        </p:nvSpPr>
        <p:spPr>
          <a:xfrm>
            <a:off x="10434600" y="1101600"/>
            <a:ext cx="260280" cy="26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169"/>
          <p:cNvSpPr/>
          <p:nvPr/>
        </p:nvSpPr>
        <p:spPr>
          <a:xfrm>
            <a:off x="10609200" y="14810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70"/>
          <p:cNvSpPr/>
          <p:nvPr/>
        </p:nvSpPr>
        <p:spPr>
          <a:xfrm>
            <a:off x="10712520" y="1227240"/>
            <a:ext cx="189000" cy="18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171"/>
          <p:cNvSpPr/>
          <p:nvPr/>
        </p:nvSpPr>
        <p:spPr>
          <a:xfrm>
            <a:off x="11001240" y="1187280"/>
            <a:ext cx="260640" cy="26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72"/>
          <p:cNvSpPr/>
          <p:nvPr/>
        </p:nvSpPr>
        <p:spPr>
          <a:xfrm>
            <a:off x="10887120" y="1495440"/>
            <a:ext cx="168120" cy="168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173"/>
          <p:cNvSpPr/>
          <p:nvPr/>
        </p:nvSpPr>
        <p:spPr>
          <a:xfrm>
            <a:off x="11291760" y="1136520"/>
            <a:ext cx="260640" cy="26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174"/>
          <p:cNvSpPr/>
          <p:nvPr/>
        </p:nvSpPr>
        <p:spPr>
          <a:xfrm>
            <a:off x="11071080" y="1606680"/>
            <a:ext cx="260640" cy="260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175"/>
          <p:cNvSpPr/>
          <p:nvPr/>
        </p:nvSpPr>
        <p:spPr>
          <a:xfrm>
            <a:off x="10796760" y="1762200"/>
            <a:ext cx="156960" cy="156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176"/>
          <p:cNvSpPr/>
          <p:nvPr/>
        </p:nvSpPr>
        <p:spPr>
          <a:xfrm>
            <a:off x="11244240" y="1436760"/>
            <a:ext cx="166680" cy="16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27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任意多边形 177"/>
          <p:cNvSpPr/>
          <p:nvPr/>
        </p:nvSpPr>
        <p:spPr>
          <a:xfrm>
            <a:off x="5918040" y="380880"/>
            <a:ext cx="473400" cy="465120"/>
          </a:xfrm>
          <a:custGeom>
            <a:avLst/>
            <a:gdLst/>
            <a:ahLst/>
            <a:rect l="l" t="t" r="r" b="b"/>
            <a:pathLst>
              <a:path w="473031" h="464276">
                <a:moveTo>
                  <a:pt x="163455" y="0"/>
                </a:moveTo>
                <a:cubicBezTo>
                  <a:pt x="224838" y="40482"/>
                  <a:pt x="302892" y="66676"/>
                  <a:pt x="407137" y="38101"/>
                </a:cubicBezTo>
                <a:lnTo>
                  <a:pt x="447618" y="151607"/>
                </a:lnTo>
                <a:lnTo>
                  <a:pt x="446671" y="151693"/>
                </a:lnTo>
                <a:cubicBezTo>
                  <a:pt x="509462" y="324917"/>
                  <a:pt x="448428" y="452897"/>
                  <a:pt x="385013" y="464196"/>
                </a:cubicBezTo>
                <a:cubicBezTo>
                  <a:pt x="244677" y="466455"/>
                  <a:pt x="258133" y="420462"/>
                  <a:pt x="248950" y="395523"/>
                </a:cubicBezTo>
                <a:cubicBezTo>
                  <a:pt x="248950" y="350808"/>
                  <a:pt x="305176" y="319812"/>
                  <a:pt x="329913" y="314560"/>
                </a:cubicBezTo>
                <a:cubicBezTo>
                  <a:pt x="354650" y="309308"/>
                  <a:pt x="385079" y="334951"/>
                  <a:pt x="397370" y="364009"/>
                </a:cubicBezTo>
                <a:cubicBezTo>
                  <a:pt x="405786" y="337867"/>
                  <a:pt x="472257" y="288931"/>
                  <a:pt x="418510" y="152947"/>
                </a:cubicBezTo>
                <a:cubicBezTo>
                  <a:pt x="371955" y="155180"/>
                  <a:pt x="293139" y="155393"/>
                  <a:pt x="239190" y="133892"/>
                </a:cubicBezTo>
                <a:lnTo>
                  <a:pt x="195859" y="113697"/>
                </a:lnTo>
                <a:cubicBezTo>
                  <a:pt x="204201" y="178579"/>
                  <a:pt x="201443" y="391042"/>
                  <a:pt x="93975" y="375548"/>
                </a:cubicBezTo>
                <a:cubicBezTo>
                  <a:pt x="-13493" y="360054"/>
                  <a:pt x="-23340" y="246483"/>
                  <a:pt x="36825" y="206477"/>
                </a:cubicBezTo>
                <a:cubicBezTo>
                  <a:pt x="96990" y="166471"/>
                  <a:pt x="121337" y="216972"/>
                  <a:pt x="140644" y="235528"/>
                </a:cubicBezTo>
                <a:cubicBezTo>
                  <a:pt x="160527" y="233590"/>
                  <a:pt x="166121" y="262606"/>
                  <a:pt x="171717" y="108267"/>
                </a:cubicBezTo>
                <a:lnTo>
                  <a:pt x="163455" y="0"/>
                </a:lnTo>
                <a:close/>
              </a:path>
            </a:pathLst>
          </a:custGeom>
          <a:solidFill>
            <a:srgbClr val="005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任意多边形 178"/>
          <p:cNvSpPr/>
          <p:nvPr/>
        </p:nvSpPr>
        <p:spPr>
          <a:xfrm>
            <a:off x="8610480" y="800280"/>
            <a:ext cx="255600" cy="250560"/>
          </a:xfrm>
          <a:custGeom>
            <a:avLst/>
            <a:gdLst/>
            <a:ahLst/>
            <a:rect l="l" t="t" r="r" b="b"/>
            <a:pathLst>
              <a:path w="473031" h="464276">
                <a:moveTo>
                  <a:pt x="163455" y="0"/>
                </a:moveTo>
                <a:cubicBezTo>
                  <a:pt x="224838" y="40482"/>
                  <a:pt x="302892" y="66676"/>
                  <a:pt x="407137" y="38101"/>
                </a:cubicBezTo>
                <a:lnTo>
                  <a:pt x="447618" y="151607"/>
                </a:lnTo>
                <a:lnTo>
                  <a:pt x="446671" y="151693"/>
                </a:lnTo>
                <a:cubicBezTo>
                  <a:pt x="509462" y="324917"/>
                  <a:pt x="448428" y="452897"/>
                  <a:pt x="385013" y="464196"/>
                </a:cubicBezTo>
                <a:cubicBezTo>
                  <a:pt x="244677" y="466455"/>
                  <a:pt x="258133" y="420462"/>
                  <a:pt x="248950" y="395523"/>
                </a:cubicBezTo>
                <a:cubicBezTo>
                  <a:pt x="248950" y="350808"/>
                  <a:pt x="305176" y="319812"/>
                  <a:pt x="329913" y="314560"/>
                </a:cubicBezTo>
                <a:cubicBezTo>
                  <a:pt x="354650" y="309308"/>
                  <a:pt x="385079" y="334951"/>
                  <a:pt x="397370" y="364009"/>
                </a:cubicBezTo>
                <a:cubicBezTo>
                  <a:pt x="405786" y="337867"/>
                  <a:pt x="472257" y="288931"/>
                  <a:pt x="418510" y="152947"/>
                </a:cubicBezTo>
                <a:cubicBezTo>
                  <a:pt x="371955" y="155180"/>
                  <a:pt x="293139" y="155393"/>
                  <a:pt x="239190" y="133892"/>
                </a:cubicBezTo>
                <a:lnTo>
                  <a:pt x="195859" y="113697"/>
                </a:lnTo>
                <a:cubicBezTo>
                  <a:pt x="204201" y="178579"/>
                  <a:pt x="201443" y="391042"/>
                  <a:pt x="93975" y="375548"/>
                </a:cubicBezTo>
                <a:cubicBezTo>
                  <a:pt x="-13493" y="360054"/>
                  <a:pt x="-23340" y="246483"/>
                  <a:pt x="36825" y="206477"/>
                </a:cubicBezTo>
                <a:cubicBezTo>
                  <a:pt x="96990" y="166471"/>
                  <a:pt x="121337" y="216972"/>
                  <a:pt x="140644" y="235528"/>
                </a:cubicBezTo>
                <a:cubicBezTo>
                  <a:pt x="160527" y="233590"/>
                  <a:pt x="166121" y="262606"/>
                  <a:pt x="171717" y="108267"/>
                </a:cubicBezTo>
                <a:lnTo>
                  <a:pt x="163455" y="0"/>
                </a:lnTo>
                <a:close/>
              </a:path>
            </a:pathLst>
          </a:custGeom>
          <a:solidFill>
            <a:srgbClr val="02a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任意多边形 179"/>
          <p:cNvSpPr/>
          <p:nvPr/>
        </p:nvSpPr>
        <p:spPr>
          <a:xfrm>
            <a:off x="7597800" y="473040"/>
            <a:ext cx="328680" cy="322200"/>
          </a:xfrm>
          <a:custGeom>
            <a:avLst/>
            <a:gdLst/>
            <a:ahLst/>
            <a:rect l="l" t="t" r="r" b="b"/>
            <a:pathLst>
              <a:path w="473031" h="464276">
                <a:moveTo>
                  <a:pt x="163455" y="0"/>
                </a:moveTo>
                <a:cubicBezTo>
                  <a:pt x="224838" y="40482"/>
                  <a:pt x="302892" y="66676"/>
                  <a:pt x="407137" y="38101"/>
                </a:cubicBezTo>
                <a:lnTo>
                  <a:pt x="447618" y="151607"/>
                </a:lnTo>
                <a:lnTo>
                  <a:pt x="446671" y="151693"/>
                </a:lnTo>
                <a:cubicBezTo>
                  <a:pt x="509462" y="324917"/>
                  <a:pt x="448428" y="452897"/>
                  <a:pt x="385013" y="464196"/>
                </a:cubicBezTo>
                <a:cubicBezTo>
                  <a:pt x="244677" y="466455"/>
                  <a:pt x="258133" y="420462"/>
                  <a:pt x="248950" y="395523"/>
                </a:cubicBezTo>
                <a:cubicBezTo>
                  <a:pt x="248950" y="350808"/>
                  <a:pt x="305176" y="319812"/>
                  <a:pt x="329913" y="314560"/>
                </a:cubicBezTo>
                <a:cubicBezTo>
                  <a:pt x="354650" y="309308"/>
                  <a:pt x="385079" y="334951"/>
                  <a:pt x="397370" y="364009"/>
                </a:cubicBezTo>
                <a:cubicBezTo>
                  <a:pt x="405786" y="337867"/>
                  <a:pt x="472257" y="288931"/>
                  <a:pt x="418510" y="152947"/>
                </a:cubicBezTo>
                <a:cubicBezTo>
                  <a:pt x="371955" y="155180"/>
                  <a:pt x="293139" y="155393"/>
                  <a:pt x="239190" y="133892"/>
                </a:cubicBezTo>
                <a:lnTo>
                  <a:pt x="195859" y="113697"/>
                </a:lnTo>
                <a:cubicBezTo>
                  <a:pt x="204201" y="178579"/>
                  <a:pt x="201443" y="391042"/>
                  <a:pt x="93975" y="375548"/>
                </a:cubicBezTo>
                <a:cubicBezTo>
                  <a:pt x="-13493" y="360054"/>
                  <a:pt x="-23340" y="246483"/>
                  <a:pt x="36825" y="206477"/>
                </a:cubicBezTo>
                <a:cubicBezTo>
                  <a:pt x="96990" y="166471"/>
                  <a:pt x="121337" y="216972"/>
                  <a:pt x="140644" y="235528"/>
                </a:cubicBezTo>
                <a:cubicBezTo>
                  <a:pt x="160527" y="233590"/>
                  <a:pt x="166121" y="262606"/>
                  <a:pt x="171717" y="108267"/>
                </a:cubicBezTo>
                <a:lnTo>
                  <a:pt x="163455" y="0"/>
                </a:lnTo>
                <a:close/>
              </a:path>
            </a:pathLst>
          </a:custGeom>
          <a:solidFill>
            <a:srgbClr val="005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180"/>
          <p:cNvSpPr/>
          <p:nvPr/>
        </p:nvSpPr>
        <p:spPr>
          <a:xfrm>
            <a:off x="6858000" y="704880"/>
            <a:ext cx="473040" cy="463680"/>
          </a:xfrm>
          <a:custGeom>
            <a:avLst/>
            <a:gdLst/>
            <a:ahLst/>
            <a:rect l="l" t="t" r="r" b="b"/>
            <a:pathLst>
              <a:path w="473031" h="464276">
                <a:moveTo>
                  <a:pt x="163455" y="0"/>
                </a:moveTo>
                <a:cubicBezTo>
                  <a:pt x="224838" y="40482"/>
                  <a:pt x="302892" y="66676"/>
                  <a:pt x="407137" y="38101"/>
                </a:cubicBezTo>
                <a:lnTo>
                  <a:pt x="447618" y="151607"/>
                </a:lnTo>
                <a:lnTo>
                  <a:pt x="446671" y="151693"/>
                </a:lnTo>
                <a:cubicBezTo>
                  <a:pt x="509462" y="324917"/>
                  <a:pt x="448428" y="452897"/>
                  <a:pt x="385013" y="464196"/>
                </a:cubicBezTo>
                <a:cubicBezTo>
                  <a:pt x="244677" y="466455"/>
                  <a:pt x="258133" y="420462"/>
                  <a:pt x="248950" y="395523"/>
                </a:cubicBezTo>
                <a:cubicBezTo>
                  <a:pt x="248950" y="350808"/>
                  <a:pt x="305176" y="319812"/>
                  <a:pt x="329913" y="314560"/>
                </a:cubicBezTo>
                <a:cubicBezTo>
                  <a:pt x="354650" y="309308"/>
                  <a:pt x="385079" y="334951"/>
                  <a:pt x="397370" y="364009"/>
                </a:cubicBezTo>
                <a:cubicBezTo>
                  <a:pt x="405786" y="337867"/>
                  <a:pt x="472257" y="288931"/>
                  <a:pt x="418510" y="152947"/>
                </a:cubicBezTo>
                <a:cubicBezTo>
                  <a:pt x="371955" y="155180"/>
                  <a:pt x="293139" y="155393"/>
                  <a:pt x="239190" y="133892"/>
                </a:cubicBezTo>
                <a:lnTo>
                  <a:pt x="195859" y="113697"/>
                </a:lnTo>
                <a:cubicBezTo>
                  <a:pt x="204201" y="178579"/>
                  <a:pt x="201443" y="391042"/>
                  <a:pt x="93975" y="375548"/>
                </a:cubicBezTo>
                <a:cubicBezTo>
                  <a:pt x="-13493" y="360054"/>
                  <a:pt x="-23340" y="246483"/>
                  <a:pt x="36825" y="206477"/>
                </a:cubicBezTo>
                <a:cubicBezTo>
                  <a:pt x="96990" y="166471"/>
                  <a:pt x="121337" y="216972"/>
                  <a:pt x="140644" y="235528"/>
                </a:cubicBezTo>
                <a:cubicBezTo>
                  <a:pt x="160527" y="233590"/>
                  <a:pt x="166121" y="262606"/>
                  <a:pt x="171717" y="108267"/>
                </a:cubicBezTo>
                <a:lnTo>
                  <a:pt x="163455" y="0"/>
                </a:lnTo>
                <a:close/>
              </a:path>
            </a:pathLst>
          </a:custGeom>
          <a:solidFill>
            <a:srgbClr val="02a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187"/>
          <p:cNvGrpSpPr/>
          <p:nvPr/>
        </p:nvGrpSpPr>
        <p:grpSpPr>
          <a:xfrm>
            <a:off x="9877320" y="6421320"/>
            <a:ext cx="135000" cy="327960"/>
            <a:chOff x="9877320" y="6421320"/>
            <a:chExt cx="135000" cy="327960"/>
          </a:xfrm>
        </p:grpSpPr>
        <p:sp>
          <p:nvSpPr>
            <p:cNvPr id="209" name="任意多边形 203"/>
            <p:cNvSpPr/>
            <p:nvPr/>
          </p:nvSpPr>
          <p:spPr>
            <a:xfrm>
              <a:off x="9877320" y="6421320"/>
              <a:ext cx="121320" cy="312840"/>
            </a:xfrm>
            <a:custGeom>
              <a:avLst/>
              <a:gdLst/>
              <a:ahLst/>
              <a:rect l="l" t="t" r="r" b="b"/>
              <a:pathLst>
                <a:path w="80962" h="207169">
                  <a:moveTo>
                    <a:pt x="80962" y="0"/>
                  </a:moveTo>
                  <a:lnTo>
                    <a:pt x="80962" y="164306"/>
                  </a:lnTo>
                  <a:cubicBezTo>
                    <a:pt x="18256" y="147637"/>
                    <a:pt x="7937" y="183356"/>
                    <a:pt x="0" y="207169"/>
                  </a:cubicBezTo>
                  <a:lnTo>
                    <a:pt x="0" y="207169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任意多边形 204"/>
            <p:cNvSpPr/>
            <p:nvPr/>
          </p:nvSpPr>
          <p:spPr>
            <a:xfrm rot="20634600">
              <a:off x="9909000" y="6668280"/>
              <a:ext cx="95400" cy="68760"/>
            </a:xfrm>
            <a:custGeom>
              <a:avLst/>
              <a:gdLst/>
              <a:ahLst/>
              <a:rect l="l" t="t" r="r" b="b"/>
              <a:pathLst>
                <a:path w="80962" h="47148">
                  <a:moveTo>
                    <a:pt x="80962" y="4285"/>
                  </a:moveTo>
                  <a:cubicBezTo>
                    <a:pt x="18256" y="-12384"/>
                    <a:pt x="7937" y="23335"/>
                    <a:pt x="0" y="47148"/>
                  </a:cubicBezTo>
                  <a:lnTo>
                    <a:pt x="0" y="47148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188"/>
          <p:cNvGrpSpPr/>
          <p:nvPr/>
        </p:nvGrpSpPr>
        <p:grpSpPr>
          <a:xfrm>
            <a:off x="9664560" y="6421320"/>
            <a:ext cx="135000" cy="327960"/>
            <a:chOff x="9664560" y="6421320"/>
            <a:chExt cx="135000" cy="327960"/>
          </a:xfrm>
        </p:grpSpPr>
        <p:sp>
          <p:nvSpPr>
            <p:cNvPr id="212" name="任意多边形 201"/>
            <p:cNvSpPr/>
            <p:nvPr/>
          </p:nvSpPr>
          <p:spPr>
            <a:xfrm>
              <a:off x="9664560" y="6421320"/>
              <a:ext cx="121320" cy="312840"/>
            </a:xfrm>
            <a:custGeom>
              <a:avLst/>
              <a:gdLst/>
              <a:ahLst/>
              <a:rect l="l" t="t" r="r" b="b"/>
              <a:pathLst>
                <a:path w="80962" h="207169">
                  <a:moveTo>
                    <a:pt x="80962" y="0"/>
                  </a:moveTo>
                  <a:lnTo>
                    <a:pt x="80962" y="164306"/>
                  </a:lnTo>
                  <a:cubicBezTo>
                    <a:pt x="18256" y="147637"/>
                    <a:pt x="7937" y="183356"/>
                    <a:pt x="0" y="207169"/>
                  </a:cubicBezTo>
                  <a:lnTo>
                    <a:pt x="0" y="207169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202"/>
            <p:cNvSpPr/>
            <p:nvPr/>
          </p:nvSpPr>
          <p:spPr>
            <a:xfrm rot="20634600">
              <a:off x="9696240" y="6668280"/>
              <a:ext cx="95400" cy="68760"/>
            </a:xfrm>
            <a:custGeom>
              <a:avLst/>
              <a:gdLst/>
              <a:ahLst/>
              <a:rect l="l" t="t" r="r" b="b"/>
              <a:pathLst>
                <a:path w="80962" h="47148">
                  <a:moveTo>
                    <a:pt x="80962" y="4285"/>
                  </a:moveTo>
                  <a:cubicBezTo>
                    <a:pt x="18256" y="-12384"/>
                    <a:pt x="7937" y="23335"/>
                    <a:pt x="0" y="47148"/>
                  </a:cubicBezTo>
                  <a:lnTo>
                    <a:pt x="0" y="47148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189"/>
          <p:cNvGrpSpPr/>
          <p:nvPr/>
        </p:nvGrpSpPr>
        <p:grpSpPr>
          <a:xfrm>
            <a:off x="9381600" y="6037920"/>
            <a:ext cx="295920" cy="116640"/>
            <a:chOff x="9381600" y="6037920"/>
            <a:chExt cx="295920" cy="116640"/>
          </a:xfrm>
        </p:grpSpPr>
        <p:sp>
          <p:nvSpPr>
            <p:cNvPr id="215" name="等腰三角形 199"/>
            <p:cNvSpPr/>
            <p:nvPr/>
          </p:nvSpPr>
          <p:spPr>
            <a:xfrm flipV="1" rot="5727600">
              <a:off x="9484920" y="5951880"/>
              <a:ext cx="88920" cy="288360"/>
            </a:xfrm>
            <a:prstGeom prst="triangle">
              <a:avLst>
                <a:gd name="adj" fmla="val 50000"/>
              </a:avLst>
            </a:prstGeom>
            <a:solidFill>
              <a:srgbClr val="f0c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 200"/>
            <p:cNvSpPr/>
            <p:nvPr/>
          </p:nvSpPr>
          <p:spPr>
            <a:xfrm flipV="1" rot="5727600">
              <a:off x="9523080" y="5944320"/>
              <a:ext cx="40680" cy="264960"/>
            </a:xfrm>
            <a:custGeom>
              <a:avLst/>
              <a:gdLst/>
              <a:ahLst/>
              <a:rect l="l" t="t" r="r" b="b"/>
              <a:pathLst>
                <a:path w="51437" h="228960">
                  <a:moveTo>
                    <a:pt x="51437" y="0"/>
                  </a:moveTo>
                  <a:lnTo>
                    <a:pt x="51437" y="228960"/>
                  </a:lnTo>
                  <a:lnTo>
                    <a:pt x="0" y="228960"/>
                  </a:lnTo>
                  <a:close/>
                </a:path>
              </a:pathLst>
            </a:custGeom>
            <a:solidFill>
              <a:srgbClr val="e9b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90"/>
          <p:cNvGrpSpPr/>
          <p:nvPr/>
        </p:nvGrpSpPr>
        <p:grpSpPr>
          <a:xfrm>
            <a:off x="9329400" y="5924520"/>
            <a:ext cx="299520" cy="167040"/>
            <a:chOff x="9329400" y="5924520"/>
            <a:chExt cx="299520" cy="167040"/>
          </a:xfrm>
        </p:grpSpPr>
        <p:sp>
          <p:nvSpPr>
            <p:cNvPr id="218" name="等腰三角形 197"/>
            <p:cNvSpPr/>
            <p:nvPr/>
          </p:nvSpPr>
          <p:spPr>
            <a:xfrm rot="17196600">
              <a:off x="9434520" y="5864760"/>
              <a:ext cx="88920" cy="286200"/>
            </a:xfrm>
            <a:prstGeom prst="triangle">
              <a:avLst>
                <a:gd name="adj" fmla="val 50000"/>
              </a:avLst>
            </a:prstGeom>
            <a:solidFill>
              <a:srgbClr val="f0c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198"/>
            <p:cNvSpPr/>
            <p:nvPr/>
          </p:nvSpPr>
          <p:spPr>
            <a:xfrm rot="17196600">
              <a:off x="9465120" y="5899320"/>
              <a:ext cx="40680" cy="263160"/>
            </a:xfrm>
            <a:custGeom>
              <a:avLst/>
              <a:gdLst/>
              <a:ahLst/>
              <a:rect l="l" t="t" r="r" b="b"/>
              <a:pathLst>
                <a:path w="51437" h="228960">
                  <a:moveTo>
                    <a:pt x="51437" y="0"/>
                  </a:moveTo>
                  <a:lnTo>
                    <a:pt x="51437" y="228960"/>
                  </a:lnTo>
                  <a:lnTo>
                    <a:pt x="0" y="228960"/>
                  </a:lnTo>
                  <a:close/>
                </a:path>
              </a:pathLst>
            </a:custGeom>
            <a:solidFill>
              <a:srgbClr val="e9b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椭圆 191"/>
          <p:cNvSpPr/>
          <p:nvPr/>
        </p:nvSpPr>
        <p:spPr>
          <a:xfrm>
            <a:off x="10096560" y="5948280"/>
            <a:ext cx="68040" cy="68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192"/>
          <p:cNvSpPr/>
          <p:nvPr/>
        </p:nvSpPr>
        <p:spPr>
          <a:xfrm>
            <a:off x="9636120" y="5767560"/>
            <a:ext cx="514440" cy="277560"/>
          </a:xfrm>
          <a:custGeom>
            <a:avLst/>
            <a:gdLst/>
            <a:ahLst/>
            <a:rect l="l" t="t" r="r" b="b"/>
            <a:pathLst>
              <a:path w="342900" h="185737">
                <a:moveTo>
                  <a:pt x="0" y="95250"/>
                </a:moveTo>
                <a:cubicBezTo>
                  <a:pt x="18256" y="39687"/>
                  <a:pt x="76995" y="793"/>
                  <a:pt x="233363" y="0"/>
                </a:cubicBezTo>
                <a:cubicBezTo>
                  <a:pt x="300831" y="5557"/>
                  <a:pt x="313532" y="42067"/>
                  <a:pt x="342900" y="123824"/>
                </a:cubicBezTo>
                <a:lnTo>
                  <a:pt x="323850" y="145256"/>
                </a:lnTo>
                <a:cubicBezTo>
                  <a:pt x="299244" y="124618"/>
                  <a:pt x="284162" y="87312"/>
                  <a:pt x="250031" y="83343"/>
                </a:cubicBezTo>
                <a:cubicBezTo>
                  <a:pt x="229394" y="136524"/>
                  <a:pt x="256381" y="151606"/>
                  <a:pt x="259556" y="185737"/>
                </a:cubicBezTo>
                <a:lnTo>
                  <a:pt x="0" y="95250"/>
                </a:lnTo>
                <a:close/>
              </a:path>
            </a:pathLst>
          </a:custGeom>
          <a:solidFill>
            <a:srgbClr val="fd0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193"/>
          <p:cNvSpPr/>
          <p:nvPr/>
        </p:nvSpPr>
        <p:spPr>
          <a:xfrm>
            <a:off x="9556920" y="5942160"/>
            <a:ext cx="1056960" cy="528480"/>
          </a:xfrm>
          <a:custGeom>
            <a:avLst/>
            <a:gdLst/>
            <a:ahLst/>
            <a:rect l="l" t="t" r="r" b="b"/>
            <a:pathLst>
              <a:path w="702936" h="352035">
                <a:moveTo>
                  <a:pt x="317173" y="76199"/>
                </a:moveTo>
                <a:cubicBezTo>
                  <a:pt x="376704" y="134937"/>
                  <a:pt x="417186" y="217486"/>
                  <a:pt x="495767" y="252412"/>
                </a:cubicBezTo>
                <a:cubicBezTo>
                  <a:pt x="560060" y="237331"/>
                  <a:pt x="583874" y="219868"/>
                  <a:pt x="652929" y="150018"/>
                </a:cubicBezTo>
                <a:cubicBezTo>
                  <a:pt x="656897" y="208755"/>
                  <a:pt x="668011" y="215106"/>
                  <a:pt x="629117" y="250031"/>
                </a:cubicBezTo>
                <a:cubicBezTo>
                  <a:pt x="653723" y="269875"/>
                  <a:pt x="685474" y="270668"/>
                  <a:pt x="702936" y="309562"/>
                </a:cubicBezTo>
                <a:cubicBezTo>
                  <a:pt x="640230" y="304799"/>
                  <a:pt x="634673" y="347662"/>
                  <a:pt x="514817" y="295274"/>
                </a:cubicBezTo>
                <a:cubicBezTo>
                  <a:pt x="423536" y="321467"/>
                  <a:pt x="298123" y="378222"/>
                  <a:pt x="155248" y="338137"/>
                </a:cubicBezTo>
                <a:cubicBezTo>
                  <a:pt x="12373" y="298052"/>
                  <a:pt x="-47952" y="138906"/>
                  <a:pt x="43329" y="11906"/>
                </a:cubicBezTo>
                <a:cubicBezTo>
                  <a:pt x="141754" y="-9526"/>
                  <a:pt x="197317" y="-9525"/>
                  <a:pt x="317173" y="76199"/>
                </a:cubicBezTo>
                <a:close/>
              </a:path>
            </a:pathLst>
          </a:custGeom>
          <a:solidFill>
            <a:srgbClr val="573e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任意多边形 194"/>
          <p:cNvSpPr/>
          <p:nvPr/>
        </p:nvSpPr>
        <p:spPr>
          <a:xfrm>
            <a:off x="9591840" y="5908680"/>
            <a:ext cx="428400" cy="181080"/>
          </a:xfrm>
          <a:custGeom>
            <a:avLst/>
            <a:gdLst/>
            <a:ahLst/>
            <a:rect l="l" t="t" r="r" b="b"/>
            <a:pathLst>
              <a:path w="274126" h="120073">
                <a:moveTo>
                  <a:pt x="54768" y="0"/>
                </a:moveTo>
                <a:lnTo>
                  <a:pt x="68460" y="4734"/>
                </a:lnTo>
                <a:lnTo>
                  <a:pt x="82152" y="0"/>
                </a:lnTo>
                <a:lnTo>
                  <a:pt x="95844" y="4734"/>
                </a:lnTo>
                <a:lnTo>
                  <a:pt x="109536" y="0"/>
                </a:lnTo>
                <a:lnTo>
                  <a:pt x="123228" y="4734"/>
                </a:lnTo>
                <a:lnTo>
                  <a:pt x="136920" y="0"/>
                </a:lnTo>
                <a:lnTo>
                  <a:pt x="150612" y="4734"/>
                </a:lnTo>
                <a:lnTo>
                  <a:pt x="164304" y="0"/>
                </a:lnTo>
                <a:cubicBezTo>
                  <a:pt x="179428" y="0"/>
                  <a:pt x="191688" y="10235"/>
                  <a:pt x="191688" y="22860"/>
                </a:cubicBezTo>
                <a:lnTo>
                  <a:pt x="189945" y="26374"/>
                </a:lnTo>
                <a:lnTo>
                  <a:pt x="192579" y="27285"/>
                </a:lnTo>
                <a:lnTo>
                  <a:pt x="205377" y="22859"/>
                </a:lnTo>
                <a:cubicBezTo>
                  <a:pt x="220501" y="22859"/>
                  <a:pt x="232761" y="33094"/>
                  <a:pt x="232761" y="45719"/>
                </a:cubicBezTo>
                <a:lnTo>
                  <a:pt x="230279" y="50721"/>
                </a:lnTo>
                <a:lnTo>
                  <a:pt x="230974" y="50481"/>
                </a:lnTo>
                <a:cubicBezTo>
                  <a:pt x="246098" y="50481"/>
                  <a:pt x="258358" y="60716"/>
                  <a:pt x="258358" y="73341"/>
                </a:cubicBezTo>
                <a:lnTo>
                  <a:pt x="256229" y="77633"/>
                </a:lnTo>
                <a:lnTo>
                  <a:pt x="266106" y="81049"/>
                </a:lnTo>
                <a:cubicBezTo>
                  <a:pt x="271061" y="85186"/>
                  <a:pt x="274126" y="90901"/>
                  <a:pt x="274126" y="97213"/>
                </a:cubicBezTo>
                <a:cubicBezTo>
                  <a:pt x="274126" y="109838"/>
                  <a:pt x="261866" y="120073"/>
                  <a:pt x="246742" y="120073"/>
                </a:cubicBezTo>
                <a:cubicBezTo>
                  <a:pt x="231618" y="120073"/>
                  <a:pt x="219358" y="109838"/>
                  <a:pt x="219358" y="97213"/>
                </a:cubicBezTo>
                <a:lnTo>
                  <a:pt x="221488" y="92921"/>
                </a:lnTo>
                <a:lnTo>
                  <a:pt x="211611" y="89505"/>
                </a:lnTo>
                <a:lnTo>
                  <a:pt x="209041" y="84326"/>
                </a:lnTo>
                <a:lnTo>
                  <a:pt x="208362" y="85694"/>
                </a:lnTo>
                <a:cubicBezTo>
                  <a:pt x="203406" y="89831"/>
                  <a:pt x="196560" y="92390"/>
                  <a:pt x="188998" y="92390"/>
                </a:cubicBezTo>
                <a:cubicBezTo>
                  <a:pt x="181436" y="92390"/>
                  <a:pt x="174590" y="89831"/>
                  <a:pt x="169635" y="85694"/>
                </a:cubicBezTo>
                <a:lnTo>
                  <a:pt x="166762" y="79906"/>
                </a:lnTo>
                <a:lnTo>
                  <a:pt x="151792" y="85082"/>
                </a:lnTo>
                <a:cubicBezTo>
                  <a:pt x="144230" y="85082"/>
                  <a:pt x="137384" y="82523"/>
                  <a:pt x="132428" y="78386"/>
                </a:cubicBezTo>
                <a:lnTo>
                  <a:pt x="128995" y="71467"/>
                </a:lnTo>
                <a:lnTo>
                  <a:pt x="115487" y="76138"/>
                </a:lnTo>
                <a:cubicBezTo>
                  <a:pt x="100363" y="76138"/>
                  <a:pt x="88103" y="65903"/>
                  <a:pt x="88103" y="53278"/>
                </a:cubicBezTo>
                <a:lnTo>
                  <a:pt x="93862" y="41671"/>
                </a:lnTo>
                <a:lnTo>
                  <a:pt x="82152" y="45720"/>
                </a:lnTo>
                <a:lnTo>
                  <a:pt x="68460" y="40985"/>
                </a:lnTo>
                <a:lnTo>
                  <a:pt x="54768" y="45720"/>
                </a:lnTo>
                <a:lnTo>
                  <a:pt x="48287" y="43479"/>
                </a:lnTo>
                <a:lnTo>
                  <a:pt x="46747" y="46583"/>
                </a:lnTo>
                <a:cubicBezTo>
                  <a:pt x="41792" y="50720"/>
                  <a:pt x="34946" y="53279"/>
                  <a:pt x="27384" y="53279"/>
                </a:cubicBezTo>
                <a:cubicBezTo>
                  <a:pt x="12260" y="53279"/>
                  <a:pt x="0" y="43044"/>
                  <a:pt x="0" y="30419"/>
                </a:cubicBezTo>
                <a:cubicBezTo>
                  <a:pt x="0" y="17794"/>
                  <a:pt x="12260" y="7559"/>
                  <a:pt x="27384" y="7559"/>
                </a:cubicBezTo>
                <a:lnTo>
                  <a:pt x="33864" y="9800"/>
                </a:lnTo>
                <a:lnTo>
                  <a:pt x="35404" y="6696"/>
                </a:lnTo>
                <a:cubicBezTo>
                  <a:pt x="40360" y="2559"/>
                  <a:pt x="47206" y="0"/>
                  <a:pt x="54768" y="0"/>
                </a:cubicBezTo>
                <a:close/>
              </a:path>
            </a:pathLst>
          </a:custGeom>
          <a:solidFill>
            <a:srgbClr val="ffffff"/>
          </a:solidFill>
          <a:ln w="3240">
            <a:solidFill>
              <a:srgbClr val="9cc2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195"/>
          <p:cNvSpPr/>
          <p:nvPr/>
        </p:nvSpPr>
        <p:spPr>
          <a:xfrm>
            <a:off x="9791640" y="6083280"/>
            <a:ext cx="409680" cy="351000"/>
          </a:xfrm>
          <a:custGeom>
            <a:avLst/>
            <a:gdLst/>
            <a:ahLst/>
            <a:rect l="l" t="t" r="r" b="b"/>
            <a:pathLst>
              <a:path w="273115" h="233980">
                <a:moveTo>
                  <a:pt x="18321" y="14905"/>
                </a:moveTo>
                <a:cubicBezTo>
                  <a:pt x="45309" y="-16051"/>
                  <a:pt x="128255" y="4192"/>
                  <a:pt x="168341" y="48244"/>
                </a:cubicBezTo>
                <a:cubicBezTo>
                  <a:pt x="208427" y="92296"/>
                  <a:pt x="209219" y="180798"/>
                  <a:pt x="273115" y="222074"/>
                </a:cubicBezTo>
                <a:cubicBezTo>
                  <a:pt x="200883" y="237156"/>
                  <a:pt x="195327" y="204611"/>
                  <a:pt x="156433" y="195880"/>
                </a:cubicBezTo>
                <a:lnTo>
                  <a:pt x="163577" y="231599"/>
                </a:lnTo>
                <a:lnTo>
                  <a:pt x="115952" y="188736"/>
                </a:lnTo>
                <a:lnTo>
                  <a:pt x="120715" y="233980"/>
                </a:lnTo>
                <a:cubicBezTo>
                  <a:pt x="-26526" y="169289"/>
                  <a:pt x="-8667" y="45861"/>
                  <a:pt x="18321" y="14905"/>
                </a:cubicBezTo>
                <a:close/>
              </a:path>
            </a:pathLst>
          </a:custGeom>
          <a:solidFill>
            <a:srgbClr val="8b65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196"/>
          <p:cNvSpPr/>
          <p:nvPr/>
        </p:nvSpPr>
        <p:spPr>
          <a:xfrm>
            <a:off x="9556920" y="6121440"/>
            <a:ext cx="234720" cy="323640"/>
          </a:xfrm>
          <a:custGeom>
            <a:avLst/>
            <a:gdLst/>
            <a:ahLst/>
            <a:rect l="l" t="t" r="r" b="b"/>
            <a:pathLst>
              <a:path w="156046" h="215724">
                <a:moveTo>
                  <a:pt x="0" y="0"/>
                </a:moveTo>
                <a:lnTo>
                  <a:pt x="43328" y="23517"/>
                </a:lnTo>
                <a:cubicBezTo>
                  <a:pt x="86464" y="52659"/>
                  <a:pt x="120734" y="93927"/>
                  <a:pt x="141249" y="142429"/>
                </a:cubicBezTo>
                <a:lnTo>
                  <a:pt x="156046" y="215724"/>
                </a:lnTo>
                <a:lnTo>
                  <a:pt x="151841" y="214867"/>
                </a:lnTo>
                <a:cubicBezTo>
                  <a:pt x="80404" y="194825"/>
                  <a:pt x="29604" y="145017"/>
                  <a:pt x="8073" y="84345"/>
                </a:cubicBezTo>
                <a:close/>
              </a:path>
            </a:pathLst>
          </a:custGeom>
          <a:solidFill>
            <a:srgbClr val="8c0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184"/>
          <p:cNvSpPr/>
          <p:nvPr/>
        </p:nvSpPr>
        <p:spPr>
          <a:xfrm>
            <a:off x="9631440" y="6032520"/>
            <a:ext cx="95040" cy="93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185"/>
          <p:cNvSpPr/>
          <p:nvPr/>
        </p:nvSpPr>
        <p:spPr>
          <a:xfrm>
            <a:off x="9651960" y="6051600"/>
            <a:ext cx="54000" cy="540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186"/>
          <p:cNvSpPr/>
          <p:nvPr/>
        </p:nvSpPr>
        <p:spPr>
          <a:xfrm>
            <a:off x="9647280" y="6072120"/>
            <a:ext cx="30240" cy="30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211"/>
          <p:cNvGrpSpPr/>
          <p:nvPr/>
        </p:nvGrpSpPr>
        <p:grpSpPr>
          <a:xfrm>
            <a:off x="1230480" y="6126120"/>
            <a:ext cx="134640" cy="327600"/>
            <a:chOff x="1230480" y="6126120"/>
            <a:chExt cx="134640" cy="327600"/>
          </a:xfrm>
        </p:grpSpPr>
        <p:sp>
          <p:nvSpPr>
            <p:cNvPr id="230" name="任意多边形 227"/>
            <p:cNvSpPr/>
            <p:nvPr/>
          </p:nvSpPr>
          <p:spPr>
            <a:xfrm flipH="1">
              <a:off x="1244160" y="6126120"/>
              <a:ext cx="120960" cy="312840"/>
            </a:xfrm>
            <a:custGeom>
              <a:avLst/>
              <a:gdLst/>
              <a:ahLst/>
              <a:rect l="l" t="t" r="r" b="b"/>
              <a:pathLst>
                <a:path w="80962" h="207169">
                  <a:moveTo>
                    <a:pt x="80962" y="0"/>
                  </a:moveTo>
                  <a:lnTo>
                    <a:pt x="80962" y="164306"/>
                  </a:lnTo>
                  <a:cubicBezTo>
                    <a:pt x="18256" y="147637"/>
                    <a:pt x="7937" y="183356"/>
                    <a:pt x="0" y="207169"/>
                  </a:cubicBezTo>
                  <a:lnTo>
                    <a:pt x="0" y="207169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任意多边形 228"/>
            <p:cNvSpPr/>
            <p:nvPr/>
          </p:nvSpPr>
          <p:spPr>
            <a:xfrm flipH="1" rot="965400">
              <a:off x="1237680" y="6373080"/>
              <a:ext cx="95040" cy="68760"/>
            </a:xfrm>
            <a:custGeom>
              <a:avLst/>
              <a:gdLst/>
              <a:ahLst/>
              <a:rect l="l" t="t" r="r" b="b"/>
              <a:pathLst>
                <a:path w="80962" h="47148">
                  <a:moveTo>
                    <a:pt x="80962" y="4285"/>
                  </a:moveTo>
                  <a:cubicBezTo>
                    <a:pt x="18256" y="-12384"/>
                    <a:pt x="7937" y="23335"/>
                    <a:pt x="0" y="47148"/>
                  </a:cubicBezTo>
                  <a:lnTo>
                    <a:pt x="0" y="47148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212"/>
          <p:cNvGrpSpPr/>
          <p:nvPr/>
        </p:nvGrpSpPr>
        <p:grpSpPr>
          <a:xfrm>
            <a:off x="1442520" y="6126120"/>
            <a:ext cx="135000" cy="327960"/>
            <a:chOff x="1442520" y="6126120"/>
            <a:chExt cx="135000" cy="327960"/>
          </a:xfrm>
        </p:grpSpPr>
        <p:sp>
          <p:nvSpPr>
            <p:cNvPr id="233" name="任意多边形 225"/>
            <p:cNvSpPr/>
            <p:nvPr/>
          </p:nvSpPr>
          <p:spPr>
            <a:xfrm flipH="1">
              <a:off x="1455840" y="6126120"/>
              <a:ext cx="121320" cy="312840"/>
            </a:xfrm>
            <a:custGeom>
              <a:avLst/>
              <a:gdLst/>
              <a:ahLst/>
              <a:rect l="l" t="t" r="r" b="b"/>
              <a:pathLst>
                <a:path w="80962" h="207169">
                  <a:moveTo>
                    <a:pt x="80962" y="0"/>
                  </a:moveTo>
                  <a:lnTo>
                    <a:pt x="80962" y="164306"/>
                  </a:lnTo>
                  <a:cubicBezTo>
                    <a:pt x="18256" y="147637"/>
                    <a:pt x="7937" y="183356"/>
                    <a:pt x="0" y="207169"/>
                  </a:cubicBezTo>
                  <a:lnTo>
                    <a:pt x="0" y="207169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任意多边形 226"/>
            <p:cNvSpPr/>
            <p:nvPr/>
          </p:nvSpPr>
          <p:spPr>
            <a:xfrm flipH="1" rot="965400">
              <a:off x="1450080" y="6373080"/>
              <a:ext cx="95400" cy="68760"/>
            </a:xfrm>
            <a:custGeom>
              <a:avLst/>
              <a:gdLst/>
              <a:ahLst/>
              <a:rect l="l" t="t" r="r" b="b"/>
              <a:pathLst>
                <a:path w="80962" h="47148">
                  <a:moveTo>
                    <a:pt x="80962" y="4285"/>
                  </a:moveTo>
                  <a:cubicBezTo>
                    <a:pt x="18256" y="-12384"/>
                    <a:pt x="7937" y="23335"/>
                    <a:pt x="0" y="47148"/>
                  </a:cubicBezTo>
                  <a:lnTo>
                    <a:pt x="0" y="47148"/>
                  </a:lnTo>
                </a:path>
              </a:pathLst>
            </a:custGeom>
            <a:noFill/>
            <a:ln w="12600">
              <a:solidFill>
                <a:srgbClr val="e9b6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213"/>
          <p:cNvGrpSpPr/>
          <p:nvPr/>
        </p:nvGrpSpPr>
        <p:grpSpPr>
          <a:xfrm>
            <a:off x="1565640" y="5742720"/>
            <a:ext cx="295200" cy="116280"/>
            <a:chOff x="1565640" y="5742720"/>
            <a:chExt cx="295200" cy="116280"/>
          </a:xfrm>
        </p:grpSpPr>
        <p:sp>
          <p:nvSpPr>
            <p:cNvPr id="236" name="等腰三角形 223"/>
            <p:cNvSpPr/>
            <p:nvPr/>
          </p:nvSpPr>
          <p:spPr>
            <a:xfrm flipH="1" flipV="1" rot="15872400">
              <a:off x="1668600" y="5656320"/>
              <a:ext cx="88920" cy="288000"/>
            </a:xfrm>
            <a:prstGeom prst="triangle">
              <a:avLst>
                <a:gd name="adj" fmla="val 50000"/>
              </a:avLst>
            </a:prstGeom>
            <a:solidFill>
              <a:srgbClr val="f0c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任意多边形 224"/>
            <p:cNvSpPr/>
            <p:nvPr/>
          </p:nvSpPr>
          <p:spPr>
            <a:xfrm flipH="1" flipV="1" rot="15872400">
              <a:off x="1678680" y="5649480"/>
              <a:ext cx="40680" cy="264600"/>
            </a:xfrm>
            <a:custGeom>
              <a:avLst/>
              <a:gdLst/>
              <a:ahLst/>
              <a:rect l="l" t="t" r="r" b="b"/>
              <a:pathLst>
                <a:path w="51437" h="228960">
                  <a:moveTo>
                    <a:pt x="51437" y="0"/>
                  </a:moveTo>
                  <a:lnTo>
                    <a:pt x="51437" y="228960"/>
                  </a:lnTo>
                  <a:lnTo>
                    <a:pt x="0" y="228960"/>
                  </a:lnTo>
                  <a:close/>
                </a:path>
              </a:pathLst>
            </a:custGeom>
            <a:solidFill>
              <a:srgbClr val="e9b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214"/>
          <p:cNvGrpSpPr/>
          <p:nvPr/>
        </p:nvGrpSpPr>
        <p:grpSpPr>
          <a:xfrm>
            <a:off x="1609920" y="5631120"/>
            <a:ext cx="301320" cy="166680"/>
            <a:chOff x="1609920" y="5631120"/>
            <a:chExt cx="301320" cy="166680"/>
          </a:xfrm>
        </p:grpSpPr>
        <p:sp>
          <p:nvSpPr>
            <p:cNvPr id="239" name="等腰三角形 221"/>
            <p:cNvSpPr/>
            <p:nvPr/>
          </p:nvSpPr>
          <p:spPr>
            <a:xfrm flipH="1" rot="4403400">
              <a:off x="1715760" y="5570280"/>
              <a:ext cx="88560" cy="288000"/>
            </a:xfrm>
            <a:prstGeom prst="triangle">
              <a:avLst>
                <a:gd name="adj" fmla="val 50000"/>
              </a:avLst>
            </a:prstGeom>
            <a:solidFill>
              <a:srgbClr val="f0c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任意多边形 222"/>
            <p:cNvSpPr/>
            <p:nvPr/>
          </p:nvSpPr>
          <p:spPr>
            <a:xfrm flipH="1" rot="4403400">
              <a:off x="1733400" y="5605200"/>
              <a:ext cx="40680" cy="265320"/>
            </a:xfrm>
            <a:custGeom>
              <a:avLst/>
              <a:gdLst/>
              <a:ahLst/>
              <a:rect l="l" t="t" r="r" b="b"/>
              <a:pathLst>
                <a:path w="51437" h="228960">
                  <a:moveTo>
                    <a:pt x="51437" y="0"/>
                  </a:moveTo>
                  <a:lnTo>
                    <a:pt x="51437" y="228960"/>
                  </a:lnTo>
                  <a:lnTo>
                    <a:pt x="0" y="228960"/>
                  </a:lnTo>
                  <a:close/>
                </a:path>
              </a:pathLst>
            </a:custGeom>
            <a:solidFill>
              <a:srgbClr val="e9b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椭圆 215"/>
          <p:cNvSpPr/>
          <p:nvPr/>
        </p:nvSpPr>
        <p:spPr>
          <a:xfrm flipH="1">
            <a:off x="1076400" y="5653080"/>
            <a:ext cx="69840" cy="68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216"/>
          <p:cNvSpPr/>
          <p:nvPr/>
        </p:nvSpPr>
        <p:spPr>
          <a:xfrm flipH="1">
            <a:off x="1091520" y="5470560"/>
            <a:ext cx="514440" cy="279360"/>
          </a:xfrm>
          <a:custGeom>
            <a:avLst/>
            <a:gdLst/>
            <a:ahLst/>
            <a:rect l="l" t="t" r="r" b="b"/>
            <a:pathLst>
              <a:path w="342900" h="185737">
                <a:moveTo>
                  <a:pt x="0" y="95250"/>
                </a:moveTo>
                <a:cubicBezTo>
                  <a:pt x="18256" y="39687"/>
                  <a:pt x="76995" y="793"/>
                  <a:pt x="233363" y="0"/>
                </a:cubicBezTo>
                <a:cubicBezTo>
                  <a:pt x="300831" y="5557"/>
                  <a:pt x="313532" y="42067"/>
                  <a:pt x="342900" y="123824"/>
                </a:cubicBezTo>
                <a:lnTo>
                  <a:pt x="323850" y="145256"/>
                </a:lnTo>
                <a:cubicBezTo>
                  <a:pt x="299244" y="124618"/>
                  <a:pt x="284162" y="87312"/>
                  <a:pt x="250031" y="83343"/>
                </a:cubicBezTo>
                <a:cubicBezTo>
                  <a:pt x="229394" y="136524"/>
                  <a:pt x="256381" y="151606"/>
                  <a:pt x="259556" y="185737"/>
                </a:cubicBezTo>
                <a:lnTo>
                  <a:pt x="0" y="95250"/>
                </a:lnTo>
                <a:close/>
              </a:path>
            </a:pathLst>
          </a:custGeom>
          <a:solidFill>
            <a:srgbClr val="fd0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任意多边形 217"/>
          <p:cNvSpPr/>
          <p:nvPr/>
        </p:nvSpPr>
        <p:spPr>
          <a:xfrm flipH="1">
            <a:off x="627840" y="5646600"/>
            <a:ext cx="1057320" cy="528840"/>
          </a:xfrm>
          <a:custGeom>
            <a:avLst/>
            <a:gdLst/>
            <a:ahLst/>
            <a:rect l="l" t="t" r="r" b="b"/>
            <a:pathLst>
              <a:path w="702936" h="352035">
                <a:moveTo>
                  <a:pt x="317173" y="76199"/>
                </a:moveTo>
                <a:cubicBezTo>
                  <a:pt x="376704" y="134937"/>
                  <a:pt x="417186" y="217486"/>
                  <a:pt x="495767" y="252412"/>
                </a:cubicBezTo>
                <a:cubicBezTo>
                  <a:pt x="560060" y="237331"/>
                  <a:pt x="583874" y="219868"/>
                  <a:pt x="652929" y="150018"/>
                </a:cubicBezTo>
                <a:cubicBezTo>
                  <a:pt x="656897" y="208755"/>
                  <a:pt x="668011" y="215106"/>
                  <a:pt x="629117" y="250031"/>
                </a:cubicBezTo>
                <a:cubicBezTo>
                  <a:pt x="653723" y="269875"/>
                  <a:pt x="685474" y="270668"/>
                  <a:pt x="702936" y="309562"/>
                </a:cubicBezTo>
                <a:cubicBezTo>
                  <a:pt x="640230" y="304799"/>
                  <a:pt x="634673" y="347662"/>
                  <a:pt x="514817" y="295274"/>
                </a:cubicBezTo>
                <a:cubicBezTo>
                  <a:pt x="423536" y="321467"/>
                  <a:pt x="298123" y="378222"/>
                  <a:pt x="155248" y="338137"/>
                </a:cubicBezTo>
                <a:cubicBezTo>
                  <a:pt x="12373" y="298052"/>
                  <a:pt x="-47952" y="138906"/>
                  <a:pt x="43329" y="11906"/>
                </a:cubicBezTo>
                <a:cubicBezTo>
                  <a:pt x="141754" y="-9526"/>
                  <a:pt x="197317" y="-9525"/>
                  <a:pt x="317173" y="76199"/>
                </a:cubicBezTo>
                <a:close/>
              </a:path>
            </a:pathLst>
          </a:custGeom>
          <a:solidFill>
            <a:srgbClr val="573e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218"/>
          <p:cNvSpPr/>
          <p:nvPr/>
        </p:nvSpPr>
        <p:spPr>
          <a:xfrm flipH="1">
            <a:off x="1221480" y="5613480"/>
            <a:ext cx="428760" cy="179280"/>
          </a:xfrm>
          <a:custGeom>
            <a:avLst/>
            <a:gdLst/>
            <a:ahLst/>
            <a:rect l="l" t="t" r="r" b="b"/>
            <a:pathLst>
              <a:path w="274126" h="120073">
                <a:moveTo>
                  <a:pt x="54768" y="0"/>
                </a:moveTo>
                <a:lnTo>
                  <a:pt x="68460" y="4734"/>
                </a:lnTo>
                <a:lnTo>
                  <a:pt x="82152" y="0"/>
                </a:lnTo>
                <a:lnTo>
                  <a:pt x="95844" y="4734"/>
                </a:lnTo>
                <a:lnTo>
                  <a:pt x="109536" y="0"/>
                </a:lnTo>
                <a:lnTo>
                  <a:pt x="123228" y="4734"/>
                </a:lnTo>
                <a:lnTo>
                  <a:pt x="136920" y="0"/>
                </a:lnTo>
                <a:lnTo>
                  <a:pt x="150612" y="4734"/>
                </a:lnTo>
                <a:lnTo>
                  <a:pt x="164304" y="0"/>
                </a:lnTo>
                <a:cubicBezTo>
                  <a:pt x="179428" y="0"/>
                  <a:pt x="191688" y="10235"/>
                  <a:pt x="191688" y="22860"/>
                </a:cubicBezTo>
                <a:lnTo>
                  <a:pt x="189945" y="26374"/>
                </a:lnTo>
                <a:lnTo>
                  <a:pt x="192579" y="27285"/>
                </a:lnTo>
                <a:lnTo>
                  <a:pt x="205377" y="22859"/>
                </a:lnTo>
                <a:cubicBezTo>
                  <a:pt x="220501" y="22859"/>
                  <a:pt x="232761" y="33094"/>
                  <a:pt x="232761" y="45719"/>
                </a:cubicBezTo>
                <a:lnTo>
                  <a:pt x="230279" y="50721"/>
                </a:lnTo>
                <a:lnTo>
                  <a:pt x="230974" y="50481"/>
                </a:lnTo>
                <a:cubicBezTo>
                  <a:pt x="246098" y="50481"/>
                  <a:pt x="258358" y="60716"/>
                  <a:pt x="258358" y="73341"/>
                </a:cubicBezTo>
                <a:lnTo>
                  <a:pt x="256229" y="77633"/>
                </a:lnTo>
                <a:lnTo>
                  <a:pt x="266106" y="81049"/>
                </a:lnTo>
                <a:cubicBezTo>
                  <a:pt x="271061" y="85186"/>
                  <a:pt x="274126" y="90901"/>
                  <a:pt x="274126" y="97213"/>
                </a:cubicBezTo>
                <a:cubicBezTo>
                  <a:pt x="274126" y="109838"/>
                  <a:pt x="261866" y="120073"/>
                  <a:pt x="246742" y="120073"/>
                </a:cubicBezTo>
                <a:cubicBezTo>
                  <a:pt x="231618" y="120073"/>
                  <a:pt x="219358" y="109838"/>
                  <a:pt x="219358" y="97213"/>
                </a:cubicBezTo>
                <a:lnTo>
                  <a:pt x="221488" y="92921"/>
                </a:lnTo>
                <a:lnTo>
                  <a:pt x="211611" y="89505"/>
                </a:lnTo>
                <a:lnTo>
                  <a:pt x="209041" y="84326"/>
                </a:lnTo>
                <a:lnTo>
                  <a:pt x="208362" y="85694"/>
                </a:lnTo>
                <a:cubicBezTo>
                  <a:pt x="203406" y="89831"/>
                  <a:pt x="196560" y="92390"/>
                  <a:pt x="188998" y="92390"/>
                </a:cubicBezTo>
                <a:cubicBezTo>
                  <a:pt x="181436" y="92390"/>
                  <a:pt x="174590" y="89831"/>
                  <a:pt x="169635" y="85694"/>
                </a:cubicBezTo>
                <a:lnTo>
                  <a:pt x="166762" y="79906"/>
                </a:lnTo>
                <a:lnTo>
                  <a:pt x="151792" y="85082"/>
                </a:lnTo>
                <a:cubicBezTo>
                  <a:pt x="144230" y="85082"/>
                  <a:pt x="137384" y="82523"/>
                  <a:pt x="132428" y="78386"/>
                </a:cubicBezTo>
                <a:lnTo>
                  <a:pt x="128995" y="71467"/>
                </a:lnTo>
                <a:lnTo>
                  <a:pt x="115487" y="76138"/>
                </a:lnTo>
                <a:cubicBezTo>
                  <a:pt x="100363" y="76138"/>
                  <a:pt x="88103" y="65903"/>
                  <a:pt x="88103" y="53278"/>
                </a:cubicBezTo>
                <a:lnTo>
                  <a:pt x="93862" y="41671"/>
                </a:lnTo>
                <a:lnTo>
                  <a:pt x="82152" y="45720"/>
                </a:lnTo>
                <a:lnTo>
                  <a:pt x="68460" y="40985"/>
                </a:lnTo>
                <a:lnTo>
                  <a:pt x="54768" y="45720"/>
                </a:lnTo>
                <a:lnTo>
                  <a:pt x="48287" y="43479"/>
                </a:lnTo>
                <a:lnTo>
                  <a:pt x="46747" y="46583"/>
                </a:lnTo>
                <a:cubicBezTo>
                  <a:pt x="41792" y="50720"/>
                  <a:pt x="34946" y="53279"/>
                  <a:pt x="27384" y="53279"/>
                </a:cubicBezTo>
                <a:cubicBezTo>
                  <a:pt x="12260" y="53279"/>
                  <a:pt x="0" y="43044"/>
                  <a:pt x="0" y="30419"/>
                </a:cubicBezTo>
                <a:cubicBezTo>
                  <a:pt x="0" y="17794"/>
                  <a:pt x="12260" y="7559"/>
                  <a:pt x="27384" y="7559"/>
                </a:cubicBezTo>
                <a:lnTo>
                  <a:pt x="33864" y="9800"/>
                </a:lnTo>
                <a:lnTo>
                  <a:pt x="35404" y="6696"/>
                </a:lnTo>
                <a:cubicBezTo>
                  <a:pt x="40360" y="2559"/>
                  <a:pt x="47206" y="0"/>
                  <a:pt x="54768" y="0"/>
                </a:cubicBezTo>
                <a:close/>
              </a:path>
            </a:pathLst>
          </a:custGeom>
          <a:solidFill>
            <a:srgbClr val="ffffff"/>
          </a:solidFill>
          <a:ln w="3240">
            <a:solidFill>
              <a:srgbClr val="9cc2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219"/>
          <p:cNvSpPr/>
          <p:nvPr/>
        </p:nvSpPr>
        <p:spPr>
          <a:xfrm flipH="1">
            <a:off x="1040760" y="5788080"/>
            <a:ext cx="409320" cy="350640"/>
          </a:xfrm>
          <a:custGeom>
            <a:avLst/>
            <a:gdLst/>
            <a:ahLst/>
            <a:rect l="l" t="t" r="r" b="b"/>
            <a:pathLst>
              <a:path w="273115" h="233980">
                <a:moveTo>
                  <a:pt x="18321" y="14905"/>
                </a:moveTo>
                <a:cubicBezTo>
                  <a:pt x="45309" y="-16051"/>
                  <a:pt x="128255" y="4192"/>
                  <a:pt x="168341" y="48244"/>
                </a:cubicBezTo>
                <a:cubicBezTo>
                  <a:pt x="208427" y="92296"/>
                  <a:pt x="209219" y="180798"/>
                  <a:pt x="273115" y="222074"/>
                </a:cubicBezTo>
                <a:cubicBezTo>
                  <a:pt x="200883" y="237156"/>
                  <a:pt x="195327" y="204611"/>
                  <a:pt x="156433" y="195880"/>
                </a:cubicBezTo>
                <a:lnTo>
                  <a:pt x="163577" y="231599"/>
                </a:lnTo>
                <a:lnTo>
                  <a:pt x="115952" y="188736"/>
                </a:lnTo>
                <a:lnTo>
                  <a:pt x="120715" y="233980"/>
                </a:lnTo>
                <a:cubicBezTo>
                  <a:pt x="-26526" y="169289"/>
                  <a:pt x="-8667" y="45861"/>
                  <a:pt x="18321" y="14905"/>
                </a:cubicBezTo>
                <a:close/>
              </a:path>
            </a:pathLst>
          </a:custGeom>
          <a:solidFill>
            <a:srgbClr val="8b65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220"/>
          <p:cNvSpPr/>
          <p:nvPr/>
        </p:nvSpPr>
        <p:spPr>
          <a:xfrm flipH="1">
            <a:off x="1450080" y="5826240"/>
            <a:ext cx="235080" cy="323640"/>
          </a:xfrm>
          <a:custGeom>
            <a:avLst/>
            <a:gdLst/>
            <a:ahLst/>
            <a:rect l="l" t="t" r="r" b="b"/>
            <a:pathLst>
              <a:path w="156046" h="215724">
                <a:moveTo>
                  <a:pt x="0" y="0"/>
                </a:moveTo>
                <a:lnTo>
                  <a:pt x="43328" y="23517"/>
                </a:lnTo>
                <a:cubicBezTo>
                  <a:pt x="86464" y="52659"/>
                  <a:pt x="120734" y="93927"/>
                  <a:pt x="141249" y="142429"/>
                </a:cubicBezTo>
                <a:lnTo>
                  <a:pt x="156046" y="215724"/>
                </a:lnTo>
                <a:lnTo>
                  <a:pt x="151841" y="214867"/>
                </a:lnTo>
                <a:cubicBezTo>
                  <a:pt x="80404" y="194825"/>
                  <a:pt x="29604" y="145017"/>
                  <a:pt x="8073" y="84345"/>
                </a:cubicBezTo>
                <a:close/>
              </a:path>
            </a:pathLst>
          </a:custGeom>
          <a:solidFill>
            <a:srgbClr val="8c0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208"/>
          <p:cNvSpPr/>
          <p:nvPr/>
        </p:nvSpPr>
        <p:spPr>
          <a:xfrm flipH="1">
            <a:off x="1515240" y="5735520"/>
            <a:ext cx="9540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209"/>
          <p:cNvSpPr/>
          <p:nvPr/>
        </p:nvSpPr>
        <p:spPr>
          <a:xfrm flipH="1">
            <a:off x="1536840" y="5756400"/>
            <a:ext cx="54000" cy="540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210"/>
          <p:cNvSpPr/>
          <p:nvPr/>
        </p:nvSpPr>
        <p:spPr>
          <a:xfrm flipH="1">
            <a:off x="1565280" y="5776920"/>
            <a:ext cx="30240" cy="30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233"/>
          <p:cNvSpPr/>
          <p:nvPr/>
        </p:nvSpPr>
        <p:spPr>
          <a:xfrm>
            <a:off x="9042480" y="2438280"/>
            <a:ext cx="222120" cy="222480"/>
          </a:xfrm>
          <a:prstGeom prst="ellipse">
            <a:avLst/>
          </a:prstGeom>
          <a:solidFill>
            <a:srgbClr val="8a0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34"/>
          <p:cNvSpPr/>
          <p:nvPr/>
        </p:nvSpPr>
        <p:spPr>
          <a:xfrm>
            <a:off x="9067680" y="2616120"/>
            <a:ext cx="171720" cy="4140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五角星 235"/>
          <p:cNvSpPr/>
          <p:nvPr/>
        </p:nvSpPr>
        <p:spPr>
          <a:xfrm>
            <a:off x="9078840" y="2333520"/>
            <a:ext cx="243000" cy="244440"/>
          </a:xfrm>
          <a:custGeom>
            <a:avLst/>
            <a:gdLst/>
            <a:ahLst/>
            <a:rect l="l" t="t" r="r" b="b"/>
            <a:pathLst>
              <a:path w="242887" h="244475">
                <a:moveTo>
                  <a:pt x="0" y="93380"/>
                </a:moveTo>
                <a:lnTo>
                  <a:pt x="92775" y="93381"/>
                </a:lnTo>
                <a:lnTo>
                  <a:pt x="121443" y="0"/>
                </a:lnTo>
                <a:lnTo>
                  <a:pt x="150111" y="93381"/>
                </a:lnTo>
                <a:lnTo>
                  <a:pt x="242886" y="93380"/>
                </a:lnTo>
                <a:lnTo>
                  <a:pt x="167829" y="151093"/>
                </a:lnTo>
                <a:lnTo>
                  <a:pt x="196499" y="244474"/>
                </a:lnTo>
                <a:lnTo>
                  <a:pt x="121443" y="186760"/>
                </a:lnTo>
                <a:lnTo>
                  <a:pt x="46387" y="244474"/>
                </a:lnTo>
                <a:lnTo>
                  <a:pt x="75057" y="1510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237"/>
          <p:cNvSpPr/>
          <p:nvPr/>
        </p:nvSpPr>
        <p:spPr>
          <a:xfrm>
            <a:off x="9283680" y="2673360"/>
            <a:ext cx="220680" cy="222120"/>
          </a:xfrm>
          <a:prstGeom prst="ellipse">
            <a:avLst/>
          </a:prstGeom>
          <a:solidFill>
            <a:srgbClr val="e5b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238"/>
          <p:cNvSpPr/>
          <p:nvPr/>
        </p:nvSpPr>
        <p:spPr>
          <a:xfrm>
            <a:off x="9309240" y="2851200"/>
            <a:ext cx="169560" cy="4140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五角星 239"/>
          <p:cNvSpPr/>
          <p:nvPr/>
        </p:nvSpPr>
        <p:spPr>
          <a:xfrm>
            <a:off x="9340920" y="2614680"/>
            <a:ext cx="191880" cy="191880"/>
          </a:xfrm>
          <a:custGeom>
            <a:avLst/>
            <a:gdLst/>
            <a:ahLst/>
            <a:rect l="l" t="t" r="r" b="b"/>
            <a:pathLst>
              <a:path w="192088" h="192087">
                <a:moveTo>
                  <a:pt x="0" y="73370"/>
                </a:moveTo>
                <a:lnTo>
                  <a:pt x="73371" y="73371"/>
                </a:lnTo>
                <a:lnTo>
                  <a:pt x="96044" y="0"/>
                </a:lnTo>
                <a:lnTo>
                  <a:pt x="118716" y="73371"/>
                </a:lnTo>
                <a:lnTo>
                  <a:pt x="192087" y="73370"/>
                </a:lnTo>
                <a:lnTo>
                  <a:pt x="132728" y="118715"/>
                </a:lnTo>
                <a:lnTo>
                  <a:pt x="155402" y="192086"/>
                </a:lnTo>
                <a:lnTo>
                  <a:pt x="96044" y="146740"/>
                </a:lnTo>
                <a:lnTo>
                  <a:pt x="36685" y="192086"/>
                </a:lnTo>
                <a:lnTo>
                  <a:pt x="59359" y="1187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241"/>
          <p:cNvSpPr/>
          <p:nvPr/>
        </p:nvSpPr>
        <p:spPr>
          <a:xfrm>
            <a:off x="9847440" y="2774880"/>
            <a:ext cx="220320" cy="222480"/>
          </a:xfrm>
          <a:prstGeom prst="ellipse">
            <a:avLst/>
          </a:prstGeom>
          <a:solidFill>
            <a:srgbClr val="e5b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242"/>
          <p:cNvSpPr/>
          <p:nvPr/>
        </p:nvSpPr>
        <p:spPr>
          <a:xfrm>
            <a:off x="9872640" y="2951280"/>
            <a:ext cx="169920" cy="4104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五角星 243"/>
          <p:cNvSpPr/>
          <p:nvPr/>
        </p:nvSpPr>
        <p:spPr>
          <a:xfrm>
            <a:off x="9904320" y="2714760"/>
            <a:ext cx="192240" cy="191880"/>
          </a:xfrm>
          <a:custGeom>
            <a:avLst/>
            <a:gdLst/>
            <a:ahLst/>
            <a:rect l="l" t="t" r="r" b="b"/>
            <a:pathLst>
              <a:path w="192087" h="192088">
                <a:moveTo>
                  <a:pt x="0" y="73370"/>
                </a:moveTo>
                <a:lnTo>
                  <a:pt x="73371" y="73371"/>
                </a:lnTo>
                <a:lnTo>
                  <a:pt x="96043" y="0"/>
                </a:lnTo>
                <a:lnTo>
                  <a:pt x="118715" y="73371"/>
                </a:lnTo>
                <a:lnTo>
                  <a:pt x="192086" y="73370"/>
                </a:lnTo>
                <a:lnTo>
                  <a:pt x="132728" y="118716"/>
                </a:lnTo>
                <a:lnTo>
                  <a:pt x="155401" y="192087"/>
                </a:lnTo>
                <a:lnTo>
                  <a:pt x="96043" y="146741"/>
                </a:lnTo>
                <a:lnTo>
                  <a:pt x="36685" y="192087"/>
                </a:lnTo>
                <a:lnTo>
                  <a:pt x="59358" y="1187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245"/>
          <p:cNvSpPr/>
          <p:nvPr/>
        </p:nvSpPr>
        <p:spPr>
          <a:xfrm>
            <a:off x="8643960" y="2782800"/>
            <a:ext cx="220680" cy="220680"/>
          </a:xfrm>
          <a:prstGeom prst="ellipse">
            <a:avLst/>
          </a:prstGeom>
          <a:solidFill>
            <a:srgbClr val="8a0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46"/>
          <p:cNvSpPr/>
          <p:nvPr/>
        </p:nvSpPr>
        <p:spPr>
          <a:xfrm>
            <a:off x="8669160" y="2959200"/>
            <a:ext cx="169920" cy="4104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五角星 247"/>
          <p:cNvSpPr/>
          <p:nvPr/>
        </p:nvSpPr>
        <p:spPr>
          <a:xfrm>
            <a:off x="8678880" y="2678040"/>
            <a:ext cx="244440" cy="243000"/>
          </a:xfrm>
          <a:custGeom>
            <a:avLst/>
            <a:gdLst/>
            <a:ahLst/>
            <a:rect l="l" t="t" r="r" b="b"/>
            <a:pathLst>
              <a:path w="244475" h="242887">
                <a:moveTo>
                  <a:pt x="0" y="92774"/>
                </a:moveTo>
                <a:lnTo>
                  <a:pt x="93381" y="92774"/>
                </a:lnTo>
                <a:lnTo>
                  <a:pt x="122237" y="0"/>
                </a:lnTo>
                <a:lnTo>
                  <a:pt x="151093" y="92774"/>
                </a:lnTo>
                <a:lnTo>
                  <a:pt x="244474" y="92774"/>
                </a:lnTo>
                <a:lnTo>
                  <a:pt x="168927" y="150111"/>
                </a:lnTo>
                <a:lnTo>
                  <a:pt x="197784" y="242886"/>
                </a:lnTo>
                <a:lnTo>
                  <a:pt x="122237" y="185547"/>
                </a:lnTo>
                <a:lnTo>
                  <a:pt x="46690" y="242886"/>
                </a:lnTo>
                <a:lnTo>
                  <a:pt x="75547" y="150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249"/>
          <p:cNvSpPr/>
          <p:nvPr/>
        </p:nvSpPr>
        <p:spPr>
          <a:xfrm>
            <a:off x="8809200" y="3236760"/>
            <a:ext cx="222120" cy="222480"/>
          </a:xfrm>
          <a:prstGeom prst="ellipse">
            <a:avLst/>
          </a:prstGeom>
          <a:solidFill>
            <a:srgbClr val="8a0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250"/>
          <p:cNvSpPr/>
          <p:nvPr/>
        </p:nvSpPr>
        <p:spPr>
          <a:xfrm>
            <a:off x="8834400" y="3414600"/>
            <a:ext cx="169920" cy="3996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五角星 251"/>
          <p:cNvSpPr/>
          <p:nvPr/>
        </p:nvSpPr>
        <p:spPr>
          <a:xfrm>
            <a:off x="8845560" y="3133800"/>
            <a:ext cx="243000" cy="242640"/>
          </a:xfrm>
          <a:custGeom>
            <a:avLst/>
            <a:gdLst/>
            <a:ahLst/>
            <a:rect l="l" t="t" r="r" b="b"/>
            <a:pathLst>
              <a:path w="242888" h="242888">
                <a:moveTo>
                  <a:pt x="0" y="92774"/>
                </a:moveTo>
                <a:lnTo>
                  <a:pt x="92775" y="92775"/>
                </a:lnTo>
                <a:lnTo>
                  <a:pt x="121444" y="0"/>
                </a:lnTo>
                <a:lnTo>
                  <a:pt x="150112" y="92775"/>
                </a:lnTo>
                <a:lnTo>
                  <a:pt x="242887" y="92774"/>
                </a:lnTo>
                <a:lnTo>
                  <a:pt x="167830" y="150112"/>
                </a:lnTo>
                <a:lnTo>
                  <a:pt x="196500" y="242887"/>
                </a:lnTo>
                <a:lnTo>
                  <a:pt x="121444" y="185548"/>
                </a:lnTo>
                <a:lnTo>
                  <a:pt x="46387" y="242887"/>
                </a:lnTo>
                <a:lnTo>
                  <a:pt x="75057" y="150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253"/>
          <p:cNvSpPr/>
          <p:nvPr/>
        </p:nvSpPr>
        <p:spPr>
          <a:xfrm>
            <a:off x="10188720" y="3835440"/>
            <a:ext cx="222120" cy="222120"/>
          </a:xfrm>
          <a:prstGeom prst="ellipse">
            <a:avLst/>
          </a:prstGeom>
          <a:solidFill>
            <a:srgbClr val="8a0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254"/>
          <p:cNvSpPr/>
          <p:nvPr/>
        </p:nvSpPr>
        <p:spPr>
          <a:xfrm>
            <a:off x="10215720" y="4013280"/>
            <a:ext cx="169560" cy="3960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五角星 255"/>
          <p:cNvSpPr/>
          <p:nvPr/>
        </p:nvSpPr>
        <p:spPr>
          <a:xfrm>
            <a:off x="10225080" y="3730680"/>
            <a:ext cx="244440" cy="244440"/>
          </a:xfrm>
          <a:custGeom>
            <a:avLst/>
            <a:gdLst/>
            <a:ahLst/>
            <a:rect l="l" t="t" r="r" b="b"/>
            <a:pathLst>
              <a:path w="244475" h="244475">
                <a:moveTo>
                  <a:pt x="0" y="93380"/>
                </a:moveTo>
                <a:lnTo>
                  <a:pt x="93381" y="93381"/>
                </a:lnTo>
                <a:lnTo>
                  <a:pt x="122237" y="0"/>
                </a:lnTo>
                <a:lnTo>
                  <a:pt x="151093" y="93381"/>
                </a:lnTo>
                <a:lnTo>
                  <a:pt x="244474" y="93380"/>
                </a:lnTo>
                <a:lnTo>
                  <a:pt x="168927" y="151093"/>
                </a:lnTo>
                <a:lnTo>
                  <a:pt x="197784" y="244474"/>
                </a:lnTo>
                <a:lnTo>
                  <a:pt x="122237" y="186760"/>
                </a:lnTo>
                <a:lnTo>
                  <a:pt x="46690" y="244474"/>
                </a:lnTo>
                <a:lnTo>
                  <a:pt x="75547" y="1510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257"/>
          <p:cNvSpPr/>
          <p:nvPr/>
        </p:nvSpPr>
        <p:spPr>
          <a:xfrm>
            <a:off x="9283680" y="3392640"/>
            <a:ext cx="220680" cy="220680"/>
          </a:xfrm>
          <a:prstGeom prst="ellipse">
            <a:avLst/>
          </a:prstGeom>
          <a:solidFill>
            <a:srgbClr val="e5b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258"/>
          <p:cNvSpPr/>
          <p:nvPr/>
        </p:nvSpPr>
        <p:spPr>
          <a:xfrm>
            <a:off x="9309240" y="3568680"/>
            <a:ext cx="169560" cy="4140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五角星 259"/>
          <p:cNvSpPr/>
          <p:nvPr/>
        </p:nvSpPr>
        <p:spPr>
          <a:xfrm>
            <a:off x="9340920" y="3333600"/>
            <a:ext cx="191880" cy="190800"/>
          </a:xfrm>
          <a:custGeom>
            <a:avLst/>
            <a:gdLst/>
            <a:ahLst/>
            <a:rect l="l" t="t" r="r" b="b"/>
            <a:pathLst>
              <a:path w="192088" h="190500">
                <a:moveTo>
                  <a:pt x="0" y="72764"/>
                </a:moveTo>
                <a:lnTo>
                  <a:pt x="73371" y="72764"/>
                </a:lnTo>
                <a:lnTo>
                  <a:pt x="96044" y="0"/>
                </a:lnTo>
                <a:lnTo>
                  <a:pt x="118716" y="72764"/>
                </a:lnTo>
                <a:lnTo>
                  <a:pt x="192087" y="72764"/>
                </a:lnTo>
                <a:lnTo>
                  <a:pt x="132728" y="117734"/>
                </a:lnTo>
                <a:lnTo>
                  <a:pt x="155402" y="190499"/>
                </a:lnTo>
                <a:lnTo>
                  <a:pt x="96044" y="145528"/>
                </a:lnTo>
                <a:lnTo>
                  <a:pt x="36685" y="190499"/>
                </a:lnTo>
                <a:lnTo>
                  <a:pt x="59359" y="1177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椭圆 261"/>
          <p:cNvSpPr/>
          <p:nvPr/>
        </p:nvSpPr>
        <p:spPr>
          <a:xfrm>
            <a:off x="9725040" y="3720960"/>
            <a:ext cx="222120" cy="220680"/>
          </a:xfrm>
          <a:prstGeom prst="ellipse">
            <a:avLst/>
          </a:prstGeom>
          <a:solidFill>
            <a:srgbClr val="e5b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262"/>
          <p:cNvSpPr/>
          <p:nvPr/>
        </p:nvSpPr>
        <p:spPr>
          <a:xfrm>
            <a:off x="9750600" y="3897360"/>
            <a:ext cx="169560" cy="4140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五角星 263"/>
          <p:cNvSpPr/>
          <p:nvPr/>
        </p:nvSpPr>
        <p:spPr>
          <a:xfrm>
            <a:off x="9782280" y="3660840"/>
            <a:ext cx="191880" cy="191880"/>
          </a:xfrm>
          <a:custGeom>
            <a:avLst/>
            <a:gdLst/>
            <a:ahLst/>
            <a:rect l="l" t="t" r="r" b="b"/>
            <a:pathLst>
              <a:path w="192088" h="192088">
                <a:moveTo>
                  <a:pt x="0" y="73370"/>
                </a:moveTo>
                <a:lnTo>
                  <a:pt x="73371" y="73371"/>
                </a:lnTo>
                <a:lnTo>
                  <a:pt x="96044" y="0"/>
                </a:lnTo>
                <a:lnTo>
                  <a:pt x="118716" y="73371"/>
                </a:lnTo>
                <a:lnTo>
                  <a:pt x="192087" y="73370"/>
                </a:lnTo>
                <a:lnTo>
                  <a:pt x="132728" y="118716"/>
                </a:lnTo>
                <a:lnTo>
                  <a:pt x="155402" y="192087"/>
                </a:lnTo>
                <a:lnTo>
                  <a:pt x="96044" y="146741"/>
                </a:lnTo>
                <a:lnTo>
                  <a:pt x="36685" y="192087"/>
                </a:lnTo>
                <a:lnTo>
                  <a:pt x="59359" y="1187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265"/>
          <p:cNvSpPr/>
          <p:nvPr/>
        </p:nvSpPr>
        <p:spPr>
          <a:xfrm>
            <a:off x="7840800" y="5052960"/>
            <a:ext cx="222120" cy="222480"/>
          </a:xfrm>
          <a:prstGeom prst="ellipse">
            <a:avLst/>
          </a:prstGeom>
          <a:solidFill>
            <a:srgbClr val="8a0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266"/>
          <p:cNvSpPr/>
          <p:nvPr/>
        </p:nvSpPr>
        <p:spPr>
          <a:xfrm>
            <a:off x="7866000" y="5230800"/>
            <a:ext cx="169920" cy="3960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五角星 267"/>
          <p:cNvSpPr/>
          <p:nvPr/>
        </p:nvSpPr>
        <p:spPr>
          <a:xfrm>
            <a:off x="7877160" y="4948200"/>
            <a:ext cx="243000" cy="244440"/>
          </a:xfrm>
          <a:custGeom>
            <a:avLst/>
            <a:gdLst/>
            <a:ahLst/>
            <a:rect l="l" t="t" r="r" b="b"/>
            <a:pathLst>
              <a:path w="242888" h="244475">
                <a:moveTo>
                  <a:pt x="0" y="93380"/>
                </a:moveTo>
                <a:lnTo>
                  <a:pt x="92775" y="93381"/>
                </a:lnTo>
                <a:lnTo>
                  <a:pt x="121444" y="0"/>
                </a:lnTo>
                <a:lnTo>
                  <a:pt x="150112" y="93381"/>
                </a:lnTo>
                <a:lnTo>
                  <a:pt x="242887" y="93380"/>
                </a:lnTo>
                <a:lnTo>
                  <a:pt x="167830" y="151093"/>
                </a:lnTo>
                <a:lnTo>
                  <a:pt x="196500" y="244474"/>
                </a:lnTo>
                <a:lnTo>
                  <a:pt x="121444" y="186760"/>
                </a:lnTo>
                <a:lnTo>
                  <a:pt x="46387" y="244474"/>
                </a:lnTo>
                <a:lnTo>
                  <a:pt x="75057" y="1510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269"/>
          <p:cNvSpPr/>
          <p:nvPr/>
        </p:nvSpPr>
        <p:spPr>
          <a:xfrm>
            <a:off x="9207360" y="4232160"/>
            <a:ext cx="222480" cy="220680"/>
          </a:xfrm>
          <a:prstGeom prst="ellipse">
            <a:avLst/>
          </a:prstGeom>
          <a:solidFill>
            <a:srgbClr val="8a0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任意多边形 270"/>
          <p:cNvSpPr/>
          <p:nvPr/>
        </p:nvSpPr>
        <p:spPr>
          <a:xfrm>
            <a:off x="9232920" y="4408560"/>
            <a:ext cx="171360" cy="3960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五角星 271"/>
          <p:cNvSpPr/>
          <p:nvPr/>
        </p:nvSpPr>
        <p:spPr>
          <a:xfrm>
            <a:off x="9244080" y="4127400"/>
            <a:ext cx="243000" cy="243000"/>
          </a:xfrm>
          <a:custGeom>
            <a:avLst/>
            <a:gdLst/>
            <a:ahLst/>
            <a:rect l="l" t="t" r="r" b="b"/>
            <a:pathLst>
              <a:path w="242887" h="242888">
                <a:moveTo>
                  <a:pt x="0" y="92774"/>
                </a:moveTo>
                <a:lnTo>
                  <a:pt x="92775" y="92775"/>
                </a:lnTo>
                <a:lnTo>
                  <a:pt x="121443" y="0"/>
                </a:lnTo>
                <a:lnTo>
                  <a:pt x="150111" y="92775"/>
                </a:lnTo>
                <a:lnTo>
                  <a:pt x="242886" y="92774"/>
                </a:lnTo>
                <a:lnTo>
                  <a:pt x="167829" y="150112"/>
                </a:lnTo>
                <a:lnTo>
                  <a:pt x="196499" y="242887"/>
                </a:lnTo>
                <a:lnTo>
                  <a:pt x="121443" y="185548"/>
                </a:lnTo>
                <a:lnTo>
                  <a:pt x="46387" y="242887"/>
                </a:lnTo>
                <a:lnTo>
                  <a:pt x="75057" y="150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273"/>
          <p:cNvSpPr/>
          <p:nvPr/>
        </p:nvSpPr>
        <p:spPr>
          <a:xfrm>
            <a:off x="10712520" y="5094360"/>
            <a:ext cx="222120" cy="220680"/>
          </a:xfrm>
          <a:prstGeom prst="ellipse">
            <a:avLst/>
          </a:prstGeom>
          <a:solidFill>
            <a:srgbClr val="8a0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任意多边形 274"/>
          <p:cNvSpPr/>
          <p:nvPr/>
        </p:nvSpPr>
        <p:spPr>
          <a:xfrm>
            <a:off x="10737720" y="5270400"/>
            <a:ext cx="171720" cy="4140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五角星 275"/>
          <p:cNvSpPr/>
          <p:nvPr/>
        </p:nvSpPr>
        <p:spPr>
          <a:xfrm>
            <a:off x="10747440" y="4989600"/>
            <a:ext cx="244440" cy="242640"/>
          </a:xfrm>
          <a:custGeom>
            <a:avLst/>
            <a:gdLst/>
            <a:ahLst/>
            <a:rect l="l" t="t" r="r" b="b"/>
            <a:pathLst>
              <a:path w="244475" h="242887">
                <a:moveTo>
                  <a:pt x="0" y="92774"/>
                </a:moveTo>
                <a:lnTo>
                  <a:pt x="93381" y="92774"/>
                </a:lnTo>
                <a:lnTo>
                  <a:pt x="122237" y="0"/>
                </a:lnTo>
                <a:lnTo>
                  <a:pt x="151093" y="92774"/>
                </a:lnTo>
                <a:lnTo>
                  <a:pt x="244474" y="92774"/>
                </a:lnTo>
                <a:lnTo>
                  <a:pt x="168927" y="150111"/>
                </a:lnTo>
                <a:lnTo>
                  <a:pt x="197784" y="242886"/>
                </a:lnTo>
                <a:lnTo>
                  <a:pt x="122237" y="185547"/>
                </a:lnTo>
                <a:lnTo>
                  <a:pt x="46690" y="242886"/>
                </a:lnTo>
                <a:lnTo>
                  <a:pt x="75547" y="150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277"/>
          <p:cNvSpPr/>
          <p:nvPr/>
        </p:nvSpPr>
        <p:spPr>
          <a:xfrm>
            <a:off x="9139320" y="4705200"/>
            <a:ext cx="222120" cy="222480"/>
          </a:xfrm>
          <a:prstGeom prst="ellipse">
            <a:avLst/>
          </a:prstGeom>
          <a:solidFill>
            <a:srgbClr val="e5b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任意多边形 278"/>
          <p:cNvSpPr/>
          <p:nvPr/>
        </p:nvSpPr>
        <p:spPr>
          <a:xfrm>
            <a:off x="9164520" y="4883040"/>
            <a:ext cx="169920" cy="3996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五角星 279"/>
          <p:cNvSpPr/>
          <p:nvPr/>
        </p:nvSpPr>
        <p:spPr>
          <a:xfrm>
            <a:off x="9198000" y="4646520"/>
            <a:ext cx="190440" cy="192240"/>
          </a:xfrm>
          <a:custGeom>
            <a:avLst/>
            <a:gdLst/>
            <a:ahLst/>
            <a:rect l="l" t="t" r="r" b="b"/>
            <a:pathLst>
              <a:path w="190500" h="192087">
                <a:moveTo>
                  <a:pt x="0" y="73370"/>
                </a:moveTo>
                <a:lnTo>
                  <a:pt x="72764" y="73371"/>
                </a:lnTo>
                <a:lnTo>
                  <a:pt x="95250" y="0"/>
                </a:lnTo>
                <a:lnTo>
                  <a:pt x="117735" y="73371"/>
                </a:lnTo>
                <a:lnTo>
                  <a:pt x="190499" y="73370"/>
                </a:lnTo>
                <a:lnTo>
                  <a:pt x="131631" y="118715"/>
                </a:lnTo>
                <a:lnTo>
                  <a:pt x="154117" y="192086"/>
                </a:lnTo>
                <a:lnTo>
                  <a:pt x="95250" y="146740"/>
                </a:lnTo>
                <a:lnTo>
                  <a:pt x="36382" y="192086"/>
                </a:lnTo>
                <a:lnTo>
                  <a:pt x="58868" y="1187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 281"/>
          <p:cNvSpPr/>
          <p:nvPr/>
        </p:nvSpPr>
        <p:spPr>
          <a:xfrm>
            <a:off x="9269280" y="1503360"/>
            <a:ext cx="222480" cy="222120"/>
          </a:xfrm>
          <a:prstGeom prst="ellipse">
            <a:avLst/>
          </a:prstGeom>
          <a:solidFill>
            <a:srgbClr val="8a0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282"/>
          <p:cNvSpPr/>
          <p:nvPr/>
        </p:nvSpPr>
        <p:spPr>
          <a:xfrm>
            <a:off x="9294840" y="1679400"/>
            <a:ext cx="169920" cy="41400"/>
          </a:xfrm>
          <a:custGeom>
            <a:avLst/>
            <a:gdLst/>
            <a:ahLst/>
            <a:rect l="l" t="t" r="r" b="b"/>
            <a:pathLst>
              <a:path w="637174" h="151854">
                <a:moveTo>
                  <a:pt x="0" y="0"/>
                </a:moveTo>
                <a:lnTo>
                  <a:pt x="19293" y="12349"/>
                </a:lnTo>
                <a:cubicBezTo>
                  <a:pt x="104728" y="57127"/>
                  <a:pt x="207722" y="83274"/>
                  <a:pt x="318587" y="83274"/>
                </a:cubicBezTo>
                <a:cubicBezTo>
                  <a:pt x="429453" y="83274"/>
                  <a:pt x="532446" y="57127"/>
                  <a:pt x="617881" y="12349"/>
                </a:cubicBezTo>
                <a:lnTo>
                  <a:pt x="637174" y="0"/>
                </a:lnTo>
                <a:lnTo>
                  <a:pt x="612241" y="30218"/>
                </a:lnTo>
                <a:cubicBezTo>
                  <a:pt x="537089" y="105371"/>
                  <a:pt x="433266" y="151854"/>
                  <a:pt x="318587" y="151854"/>
                </a:cubicBezTo>
                <a:cubicBezTo>
                  <a:pt x="203908" y="151854"/>
                  <a:pt x="100086" y="105371"/>
                  <a:pt x="24933" y="30218"/>
                </a:cubicBezTo>
                <a:close/>
              </a:path>
            </a:pathLst>
          </a:cu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五角星 283"/>
          <p:cNvSpPr/>
          <p:nvPr/>
        </p:nvSpPr>
        <p:spPr>
          <a:xfrm>
            <a:off x="9306000" y="1398600"/>
            <a:ext cx="242640" cy="244440"/>
          </a:xfrm>
          <a:custGeom>
            <a:avLst/>
            <a:gdLst/>
            <a:ahLst/>
            <a:rect l="l" t="t" r="r" b="b"/>
            <a:pathLst>
              <a:path w="242888" h="244475">
                <a:moveTo>
                  <a:pt x="0" y="93380"/>
                </a:moveTo>
                <a:lnTo>
                  <a:pt x="92775" y="93381"/>
                </a:lnTo>
                <a:lnTo>
                  <a:pt x="121444" y="0"/>
                </a:lnTo>
                <a:lnTo>
                  <a:pt x="150112" y="93381"/>
                </a:lnTo>
                <a:lnTo>
                  <a:pt x="242887" y="93380"/>
                </a:lnTo>
                <a:lnTo>
                  <a:pt x="167830" y="151093"/>
                </a:lnTo>
                <a:lnTo>
                  <a:pt x="196500" y="244474"/>
                </a:lnTo>
                <a:lnTo>
                  <a:pt x="121444" y="186760"/>
                </a:lnTo>
                <a:lnTo>
                  <a:pt x="46387" y="244474"/>
                </a:lnTo>
                <a:lnTo>
                  <a:pt x="75057" y="1510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284"/>
          <p:cNvSpPr/>
          <p:nvPr/>
        </p:nvSpPr>
        <p:spPr>
          <a:xfrm>
            <a:off x="9059760" y="5908680"/>
            <a:ext cx="327240" cy="320760"/>
          </a:xfrm>
          <a:custGeom>
            <a:avLst/>
            <a:gdLst/>
            <a:ahLst/>
            <a:rect l="l" t="t" r="r" b="b"/>
            <a:pathLst>
              <a:path w="473031" h="464276">
                <a:moveTo>
                  <a:pt x="163455" y="0"/>
                </a:moveTo>
                <a:cubicBezTo>
                  <a:pt x="224838" y="40482"/>
                  <a:pt x="302892" y="66676"/>
                  <a:pt x="407137" y="38101"/>
                </a:cubicBezTo>
                <a:lnTo>
                  <a:pt x="447618" y="151607"/>
                </a:lnTo>
                <a:lnTo>
                  <a:pt x="446671" y="151693"/>
                </a:lnTo>
                <a:cubicBezTo>
                  <a:pt x="509462" y="324917"/>
                  <a:pt x="448428" y="452897"/>
                  <a:pt x="385013" y="464196"/>
                </a:cubicBezTo>
                <a:cubicBezTo>
                  <a:pt x="244677" y="466455"/>
                  <a:pt x="258133" y="420462"/>
                  <a:pt x="248950" y="395523"/>
                </a:cubicBezTo>
                <a:cubicBezTo>
                  <a:pt x="248950" y="350808"/>
                  <a:pt x="305176" y="319812"/>
                  <a:pt x="329913" y="314560"/>
                </a:cubicBezTo>
                <a:cubicBezTo>
                  <a:pt x="354650" y="309308"/>
                  <a:pt x="385079" y="334951"/>
                  <a:pt x="397370" y="364009"/>
                </a:cubicBezTo>
                <a:cubicBezTo>
                  <a:pt x="405786" y="337867"/>
                  <a:pt x="472257" y="288931"/>
                  <a:pt x="418510" y="152947"/>
                </a:cubicBezTo>
                <a:cubicBezTo>
                  <a:pt x="371955" y="155180"/>
                  <a:pt x="293139" y="155393"/>
                  <a:pt x="239190" y="133892"/>
                </a:cubicBezTo>
                <a:lnTo>
                  <a:pt x="195859" y="113697"/>
                </a:lnTo>
                <a:cubicBezTo>
                  <a:pt x="204201" y="178579"/>
                  <a:pt x="201443" y="391042"/>
                  <a:pt x="93975" y="375548"/>
                </a:cubicBezTo>
                <a:cubicBezTo>
                  <a:pt x="-13493" y="360054"/>
                  <a:pt x="-23340" y="246483"/>
                  <a:pt x="36825" y="206477"/>
                </a:cubicBezTo>
                <a:cubicBezTo>
                  <a:pt x="96990" y="166471"/>
                  <a:pt x="121337" y="216972"/>
                  <a:pt x="140644" y="235528"/>
                </a:cubicBezTo>
                <a:cubicBezTo>
                  <a:pt x="160527" y="233590"/>
                  <a:pt x="166121" y="262606"/>
                  <a:pt x="171717" y="108267"/>
                </a:cubicBezTo>
                <a:lnTo>
                  <a:pt x="163455" y="0"/>
                </a:lnTo>
                <a:close/>
              </a:path>
            </a:pathLst>
          </a:custGeom>
          <a:solidFill>
            <a:srgbClr val="005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任意多边形 285"/>
          <p:cNvSpPr/>
          <p:nvPr/>
        </p:nvSpPr>
        <p:spPr>
          <a:xfrm>
            <a:off x="1886040" y="5424480"/>
            <a:ext cx="326880" cy="322200"/>
          </a:xfrm>
          <a:custGeom>
            <a:avLst/>
            <a:gdLst/>
            <a:ahLst/>
            <a:rect l="l" t="t" r="r" b="b"/>
            <a:pathLst>
              <a:path w="473031" h="464276">
                <a:moveTo>
                  <a:pt x="163455" y="0"/>
                </a:moveTo>
                <a:cubicBezTo>
                  <a:pt x="224838" y="40482"/>
                  <a:pt x="302892" y="66676"/>
                  <a:pt x="407137" y="38101"/>
                </a:cubicBezTo>
                <a:lnTo>
                  <a:pt x="447618" y="151607"/>
                </a:lnTo>
                <a:lnTo>
                  <a:pt x="446671" y="151693"/>
                </a:lnTo>
                <a:cubicBezTo>
                  <a:pt x="509462" y="324917"/>
                  <a:pt x="448428" y="452897"/>
                  <a:pt x="385013" y="464196"/>
                </a:cubicBezTo>
                <a:cubicBezTo>
                  <a:pt x="244677" y="466455"/>
                  <a:pt x="258133" y="420462"/>
                  <a:pt x="248950" y="395523"/>
                </a:cubicBezTo>
                <a:cubicBezTo>
                  <a:pt x="248950" y="350808"/>
                  <a:pt x="305176" y="319812"/>
                  <a:pt x="329913" y="314560"/>
                </a:cubicBezTo>
                <a:cubicBezTo>
                  <a:pt x="354650" y="309308"/>
                  <a:pt x="385079" y="334951"/>
                  <a:pt x="397370" y="364009"/>
                </a:cubicBezTo>
                <a:cubicBezTo>
                  <a:pt x="405786" y="337867"/>
                  <a:pt x="472257" y="288931"/>
                  <a:pt x="418510" y="152947"/>
                </a:cubicBezTo>
                <a:cubicBezTo>
                  <a:pt x="371955" y="155180"/>
                  <a:pt x="293139" y="155393"/>
                  <a:pt x="239190" y="133892"/>
                </a:cubicBezTo>
                <a:lnTo>
                  <a:pt x="195859" y="113697"/>
                </a:lnTo>
                <a:cubicBezTo>
                  <a:pt x="204201" y="178579"/>
                  <a:pt x="201443" y="391042"/>
                  <a:pt x="93975" y="375548"/>
                </a:cubicBezTo>
                <a:cubicBezTo>
                  <a:pt x="-13493" y="360054"/>
                  <a:pt x="-23340" y="246483"/>
                  <a:pt x="36825" y="206477"/>
                </a:cubicBezTo>
                <a:cubicBezTo>
                  <a:pt x="96990" y="166471"/>
                  <a:pt x="121337" y="216972"/>
                  <a:pt x="140644" y="235528"/>
                </a:cubicBezTo>
                <a:cubicBezTo>
                  <a:pt x="160527" y="233590"/>
                  <a:pt x="166121" y="262606"/>
                  <a:pt x="171717" y="108267"/>
                </a:cubicBezTo>
                <a:lnTo>
                  <a:pt x="163455" y="0"/>
                </a:lnTo>
                <a:close/>
              </a:path>
            </a:pathLst>
          </a:custGeom>
          <a:solidFill>
            <a:srgbClr val="005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任意多边形 287"/>
          <p:cNvSpPr/>
          <p:nvPr/>
        </p:nvSpPr>
        <p:spPr>
          <a:xfrm flipH="1">
            <a:off x="4009320" y="4051440"/>
            <a:ext cx="352440" cy="582480"/>
          </a:xfrm>
          <a:custGeom>
            <a:avLst/>
            <a:gdLst/>
            <a:ahLst/>
            <a:rect l="l" t="t" r="r" b="b"/>
            <a:pathLst>
              <a:path w="352425" h="583235">
                <a:moveTo>
                  <a:pt x="0" y="497510"/>
                </a:moveTo>
                <a:cubicBezTo>
                  <a:pt x="48683" y="233985"/>
                  <a:pt x="84667" y="126035"/>
                  <a:pt x="165100" y="2210"/>
                </a:cubicBezTo>
                <a:cubicBezTo>
                  <a:pt x="193675" y="5385"/>
                  <a:pt x="184150" y="78410"/>
                  <a:pt x="193675" y="116510"/>
                </a:cubicBezTo>
                <a:lnTo>
                  <a:pt x="260350" y="2210"/>
                </a:lnTo>
                <a:cubicBezTo>
                  <a:pt x="280458" y="3268"/>
                  <a:pt x="284692" y="-5198"/>
                  <a:pt x="320675" y="5385"/>
                </a:cubicBezTo>
                <a:cubicBezTo>
                  <a:pt x="353483" y="23377"/>
                  <a:pt x="341842" y="66768"/>
                  <a:pt x="352425" y="97460"/>
                </a:cubicBezTo>
                <a:cubicBezTo>
                  <a:pt x="301625" y="248802"/>
                  <a:pt x="314325" y="368393"/>
                  <a:pt x="247650" y="491160"/>
                </a:cubicBezTo>
                <a:lnTo>
                  <a:pt x="168275" y="583235"/>
                </a:lnTo>
                <a:lnTo>
                  <a:pt x="0" y="497510"/>
                </a:lnTo>
                <a:close/>
              </a:path>
            </a:pathLst>
          </a:custGeom>
          <a:solidFill>
            <a:srgbClr val="f6c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103"/>
          <p:cNvSpPr/>
          <p:nvPr/>
        </p:nvSpPr>
        <p:spPr>
          <a:xfrm flipH="1">
            <a:off x="1627200" y="6114960"/>
            <a:ext cx="673200" cy="555840"/>
          </a:xfrm>
          <a:custGeom>
            <a:avLst/>
            <a:gdLst/>
            <a:ahLst/>
            <a:rect l="l" t="t" r="r" b="b"/>
            <a:pathLst>
              <a:path w="673197" h="555385">
                <a:moveTo>
                  <a:pt x="3169" y="261024"/>
                </a:moveTo>
                <a:cubicBezTo>
                  <a:pt x="-15087" y="168460"/>
                  <a:pt x="43623" y="0"/>
                  <a:pt x="228646" y="0"/>
                </a:cubicBezTo>
                <a:cubicBezTo>
                  <a:pt x="413669" y="0"/>
                  <a:pt x="673197" y="98453"/>
                  <a:pt x="673197" y="261024"/>
                </a:cubicBezTo>
                <a:cubicBezTo>
                  <a:pt x="673197" y="423595"/>
                  <a:pt x="523206" y="555385"/>
                  <a:pt x="338183" y="555385"/>
                </a:cubicBezTo>
                <a:cubicBezTo>
                  <a:pt x="153160" y="555385"/>
                  <a:pt x="21425" y="353588"/>
                  <a:pt x="3169" y="261024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任意多边形 289"/>
          <p:cNvSpPr/>
          <p:nvPr/>
        </p:nvSpPr>
        <p:spPr>
          <a:xfrm flipH="1">
            <a:off x="1566720" y="5908680"/>
            <a:ext cx="1239840" cy="903240"/>
          </a:xfrm>
          <a:custGeom>
            <a:avLst/>
            <a:gdLst/>
            <a:ahLst/>
            <a:rect l="l" t="t" r="r" b="b"/>
            <a:pathLst>
              <a:path w="1239514" h="902159">
                <a:moveTo>
                  <a:pt x="371933" y="0"/>
                </a:moveTo>
                <a:cubicBezTo>
                  <a:pt x="517983" y="14287"/>
                  <a:pt x="568783" y="219075"/>
                  <a:pt x="667208" y="328612"/>
                </a:cubicBezTo>
                <a:lnTo>
                  <a:pt x="1181558" y="442912"/>
                </a:lnTo>
                <a:cubicBezTo>
                  <a:pt x="1255378" y="536575"/>
                  <a:pt x="1245058" y="554037"/>
                  <a:pt x="1224421" y="661987"/>
                </a:cubicBezTo>
                <a:cubicBezTo>
                  <a:pt x="1203784" y="769937"/>
                  <a:pt x="1035509" y="887413"/>
                  <a:pt x="933908" y="895350"/>
                </a:cubicBezTo>
                <a:cubicBezTo>
                  <a:pt x="692608" y="914400"/>
                  <a:pt x="456070" y="895350"/>
                  <a:pt x="167145" y="814387"/>
                </a:cubicBezTo>
                <a:cubicBezTo>
                  <a:pt x="132221" y="746125"/>
                  <a:pt x="68720" y="677862"/>
                  <a:pt x="133808" y="538162"/>
                </a:cubicBezTo>
                <a:cubicBezTo>
                  <a:pt x="89358" y="419100"/>
                  <a:pt x="-7479" y="290512"/>
                  <a:pt x="459" y="180975"/>
                </a:cubicBezTo>
                <a:cubicBezTo>
                  <a:pt x="67134" y="133349"/>
                  <a:pt x="133808" y="133350"/>
                  <a:pt x="200483" y="109537"/>
                </a:cubicBezTo>
                <a:lnTo>
                  <a:pt x="371933" y="0"/>
                </a:lnTo>
                <a:close/>
              </a:path>
            </a:pathLst>
          </a:custGeom>
          <a:solidFill>
            <a:srgbClr val="ff9e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任意多边形 290"/>
          <p:cNvSpPr/>
          <p:nvPr/>
        </p:nvSpPr>
        <p:spPr>
          <a:xfrm flipH="1" rot="342000">
            <a:off x="2373840" y="5776920"/>
            <a:ext cx="360360" cy="344520"/>
          </a:xfrm>
          <a:custGeom>
            <a:avLst/>
            <a:gdLst/>
            <a:ahLst/>
            <a:rect l="l" t="t" r="r" b="b"/>
            <a:pathLst>
              <a:path w="359810" h="343949">
                <a:moveTo>
                  <a:pt x="0" y="166687"/>
                </a:moveTo>
                <a:lnTo>
                  <a:pt x="123824" y="180974"/>
                </a:lnTo>
                <a:cubicBezTo>
                  <a:pt x="144461" y="330199"/>
                  <a:pt x="184150" y="369887"/>
                  <a:pt x="328612" y="328612"/>
                </a:cubicBezTo>
                <a:cubicBezTo>
                  <a:pt x="358774" y="236537"/>
                  <a:pt x="384174" y="215899"/>
                  <a:pt x="319087" y="9525"/>
                </a:cubicBezTo>
                <a:lnTo>
                  <a:pt x="80962" y="0"/>
                </a:lnTo>
                <a:lnTo>
                  <a:pt x="0" y="166687"/>
                </a:lnTo>
                <a:close/>
              </a:path>
            </a:pathLst>
          </a:custGeom>
          <a:solidFill>
            <a:srgbClr val="ffc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291"/>
          <p:cNvSpPr/>
          <p:nvPr/>
        </p:nvSpPr>
        <p:spPr>
          <a:xfrm flipH="1">
            <a:off x="2948040" y="6269040"/>
            <a:ext cx="209520" cy="61920"/>
          </a:xfrm>
          <a:custGeom>
            <a:avLst/>
            <a:gdLst/>
            <a:ahLst/>
            <a:rect l="l" t="t" r="r" b="b"/>
            <a:pathLst>
              <a:path w="209551" h="61914">
                <a:moveTo>
                  <a:pt x="0" y="7144"/>
                </a:moveTo>
                <a:lnTo>
                  <a:pt x="28575" y="61912"/>
                </a:lnTo>
                <a:lnTo>
                  <a:pt x="183358" y="61914"/>
                </a:lnTo>
                <a:lnTo>
                  <a:pt x="209551" y="0"/>
                </a:lnTo>
                <a:cubicBezTo>
                  <a:pt x="121445" y="6350"/>
                  <a:pt x="73819" y="10319"/>
                  <a:pt x="0" y="7144"/>
                </a:cubicBezTo>
                <a:close/>
              </a:path>
            </a:pathLst>
          </a:custGeom>
          <a:solidFill>
            <a:srgbClr val="5b9bd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333"/>
          <p:cNvSpPr/>
          <p:nvPr/>
        </p:nvSpPr>
        <p:spPr>
          <a:xfrm flipH="1">
            <a:off x="3374280" y="6319800"/>
            <a:ext cx="382680" cy="230400"/>
          </a:xfrm>
          <a:custGeom>
            <a:avLst/>
            <a:gdLst/>
            <a:ahLst/>
            <a:rect l="l" t="t" r="r" b="b"/>
            <a:pathLst>
              <a:path w="383382" h="229558">
                <a:moveTo>
                  <a:pt x="383382" y="4762"/>
                </a:moveTo>
                <a:cubicBezTo>
                  <a:pt x="362744" y="60325"/>
                  <a:pt x="361180" y="186992"/>
                  <a:pt x="311944" y="216694"/>
                </a:cubicBezTo>
                <a:cubicBezTo>
                  <a:pt x="262974" y="246235"/>
                  <a:pt x="213519" y="214312"/>
                  <a:pt x="109538" y="223837"/>
                </a:cubicBezTo>
                <a:cubicBezTo>
                  <a:pt x="50800" y="209550"/>
                  <a:pt x="11112" y="216692"/>
                  <a:pt x="0" y="102393"/>
                </a:cubicBezTo>
                <a:cubicBezTo>
                  <a:pt x="111125" y="192088"/>
                  <a:pt x="229394" y="107949"/>
                  <a:pt x="228600" y="0"/>
                </a:cubicBezTo>
                <a:lnTo>
                  <a:pt x="383382" y="47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334"/>
          <p:cNvSpPr/>
          <p:nvPr/>
        </p:nvSpPr>
        <p:spPr>
          <a:xfrm flipH="1">
            <a:off x="3371040" y="6321600"/>
            <a:ext cx="235080" cy="225360"/>
          </a:xfrm>
          <a:custGeom>
            <a:avLst/>
            <a:gdLst/>
            <a:ahLst/>
            <a:rect l="l" t="t" r="r" b="b"/>
            <a:pathLst>
              <a:path w="233364" h="225783">
                <a:moveTo>
                  <a:pt x="180975" y="0"/>
                </a:moveTo>
                <a:lnTo>
                  <a:pt x="233364" y="1612"/>
                </a:lnTo>
                <a:cubicBezTo>
                  <a:pt x="212726" y="57175"/>
                  <a:pt x="211162" y="183842"/>
                  <a:pt x="161926" y="213544"/>
                </a:cubicBezTo>
                <a:cubicBezTo>
                  <a:pt x="149684" y="220929"/>
                  <a:pt x="137411" y="224473"/>
                  <a:pt x="124263" y="225783"/>
                </a:cubicBezTo>
                <a:lnTo>
                  <a:pt x="106695" y="225308"/>
                </a:lnTo>
                <a:lnTo>
                  <a:pt x="0" y="206400"/>
                </a:lnTo>
                <a:lnTo>
                  <a:pt x="128588" y="175443"/>
                </a:lnTo>
                <a:lnTo>
                  <a:pt x="180975" y="96862"/>
                </a:lnTo>
                <a:close/>
              </a:path>
            </a:pathLst>
          </a:custGeom>
          <a:solidFill>
            <a:srgbClr val="d8e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任意多边形 293"/>
          <p:cNvSpPr/>
          <p:nvPr/>
        </p:nvSpPr>
        <p:spPr>
          <a:xfrm flipH="1">
            <a:off x="3345840" y="6221520"/>
            <a:ext cx="230040" cy="109440"/>
          </a:xfrm>
          <a:custGeom>
            <a:avLst/>
            <a:gdLst/>
            <a:ahLst/>
            <a:rect l="l" t="t" r="r" b="b"/>
            <a:pathLst>
              <a:path w="230982" h="109539">
                <a:moveTo>
                  <a:pt x="0" y="0"/>
                </a:moveTo>
                <a:lnTo>
                  <a:pt x="50006" y="100012"/>
                </a:lnTo>
                <a:lnTo>
                  <a:pt x="204789" y="109539"/>
                </a:lnTo>
                <a:lnTo>
                  <a:pt x="230982" y="54769"/>
                </a:lnTo>
                <a:lnTo>
                  <a:pt x="0" y="0"/>
                </a:lnTo>
                <a:close/>
              </a:path>
            </a:pathLst>
          </a:custGeom>
          <a:solidFill>
            <a:srgbClr val="5b9bd5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任意多边形 294"/>
          <p:cNvSpPr/>
          <p:nvPr/>
        </p:nvSpPr>
        <p:spPr>
          <a:xfrm flipH="1">
            <a:off x="2464560" y="4521240"/>
            <a:ext cx="1876680" cy="1755720"/>
          </a:xfrm>
          <a:custGeom>
            <a:avLst/>
            <a:gdLst/>
            <a:ahLst/>
            <a:rect l="l" t="t" r="r" b="b"/>
            <a:pathLst>
              <a:path w="1876425" h="1755775">
                <a:moveTo>
                  <a:pt x="1266825" y="434975"/>
                </a:moveTo>
                <a:cubicBezTo>
                  <a:pt x="1565275" y="602192"/>
                  <a:pt x="1727200" y="845608"/>
                  <a:pt x="1876425" y="1146175"/>
                </a:cubicBezTo>
                <a:lnTo>
                  <a:pt x="1581150" y="1358900"/>
                </a:lnTo>
                <a:lnTo>
                  <a:pt x="1498600" y="1473200"/>
                </a:lnTo>
                <a:cubicBezTo>
                  <a:pt x="1497542" y="1621367"/>
                  <a:pt x="1436158" y="1702858"/>
                  <a:pt x="1390650" y="1755775"/>
                </a:cubicBezTo>
                <a:lnTo>
                  <a:pt x="1181894" y="1755775"/>
                </a:lnTo>
                <a:cubicBezTo>
                  <a:pt x="1182952" y="1699683"/>
                  <a:pt x="1192742" y="1640417"/>
                  <a:pt x="1136650" y="1593850"/>
                </a:cubicBezTo>
                <a:cubicBezTo>
                  <a:pt x="1097492" y="1626658"/>
                  <a:pt x="1064683" y="1611842"/>
                  <a:pt x="1028700" y="1597025"/>
                </a:cubicBezTo>
                <a:cubicBezTo>
                  <a:pt x="1032933" y="1722967"/>
                  <a:pt x="1005417" y="1702858"/>
                  <a:pt x="993775" y="1755775"/>
                </a:cubicBezTo>
                <a:cubicBezTo>
                  <a:pt x="919692" y="1740958"/>
                  <a:pt x="842433" y="1757892"/>
                  <a:pt x="771525" y="1711325"/>
                </a:cubicBezTo>
                <a:lnTo>
                  <a:pt x="717550" y="1527175"/>
                </a:lnTo>
                <a:cubicBezTo>
                  <a:pt x="576792" y="1492250"/>
                  <a:pt x="569383" y="1343025"/>
                  <a:pt x="495300" y="1250950"/>
                </a:cubicBezTo>
                <a:cubicBezTo>
                  <a:pt x="450850" y="1120775"/>
                  <a:pt x="457200" y="936625"/>
                  <a:pt x="485775" y="708025"/>
                </a:cubicBezTo>
                <a:cubicBezTo>
                  <a:pt x="323850" y="525992"/>
                  <a:pt x="146050" y="385233"/>
                  <a:pt x="0" y="161925"/>
                </a:cubicBezTo>
                <a:lnTo>
                  <a:pt x="174625" y="0"/>
                </a:lnTo>
                <a:cubicBezTo>
                  <a:pt x="276225" y="202142"/>
                  <a:pt x="387350" y="321733"/>
                  <a:pt x="469900" y="396875"/>
                </a:cubicBezTo>
                <a:cubicBezTo>
                  <a:pt x="567796" y="473076"/>
                  <a:pt x="668074" y="613568"/>
                  <a:pt x="763588" y="589756"/>
                </a:cubicBezTo>
                <a:lnTo>
                  <a:pt x="1266825" y="434975"/>
                </a:lnTo>
                <a:close/>
              </a:path>
            </a:pathLst>
          </a:custGeom>
          <a:solidFill>
            <a:srgbClr val="ff3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任意多边形 295"/>
          <p:cNvSpPr/>
          <p:nvPr/>
        </p:nvSpPr>
        <p:spPr>
          <a:xfrm flipH="1">
            <a:off x="2860560" y="5003640"/>
            <a:ext cx="819360" cy="428760"/>
          </a:xfrm>
          <a:custGeom>
            <a:avLst/>
            <a:gdLst/>
            <a:ahLst/>
            <a:rect l="l" t="t" r="r" b="b"/>
            <a:pathLst>
              <a:path w="818120" h="428180">
                <a:moveTo>
                  <a:pt x="0" y="47625"/>
                </a:moveTo>
                <a:cubicBezTo>
                  <a:pt x="330200" y="224367"/>
                  <a:pt x="488950" y="115358"/>
                  <a:pt x="746125" y="0"/>
                </a:cubicBezTo>
                <a:cubicBezTo>
                  <a:pt x="851958" y="124883"/>
                  <a:pt x="830792" y="205317"/>
                  <a:pt x="749300" y="263525"/>
                </a:cubicBezTo>
                <a:cubicBezTo>
                  <a:pt x="661458" y="423333"/>
                  <a:pt x="599017" y="367242"/>
                  <a:pt x="523875" y="371475"/>
                </a:cubicBezTo>
                <a:cubicBezTo>
                  <a:pt x="369358" y="468842"/>
                  <a:pt x="303742" y="420158"/>
                  <a:pt x="231775" y="377825"/>
                </a:cubicBezTo>
                <a:cubicBezTo>
                  <a:pt x="175683" y="389467"/>
                  <a:pt x="132292" y="401108"/>
                  <a:pt x="82550" y="365125"/>
                </a:cubicBezTo>
                <a:lnTo>
                  <a:pt x="0" y="47625"/>
                </a:lnTo>
                <a:close/>
              </a:path>
            </a:pathLst>
          </a:custGeom>
          <a:solidFill>
            <a:srgbClr val="dd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任意多边形 296"/>
          <p:cNvSpPr/>
          <p:nvPr/>
        </p:nvSpPr>
        <p:spPr>
          <a:xfrm flipH="1">
            <a:off x="2438280" y="3962520"/>
            <a:ext cx="1051200" cy="476280"/>
          </a:xfrm>
          <a:custGeom>
            <a:avLst/>
            <a:gdLst/>
            <a:ahLst/>
            <a:rect l="l" t="t" r="r" b="b"/>
            <a:pathLst>
              <a:path w="1050925" h="477085">
                <a:moveTo>
                  <a:pt x="560388" y="475437"/>
                </a:moveTo>
                <a:cubicBezTo>
                  <a:pt x="735542" y="497662"/>
                  <a:pt x="953029" y="289699"/>
                  <a:pt x="1050925" y="182543"/>
                </a:cubicBezTo>
                <a:cubicBezTo>
                  <a:pt x="741363" y="-68282"/>
                  <a:pt x="304800" y="-4782"/>
                  <a:pt x="0" y="49193"/>
                </a:cubicBezTo>
                <a:lnTo>
                  <a:pt x="560388" y="475437"/>
                </a:lnTo>
                <a:close/>
              </a:path>
            </a:pathLst>
          </a:custGeom>
          <a:solidFill>
            <a:srgbClr val="ff7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297"/>
          <p:cNvSpPr/>
          <p:nvPr/>
        </p:nvSpPr>
        <p:spPr>
          <a:xfrm flipH="1">
            <a:off x="2324160" y="4079880"/>
            <a:ext cx="644400" cy="689040"/>
          </a:xfrm>
          <a:custGeom>
            <a:avLst/>
            <a:gdLst/>
            <a:ahLst/>
            <a:rect l="l" t="t" r="r" b="b"/>
            <a:pathLst>
              <a:path w="645319" h="689728">
                <a:moveTo>
                  <a:pt x="438151" y="689728"/>
                </a:moveTo>
                <a:cubicBezTo>
                  <a:pt x="505619" y="626229"/>
                  <a:pt x="494508" y="627022"/>
                  <a:pt x="540545" y="434934"/>
                </a:cubicBezTo>
                <a:lnTo>
                  <a:pt x="645319" y="558760"/>
                </a:lnTo>
                <a:cubicBezTo>
                  <a:pt x="605632" y="392072"/>
                  <a:pt x="635001" y="189666"/>
                  <a:pt x="526258" y="58697"/>
                </a:cubicBezTo>
                <a:cubicBezTo>
                  <a:pt x="261145" y="-46872"/>
                  <a:pt x="184150" y="19009"/>
                  <a:pt x="0" y="34884"/>
                </a:cubicBezTo>
                <a:lnTo>
                  <a:pt x="438151" y="689728"/>
                </a:lnTo>
                <a:close/>
              </a:path>
            </a:pathLst>
          </a:custGeom>
          <a:solidFill>
            <a:srgbClr val="ff3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任意多边形 298"/>
          <p:cNvSpPr/>
          <p:nvPr/>
        </p:nvSpPr>
        <p:spPr>
          <a:xfrm flipH="1">
            <a:off x="2502720" y="3956040"/>
            <a:ext cx="1266840" cy="1012680"/>
          </a:xfrm>
          <a:custGeom>
            <a:avLst/>
            <a:gdLst/>
            <a:ahLst/>
            <a:rect l="l" t="t" r="r" b="b"/>
            <a:pathLst>
              <a:path w="1267020" h="1013677">
                <a:moveTo>
                  <a:pt x="290513" y="0"/>
                </a:moveTo>
                <a:cubicBezTo>
                  <a:pt x="310569" y="0"/>
                  <a:pt x="329675" y="4065"/>
                  <a:pt x="347053" y="11415"/>
                </a:cubicBezTo>
                <a:lnTo>
                  <a:pt x="379688" y="33418"/>
                </a:lnTo>
                <a:lnTo>
                  <a:pt x="412504" y="27403"/>
                </a:lnTo>
                <a:cubicBezTo>
                  <a:pt x="436985" y="27403"/>
                  <a:pt x="459148" y="36412"/>
                  <a:pt x="475191" y="50977"/>
                </a:cubicBezTo>
                <a:lnTo>
                  <a:pt x="482143" y="60338"/>
                </a:lnTo>
                <a:lnTo>
                  <a:pt x="510053" y="43253"/>
                </a:lnTo>
                <a:cubicBezTo>
                  <a:pt x="520660" y="39180"/>
                  <a:pt x="532321" y="36928"/>
                  <a:pt x="544561" y="36928"/>
                </a:cubicBezTo>
                <a:cubicBezTo>
                  <a:pt x="569042" y="36928"/>
                  <a:pt x="591205" y="45937"/>
                  <a:pt x="607248" y="60502"/>
                </a:cubicBezTo>
                <a:lnTo>
                  <a:pt x="624006" y="83068"/>
                </a:lnTo>
                <a:lnTo>
                  <a:pt x="653087" y="66183"/>
                </a:lnTo>
                <a:cubicBezTo>
                  <a:pt x="673266" y="58833"/>
                  <a:pt x="695453" y="54768"/>
                  <a:pt x="718741" y="54768"/>
                </a:cubicBezTo>
                <a:cubicBezTo>
                  <a:pt x="765318" y="54768"/>
                  <a:pt x="807486" y="71027"/>
                  <a:pt x="838009" y="97313"/>
                </a:cubicBezTo>
                <a:lnTo>
                  <a:pt x="851217" y="114183"/>
                </a:lnTo>
                <a:lnTo>
                  <a:pt x="887412" y="107890"/>
                </a:lnTo>
                <a:cubicBezTo>
                  <a:pt x="957278" y="107890"/>
                  <a:pt x="1017222" y="144472"/>
                  <a:pt x="1042828" y="196607"/>
                </a:cubicBezTo>
                <a:lnTo>
                  <a:pt x="1055410" y="250277"/>
                </a:lnTo>
                <a:lnTo>
                  <a:pt x="1078414" y="263634"/>
                </a:lnTo>
                <a:cubicBezTo>
                  <a:pt x="1093676" y="276777"/>
                  <a:pt x="1106027" y="292427"/>
                  <a:pt x="1114562" y="309806"/>
                </a:cubicBezTo>
                <a:lnTo>
                  <a:pt x="1124450" y="351983"/>
                </a:lnTo>
                <a:lnTo>
                  <a:pt x="1147334" y="355962"/>
                </a:lnTo>
                <a:cubicBezTo>
                  <a:pt x="1207873" y="378013"/>
                  <a:pt x="1250351" y="429637"/>
                  <a:pt x="1250351" y="489804"/>
                </a:cubicBezTo>
                <a:cubicBezTo>
                  <a:pt x="1250351" y="509860"/>
                  <a:pt x="1245631" y="528966"/>
                  <a:pt x="1237096" y="546345"/>
                </a:cubicBezTo>
                <a:lnTo>
                  <a:pt x="1234557" y="549588"/>
                </a:lnTo>
                <a:lnTo>
                  <a:pt x="1253765" y="575453"/>
                </a:lnTo>
                <a:cubicBezTo>
                  <a:pt x="1262300" y="593774"/>
                  <a:pt x="1267020" y="613917"/>
                  <a:pt x="1267020" y="635060"/>
                </a:cubicBezTo>
                <a:cubicBezTo>
                  <a:pt x="1267020" y="656204"/>
                  <a:pt x="1262300" y="676346"/>
                  <a:pt x="1253765" y="694667"/>
                </a:cubicBezTo>
                <a:lnTo>
                  <a:pt x="1241376" y="711350"/>
                </a:lnTo>
                <a:lnTo>
                  <a:pt x="1253765" y="728032"/>
                </a:lnTo>
                <a:cubicBezTo>
                  <a:pt x="1262300" y="746353"/>
                  <a:pt x="1267020" y="766496"/>
                  <a:pt x="1267020" y="787639"/>
                </a:cubicBezTo>
                <a:cubicBezTo>
                  <a:pt x="1267020" y="808783"/>
                  <a:pt x="1262300" y="828925"/>
                  <a:pt x="1253765" y="847246"/>
                </a:cubicBezTo>
                <a:lnTo>
                  <a:pt x="1218694" y="894471"/>
                </a:lnTo>
                <a:lnTo>
                  <a:pt x="1212984" y="920150"/>
                </a:lnTo>
                <a:cubicBezTo>
                  <a:pt x="1187378" y="975112"/>
                  <a:pt x="1127434" y="1013677"/>
                  <a:pt x="1057568" y="1013677"/>
                </a:cubicBezTo>
                <a:cubicBezTo>
                  <a:pt x="964414" y="1013677"/>
                  <a:pt x="888897" y="945117"/>
                  <a:pt x="888897" y="860543"/>
                </a:cubicBezTo>
                <a:cubicBezTo>
                  <a:pt x="888897" y="839400"/>
                  <a:pt x="893617" y="819257"/>
                  <a:pt x="902152" y="800936"/>
                </a:cubicBezTo>
                <a:lnTo>
                  <a:pt x="937223" y="753711"/>
                </a:lnTo>
                <a:lnTo>
                  <a:pt x="942933" y="728032"/>
                </a:lnTo>
                <a:lnTo>
                  <a:pt x="955322" y="711350"/>
                </a:lnTo>
                <a:lnTo>
                  <a:pt x="942933" y="694667"/>
                </a:lnTo>
                <a:cubicBezTo>
                  <a:pt x="934398" y="676346"/>
                  <a:pt x="929678" y="656204"/>
                  <a:pt x="929678" y="635060"/>
                </a:cubicBezTo>
                <a:cubicBezTo>
                  <a:pt x="929678" y="613917"/>
                  <a:pt x="934398" y="593774"/>
                  <a:pt x="942933" y="575453"/>
                </a:cubicBezTo>
                <a:lnTo>
                  <a:pt x="944903" y="572801"/>
                </a:lnTo>
                <a:lnTo>
                  <a:pt x="926264" y="546345"/>
                </a:lnTo>
                <a:lnTo>
                  <a:pt x="916828" y="506093"/>
                </a:lnTo>
                <a:lnTo>
                  <a:pt x="908989" y="505073"/>
                </a:lnTo>
                <a:cubicBezTo>
                  <a:pt x="861454" y="492340"/>
                  <a:pt x="822934" y="461988"/>
                  <a:pt x="803730" y="422887"/>
                </a:cubicBezTo>
                <a:lnTo>
                  <a:pt x="791148" y="369216"/>
                </a:lnTo>
                <a:lnTo>
                  <a:pt x="768144" y="355859"/>
                </a:lnTo>
                <a:lnTo>
                  <a:pt x="754936" y="338989"/>
                </a:lnTo>
                <a:lnTo>
                  <a:pt x="718741" y="345282"/>
                </a:lnTo>
                <a:cubicBezTo>
                  <a:pt x="625587" y="345282"/>
                  <a:pt x="550070" y="280248"/>
                  <a:pt x="550070" y="200025"/>
                </a:cubicBezTo>
                <a:lnTo>
                  <a:pt x="550838" y="196752"/>
                </a:lnTo>
                <a:lnTo>
                  <a:pt x="544561" y="197902"/>
                </a:lnTo>
                <a:cubicBezTo>
                  <a:pt x="520080" y="197902"/>
                  <a:pt x="497917" y="188893"/>
                  <a:pt x="481874" y="174328"/>
                </a:cubicBezTo>
                <a:lnTo>
                  <a:pt x="474923" y="164968"/>
                </a:lnTo>
                <a:lnTo>
                  <a:pt x="447012" y="182052"/>
                </a:lnTo>
                <a:lnTo>
                  <a:pt x="427624" y="185606"/>
                </a:lnTo>
                <a:lnTo>
                  <a:pt x="424355" y="201798"/>
                </a:lnTo>
                <a:cubicBezTo>
                  <a:pt x="402304" y="253933"/>
                  <a:pt x="350680" y="290514"/>
                  <a:pt x="290513" y="290514"/>
                </a:cubicBezTo>
                <a:lnTo>
                  <a:pt x="277121" y="287810"/>
                </a:lnTo>
                <a:lnTo>
                  <a:pt x="247969" y="331048"/>
                </a:lnTo>
                <a:cubicBezTo>
                  <a:pt x="221683" y="357335"/>
                  <a:pt x="185368" y="373593"/>
                  <a:pt x="145257" y="373593"/>
                </a:cubicBezTo>
                <a:cubicBezTo>
                  <a:pt x="65034" y="373593"/>
                  <a:pt x="0" y="308559"/>
                  <a:pt x="0" y="228336"/>
                </a:cubicBezTo>
                <a:cubicBezTo>
                  <a:pt x="0" y="148113"/>
                  <a:pt x="65034" y="83079"/>
                  <a:pt x="145257" y="83079"/>
                </a:cubicBezTo>
                <a:lnTo>
                  <a:pt x="158649" y="85783"/>
                </a:lnTo>
                <a:lnTo>
                  <a:pt x="187801" y="42545"/>
                </a:lnTo>
                <a:cubicBezTo>
                  <a:pt x="214087" y="16258"/>
                  <a:pt x="250401" y="0"/>
                  <a:pt x="29051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任意多边形 299"/>
          <p:cNvSpPr/>
          <p:nvPr/>
        </p:nvSpPr>
        <p:spPr>
          <a:xfrm flipH="1" rot="19461000">
            <a:off x="2521440" y="4070520"/>
            <a:ext cx="1305000" cy="709560"/>
          </a:xfrm>
          <a:custGeom>
            <a:avLst/>
            <a:gdLst/>
            <a:ahLst/>
            <a:rect l="l" t="t" r="r" b="b"/>
            <a:pathLst>
              <a:path w="1304880" h="709134">
                <a:moveTo>
                  <a:pt x="197681" y="211518"/>
                </a:moveTo>
                <a:cubicBezTo>
                  <a:pt x="235535" y="184366"/>
                  <a:pt x="284092" y="183485"/>
                  <a:pt x="320880" y="205480"/>
                </a:cubicBezTo>
                <a:lnTo>
                  <a:pt x="340070" y="223149"/>
                </a:lnTo>
                <a:lnTo>
                  <a:pt x="351664" y="199576"/>
                </a:lnTo>
                <a:cubicBezTo>
                  <a:pt x="361846" y="185451"/>
                  <a:pt x="374805" y="172383"/>
                  <a:pt x="390284" y="161280"/>
                </a:cubicBezTo>
                <a:cubicBezTo>
                  <a:pt x="421242" y="139074"/>
                  <a:pt x="456415" y="128932"/>
                  <a:pt x="488257" y="130487"/>
                </a:cubicBezTo>
                <a:lnTo>
                  <a:pt x="501995" y="133915"/>
                </a:lnTo>
                <a:cubicBezTo>
                  <a:pt x="502381" y="129211"/>
                  <a:pt x="502766" y="124507"/>
                  <a:pt x="503152" y="119803"/>
                </a:cubicBezTo>
                <a:cubicBezTo>
                  <a:pt x="511885" y="89144"/>
                  <a:pt x="532766" y="59077"/>
                  <a:pt x="563724" y="36871"/>
                </a:cubicBezTo>
                <a:cubicBezTo>
                  <a:pt x="594682" y="14665"/>
                  <a:pt x="629855" y="4524"/>
                  <a:pt x="661697" y="6079"/>
                </a:cubicBezTo>
                <a:lnTo>
                  <a:pt x="678657" y="10311"/>
                </a:lnTo>
                <a:lnTo>
                  <a:pt x="686004" y="6640"/>
                </a:lnTo>
                <a:cubicBezTo>
                  <a:pt x="723451" y="-4872"/>
                  <a:pt x="761458" y="-1349"/>
                  <a:pt x="789277" y="16687"/>
                </a:cubicBezTo>
                <a:lnTo>
                  <a:pt x="813187" y="39429"/>
                </a:lnTo>
                <a:lnTo>
                  <a:pt x="814352" y="38847"/>
                </a:lnTo>
                <a:cubicBezTo>
                  <a:pt x="864282" y="23497"/>
                  <a:pt x="915205" y="34878"/>
                  <a:pt x="941651" y="71746"/>
                </a:cubicBezTo>
                <a:lnTo>
                  <a:pt x="952881" y="100426"/>
                </a:lnTo>
                <a:lnTo>
                  <a:pt x="963513" y="99028"/>
                </a:lnTo>
                <a:cubicBezTo>
                  <a:pt x="995354" y="100583"/>
                  <a:pt x="1023864" y="113834"/>
                  <a:pt x="1041494" y="138413"/>
                </a:cubicBezTo>
                <a:lnTo>
                  <a:pt x="1055644" y="174547"/>
                </a:lnTo>
                <a:lnTo>
                  <a:pt x="1091297" y="169858"/>
                </a:lnTo>
                <a:cubicBezTo>
                  <a:pt x="1123138" y="171413"/>
                  <a:pt x="1151648" y="184664"/>
                  <a:pt x="1169278" y="209243"/>
                </a:cubicBezTo>
                <a:cubicBezTo>
                  <a:pt x="1178093" y="221532"/>
                  <a:pt x="1183354" y="235490"/>
                  <a:pt x="1185319" y="250208"/>
                </a:cubicBezTo>
                <a:cubicBezTo>
                  <a:pt x="1185267" y="250838"/>
                  <a:pt x="1185216" y="251469"/>
                  <a:pt x="1185164" y="252099"/>
                </a:cubicBezTo>
                <a:lnTo>
                  <a:pt x="1209516" y="257862"/>
                </a:lnTo>
                <a:cubicBezTo>
                  <a:pt x="1224212" y="264939"/>
                  <a:pt x="1236898" y="275209"/>
                  <a:pt x="1246528" y="288635"/>
                </a:cubicBezTo>
                <a:cubicBezTo>
                  <a:pt x="1256158" y="302060"/>
                  <a:pt x="1261820" y="317369"/>
                  <a:pt x="1263813" y="333557"/>
                </a:cubicBezTo>
                <a:lnTo>
                  <a:pt x="1263048" y="341674"/>
                </a:lnTo>
                <a:lnTo>
                  <a:pt x="1271305" y="345987"/>
                </a:lnTo>
                <a:cubicBezTo>
                  <a:pt x="1292049" y="362058"/>
                  <a:pt x="1304880" y="384259"/>
                  <a:pt x="1304880" y="408782"/>
                </a:cubicBezTo>
                <a:cubicBezTo>
                  <a:pt x="1304880" y="457828"/>
                  <a:pt x="1253557" y="497587"/>
                  <a:pt x="1190247" y="497587"/>
                </a:cubicBezTo>
                <a:lnTo>
                  <a:pt x="1157815" y="492514"/>
                </a:lnTo>
                <a:lnTo>
                  <a:pt x="1136423" y="503303"/>
                </a:lnTo>
                <a:cubicBezTo>
                  <a:pt x="1080786" y="520856"/>
                  <a:pt x="1024389" y="508972"/>
                  <a:pt x="995499" y="468697"/>
                </a:cubicBezTo>
                <a:cubicBezTo>
                  <a:pt x="985870" y="455272"/>
                  <a:pt x="980208" y="439963"/>
                  <a:pt x="978215" y="423774"/>
                </a:cubicBezTo>
                <a:lnTo>
                  <a:pt x="980655" y="397873"/>
                </a:lnTo>
                <a:lnTo>
                  <a:pt x="969087" y="392926"/>
                </a:lnTo>
                <a:cubicBezTo>
                  <a:pt x="959814" y="386915"/>
                  <a:pt x="951673" y="379291"/>
                  <a:pt x="945062" y="370074"/>
                </a:cubicBezTo>
                <a:lnTo>
                  <a:pt x="930912" y="333939"/>
                </a:lnTo>
                <a:lnTo>
                  <a:pt x="895258" y="338628"/>
                </a:lnTo>
                <a:cubicBezTo>
                  <a:pt x="863417" y="337073"/>
                  <a:pt x="857957" y="360039"/>
                  <a:pt x="840326" y="335460"/>
                </a:cubicBezTo>
                <a:lnTo>
                  <a:pt x="790826" y="326654"/>
                </a:lnTo>
                <a:lnTo>
                  <a:pt x="746086" y="336645"/>
                </a:lnTo>
                <a:lnTo>
                  <a:pt x="669775" y="334520"/>
                </a:lnTo>
                <a:cubicBezTo>
                  <a:pt x="652910" y="356686"/>
                  <a:pt x="580792" y="361941"/>
                  <a:pt x="541570" y="372188"/>
                </a:cubicBezTo>
                <a:cubicBezTo>
                  <a:pt x="502348" y="382435"/>
                  <a:pt x="474376" y="415743"/>
                  <a:pt x="434442" y="396005"/>
                </a:cubicBezTo>
                <a:lnTo>
                  <a:pt x="401015" y="419256"/>
                </a:lnTo>
                <a:lnTo>
                  <a:pt x="305014" y="419917"/>
                </a:lnTo>
                <a:lnTo>
                  <a:pt x="288776" y="427383"/>
                </a:lnTo>
                <a:cubicBezTo>
                  <a:pt x="295327" y="465808"/>
                  <a:pt x="234157" y="507309"/>
                  <a:pt x="215225" y="527150"/>
                </a:cubicBezTo>
                <a:cubicBezTo>
                  <a:pt x="196293" y="546991"/>
                  <a:pt x="188995" y="542603"/>
                  <a:pt x="175182" y="546431"/>
                </a:cubicBezTo>
                <a:lnTo>
                  <a:pt x="168835" y="547021"/>
                </a:lnTo>
                <a:lnTo>
                  <a:pt x="176970" y="554590"/>
                </a:lnTo>
                <a:cubicBezTo>
                  <a:pt x="208398" y="598404"/>
                  <a:pt x="198357" y="659400"/>
                  <a:pt x="154543" y="690828"/>
                </a:cubicBezTo>
                <a:cubicBezTo>
                  <a:pt x="110729" y="722256"/>
                  <a:pt x="49733" y="712215"/>
                  <a:pt x="18305" y="668401"/>
                </a:cubicBezTo>
                <a:cubicBezTo>
                  <a:pt x="-13122" y="624587"/>
                  <a:pt x="-3081" y="563591"/>
                  <a:pt x="40733" y="532163"/>
                </a:cubicBezTo>
                <a:lnTo>
                  <a:pt x="72205" y="517994"/>
                </a:lnTo>
                <a:lnTo>
                  <a:pt x="66933" y="513369"/>
                </a:lnTo>
                <a:cubicBezTo>
                  <a:pt x="35506" y="469556"/>
                  <a:pt x="50944" y="404688"/>
                  <a:pt x="101415" y="368485"/>
                </a:cubicBezTo>
                <a:cubicBezTo>
                  <a:pt x="114033" y="359435"/>
                  <a:pt x="127646" y="353032"/>
                  <a:pt x="141459" y="349204"/>
                </a:cubicBezTo>
                <a:lnTo>
                  <a:pt x="161808" y="347312"/>
                </a:lnTo>
                <a:lnTo>
                  <a:pt x="152470" y="326280"/>
                </a:lnTo>
                <a:cubicBezTo>
                  <a:pt x="143428" y="284383"/>
                  <a:pt x="159828" y="238670"/>
                  <a:pt x="197681" y="211518"/>
                </a:cubicBezTo>
                <a:close/>
              </a:path>
            </a:pathLst>
          </a:custGeom>
          <a:solidFill>
            <a:srgbClr val="d8e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任意多边形 300"/>
          <p:cNvSpPr/>
          <p:nvPr/>
        </p:nvSpPr>
        <p:spPr>
          <a:xfrm flipH="1">
            <a:off x="2684520" y="4251240"/>
            <a:ext cx="1200240" cy="917640"/>
          </a:xfrm>
          <a:custGeom>
            <a:avLst/>
            <a:gdLst/>
            <a:ahLst/>
            <a:rect l="l" t="t" r="r" b="b"/>
            <a:pathLst>
              <a:path w="1200671" h="917899">
                <a:moveTo>
                  <a:pt x="981293" y="571500"/>
                </a:moveTo>
                <a:cubicBezTo>
                  <a:pt x="1036062" y="561974"/>
                  <a:pt x="1086069" y="533400"/>
                  <a:pt x="1147981" y="569118"/>
                </a:cubicBezTo>
                <a:cubicBezTo>
                  <a:pt x="1226562" y="682625"/>
                  <a:pt x="1200368" y="686593"/>
                  <a:pt x="1176556" y="745331"/>
                </a:cubicBezTo>
                <a:cubicBezTo>
                  <a:pt x="1028919" y="840581"/>
                  <a:pt x="1033681" y="757238"/>
                  <a:pt x="990819" y="731043"/>
                </a:cubicBezTo>
                <a:cubicBezTo>
                  <a:pt x="868581" y="796925"/>
                  <a:pt x="803494" y="1003299"/>
                  <a:pt x="338356" y="878681"/>
                </a:cubicBezTo>
                <a:cubicBezTo>
                  <a:pt x="203418" y="809625"/>
                  <a:pt x="-7720" y="728663"/>
                  <a:pt x="218" y="333375"/>
                </a:cubicBezTo>
                <a:lnTo>
                  <a:pt x="31175" y="73818"/>
                </a:lnTo>
                <a:cubicBezTo>
                  <a:pt x="147062" y="49212"/>
                  <a:pt x="234375" y="34131"/>
                  <a:pt x="378837" y="0"/>
                </a:cubicBezTo>
                <a:cubicBezTo>
                  <a:pt x="449481" y="43656"/>
                  <a:pt x="493931" y="82550"/>
                  <a:pt x="590769" y="52387"/>
                </a:cubicBezTo>
                <a:cubicBezTo>
                  <a:pt x="643157" y="130968"/>
                  <a:pt x="719355" y="178593"/>
                  <a:pt x="819368" y="180975"/>
                </a:cubicBezTo>
                <a:cubicBezTo>
                  <a:pt x="859850" y="272256"/>
                  <a:pt x="886043" y="296862"/>
                  <a:pt x="969388" y="319087"/>
                </a:cubicBezTo>
                <a:cubicBezTo>
                  <a:pt x="990819" y="391318"/>
                  <a:pt x="1005106" y="420687"/>
                  <a:pt x="1047969" y="450056"/>
                </a:cubicBezTo>
                <a:lnTo>
                  <a:pt x="981293" y="571500"/>
                </a:lnTo>
                <a:close/>
              </a:path>
            </a:pathLst>
          </a:custGeom>
          <a:solidFill>
            <a:srgbClr val="ffc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任意多边形 301"/>
          <p:cNvSpPr/>
          <p:nvPr/>
        </p:nvSpPr>
        <p:spPr>
          <a:xfrm flipH="1">
            <a:off x="3370320" y="4241880"/>
            <a:ext cx="619200" cy="269640"/>
          </a:xfrm>
          <a:custGeom>
            <a:avLst/>
            <a:gdLst/>
            <a:ahLst/>
            <a:rect l="l" t="t" r="r" b="b"/>
            <a:pathLst>
              <a:path w="619125" h="270882">
                <a:moveTo>
                  <a:pt x="561975" y="254794"/>
                </a:moveTo>
                <a:cubicBezTo>
                  <a:pt x="592931" y="227806"/>
                  <a:pt x="600074" y="241300"/>
                  <a:pt x="619125" y="102394"/>
                </a:cubicBezTo>
                <a:cubicBezTo>
                  <a:pt x="571500" y="27781"/>
                  <a:pt x="523875" y="12700"/>
                  <a:pt x="461962" y="0"/>
                </a:cubicBezTo>
                <a:cubicBezTo>
                  <a:pt x="263524" y="16669"/>
                  <a:pt x="48418" y="135732"/>
                  <a:pt x="0" y="100013"/>
                </a:cubicBezTo>
                <a:cubicBezTo>
                  <a:pt x="14287" y="156369"/>
                  <a:pt x="61912" y="155575"/>
                  <a:pt x="92868" y="183356"/>
                </a:cubicBezTo>
                <a:lnTo>
                  <a:pt x="7143" y="197644"/>
                </a:lnTo>
                <a:lnTo>
                  <a:pt x="271592" y="270882"/>
                </a:lnTo>
                <a:lnTo>
                  <a:pt x="561975" y="254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302"/>
          <p:cNvSpPr/>
          <p:nvPr/>
        </p:nvSpPr>
        <p:spPr>
          <a:xfrm flipH="1">
            <a:off x="3371760" y="4359240"/>
            <a:ext cx="603360" cy="233280"/>
          </a:xfrm>
          <a:custGeom>
            <a:avLst/>
            <a:gdLst/>
            <a:ahLst/>
            <a:rect l="l" t="t" r="r" b="b"/>
            <a:pathLst>
              <a:path w="602456" h="233361">
                <a:moveTo>
                  <a:pt x="602456" y="0"/>
                </a:moveTo>
                <a:cubicBezTo>
                  <a:pt x="537369" y="30956"/>
                  <a:pt x="503238" y="92868"/>
                  <a:pt x="452438" y="111918"/>
                </a:cubicBezTo>
                <a:cubicBezTo>
                  <a:pt x="442119" y="100805"/>
                  <a:pt x="448469" y="87312"/>
                  <a:pt x="421481" y="78580"/>
                </a:cubicBezTo>
                <a:lnTo>
                  <a:pt x="354806" y="119061"/>
                </a:lnTo>
                <a:lnTo>
                  <a:pt x="330994" y="88105"/>
                </a:lnTo>
                <a:cubicBezTo>
                  <a:pt x="260350" y="130174"/>
                  <a:pt x="249238" y="131761"/>
                  <a:pt x="211931" y="128586"/>
                </a:cubicBezTo>
                <a:lnTo>
                  <a:pt x="230981" y="80961"/>
                </a:lnTo>
                <a:cubicBezTo>
                  <a:pt x="123031" y="68261"/>
                  <a:pt x="81757" y="65087"/>
                  <a:pt x="0" y="78580"/>
                </a:cubicBezTo>
                <a:cubicBezTo>
                  <a:pt x="38100" y="116680"/>
                  <a:pt x="73819" y="140493"/>
                  <a:pt x="142875" y="135730"/>
                </a:cubicBezTo>
                <a:lnTo>
                  <a:pt x="85725" y="152399"/>
                </a:lnTo>
                <a:cubicBezTo>
                  <a:pt x="156369" y="184943"/>
                  <a:pt x="219868" y="215105"/>
                  <a:pt x="297656" y="200024"/>
                </a:cubicBezTo>
                <a:lnTo>
                  <a:pt x="242888" y="233361"/>
                </a:lnTo>
                <a:cubicBezTo>
                  <a:pt x="302419" y="225424"/>
                  <a:pt x="352426" y="231774"/>
                  <a:pt x="414338" y="166686"/>
                </a:cubicBezTo>
                <a:lnTo>
                  <a:pt x="395288" y="233361"/>
                </a:lnTo>
                <a:cubicBezTo>
                  <a:pt x="427831" y="222249"/>
                  <a:pt x="448469" y="206373"/>
                  <a:pt x="478631" y="157161"/>
                </a:cubicBezTo>
                <a:lnTo>
                  <a:pt x="476250" y="209549"/>
                </a:lnTo>
                <a:cubicBezTo>
                  <a:pt x="535782" y="155573"/>
                  <a:pt x="595312" y="175419"/>
                  <a:pt x="602456" y="0"/>
                </a:cubicBezTo>
                <a:close/>
              </a:path>
            </a:pathLst>
          </a:custGeom>
          <a:solidFill>
            <a:srgbClr val="dd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303"/>
          <p:cNvSpPr/>
          <p:nvPr/>
        </p:nvSpPr>
        <p:spPr>
          <a:xfrm flipH="1">
            <a:off x="2806560" y="4497480"/>
            <a:ext cx="596880" cy="357120"/>
          </a:xfrm>
          <a:custGeom>
            <a:avLst/>
            <a:gdLst/>
            <a:ahLst/>
            <a:rect l="l" t="t" r="r" b="b"/>
            <a:pathLst>
              <a:path w="597404" h="355965">
                <a:moveTo>
                  <a:pt x="25904" y="229759"/>
                </a:moveTo>
                <a:cubicBezTo>
                  <a:pt x="-12196" y="169434"/>
                  <a:pt x="-2670" y="109109"/>
                  <a:pt x="18760" y="36878"/>
                </a:cubicBezTo>
                <a:cubicBezTo>
                  <a:pt x="28284" y="5922"/>
                  <a:pt x="90198" y="-3604"/>
                  <a:pt x="168779" y="1159"/>
                </a:cubicBezTo>
                <a:cubicBezTo>
                  <a:pt x="350548" y="48784"/>
                  <a:pt x="446591" y="208328"/>
                  <a:pt x="597404" y="279765"/>
                </a:cubicBezTo>
                <a:cubicBezTo>
                  <a:pt x="552160" y="310722"/>
                  <a:pt x="533110" y="310721"/>
                  <a:pt x="483104" y="308340"/>
                </a:cubicBezTo>
                <a:lnTo>
                  <a:pt x="568829" y="355965"/>
                </a:lnTo>
                <a:lnTo>
                  <a:pt x="206879" y="322628"/>
                </a:lnTo>
                <a:lnTo>
                  <a:pt x="25904" y="2297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任意多边形 304"/>
          <p:cNvSpPr/>
          <p:nvPr/>
        </p:nvSpPr>
        <p:spPr>
          <a:xfrm flipH="1">
            <a:off x="2851200" y="4689360"/>
            <a:ext cx="549360" cy="216000"/>
          </a:xfrm>
          <a:custGeom>
            <a:avLst/>
            <a:gdLst/>
            <a:ahLst/>
            <a:rect l="l" t="t" r="r" b="b"/>
            <a:pathLst>
              <a:path w="550069" h="216806">
                <a:moveTo>
                  <a:pt x="0" y="0"/>
                </a:moveTo>
                <a:cubicBezTo>
                  <a:pt x="44450" y="26988"/>
                  <a:pt x="84138" y="49213"/>
                  <a:pt x="176212" y="9525"/>
                </a:cubicBezTo>
                <a:cubicBezTo>
                  <a:pt x="177006" y="38893"/>
                  <a:pt x="168275" y="58737"/>
                  <a:pt x="135732" y="61912"/>
                </a:cubicBezTo>
                <a:cubicBezTo>
                  <a:pt x="193676" y="79374"/>
                  <a:pt x="180182" y="92075"/>
                  <a:pt x="288132" y="100012"/>
                </a:cubicBezTo>
                <a:lnTo>
                  <a:pt x="292894" y="133350"/>
                </a:lnTo>
                <a:cubicBezTo>
                  <a:pt x="333375" y="126999"/>
                  <a:pt x="330994" y="120650"/>
                  <a:pt x="352425" y="109537"/>
                </a:cubicBezTo>
                <a:cubicBezTo>
                  <a:pt x="418307" y="142081"/>
                  <a:pt x="467519" y="148431"/>
                  <a:pt x="550069" y="161925"/>
                </a:cubicBezTo>
                <a:cubicBezTo>
                  <a:pt x="454819" y="201613"/>
                  <a:pt x="419100" y="177006"/>
                  <a:pt x="357188" y="169069"/>
                </a:cubicBezTo>
                <a:lnTo>
                  <a:pt x="411957" y="216694"/>
                </a:lnTo>
                <a:cubicBezTo>
                  <a:pt x="273844" y="219075"/>
                  <a:pt x="257176" y="183356"/>
                  <a:pt x="197644" y="152400"/>
                </a:cubicBezTo>
                <a:lnTo>
                  <a:pt x="216694" y="207169"/>
                </a:lnTo>
                <a:cubicBezTo>
                  <a:pt x="179388" y="177006"/>
                  <a:pt x="137319" y="144462"/>
                  <a:pt x="119063" y="88106"/>
                </a:cubicBezTo>
                <a:lnTo>
                  <a:pt x="102394" y="142875"/>
                </a:lnTo>
                <a:cubicBezTo>
                  <a:pt x="64295" y="113506"/>
                  <a:pt x="61913" y="96043"/>
                  <a:pt x="59532" y="61912"/>
                </a:cubicBezTo>
                <a:lnTo>
                  <a:pt x="38100" y="100012"/>
                </a:lnTo>
                <a:cubicBezTo>
                  <a:pt x="13494" y="71437"/>
                  <a:pt x="5557" y="61912"/>
                  <a:pt x="0" y="0"/>
                </a:cubicBezTo>
                <a:close/>
              </a:path>
            </a:pathLst>
          </a:custGeom>
          <a:solidFill>
            <a:srgbClr val="d8e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任意多边形 305"/>
          <p:cNvSpPr/>
          <p:nvPr/>
        </p:nvSpPr>
        <p:spPr>
          <a:xfrm flipH="1">
            <a:off x="2978280" y="5129280"/>
            <a:ext cx="723600" cy="290520"/>
          </a:xfrm>
          <a:custGeom>
            <a:avLst/>
            <a:gdLst/>
            <a:ahLst/>
            <a:rect l="l" t="t" r="r" b="b"/>
            <a:pathLst>
              <a:path w="724994" h="291424">
                <a:moveTo>
                  <a:pt x="48719" y="0"/>
                </a:moveTo>
                <a:cubicBezTo>
                  <a:pt x="131269" y="122767"/>
                  <a:pt x="337644" y="242358"/>
                  <a:pt x="724994" y="130175"/>
                </a:cubicBezTo>
                <a:cubicBezTo>
                  <a:pt x="696419" y="179917"/>
                  <a:pt x="661494" y="185208"/>
                  <a:pt x="629744" y="212725"/>
                </a:cubicBezTo>
                <a:cubicBezTo>
                  <a:pt x="443477" y="348192"/>
                  <a:pt x="346111" y="280458"/>
                  <a:pt x="299544" y="219075"/>
                </a:cubicBezTo>
                <a:cubicBezTo>
                  <a:pt x="249802" y="263525"/>
                  <a:pt x="231811" y="250825"/>
                  <a:pt x="140794" y="263525"/>
                </a:cubicBezTo>
                <a:cubicBezTo>
                  <a:pt x="95286" y="247650"/>
                  <a:pt x="87877" y="225425"/>
                  <a:pt x="70944" y="180975"/>
                </a:cubicBezTo>
                <a:cubicBezTo>
                  <a:pt x="6386" y="139700"/>
                  <a:pt x="-39123" y="85725"/>
                  <a:pt x="4871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任意多边形 306"/>
          <p:cNvSpPr/>
          <p:nvPr/>
        </p:nvSpPr>
        <p:spPr>
          <a:xfrm flipH="1">
            <a:off x="3839400" y="4930920"/>
            <a:ext cx="260280" cy="304560"/>
          </a:xfrm>
          <a:custGeom>
            <a:avLst/>
            <a:gdLst/>
            <a:ahLst/>
            <a:rect l="l" t="t" r="r" b="b"/>
            <a:pathLst>
              <a:path w="260992" h="304800">
                <a:moveTo>
                  <a:pt x="252412" y="304800"/>
                </a:moveTo>
                <a:cubicBezTo>
                  <a:pt x="264318" y="254794"/>
                  <a:pt x="269081" y="242888"/>
                  <a:pt x="230981" y="145257"/>
                </a:cubicBezTo>
                <a:lnTo>
                  <a:pt x="69056" y="0"/>
                </a:lnTo>
                <a:cubicBezTo>
                  <a:pt x="49212" y="24606"/>
                  <a:pt x="22225" y="34926"/>
                  <a:pt x="0" y="50007"/>
                </a:cubicBezTo>
                <a:cubicBezTo>
                  <a:pt x="76201" y="138909"/>
                  <a:pt x="169068" y="218281"/>
                  <a:pt x="252412" y="304800"/>
                </a:cubicBezTo>
                <a:close/>
              </a:path>
            </a:pathLst>
          </a:cu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8"/>
          <p:cNvSpPr/>
          <p:nvPr/>
        </p:nvSpPr>
        <p:spPr>
          <a:xfrm flipH="1">
            <a:off x="3664800" y="5362560"/>
            <a:ext cx="211320" cy="444600"/>
          </a:xfrm>
          <a:custGeom>
            <a:avLst/>
            <a:gdLst/>
            <a:ahLst/>
            <a:rect l="l" t="t" r="r" b="b"/>
            <a:pathLst>
              <a:path w="212048" h="444189">
                <a:moveTo>
                  <a:pt x="4879" y="0"/>
                </a:moveTo>
                <a:cubicBezTo>
                  <a:pt x="41391" y="19527"/>
                  <a:pt x="120766" y="34291"/>
                  <a:pt x="135847" y="115731"/>
                </a:cubicBezTo>
                <a:cubicBezTo>
                  <a:pt x="160453" y="160498"/>
                  <a:pt x="182678" y="164783"/>
                  <a:pt x="209666" y="164306"/>
                </a:cubicBezTo>
                <a:lnTo>
                  <a:pt x="212048" y="444189"/>
                </a:lnTo>
                <a:lnTo>
                  <a:pt x="81079" y="444189"/>
                </a:lnTo>
                <a:cubicBezTo>
                  <a:pt x="11229" y="294539"/>
                  <a:pt x="-10996" y="147269"/>
                  <a:pt x="4879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任意多边形 308"/>
          <p:cNvSpPr/>
          <p:nvPr/>
        </p:nvSpPr>
        <p:spPr>
          <a:xfrm flipH="1">
            <a:off x="3012480" y="5467320"/>
            <a:ext cx="603000" cy="326880"/>
          </a:xfrm>
          <a:custGeom>
            <a:avLst/>
            <a:gdLst/>
            <a:ahLst/>
            <a:rect l="l" t="t" r="r" b="b"/>
            <a:pathLst>
              <a:path w="603412" h="328612">
                <a:moveTo>
                  <a:pt x="19651" y="35718"/>
                </a:moveTo>
                <a:cubicBezTo>
                  <a:pt x="-3368" y="126999"/>
                  <a:pt x="-193" y="165893"/>
                  <a:pt x="600" y="288131"/>
                </a:cubicBezTo>
                <a:lnTo>
                  <a:pt x="603057" y="328612"/>
                </a:lnTo>
                <a:cubicBezTo>
                  <a:pt x="607026" y="178593"/>
                  <a:pt x="577657" y="123825"/>
                  <a:pt x="522095" y="14287"/>
                </a:cubicBezTo>
                <a:cubicBezTo>
                  <a:pt x="480026" y="56356"/>
                  <a:pt x="435575" y="26987"/>
                  <a:pt x="412557" y="0"/>
                </a:cubicBezTo>
                <a:cubicBezTo>
                  <a:pt x="290319" y="88900"/>
                  <a:pt x="187132" y="34924"/>
                  <a:pt x="133951" y="4762"/>
                </a:cubicBezTo>
                <a:cubicBezTo>
                  <a:pt x="79977" y="58736"/>
                  <a:pt x="49813" y="46037"/>
                  <a:pt x="19651" y="35718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任意多边形 309"/>
          <p:cNvSpPr/>
          <p:nvPr/>
        </p:nvSpPr>
        <p:spPr>
          <a:xfrm flipH="1">
            <a:off x="2663280" y="5410080"/>
            <a:ext cx="453960" cy="471600"/>
          </a:xfrm>
          <a:custGeom>
            <a:avLst/>
            <a:gdLst/>
            <a:ahLst/>
            <a:rect l="l" t="t" r="r" b="b"/>
            <a:pathLst>
              <a:path w="454819" h="471488">
                <a:moveTo>
                  <a:pt x="0" y="57150"/>
                </a:moveTo>
                <a:cubicBezTo>
                  <a:pt x="120650" y="157956"/>
                  <a:pt x="229394" y="280195"/>
                  <a:pt x="314325" y="471488"/>
                </a:cubicBezTo>
                <a:lnTo>
                  <a:pt x="454819" y="457200"/>
                </a:lnTo>
                <a:cubicBezTo>
                  <a:pt x="373062" y="239713"/>
                  <a:pt x="238920" y="122237"/>
                  <a:pt x="95251" y="0"/>
                </a:cubicBezTo>
                <a:cubicBezTo>
                  <a:pt x="54769" y="57151"/>
                  <a:pt x="47626" y="52387"/>
                  <a:pt x="0" y="5715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任意多边形 310"/>
          <p:cNvSpPr/>
          <p:nvPr/>
        </p:nvSpPr>
        <p:spPr>
          <a:xfrm flipH="1">
            <a:off x="2902680" y="5581800"/>
            <a:ext cx="1135080" cy="450720"/>
          </a:xfrm>
          <a:custGeom>
            <a:avLst/>
            <a:gdLst/>
            <a:ahLst/>
            <a:rect l="l" t="t" r="r" b="b"/>
            <a:pathLst>
              <a:path w="1135150" h="449589">
                <a:moveTo>
                  <a:pt x="114752" y="0"/>
                </a:moveTo>
                <a:cubicBezTo>
                  <a:pt x="178128" y="0"/>
                  <a:pt x="229504" y="51376"/>
                  <a:pt x="229504" y="114752"/>
                </a:cubicBezTo>
                <a:cubicBezTo>
                  <a:pt x="249602" y="114752"/>
                  <a:pt x="267797" y="127596"/>
                  <a:pt x="280968" y="148362"/>
                </a:cubicBezTo>
                <a:lnTo>
                  <a:pt x="288794" y="166661"/>
                </a:lnTo>
                <a:lnTo>
                  <a:pt x="309118" y="161135"/>
                </a:lnTo>
                <a:cubicBezTo>
                  <a:pt x="320883" y="161135"/>
                  <a:pt x="332091" y="164346"/>
                  <a:pt x="342285" y="170153"/>
                </a:cubicBezTo>
                <a:lnTo>
                  <a:pt x="361988" y="188043"/>
                </a:lnTo>
                <a:lnTo>
                  <a:pt x="381691" y="170153"/>
                </a:lnTo>
                <a:cubicBezTo>
                  <a:pt x="391886" y="164346"/>
                  <a:pt x="403094" y="161135"/>
                  <a:pt x="414859" y="161135"/>
                </a:cubicBezTo>
                <a:cubicBezTo>
                  <a:pt x="438389" y="161135"/>
                  <a:pt x="459691" y="173979"/>
                  <a:pt x="475111" y="194745"/>
                </a:cubicBezTo>
                <a:lnTo>
                  <a:pt x="490658" y="225798"/>
                </a:lnTo>
                <a:lnTo>
                  <a:pt x="507863" y="213121"/>
                </a:lnTo>
                <a:cubicBezTo>
                  <a:pt x="520425" y="207314"/>
                  <a:pt x="534236" y="204103"/>
                  <a:pt x="548734" y="204103"/>
                </a:cubicBezTo>
                <a:cubicBezTo>
                  <a:pt x="577729" y="204103"/>
                  <a:pt x="603979" y="216947"/>
                  <a:pt x="622980" y="237713"/>
                </a:cubicBezTo>
                <a:lnTo>
                  <a:pt x="629909" y="248945"/>
                </a:lnTo>
                <a:lnTo>
                  <a:pt x="650586" y="229103"/>
                </a:lnTo>
                <a:cubicBezTo>
                  <a:pt x="660232" y="223296"/>
                  <a:pt x="670837" y="220085"/>
                  <a:pt x="681969" y="220085"/>
                </a:cubicBezTo>
                <a:cubicBezTo>
                  <a:pt x="693101" y="220085"/>
                  <a:pt x="703706" y="223296"/>
                  <a:pt x="713352" y="229103"/>
                </a:cubicBezTo>
                <a:lnTo>
                  <a:pt x="732827" y="247792"/>
                </a:lnTo>
                <a:lnTo>
                  <a:pt x="737601" y="237713"/>
                </a:lnTo>
                <a:cubicBezTo>
                  <a:pt x="752192" y="216947"/>
                  <a:pt x="772348" y="204103"/>
                  <a:pt x="794612" y="204103"/>
                </a:cubicBezTo>
                <a:cubicBezTo>
                  <a:pt x="805744" y="204103"/>
                  <a:pt x="816349" y="207314"/>
                  <a:pt x="825995" y="213121"/>
                </a:cubicBezTo>
                <a:lnTo>
                  <a:pt x="834081" y="220880"/>
                </a:lnTo>
                <a:lnTo>
                  <a:pt x="846461" y="194745"/>
                </a:lnTo>
                <a:cubicBezTo>
                  <a:pt x="861052" y="173979"/>
                  <a:pt x="881208" y="161135"/>
                  <a:pt x="903472" y="161135"/>
                </a:cubicBezTo>
                <a:cubicBezTo>
                  <a:pt x="914604" y="161135"/>
                  <a:pt x="925209" y="164346"/>
                  <a:pt x="934855" y="170153"/>
                </a:cubicBezTo>
                <a:lnTo>
                  <a:pt x="947505" y="182292"/>
                </a:lnTo>
                <a:lnTo>
                  <a:pt x="953231" y="169030"/>
                </a:lnTo>
                <a:cubicBezTo>
                  <a:pt x="966529" y="148264"/>
                  <a:pt x="984900" y="135420"/>
                  <a:pt x="1005193" y="135420"/>
                </a:cubicBezTo>
                <a:lnTo>
                  <a:pt x="1032956" y="144173"/>
                </a:lnTo>
                <a:lnTo>
                  <a:pt x="1033077" y="142879"/>
                </a:lnTo>
                <a:cubicBezTo>
                  <a:pt x="1041141" y="101692"/>
                  <a:pt x="1060021" y="72793"/>
                  <a:pt x="1082026" y="72793"/>
                </a:cubicBezTo>
                <a:cubicBezTo>
                  <a:pt x="1111366" y="72793"/>
                  <a:pt x="1135150" y="124169"/>
                  <a:pt x="1135150" y="187545"/>
                </a:cubicBezTo>
                <a:cubicBezTo>
                  <a:pt x="1135150" y="250921"/>
                  <a:pt x="1111366" y="302297"/>
                  <a:pt x="1082026" y="302297"/>
                </a:cubicBezTo>
                <a:lnTo>
                  <a:pt x="1071640" y="297768"/>
                </a:lnTo>
                <a:lnTo>
                  <a:pt x="1057156" y="331314"/>
                </a:lnTo>
                <a:cubicBezTo>
                  <a:pt x="1043857" y="352080"/>
                  <a:pt x="1025485" y="364924"/>
                  <a:pt x="1005193" y="364924"/>
                </a:cubicBezTo>
                <a:cubicBezTo>
                  <a:pt x="995047" y="364924"/>
                  <a:pt x="985381" y="361713"/>
                  <a:pt x="976589" y="355906"/>
                </a:cubicBezTo>
                <a:lnTo>
                  <a:pt x="966197" y="344966"/>
                </a:lnTo>
                <a:lnTo>
                  <a:pt x="960482" y="357029"/>
                </a:lnTo>
                <a:cubicBezTo>
                  <a:pt x="945892" y="377795"/>
                  <a:pt x="925736" y="390639"/>
                  <a:pt x="903472" y="390639"/>
                </a:cubicBezTo>
                <a:cubicBezTo>
                  <a:pt x="892340" y="390639"/>
                  <a:pt x="881735" y="387428"/>
                  <a:pt x="872089" y="381622"/>
                </a:cubicBezTo>
                <a:lnTo>
                  <a:pt x="864003" y="373862"/>
                </a:lnTo>
                <a:lnTo>
                  <a:pt x="851622" y="399997"/>
                </a:lnTo>
                <a:cubicBezTo>
                  <a:pt x="837032" y="420763"/>
                  <a:pt x="816876" y="433607"/>
                  <a:pt x="794612" y="433607"/>
                </a:cubicBezTo>
                <a:cubicBezTo>
                  <a:pt x="783480" y="433607"/>
                  <a:pt x="772875" y="430396"/>
                  <a:pt x="763229" y="424589"/>
                </a:cubicBezTo>
                <a:lnTo>
                  <a:pt x="743754" y="405901"/>
                </a:lnTo>
                <a:lnTo>
                  <a:pt x="738979" y="415979"/>
                </a:lnTo>
                <a:cubicBezTo>
                  <a:pt x="724389" y="436745"/>
                  <a:pt x="704233" y="449589"/>
                  <a:pt x="681969" y="449589"/>
                </a:cubicBezTo>
                <a:cubicBezTo>
                  <a:pt x="659705" y="449589"/>
                  <a:pt x="639549" y="436745"/>
                  <a:pt x="624958" y="415979"/>
                </a:cubicBezTo>
                <a:lnTo>
                  <a:pt x="618835" y="403052"/>
                </a:lnTo>
                <a:lnTo>
                  <a:pt x="589605" y="424589"/>
                </a:lnTo>
                <a:cubicBezTo>
                  <a:pt x="577043" y="430396"/>
                  <a:pt x="563231" y="433607"/>
                  <a:pt x="548734" y="433607"/>
                </a:cubicBezTo>
                <a:cubicBezTo>
                  <a:pt x="519739" y="433607"/>
                  <a:pt x="493489" y="420763"/>
                  <a:pt x="474488" y="399997"/>
                </a:cubicBezTo>
                <a:lnTo>
                  <a:pt x="457721" y="372819"/>
                </a:lnTo>
                <a:lnTo>
                  <a:pt x="448026" y="381621"/>
                </a:lnTo>
                <a:cubicBezTo>
                  <a:pt x="437832" y="387428"/>
                  <a:pt x="426624" y="390639"/>
                  <a:pt x="414859" y="390639"/>
                </a:cubicBezTo>
                <a:cubicBezTo>
                  <a:pt x="403094" y="390639"/>
                  <a:pt x="391886" y="387428"/>
                  <a:pt x="381691" y="381622"/>
                </a:cubicBezTo>
                <a:lnTo>
                  <a:pt x="361988" y="363732"/>
                </a:lnTo>
                <a:lnTo>
                  <a:pt x="342285" y="381622"/>
                </a:lnTo>
                <a:cubicBezTo>
                  <a:pt x="332091" y="387428"/>
                  <a:pt x="320883" y="390639"/>
                  <a:pt x="309118" y="390639"/>
                </a:cubicBezTo>
                <a:cubicBezTo>
                  <a:pt x="285588" y="390639"/>
                  <a:pt x="264285" y="377795"/>
                  <a:pt x="248865" y="357029"/>
                </a:cubicBezTo>
                <a:lnTo>
                  <a:pt x="240688" y="340696"/>
                </a:lnTo>
                <a:lnTo>
                  <a:pt x="229504" y="344256"/>
                </a:lnTo>
                <a:cubicBezTo>
                  <a:pt x="219455" y="344256"/>
                  <a:pt x="209882" y="341045"/>
                  <a:pt x="201174" y="335238"/>
                </a:cubicBezTo>
                <a:lnTo>
                  <a:pt x="184114" y="317103"/>
                </a:lnTo>
                <a:lnTo>
                  <a:pt x="167882" y="322270"/>
                </a:lnTo>
                <a:cubicBezTo>
                  <a:pt x="137735" y="322270"/>
                  <a:pt x="111869" y="293371"/>
                  <a:pt x="100820" y="252185"/>
                </a:cubicBezTo>
                <a:lnTo>
                  <a:pt x="97468" y="226015"/>
                </a:lnTo>
                <a:lnTo>
                  <a:pt x="70085" y="220487"/>
                </a:lnTo>
                <a:cubicBezTo>
                  <a:pt x="28899" y="203066"/>
                  <a:pt x="0" y="162284"/>
                  <a:pt x="0" y="114752"/>
                </a:cubicBezTo>
                <a:cubicBezTo>
                  <a:pt x="0" y="51376"/>
                  <a:pt x="51376" y="0"/>
                  <a:pt x="114752" y="0"/>
                </a:cubicBezTo>
                <a:close/>
              </a:path>
            </a:pathLst>
          </a:custGeom>
          <a:solidFill>
            <a:srgbClr val="d8e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任意多边形 311"/>
          <p:cNvSpPr/>
          <p:nvPr/>
        </p:nvSpPr>
        <p:spPr>
          <a:xfrm flipH="1" rot="975000">
            <a:off x="2430360" y="5357520"/>
            <a:ext cx="515880" cy="596880"/>
          </a:xfrm>
          <a:custGeom>
            <a:avLst/>
            <a:gdLst/>
            <a:ahLst/>
            <a:rect l="l" t="t" r="r" b="b"/>
            <a:pathLst>
              <a:path w="515954" h="596461">
                <a:moveTo>
                  <a:pt x="426862" y="6788"/>
                </a:moveTo>
                <a:cubicBezTo>
                  <a:pt x="452224" y="19901"/>
                  <a:pt x="470019" y="50599"/>
                  <a:pt x="470019" y="86379"/>
                </a:cubicBezTo>
                <a:cubicBezTo>
                  <a:pt x="470019" y="98306"/>
                  <a:pt x="468042" y="109668"/>
                  <a:pt x="464466" y="120002"/>
                </a:cubicBezTo>
                <a:lnTo>
                  <a:pt x="461653" y="125103"/>
                </a:lnTo>
                <a:lnTo>
                  <a:pt x="460742" y="130615"/>
                </a:lnTo>
                <a:lnTo>
                  <a:pt x="476819" y="145691"/>
                </a:lnTo>
                <a:cubicBezTo>
                  <a:pt x="481080" y="152060"/>
                  <a:pt x="483436" y="159063"/>
                  <a:pt x="483436" y="166413"/>
                </a:cubicBezTo>
                <a:lnTo>
                  <a:pt x="482533" y="169239"/>
                </a:lnTo>
                <a:lnTo>
                  <a:pt x="486306" y="172777"/>
                </a:lnTo>
                <a:cubicBezTo>
                  <a:pt x="490566" y="179146"/>
                  <a:pt x="492923" y="186149"/>
                  <a:pt x="492922" y="193499"/>
                </a:cubicBezTo>
                <a:cubicBezTo>
                  <a:pt x="492922" y="200849"/>
                  <a:pt x="490566" y="207852"/>
                  <a:pt x="486306" y="214221"/>
                </a:cubicBezTo>
                <a:lnTo>
                  <a:pt x="480720" y="219459"/>
                </a:lnTo>
                <a:lnTo>
                  <a:pt x="484067" y="222598"/>
                </a:lnTo>
                <a:cubicBezTo>
                  <a:pt x="488328" y="228967"/>
                  <a:pt x="490684" y="235970"/>
                  <a:pt x="490684" y="243320"/>
                </a:cubicBezTo>
                <a:cubicBezTo>
                  <a:pt x="490684" y="250670"/>
                  <a:pt x="488328" y="257673"/>
                  <a:pt x="484067" y="264042"/>
                </a:cubicBezTo>
                <a:lnTo>
                  <a:pt x="474883" y="272654"/>
                </a:lnTo>
                <a:lnTo>
                  <a:pt x="480070" y="288503"/>
                </a:lnTo>
                <a:cubicBezTo>
                  <a:pt x="480070" y="300791"/>
                  <a:pt x="471996" y="311914"/>
                  <a:pt x="458944" y="319966"/>
                </a:cubicBezTo>
                <a:lnTo>
                  <a:pt x="455803" y="321272"/>
                </a:lnTo>
                <a:lnTo>
                  <a:pt x="499122" y="343278"/>
                </a:lnTo>
                <a:cubicBezTo>
                  <a:pt x="509749" y="352981"/>
                  <a:pt x="515954" y="364679"/>
                  <a:pt x="515954" y="377271"/>
                </a:cubicBezTo>
                <a:cubicBezTo>
                  <a:pt x="515954" y="385666"/>
                  <a:pt x="513196" y="393664"/>
                  <a:pt x="508209" y="400938"/>
                </a:cubicBezTo>
                <a:lnTo>
                  <a:pt x="491397" y="416320"/>
                </a:lnTo>
                <a:lnTo>
                  <a:pt x="497798" y="424533"/>
                </a:lnTo>
                <a:cubicBezTo>
                  <a:pt x="500554" y="429999"/>
                  <a:pt x="502039" y="435811"/>
                  <a:pt x="502039" y="441836"/>
                </a:cubicBezTo>
                <a:cubicBezTo>
                  <a:pt x="502039" y="473972"/>
                  <a:pt x="459807" y="500024"/>
                  <a:pt x="407714" y="500024"/>
                </a:cubicBezTo>
                <a:lnTo>
                  <a:pt x="386853" y="497426"/>
                </a:lnTo>
                <a:lnTo>
                  <a:pt x="383701" y="505101"/>
                </a:lnTo>
                <a:cubicBezTo>
                  <a:pt x="375265" y="514388"/>
                  <a:pt x="363319" y="521766"/>
                  <a:pt x="349278" y="526183"/>
                </a:cubicBezTo>
                <a:lnTo>
                  <a:pt x="339540" y="527645"/>
                </a:lnTo>
                <a:lnTo>
                  <a:pt x="334119" y="543111"/>
                </a:lnTo>
                <a:cubicBezTo>
                  <a:pt x="320769" y="563086"/>
                  <a:pt x="291980" y="575700"/>
                  <a:pt x="259657" y="573367"/>
                </a:cubicBezTo>
                <a:lnTo>
                  <a:pt x="233688" y="563267"/>
                </a:lnTo>
                <a:lnTo>
                  <a:pt x="224469" y="578353"/>
                </a:lnTo>
                <a:cubicBezTo>
                  <a:pt x="207226" y="595083"/>
                  <a:pt x="176431" y="601376"/>
                  <a:pt x="145317" y="592313"/>
                </a:cubicBezTo>
                <a:cubicBezTo>
                  <a:pt x="124574" y="586271"/>
                  <a:pt x="107616" y="574548"/>
                  <a:pt x="96967" y="560478"/>
                </a:cubicBezTo>
                <a:lnTo>
                  <a:pt x="86687" y="539357"/>
                </a:lnTo>
                <a:lnTo>
                  <a:pt x="86199" y="539762"/>
                </a:lnTo>
                <a:cubicBezTo>
                  <a:pt x="73145" y="546927"/>
                  <a:pt x="57357" y="549112"/>
                  <a:pt x="41930" y="544618"/>
                </a:cubicBezTo>
                <a:cubicBezTo>
                  <a:pt x="11076" y="535631"/>
                  <a:pt x="-6651" y="503333"/>
                  <a:pt x="2336" y="472479"/>
                </a:cubicBezTo>
                <a:cubicBezTo>
                  <a:pt x="11324" y="441625"/>
                  <a:pt x="43622" y="423899"/>
                  <a:pt x="74476" y="432886"/>
                </a:cubicBezTo>
                <a:cubicBezTo>
                  <a:pt x="97616" y="439626"/>
                  <a:pt x="113372" y="459479"/>
                  <a:pt x="116013" y="482001"/>
                </a:cubicBezTo>
                <a:lnTo>
                  <a:pt x="115843" y="484014"/>
                </a:lnTo>
                <a:lnTo>
                  <a:pt x="119981" y="481472"/>
                </a:lnTo>
                <a:cubicBezTo>
                  <a:pt x="136519" y="475321"/>
                  <a:pt x="157120" y="474538"/>
                  <a:pt x="177863" y="480580"/>
                </a:cubicBezTo>
                <a:lnTo>
                  <a:pt x="193488" y="487794"/>
                </a:lnTo>
                <a:lnTo>
                  <a:pt x="193574" y="487548"/>
                </a:lnTo>
                <a:cubicBezTo>
                  <a:pt x="200249" y="477561"/>
                  <a:pt x="210784" y="469414"/>
                  <a:pt x="223690" y="464055"/>
                </a:cubicBezTo>
                <a:lnTo>
                  <a:pt x="243725" y="461000"/>
                </a:lnTo>
                <a:lnTo>
                  <a:pt x="246734" y="449918"/>
                </a:lnTo>
                <a:cubicBezTo>
                  <a:pt x="258611" y="429033"/>
                  <a:pt x="286417" y="414379"/>
                  <a:pt x="318824" y="414379"/>
                </a:cubicBezTo>
                <a:lnTo>
                  <a:pt x="324234" y="416046"/>
                </a:lnTo>
                <a:lnTo>
                  <a:pt x="333664" y="407418"/>
                </a:lnTo>
                <a:lnTo>
                  <a:pt x="326581" y="400938"/>
                </a:lnTo>
                <a:cubicBezTo>
                  <a:pt x="321594" y="393664"/>
                  <a:pt x="318836" y="385666"/>
                  <a:pt x="318836" y="377271"/>
                </a:cubicBezTo>
                <a:cubicBezTo>
                  <a:pt x="318836" y="360482"/>
                  <a:pt x="329868" y="345282"/>
                  <a:pt x="347703" y="334279"/>
                </a:cubicBezTo>
                <a:lnTo>
                  <a:pt x="372535" y="323951"/>
                </a:lnTo>
                <a:lnTo>
                  <a:pt x="356938" y="319966"/>
                </a:lnTo>
                <a:cubicBezTo>
                  <a:pt x="350412" y="315940"/>
                  <a:pt x="345130" y="311146"/>
                  <a:pt x="341480" y="305823"/>
                </a:cubicBezTo>
                <a:lnTo>
                  <a:pt x="336567" y="290808"/>
                </a:lnTo>
                <a:lnTo>
                  <a:pt x="342119" y="289454"/>
                </a:lnTo>
                <a:lnTo>
                  <a:pt x="339293" y="277867"/>
                </a:lnTo>
                <a:lnTo>
                  <a:pt x="340316" y="274742"/>
                </a:lnTo>
                <a:lnTo>
                  <a:pt x="338002" y="272572"/>
                </a:lnTo>
                <a:lnTo>
                  <a:pt x="327154" y="228084"/>
                </a:lnTo>
                <a:lnTo>
                  <a:pt x="328905" y="222598"/>
                </a:lnTo>
                <a:lnTo>
                  <a:pt x="334491" y="217360"/>
                </a:lnTo>
                <a:lnTo>
                  <a:pt x="331143" y="214221"/>
                </a:lnTo>
                <a:cubicBezTo>
                  <a:pt x="326883" y="207851"/>
                  <a:pt x="324527" y="200849"/>
                  <a:pt x="324526" y="193499"/>
                </a:cubicBezTo>
                <a:lnTo>
                  <a:pt x="325429" y="190672"/>
                </a:lnTo>
                <a:lnTo>
                  <a:pt x="321656" y="187135"/>
                </a:lnTo>
                <a:cubicBezTo>
                  <a:pt x="317396" y="180766"/>
                  <a:pt x="315040" y="173763"/>
                  <a:pt x="315040" y="166413"/>
                </a:cubicBezTo>
                <a:cubicBezTo>
                  <a:pt x="315040" y="159063"/>
                  <a:pt x="317396" y="152060"/>
                  <a:pt x="321657" y="145691"/>
                </a:cubicBezTo>
                <a:lnTo>
                  <a:pt x="330612" y="137293"/>
                </a:lnTo>
                <a:lnTo>
                  <a:pt x="329697" y="135635"/>
                </a:lnTo>
                <a:cubicBezTo>
                  <a:pt x="326121" y="125301"/>
                  <a:pt x="324144" y="113939"/>
                  <a:pt x="324144" y="102012"/>
                </a:cubicBezTo>
                <a:cubicBezTo>
                  <a:pt x="324144" y="90086"/>
                  <a:pt x="326122" y="78724"/>
                  <a:pt x="329697" y="68390"/>
                </a:cubicBezTo>
                <a:lnTo>
                  <a:pt x="332510" y="63289"/>
                </a:lnTo>
                <a:lnTo>
                  <a:pt x="334250" y="52756"/>
                </a:lnTo>
                <a:cubicBezTo>
                  <a:pt x="344977" y="21754"/>
                  <a:pt x="370089" y="0"/>
                  <a:pt x="399358" y="0"/>
                </a:cubicBezTo>
                <a:cubicBezTo>
                  <a:pt x="409114" y="0"/>
                  <a:pt x="418409" y="2417"/>
                  <a:pt x="426862" y="6788"/>
                </a:cubicBezTo>
                <a:close/>
              </a:path>
            </a:pathLst>
          </a:custGeom>
          <a:solidFill>
            <a:srgbClr val="d8e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312"/>
          <p:cNvSpPr/>
          <p:nvPr/>
        </p:nvSpPr>
        <p:spPr>
          <a:xfrm flipH="1" rot="3534000">
            <a:off x="3164760" y="5197320"/>
            <a:ext cx="614160" cy="988920"/>
          </a:xfrm>
          <a:custGeom>
            <a:avLst/>
            <a:gdLst/>
            <a:ahLst/>
            <a:rect l="l" t="t" r="r" b="b"/>
            <a:pathLst>
              <a:path w="681131" h="989861">
                <a:moveTo>
                  <a:pt x="255452" y="110894"/>
                </a:moveTo>
                <a:cubicBezTo>
                  <a:pt x="258379" y="116510"/>
                  <a:pt x="259998" y="122685"/>
                  <a:pt x="259998" y="129166"/>
                </a:cubicBezTo>
                <a:lnTo>
                  <a:pt x="246275" y="156049"/>
                </a:lnTo>
                <a:lnTo>
                  <a:pt x="245979" y="184992"/>
                </a:lnTo>
                <a:lnTo>
                  <a:pt x="240471" y="198271"/>
                </a:lnTo>
                <a:lnTo>
                  <a:pt x="241766" y="201713"/>
                </a:lnTo>
                <a:cubicBezTo>
                  <a:pt x="247221" y="232859"/>
                  <a:pt x="235017" y="264385"/>
                  <a:pt x="208338" y="280483"/>
                </a:cubicBezTo>
                <a:lnTo>
                  <a:pt x="200323" y="283191"/>
                </a:lnTo>
                <a:lnTo>
                  <a:pt x="203566" y="284858"/>
                </a:lnTo>
                <a:cubicBezTo>
                  <a:pt x="211903" y="291307"/>
                  <a:pt x="219288" y="299472"/>
                  <a:pt x="225148" y="309184"/>
                </a:cubicBezTo>
                <a:cubicBezTo>
                  <a:pt x="233938" y="323752"/>
                  <a:pt x="238048" y="339733"/>
                  <a:pt x="237877" y="355149"/>
                </a:cubicBezTo>
                <a:lnTo>
                  <a:pt x="233662" y="368995"/>
                </a:lnTo>
                <a:lnTo>
                  <a:pt x="258229" y="387243"/>
                </a:lnTo>
                <a:lnTo>
                  <a:pt x="270755" y="407445"/>
                </a:lnTo>
                <a:lnTo>
                  <a:pt x="293071" y="415810"/>
                </a:lnTo>
                <a:cubicBezTo>
                  <a:pt x="309536" y="427399"/>
                  <a:pt x="325069" y="443975"/>
                  <a:pt x="337424" y="464451"/>
                </a:cubicBezTo>
                <a:cubicBezTo>
                  <a:pt x="362133" y="505404"/>
                  <a:pt x="367112" y="550329"/>
                  <a:pt x="353050" y="579287"/>
                </a:cubicBezTo>
                <a:lnTo>
                  <a:pt x="347762" y="585227"/>
                </a:lnTo>
                <a:lnTo>
                  <a:pt x="351970" y="594852"/>
                </a:lnTo>
                <a:cubicBezTo>
                  <a:pt x="357787" y="615544"/>
                  <a:pt x="358728" y="635569"/>
                  <a:pt x="354880" y="652432"/>
                </a:cubicBezTo>
                <a:lnTo>
                  <a:pt x="342650" y="670718"/>
                </a:lnTo>
                <a:lnTo>
                  <a:pt x="380408" y="680692"/>
                </a:lnTo>
                <a:cubicBezTo>
                  <a:pt x="393588" y="686315"/>
                  <a:pt x="406784" y="694125"/>
                  <a:pt x="419259" y="704052"/>
                </a:cubicBezTo>
                <a:cubicBezTo>
                  <a:pt x="431735" y="713979"/>
                  <a:pt x="442309" y="725084"/>
                  <a:pt x="450749" y="736664"/>
                </a:cubicBezTo>
                <a:lnTo>
                  <a:pt x="462699" y="759350"/>
                </a:lnTo>
                <a:lnTo>
                  <a:pt x="467850" y="759684"/>
                </a:lnTo>
                <a:cubicBezTo>
                  <a:pt x="477049" y="762139"/>
                  <a:pt x="485869" y="766467"/>
                  <a:pt x="493751" y="772739"/>
                </a:cubicBezTo>
                <a:cubicBezTo>
                  <a:pt x="509515" y="785282"/>
                  <a:pt x="518544" y="803227"/>
                  <a:pt x="520398" y="822100"/>
                </a:cubicBezTo>
                <a:lnTo>
                  <a:pt x="519622" y="830413"/>
                </a:lnTo>
                <a:lnTo>
                  <a:pt x="566522" y="809092"/>
                </a:lnTo>
                <a:cubicBezTo>
                  <a:pt x="590208" y="808866"/>
                  <a:pt x="615839" y="817464"/>
                  <a:pt x="637801" y="834940"/>
                </a:cubicBezTo>
                <a:cubicBezTo>
                  <a:pt x="681726" y="869892"/>
                  <a:pt x="694343" y="927118"/>
                  <a:pt x="665982" y="962760"/>
                </a:cubicBezTo>
                <a:cubicBezTo>
                  <a:pt x="644711" y="989492"/>
                  <a:pt x="606431" y="996489"/>
                  <a:pt x="570090" y="983572"/>
                </a:cubicBezTo>
                <a:lnTo>
                  <a:pt x="537022" y="965086"/>
                </a:lnTo>
                <a:lnTo>
                  <a:pt x="527477" y="968294"/>
                </a:lnTo>
                <a:cubicBezTo>
                  <a:pt x="488226" y="968294"/>
                  <a:pt x="456406" y="942475"/>
                  <a:pt x="456406" y="910625"/>
                </a:cubicBezTo>
                <a:lnTo>
                  <a:pt x="458306" y="902989"/>
                </a:lnTo>
                <a:lnTo>
                  <a:pt x="454156" y="905348"/>
                </a:lnTo>
                <a:cubicBezTo>
                  <a:pt x="435349" y="907780"/>
                  <a:pt x="415835" y="903012"/>
                  <a:pt x="400071" y="890469"/>
                </a:cubicBezTo>
                <a:cubicBezTo>
                  <a:pt x="392189" y="884197"/>
                  <a:pt x="385991" y="876575"/>
                  <a:pt x="381532" y="868162"/>
                </a:cubicBezTo>
                <a:lnTo>
                  <a:pt x="375511" y="848070"/>
                </a:lnTo>
                <a:lnTo>
                  <a:pt x="364430" y="845143"/>
                </a:lnTo>
                <a:cubicBezTo>
                  <a:pt x="351251" y="839520"/>
                  <a:pt x="338055" y="831710"/>
                  <a:pt x="325579" y="821783"/>
                </a:cubicBezTo>
                <a:cubicBezTo>
                  <a:pt x="316222" y="814337"/>
                  <a:pt x="307935" y="806230"/>
                  <a:pt x="300816" y="797756"/>
                </a:cubicBezTo>
                <a:lnTo>
                  <a:pt x="298634" y="794534"/>
                </a:lnTo>
                <a:lnTo>
                  <a:pt x="279362" y="801012"/>
                </a:lnTo>
                <a:cubicBezTo>
                  <a:pt x="230303" y="801012"/>
                  <a:pt x="190533" y="768742"/>
                  <a:pt x="190533" y="728934"/>
                </a:cubicBezTo>
                <a:cubicBezTo>
                  <a:pt x="190533" y="718982"/>
                  <a:pt x="193019" y="709501"/>
                  <a:pt x="197514" y="700878"/>
                </a:cubicBezTo>
                <a:lnTo>
                  <a:pt x="208351" y="687835"/>
                </a:lnTo>
                <a:lnTo>
                  <a:pt x="201054" y="686640"/>
                </a:lnTo>
                <a:cubicBezTo>
                  <a:pt x="164574" y="674120"/>
                  <a:pt x="138977" y="644809"/>
                  <a:pt x="138977" y="610648"/>
                </a:cubicBezTo>
                <a:cubicBezTo>
                  <a:pt x="138978" y="599261"/>
                  <a:pt x="141821" y="588412"/>
                  <a:pt x="146964" y="578546"/>
                </a:cubicBezTo>
                <a:lnTo>
                  <a:pt x="156094" y="567558"/>
                </a:lnTo>
                <a:lnTo>
                  <a:pt x="146561" y="560476"/>
                </a:lnTo>
                <a:cubicBezTo>
                  <a:pt x="138481" y="551817"/>
                  <a:pt x="132334" y="541991"/>
                  <a:pt x="128600" y="531509"/>
                </a:cubicBezTo>
                <a:lnTo>
                  <a:pt x="125477" y="502036"/>
                </a:lnTo>
                <a:lnTo>
                  <a:pt x="99785" y="482952"/>
                </a:lnTo>
                <a:cubicBezTo>
                  <a:pt x="83624" y="465634"/>
                  <a:pt x="75199" y="443645"/>
                  <a:pt x="78338" y="421088"/>
                </a:cubicBezTo>
                <a:lnTo>
                  <a:pt x="89529" y="393241"/>
                </a:lnTo>
                <a:lnTo>
                  <a:pt x="59170" y="383828"/>
                </a:lnTo>
                <a:cubicBezTo>
                  <a:pt x="24764" y="366399"/>
                  <a:pt x="3452" y="333840"/>
                  <a:pt x="8161" y="300005"/>
                </a:cubicBezTo>
                <a:lnTo>
                  <a:pt x="18189" y="275053"/>
                </a:lnTo>
                <a:lnTo>
                  <a:pt x="11485" y="267151"/>
                </a:lnTo>
                <a:cubicBezTo>
                  <a:pt x="2445" y="252603"/>
                  <a:pt x="-1706" y="236005"/>
                  <a:pt x="648" y="219087"/>
                </a:cubicBezTo>
                <a:cubicBezTo>
                  <a:pt x="3787" y="196530"/>
                  <a:pt x="17897" y="177676"/>
                  <a:pt x="38171" y="165430"/>
                </a:cubicBezTo>
                <a:lnTo>
                  <a:pt x="94721" y="154791"/>
                </a:lnTo>
                <a:lnTo>
                  <a:pt x="94743" y="152640"/>
                </a:lnTo>
                <a:lnTo>
                  <a:pt x="91051" y="151931"/>
                </a:lnTo>
                <a:cubicBezTo>
                  <a:pt x="77333" y="144895"/>
                  <a:pt x="65112" y="133808"/>
                  <a:pt x="56322" y="119240"/>
                </a:cubicBezTo>
                <a:cubicBezTo>
                  <a:pt x="32883" y="80391"/>
                  <a:pt x="42719" y="31499"/>
                  <a:pt x="78292" y="10036"/>
                </a:cubicBezTo>
                <a:cubicBezTo>
                  <a:pt x="113866" y="-11428"/>
                  <a:pt x="161705" y="2666"/>
                  <a:pt x="185144" y="41514"/>
                </a:cubicBezTo>
                <a:cubicBezTo>
                  <a:pt x="191004" y="51226"/>
                  <a:pt x="194784" y="61566"/>
                  <a:pt x="196603" y="71948"/>
                </a:cubicBezTo>
                <a:lnTo>
                  <a:pt x="196478" y="84129"/>
                </a:lnTo>
                <a:lnTo>
                  <a:pt x="202147" y="82224"/>
                </a:lnTo>
                <a:cubicBezTo>
                  <a:pt x="226109" y="82224"/>
                  <a:pt x="246669" y="94046"/>
                  <a:pt x="255452" y="1108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313"/>
          <p:cNvSpPr/>
          <p:nvPr/>
        </p:nvSpPr>
        <p:spPr>
          <a:xfrm flipH="1">
            <a:off x="2460600" y="5603760"/>
            <a:ext cx="419040" cy="317520"/>
          </a:xfrm>
          <a:custGeom>
            <a:avLst/>
            <a:gdLst/>
            <a:ahLst/>
            <a:rect l="l" t="t" r="r" b="b"/>
            <a:pathLst>
              <a:path w="420308" h="316691">
                <a:moveTo>
                  <a:pt x="350729" y="0"/>
                </a:moveTo>
                <a:cubicBezTo>
                  <a:pt x="389156" y="0"/>
                  <a:pt x="420308" y="30914"/>
                  <a:pt x="420308" y="69048"/>
                </a:cubicBezTo>
                <a:cubicBezTo>
                  <a:pt x="420308" y="97649"/>
                  <a:pt x="402785" y="122188"/>
                  <a:pt x="377812" y="132670"/>
                </a:cubicBezTo>
                <a:lnTo>
                  <a:pt x="350911" y="138060"/>
                </a:lnTo>
                <a:lnTo>
                  <a:pt x="347803" y="151470"/>
                </a:lnTo>
                <a:cubicBezTo>
                  <a:pt x="336721" y="174287"/>
                  <a:pt x="310778" y="190297"/>
                  <a:pt x="280541" y="190297"/>
                </a:cubicBezTo>
                <a:lnTo>
                  <a:pt x="269323" y="188325"/>
                </a:lnTo>
                <a:lnTo>
                  <a:pt x="262836" y="203987"/>
                </a:lnTo>
                <a:lnTo>
                  <a:pt x="255164" y="209159"/>
                </a:lnTo>
                <a:lnTo>
                  <a:pt x="250278" y="230239"/>
                </a:lnTo>
                <a:cubicBezTo>
                  <a:pt x="239196" y="253056"/>
                  <a:pt x="213253" y="269066"/>
                  <a:pt x="183016" y="269066"/>
                </a:cubicBezTo>
                <a:lnTo>
                  <a:pt x="167316" y="266306"/>
                </a:lnTo>
                <a:lnTo>
                  <a:pt x="156939" y="269066"/>
                </a:lnTo>
                <a:lnTo>
                  <a:pt x="142872" y="266593"/>
                </a:lnTo>
                <a:lnTo>
                  <a:pt x="140259" y="277864"/>
                </a:lnTo>
                <a:cubicBezTo>
                  <a:pt x="129178" y="300681"/>
                  <a:pt x="103235" y="316691"/>
                  <a:pt x="72998" y="316691"/>
                </a:cubicBezTo>
                <a:cubicBezTo>
                  <a:pt x="32682" y="316691"/>
                  <a:pt x="0" y="288228"/>
                  <a:pt x="0" y="253118"/>
                </a:cubicBezTo>
                <a:cubicBezTo>
                  <a:pt x="0" y="235563"/>
                  <a:pt x="8170" y="219670"/>
                  <a:pt x="21380" y="208166"/>
                </a:cubicBezTo>
                <a:lnTo>
                  <a:pt x="24990" y="206046"/>
                </a:lnTo>
                <a:lnTo>
                  <a:pt x="21659" y="189545"/>
                </a:lnTo>
                <a:cubicBezTo>
                  <a:pt x="21659" y="154435"/>
                  <a:pt x="50122" y="125972"/>
                  <a:pt x="85232" y="125972"/>
                </a:cubicBezTo>
                <a:cubicBezTo>
                  <a:pt x="94009" y="125972"/>
                  <a:pt x="102371" y="127751"/>
                  <a:pt x="109977" y="130968"/>
                </a:cubicBezTo>
                <a:lnTo>
                  <a:pt x="120803" y="138267"/>
                </a:lnTo>
                <a:lnTo>
                  <a:pt x="124220" y="130019"/>
                </a:lnTo>
                <a:cubicBezTo>
                  <a:pt x="135725" y="118514"/>
                  <a:pt x="151618" y="111398"/>
                  <a:pt x="169173" y="111398"/>
                </a:cubicBezTo>
                <a:lnTo>
                  <a:pt x="175127" y="112600"/>
                </a:lnTo>
                <a:lnTo>
                  <a:pt x="193138" y="100457"/>
                </a:lnTo>
                <a:cubicBezTo>
                  <a:pt x="200743" y="97240"/>
                  <a:pt x="209106" y="95461"/>
                  <a:pt x="217883" y="95461"/>
                </a:cubicBezTo>
                <a:lnTo>
                  <a:pt x="222016" y="96296"/>
                </a:lnTo>
                <a:lnTo>
                  <a:pt x="228924" y="81772"/>
                </a:lnTo>
                <a:lnTo>
                  <a:pt x="248732" y="70141"/>
                </a:lnTo>
                <a:lnTo>
                  <a:pt x="252721" y="50532"/>
                </a:lnTo>
                <a:cubicBezTo>
                  <a:pt x="263284" y="25750"/>
                  <a:pt x="288012" y="8361"/>
                  <a:pt x="316832" y="8361"/>
                </a:cubicBezTo>
                <a:lnTo>
                  <a:pt x="318700" y="8735"/>
                </a:lnTo>
                <a:lnTo>
                  <a:pt x="323646" y="5426"/>
                </a:lnTo>
                <a:cubicBezTo>
                  <a:pt x="331970" y="1932"/>
                  <a:pt x="341122" y="0"/>
                  <a:pt x="3507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314"/>
          <p:cNvSpPr/>
          <p:nvPr/>
        </p:nvSpPr>
        <p:spPr>
          <a:xfrm flipH="1">
            <a:off x="2582280" y="5369040"/>
            <a:ext cx="122040" cy="195120"/>
          </a:xfrm>
          <a:custGeom>
            <a:avLst/>
            <a:gdLst/>
            <a:ahLst/>
            <a:rect l="l" t="t" r="r" b="b"/>
            <a:pathLst>
              <a:path w="122480" h="195040">
                <a:moveTo>
                  <a:pt x="55804" y="0"/>
                </a:moveTo>
                <a:cubicBezTo>
                  <a:pt x="73339" y="0"/>
                  <a:pt x="87554" y="20354"/>
                  <a:pt x="87554" y="45462"/>
                </a:cubicBezTo>
                <a:lnTo>
                  <a:pt x="80750" y="68984"/>
                </a:lnTo>
                <a:lnTo>
                  <a:pt x="87554" y="92507"/>
                </a:lnTo>
                <a:lnTo>
                  <a:pt x="84515" y="103012"/>
                </a:lnTo>
                <a:lnTo>
                  <a:pt x="86260" y="110439"/>
                </a:lnTo>
                <a:lnTo>
                  <a:pt x="108066" y="118200"/>
                </a:lnTo>
                <a:cubicBezTo>
                  <a:pt x="116972" y="125853"/>
                  <a:pt x="122480" y="136424"/>
                  <a:pt x="122480" y="148101"/>
                </a:cubicBezTo>
                <a:cubicBezTo>
                  <a:pt x="122480" y="171455"/>
                  <a:pt x="100447" y="190388"/>
                  <a:pt x="73267" y="190388"/>
                </a:cubicBezTo>
                <a:lnTo>
                  <a:pt x="61844" y="195040"/>
                </a:lnTo>
                <a:lnTo>
                  <a:pt x="0" y="90559"/>
                </a:lnTo>
                <a:lnTo>
                  <a:pt x="3542" y="86045"/>
                </a:lnTo>
                <a:lnTo>
                  <a:pt x="28492" y="77164"/>
                </a:lnTo>
                <a:lnTo>
                  <a:pt x="30859" y="68984"/>
                </a:lnTo>
                <a:lnTo>
                  <a:pt x="24054" y="45462"/>
                </a:lnTo>
                <a:cubicBezTo>
                  <a:pt x="24054" y="20354"/>
                  <a:pt x="38269" y="0"/>
                  <a:pt x="5580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31"/>
          <p:cNvSpPr/>
          <p:nvPr/>
        </p:nvSpPr>
        <p:spPr>
          <a:xfrm flipH="1">
            <a:off x="2971800" y="6326280"/>
            <a:ext cx="317520" cy="239760"/>
          </a:xfrm>
          <a:custGeom>
            <a:avLst/>
            <a:gdLst/>
            <a:ahLst/>
            <a:rect l="l" t="t" r="r" b="b"/>
            <a:pathLst>
              <a:path w="318017" h="238813">
                <a:moveTo>
                  <a:pt x="318017" y="4762"/>
                </a:moveTo>
                <a:cubicBezTo>
                  <a:pt x="297379" y="60325"/>
                  <a:pt x="287290" y="179758"/>
                  <a:pt x="246579" y="216694"/>
                </a:cubicBezTo>
                <a:cubicBezTo>
                  <a:pt x="205868" y="253630"/>
                  <a:pt x="114233" y="235107"/>
                  <a:pt x="73752" y="226376"/>
                </a:cubicBezTo>
                <a:cubicBezTo>
                  <a:pt x="16602" y="231932"/>
                  <a:pt x="-10429" y="192908"/>
                  <a:pt x="3691" y="157163"/>
                </a:cubicBezTo>
                <a:cubicBezTo>
                  <a:pt x="80287" y="132953"/>
                  <a:pt x="119975" y="131763"/>
                  <a:pt x="163235" y="0"/>
                </a:cubicBezTo>
                <a:lnTo>
                  <a:pt x="318017" y="47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任意多边形 332"/>
          <p:cNvSpPr/>
          <p:nvPr/>
        </p:nvSpPr>
        <p:spPr>
          <a:xfrm flipH="1">
            <a:off x="2967840" y="6327720"/>
            <a:ext cx="174600" cy="238320"/>
          </a:xfrm>
          <a:custGeom>
            <a:avLst/>
            <a:gdLst/>
            <a:ahLst/>
            <a:rect l="l" t="t" r="r" b="b"/>
            <a:pathLst>
              <a:path w="173833" h="239596">
                <a:moveTo>
                  <a:pt x="121444" y="0"/>
                </a:moveTo>
                <a:lnTo>
                  <a:pt x="173833" y="1612"/>
                </a:lnTo>
                <a:cubicBezTo>
                  <a:pt x="153195" y="57175"/>
                  <a:pt x="151631" y="183842"/>
                  <a:pt x="102395" y="213544"/>
                </a:cubicBezTo>
                <a:cubicBezTo>
                  <a:pt x="90153" y="220929"/>
                  <a:pt x="77880" y="224473"/>
                  <a:pt x="64732" y="225783"/>
                </a:cubicBezTo>
                <a:lnTo>
                  <a:pt x="56689" y="239596"/>
                </a:lnTo>
                <a:lnTo>
                  <a:pt x="0" y="230212"/>
                </a:lnTo>
                <a:lnTo>
                  <a:pt x="69057" y="175443"/>
                </a:lnTo>
                <a:lnTo>
                  <a:pt x="121444" y="96862"/>
                </a:lnTo>
                <a:lnTo>
                  <a:pt x="121444" y="0"/>
                </a:lnTo>
                <a:close/>
              </a:path>
            </a:pathLst>
          </a:custGeom>
          <a:solidFill>
            <a:srgbClr val="d8e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任意多边形 316"/>
          <p:cNvSpPr/>
          <p:nvPr/>
        </p:nvSpPr>
        <p:spPr>
          <a:xfrm flipH="1">
            <a:off x="1784520" y="6334200"/>
            <a:ext cx="914400" cy="450720"/>
          </a:xfrm>
          <a:custGeom>
            <a:avLst/>
            <a:gdLst/>
            <a:ahLst/>
            <a:rect l="l" t="t" r="r" b="b"/>
            <a:pathLst>
              <a:path w="914822" h="452437">
                <a:moveTo>
                  <a:pt x="0" y="271462"/>
                </a:moveTo>
                <a:cubicBezTo>
                  <a:pt x="66675" y="228599"/>
                  <a:pt x="109538" y="204788"/>
                  <a:pt x="261938" y="219075"/>
                </a:cubicBezTo>
                <a:cubicBezTo>
                  <a:pt x="274638" y="177800"/>
                  <a:pt x="287338" y="184150"/>
                  <a:pt x="300038" y="95250"/>
                </a:cubicBezTo>
                <a:cubicBezTo>
                  <a:pt x="358775" y="114300"/>
                  <a:pt x="350838" y="190500"/>
                  <a:pt x="376238" y="238125"/>
                </a:cubicBezTo>
                <a:cubicBezTo>
                  <a:pt x="476251" y="230188"/>
                  <a:pt x="476251" y="165100"/>
                  <a:pt x="490538" y="0"/>
                </a:cubicBezTo>
                <a:cubicBezTo>
                  <a:pt x="592138" y="88899"/>
                  <a:pt x="522288" y="149225"/>
                  <a:pt x="538163" y="223837"/>
                </a:cubicBezTo>
                <a:cubicBezTo>
                  <a:pt x="622301" y="250825"/>
                  <a:pt x="625476" y="225424"/>
                  <a:pt x="781051" y="128587"/>
                </a:cubicBezTo>
                <a:lnTo>
                  <a:pt x="604838" y="342900"/>
                </a:lnTo>
                <a:cubicBezTo>
                  <a:pt x="631826" y="369887"/>
                  <a:pt x="668338" y="392112"/>
                  <a:pt x="742951" y="323850"/>
                </a:cubicBezTo>
                <a:cubicBezTo>
                  <a:pt x="796926" y="296862"/>
                  <a:pt x="812800" y="346075"/>
                  <a:pt x="904875" y="242887"/>
                </a:cubicBezTo>
                <a:cubicBezTo>
                  <a:pt x="900113" y="280987"/>
                  <a:pt x="938212" y="319087"/>
                  <a:pt x="890588" y="357187"/>
                </a:cubicBezTo>
                <a:cubicBezTo>
                  <a:pt x="812801" y="446087"/>
                  <a:pt x="706438" y="420687"/>
                  <a:pt x="614363" y="452437"/>
                </a:cubicBezTo>
                <a:cubicBezTo>
                  <a:pt x="427038" y="428624"/>
                  <a:pt x="268288" y="447675"/>
                  <a:pt x="52388" y="380999"/>
                </a:cubicBezTo>
                <a:cubicBezTo>
                  <a:pt x="34925" y="344487"/>
                  <a:pt x="3175" y="341312"/>
                  <a:pt x="0" y="271462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等腰三角形 101"/>
          <p:cNvSpPr/>
          <p:nvPr/>
        </p:nvSpPr>
        <p:spPr>
          <a:xfrm flipH="1" rot="18479400">
            <a:off x="2568960" y="6033960"/>
            <a:ext cx="168480" cy="282600"/>
          </a:xfrm>
          <a:custGeom>
            <a:avLst/>
            <a:gdLst/>
            <a:ahLst/>
            <a:rect l="l" t="t" r="r" b="b"/>
            <a:pathLst>
              <a:path w="167669" h="283518">
                <a:moveTo>
                  <a:pt x="6042" y="251842"/>
                </a:moveTo>
                <a:cubicBezTo>
                  <a:pt x="-3101" y="164623"/>
                  <a:pt x="-16818" y="67787"/>
                  <a:pt x="91794" y="0"/>
                </a:cubicBezTo>
                <a:cubicBezTo>
                  <a:pt x="83354" y="114493"/>
                  <a:pt x="97538" y="192270"/>
                  <a:pt x="167669" y="283518"/>
                </a:cubicBezTo>
                <a:lnTo>
                  <a:pt x="6042" y="25184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等腰三角形 101"/>
          <p:cNvSpPr/>
          <p:nvPr/>
        </p:nvSpPr>
        <p:spPr>
          <a:xfrm flipH="1" rot="377400">
            <a:off x="2504520" y="6292800"/>
            <a:ext cx="174600" cy="168480"/>
          </a:xfrm>
          <a:custGeom>
            <a:avLst/>
            <a:gdLst/>
            <a:ahLst/>
            <a:rect l="l" t="t" r="r" b="b"/>
            <a:pathLst>
              <a:path w="174635" h="168429">
                <a:moveTo>
                  <a:pt x="935" y="136753"/>
                </a:moveTo>
                <a:cubicBezTo>
                  <a:pt x="-8208" y="49534"/>
                  <a:pt x="49693" y="42034"/>
                  <a:pt x="174635" y="0"/>
                </a:cubicBezTo>
                <a:cubicBezTo>
                  <a:pt x="115685" y="94558"/>
                  <a:pt x="92431" y="77181"/>
                  <a:pt x="162562" y="168429"/>
                </a:cubicBezTo>
                <a:lnTo>
                  <a:pt x="935" y="13675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319"/>
          <p:cNvSpPr/>
          <p:nvPr/>
        </p:nvSpPr>
        <p:spPr>
          <a:xfrm flipH="1">
            <a:off x="3244680" y="4915080"/>
            <a:ext cx="463680" cy="131760"/>
          </a:xfrm>
          <a:custGeom>
            <a:avLst/>
            <a:gdLst/>
            <a:ahLst/>
            <a:rect l="l" t="t" r="r" b="b"/>
            <a:pathLst>
              <a:path w="462712" h="130621">
                <a:moveTo>
                  <a:pt x="0" y="0"/>
                </a:moveTo>
                <a:lnTo>
                  <a:pt x="46472" y="29262"/>
                </a:lnTo>
                <a:cubicBezTo>
                  <a:pt x="109219" y="61614"/>
                  <a:pt x="184862" y="80504"/>
                  <a:pt x="266285" y="80504"/>
                </a:cubicBezTo>
                <a:cubicBezTo>
                  <a:pt x="320568" y="80504"/>
                  <a:pt x="372281" y="72109"/>
                  <a:pt x="419316" y="56926"/>
                </a:cubicBezTo>
                <a:lnTo>
                  <a:pt x="462712" y="38950"/>
                </a:lnTo>
                <a:lnTo>
                  <a:pt x="459583" y="42742"/>
                </a:lnTo>
                <a:cubicBezTo>
                  <a:pt x="405287" y="97038"/>
                  <a:pt x="330277" y="130621"/>
                  <a:pt x="247424" y="130621"/>
                </a:cubicBezTo>
                <a:cubicBezTo>
                  <a:pt x="164571" y="130621"/>
                  <a:pt x="89562" y="97038"/>
                  <a:pt x="35266" y="42742"/>
                </a:cubicBezTo>
                <a:close/>
              </a:path>
            </a:pathLst>
          </a:custGeom>
          <a:solidFill>
            <a:srgbClr val="f78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329"/>
          <p:cNvSpPr/>
          <p:nvPr/>
        </p:nvSpPr>
        <p:spPr>
          <a:xfrm flipH="1">
            <a:off x="3583800" y="4735440"/>
            <a:ext cx="600120" cy="255600"/>
          </a:xfrm>
          <a:custGeom>
            <a:avLst/>
            <a:gdLst/>
            <a:ahLst/>
            <a:rect l="l" t="t" r="r" b="b"/>
            <a:pathLst>
              <a:path w="601112" h="254946">
                <a:moveTo>
                  <a:pt x="569119" y="39166"/>
                </a:moveTo>
                <a:cubicBezTo>
                  <a:pt x="346075" y="-92596"/>
                  <a:pt x="275430" y="161404"/>
                  <a:pt x="0" y="29641"/>
                </a:cubicBezTo>
                <a:cubicBezTo>
                  <a:pt x="102394" y="136798"/>
                  <a:pt x="202407" y="205853"/>
                  <a:pt x="407194" y="251097"/>
                </a:cubicBezTo>
                <a:cubicBezTo>
                  <a:pt x="525462" y="282847"/>
                  <a:pt x="665164" y="109811"/>
                  <a:pt x="569119" y="39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任意多边形 330"/>
          <p:cNvSpPr/>
          <p:nvPr/>
        </p:nvSpPr>
        <p:spPr>
          <a:xfrm flipH="1">
            <a:off x="3584520" y="4857840"/>
            <a:ext cx="362160" cy="133200"/>
          </a:xfrm>
          <a:custGeom>
            <a:avLst/>
            <a:gdLst/>
            <a:ahLst/>
            <a:rect l="l" t="t" r="r" b="b"/>
            <a:pathLst>
              <a:path w="361950" h="131915">
                <a:moveTo>
                  <a:pt x="361950" y="0"/>
                </a:moveTo>
                <a:cubicBezTo>
                  <a:pt x="318294" y="195263"/>
                  <a:pt x="131762" y="130970"/>
                  <a:pt x="0" y="76200"/>
                </a:cubicBezTo>
                <a:cubicBezTo>
                  <a:pt x="169863" y="88106"/>
                  <a:pt x="254000" y="59532"/>
                  <a:pt x="361950" y="0"/>
                </a:cubicBezTo>
                <a:close/>
              </a:path>
            </a:pathLst>
          </a:custGeom>
          <a:solidFill>
            <a:srgbClr val="d8e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任意多边形 327"/>
          <p:cNvSpPr/>
          <p:nvPr/>
        </p:nvSpPr>
        <p:spPr>
          <a:xfrm flipH="1" rot="790200">
            <a:off x="2911320" y="4822560"/>
            <a:ext cx="522360" cy="263520"/>
          </a:xfrm>
          <a:custGeom>
            <a:avLst/>
            <a:gdLst/>
            <a:ahLst/>
            <a:rect l="l" t="t" r="r" b="b"/>
            <a:pathLst>
              <a:path w="656658" h="331833">
                <a:moveTo>
                  <a:pt x="8958" y="16182"/>
                </a:moveTo>
                <a:cubicBezTo>
                  <a:pt x="210571" y="-81449"/>
                  <a:pt x="402659" y="299550"/>
                  <a:pt x="656658" y="180488"/>
                </a:cubicBezTo>
                <a:cubicBezTo>
                  <a:pt x="436788" y="364638"/>
                  <a:pt x="397895" y="345588"/>
                  <a:pt x="204220" y="304313"/>
                </a:cubicBezTo>
                <a:cubicBezTo>
                  <a:pt x="10545" y="263038"/>
                  <a:pt x="-18824" y="124132"/>
                  <a:pt x="8958" y="161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任意多边形 328"/>
          <p:cNvSpPr/>
          <p:nvPr/>
        </p:nvSpPr>
        <p:spPr>
          <a:xfrm flipH="1" rot="790200">
            <a:off x="2908800" y="4936680"/>
            <a:ext cx="509760" cy="158760"/>
          </a:xfrm>
          <a:custGeom>
            <a:avLst/>
            <a:gdLst/>
            <a:ahLst/>
            <a:rect l="l" t="t" r="r" b="b"/>
            <a:pathLst>
              <a:path w="640556" h="200445">
                <a:moveTo>
                  <a:pt x="0" y="0"/>
                </a:moveTo>
                <a:cubicBezTo>
                  <a:pt x="201612" y="161925"/>
                  <a:pt x="419894" y="109538"/>
                  <a:pt x="640556" y="50007"/>
                </a:cubicBezTo>
                <a:cubicBezTo>
                  <a:pt x="403225" y="316706"/>
                  <a:pt x="73025" y="183357"/>
                  <a:pt x="0" y="0"/>
                </a:cubicBezTo>
                <a:close/>
              </a:path>
            </a:pathLst>
          </a:custGeom>
          <a:solidFill>
            <a:srgbClr val="dd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等腰三角形 108"/>
          <p:cNvSpPr/>
          <p:nvPr/>
        </p:nvSpPr>
        <p:spPr>
          <a:xfrm flipH="1">
            <a:off x="3451320" y="4637160"/>
            <a:ext cx="141120" cy="122040"/>
          </a:xfrm>
          <a:custGeom>
            <a:avLst/>
            <a:gdLst/>
            <a:ahLst/>
            <a:rect l="l" t="t" r="r" b="b"/>
            <a:pathLst>
              <a:path w="141151" h="121682">
                <a:moveTo>
                  <a:pt x="0" y="121682"/>
                </a:moveTo>
                <a:cubicBezTo>
                  <a:pt x="23525" y="81121"/>
                  <a:pt x="18476" y="21511"/>
                  <a:pt x="70576" y="0"/>
                </a:cubicBezTo>
                <a:cubicBezTo>
                  <a:pt x="127439" y="40561"/>
                  <a:pt x="117626" y="81121"/>
                  <a:pt x="141151" y="121682"/>
                </a:cubicBezTo>
                <a:cubicBezTo>
                  <a:pt x="79813" y="93107"/>
                  <a:pt x="61337" y="97870"/>
                  <a:pt x="0" y="1216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任意多边形 323"/>
          <p:cNvSpPr/>
          <p:nvPr/>
        </p:nvSpPr>
        <p:spPr>
          <a:xfrm flipH="1">
            <a:off x="2152080" y="4603680"/>
            <a:ext cx="291960" cy="292320"/>
          </a:xfrm>
          <a:custGeom>
            <a:avLst/>
            <a:gdLst/>
            <a:ahLst/>
            <a:rect l="l" t="t" r="r" b="b"/>
            <a:pathLst>
              <a:path w="293450" h="291200">
                <a:moveTo>
                  <a:pt x="146176" y="0"/>
                </a:moveTo>
                <a:lnTo>
                  <a:pt x="170236" y="6533"/>
                </a:lnTo>
                <a:lnTo>
                  <a:pt x="194296" y="0"/>
                </a:lnTo>
                <a:cubicBezTo>
                  <a:pt x="249057" y="0"/>
                  <a:pt x="293450" y="59703"/>
                  <a:pt x="293450" y="133350"/>
                </a:cubicBezTo>
                <a:cubicBezTo>
                  <a:pt x="293450" y="188585"/>
                  <a:pt x="268479" y="235977"/>
                  <a:pt x="232891" y="256221"/>
                </a:cubicBezTo>
                <a:lnTo>
                  <a:pt x="213977" y="261356"/>
                </a:lnTo>
                <a:lnTo>
                  <a:pt x="185256" y="280721"/>
                </a:lnTo>
                <a:cubicBezTo>
                  <a:pt x="169302" y="287469"/>
                  <a:pt x="151762" y="291200"/>
                  <a:pt x="133350" y="291200"/>
                </a:cubicBezTo>
                <a:cubicBezTo>
                  <a:pt x="59703" y="291200"/>
                  <a:pt x="0" y="231497"/>
                  <a:pt x="0" y="157850"/>
                </a:cubicBezTo>
                <a:cubicBezTo>
                  <a:pt x="0" y="121027"/>
                  <a:pt x="14926" y="87689"/>
                  <a:pt x="39057" y="63558"/>
                </a:cubicBezTo>
                <a:lnTo>
                  <a:pt x="78000" y="37301"/>
                </a:lnTo>
                <a:lnTo>
                  <a:pt x="107581" y="10479"/>
                </a:lnTo>
                <a:cubicBezTo>
                  <a:pt x="119444" y="3732"/>
                  <a:pt x="132486" y="0"/>
                  <a:pt x="14617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任意多边形 324"/>
          <p:cNvSpPr/>
          <p:nvPr/>
        </p:nvSpPr>
        <p:spPr>
          <a:xfrm flipH="1">
            <a:off x="2124000" y="4648320"/>
            <a:ext cx="279360" cy="279360"/>
          </a:xfrm>
          <a:custGeom>
            <a:avLst/>
            <a:gdLst/>
            <a:ahLst/>
            <a:rect l="l" t="t" r="r" b="b"/>
            <a:pathLst>
              <a:path w="279862" h="279544">
                <a:moveTo>
                  <a:pt x="96136" y="0"/>
                </a:moveTo>
                <a:lnTo>
                  <a:pt x="115260" y="3861"/>
                </a:lnTo>
                <a:lnTo>
                  <a:pt x="134384" y="0"/>
                </a:lnTo>
                <a:lnTo>
                  <a:pt x="156184" y="4401"/>
                </a:lnTo>
                <a:lnTo>
                  <a:pt x="177983" y="0"/>
                </a:lnTo>
                <a:cubicBezTo>
                  <a:pt x="211885" y="0"/>
                  <a:pt x="240974" y="20613"/>
                  <a:pt x="253399" y="49989"/>
                </a:cubicBezTo>
                <a:lnTo>
                  <a:pt x="258627" y="75882"/>
                </a:lnTo>
                <a:lnTo>
                  <a:pt x="273430" y="97838"/>
                </a:lnTo>
                <a:cubicBezTo>
                  <a:pt x="277572" y="107631"/>
                  <a:pt x="279862" y="118396"/>
                  <a:pt x="279862" y="129697"/>
                </a:cubicBezTo>
                <a:lnTo>
                  <a:pt x="277291" y="142433"/>
                </a:lnTo>
                <a:lnTo>
                  <a:pt x="279862" y="155168"/>
                </a:lnTo>
                <a:cubicBezTo>
                  <a:pt x="279862" y="177770"/>
                  <a:pt x="270701" y="198232"/>
                  <a:pt x="255889" y="213043"/>
                </a:cubicBezTo>
                <a:lnTo>
                  <a:pt x="235865" y="226544"/>
                </a:lnTo>
                <a:lnTo>
                  <a:pt x="211035" y="256697"/>
                </a:lnTo>
                <a:cubicBezTo>
                  <a:pt x="197972" y="265522"/>
                  <a:pt x="182224" y="270675"/>
                  <a:pt x="165273" y="270675"/>
                </a:cubicBezTo>
                <a:lnTo>
                  <a:pt x="135369" y="264638"/>
                </a:lnTo>
                <a:lnTo>
                  <a:pt x="123632" y="272551"/>
                </a:lnTo>
                <a:cubicBezTo>
                  <a:pt x="112985" y="277054"/>
                  <a:pt x="101279" y="279544"/>
                  <a:pt x="88992" y="279544"/>
                </a:cubicBezTo>
                <a:cubicBezTo>
                  <a:pt x="39843" y="279544"/>
                  <a:pt x="0" y="239701"/>
                  <a:pt x="0" y="190552"/>
                </a:cubicBezTo>
                <a:cubicBezTo>
                  <a:pt x="0" y="178265"/>
                  <a:pt x="2490" y="166559"/>
                  <a:pt x="6993" y="155912"/>
                </a:cubicBezTo>
                <a:lnTo>
                  <a:pt x="16680" y="141545"/>
                </a:lnTo>
                <a:lnTo>
                  <a:pt x="14288" y="129697"/>
                </a:lnTo>
                <a:lnTo>
                  <a:pt x="19118" y="105772"/>
                </a:lnTo>
                <a:lnTo>
                  <a:pt x="14288" y="81848"/>
                </a:lnTo>
                <a:cubicBezTo>
                  <a:pt x="14288" y="36645"/>
                  <a:pt x="50933" y="0"/>
                  <a:pt x="96136" y="0"/>
                </a:cubicBezTo>
                <a:close/>
              </a:path>
            </a:pathLst>
          </a:custGeom>
          <a:solidFill>
            <a:srgbClr val="d8e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任意多边形 325"/>
          <p:cNvSpPr/>
          <p:nvPr/>
        </p:nvSpPr>
        <p:spPr>
          <a:xfrm flipH="1" rot="2188200">
            <a:off x="4002840" y="4435560"/>
            <a:ext cx="460080" cy="242640"/>
          </a:xfrm>
          <a:custGeom>
            <a:avLst/>
            <a:gdLst/>
            <a:ahLst/>
            <a:rect l="l" t="t" r="r" b="b"/>
            <a:pathLst>
              <a:path w="460532" h="242453">
                <a:moveTo>
                  <a:pt x="168279" y="5771"/>
                </a:moveTo>
                <a:cubicBezTo>
                  <a:pt x="194096" y="18088"/>
                  <a:pt x="207355" y="47292"/>
                  <a:pt x="204146" y="78366"/>
                </a:cubicBezTo>
                <a:lnTo>
                  <a:pt x="203940" y="79088"/>
                </a:lnTo>
                <a:lnTo>
                  <a:pt x="219986" y="80454"/>
                </a:lnTo>
                <a:cubicBezTo>
                  <a:pt x="229750" y="82567"/>
                  <a:pt x="239945" y="86023"/>
                  <a:pt x="250072" y="90855"/>
                </a:cubicBezTo>
                <a:cubicBezTo>
                  <a:pt x="270327" y="100518"/>
                  <a:pt x="286476" y="113853"/>
                  <a:pt x="296211" y="127601"/>
                </a:cubicBezTo>
                <a:lnTo>
                  <a:pt x="301459" y="154478"/>
                </a:lnTo>
                <a:lnTo>
                  <a:pt x="309473" y="141554"/>
                </a:lnTo>
                <a:cubicBezTo>
                  <a:pt x="325486" y="130858"/>
                  <a:pt x="347608" y="124243"/>
                  <a:pt x="372044" y="124243"/>
                </a:cubicBezTo>
                <a:cubicBezTo>
                  <a:pt x="396479" y="124243"/>
                  <a:pt x="418601" y="130858"/>
                  <a:pt x="434615" y="141554"/>
                </a:cubicBezTo>
                <a:cubicBezTo>
                  <a:pt x="450628" y="152250"/>
                  <a:pt x="460532" y="167027"/>
                  <a:pt x="460532" y="183348"/>
                </a:cubicBezTo>
                <a:cubicBezTo>
                  <a:pt x="460532" y="215991"/>
                  <a:pt x="420915" y="242453"/>
                  <a:pt x="372044" y="242453"/>
                </a:cubicBezTo>
                <a:cubicBezTo>
                  <a:pt x="323173" y="242453"/>
                  <a:pt x="283556" y="215991"/>
                  <a:pt x="283556" y="183348"/>
                </a:cubicBezTo>
                <a:lnTo>
                  <a:pt x="288869" y="174781"/>
                </a:lnTo>
                <a:lnTo>
                  <a:pt x="268564" y="185550"/>
                </a:lnTo>
                <a:cubicBezTo>
                  <a:pt x="251753" y="186633"/>
                  <a:pt x="231228" y="182471"/>
                  <a:pt x="210973" y="172808"/>
                </a:cubicBezTo>
                <a:cubicBezTo>
                  <a:pt x="200846" y="167976"/>
                  <a:pt x="191746" y="162227"/>
                  <a:pt x="183960" y="155966"/>
                </a:cubicBezTo>
                <a:lnTo>
                  <a:pt x="169237" y="140643"/>
                </a:lnTo>
                <a:lnTo>
                  <a:pt x="164918" y="145802"/>
                </a:lnTo>
                <a:cubicBezTo>
                  <a:pt x="152563" y="154406"/>
                  <a:pt x="138570" y="159249"/>
                  <a:pt x="124705" y="159530"/>
                </a:cubicBezTo>
                <a:lnTo>
                  <a:pt x="110105" y="156420"/>
                </a:lnTo>
                <a:lnTo>
                  <a:pt x="90751" y="169923"/>
                </a:lnTo>
                <a:cubicBezTo>
                  <a:pt x="73083" y="177933"/>
                  <a:pt x="53550" y="178782"/>
                  <a:pt x="36339" y="170571"/>
                </a:cubicBezTo>
                <a:cubicBezTo>
                  <a:pt x="1917" y="154148"/>
                  <a:pt x="-10182" y="107705"/>
                  <a:pt x="9316" y="66835"/>
                </a:cubicBezTo>
                <a:cubicBezTo>
                  <a:pt x="23940" y="36184"/>
                  <a:pt x="52183" y="17374"/>
                  <a:pt x="79913" y="16812"/>
                </a:cubicBezTo>
                <a:lnTo>
                  <a:pt x="94512" y="19922"/>
                </a:lnTo>
                <a:lnTo>
                  <a:pt x="113867" y="6419"/>
                </a:lnTo>
                <a:cubicBezTo>
                  <a:pt x="131535" y="-1591"/>
                  <a:pt x="151068" y="-2440"/>
                  <a:pt x="168279" y="57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任意多边形 326"/>
          <p:cNvSpPr/>
          <p:nvPr/>
        </p:nvSpPr>
        <p:spPr>
          <a:xfrm flipH="1" rot="658200">
            <a:off x="3973680" y="4547880"/>
            <a:ext cx="471240" cy="176040"/>
          </a:xfrm>
          <a:custGeom>
            <a:avLst/>
            <a:gdLst/>
            <a:ahLst/>
            <a:rect l="l" t="t" r="r" b="b"/>
            <a:pathLst>
              <a:path w="471876" h="174999">
                <a:moveTo>
                  <a:pt x="384510" y="0"/>
                </a:moveTo>
                <a:cubicBezTo>
                  <a:pt x="432761" y="0"/>
                  <a:pt x="471876" y="28373"/>
                  <a:pt x="471876" y="63372"/>
                </a:cubicBezTo>
                <a:cubicBezTo>
                  <a:pt x="471876" y="89622"/>
                  <a:pt x="449874" y="112144"/>
                  <a:pt x="418517" y="121764"/>
                </a:cubicBezTo>
                <a:lnTo>
                  <a:pt x="396782" y="124947"/>
                </a:lnTo>
                <a:lnTo>
                  <a:pt x="395937" y="126426"/>
                </a:lnTo>
                <a:cubicBezTo>
                  <a:pt x="380127" y="137894"/>
                  <a:pt x="358286" y="144987"/>
                  <a:pt x="334160" y="144987"/>
                </a:cubicBezTo>
                <a:cubicBezTo>
                  <a:pt x="310035" y="144987"/>
                  <a:pt x="288193" y="137894"/>
                  <a:pt x="272383" y="126426"/>
                </a:cubicBezTo>
                <a:lnTo>
                  <a:pt x="272000" y="125755"/>
                </a:lnTo>
                <a:lnTo>
                  <a:pt x="266098" y="140005"/>
                </a:lnTo>
                <a:cubicBezTo>
                  <a:pt x="254629" y="151473"/>
                  <a:pt x="238786" y="158566"/>
                  <a:pt x="221287" y="158566"/>
                </a:cubicBezTo>
                <a:lnTo>
                  <a:pt x="214169" y="157129"/>
                </a:lnTo>
                <a:lnTo>
                  <a:pt x="195051" y="170019"/>
                </a:lnTo>
                <a:cubicBezTo>
                  <a:pt x="187469" y="173226"/>
                  <a:pt x="179134" y="174999"/>
                  <a:pt x="170384" y="174999"/>
                </a:cubicBezTo>
                <a:cubicBezTo>
                  <a:pt x="152884" y="174999"/>
                  <a:pt x="137041" y="167906"/>
                  <a:pt x="125573" y="156438"/>
                </a:cubicBezTo>
                <a:lnTo>
                  <a:pt x="112865" y="125758"/>
                </a:lnTo>
                <a:lnTo>
                  <a:pt x="108183" y="137062"/>
                </a:lnTo>
                <a:cubicBezTo>
                  <a:pt x="96714" y="148530"/>
                  <a:pt x="80871" y="155623"/>
                  <a:pt x="63372" y="155623"/>
                </a:cubicBezTo>
                <a:cubicBezTo>
                  <a:pt x="28373" y="155623"/>
                  <a:pt x="0" y="127250"/>
                  <a:pt x="0" y="92251"/>
                </a:cubicBezTo>
                <a:cubicBezTo>
                  <a:pt x="0" y="57252"/>
                  <a:pt x="28373" y="28879"/>
                  <a:pt x="63372" y="28879"/>
                </a:cubicBezTo>
                <a:cubicBezTo>
                  <a:pt x="80871" y="28879"/>
                  <a:pt x="96714" y="35972"/>
                  <a:pt x="108183" y="47441"/>
                </a:cubicBezTo>
                <a:lnTo>
                  <a:pt x="120891" y="78121"/>
                </a:lnTo>
                <a:lnTo>
                  <a:pt x="125573" y="66817"/>
                </a:lnTo>
                <a:cubicBezTo>
                  <a:pt x="137041" y="55348"/>
                  <a:pt x="152884" y="48255"/>
                  <a:pt x="170384" y="48255"/>
                </a:cubicBezTo>
                <a:lnTo>
                  <a:pt x="177502" y="49692"/>
                </a:lnTo>
                <a:lnTo>
                  <a:pt x="196620" y="36802"/>
                </a:lnTo>
                <a:cubicBezTo>
                  <a:pt x="204202" y="33595"/>
                  <a:pt x="212537" y="31822"/>
                  <a:pt x="221287" y="31822"/>
                </a:cubicBezTo>
                <a:cubicBezTo>
                  <a:pt x="230037" y="31822"/>
                  <a:pt x="238372" y="33595"/>
                  <a:pt x="245954" y="36802"/>
                </a:cubicBezTo>
                <a:lnTo>
                  <a:pt x="265037" y="49668"/>
                </a:lnTo>
                <a:lnTo>
                  <a:pt x="272383" y="36805"/>
                </a:lnTo>
                <a:cubicBezTo>
                  <a:pt x="280288" y="31070"/>
                  <a:pt x="289701" y="26430"/>
                  <a:pt x="300153" y="23223"/>
                </a:cubicBezTo>
                <a:lnTo>
                  <a:pt x="321889" y="20040"/>
                </a:lnTo>
                <a:lnTo>
                  <a:pt x="322733" y="18562"/>
                </a:lnTo>
                <a:cubicBezTo>
                  <a:pt x="338543" y="7093"/>
                  <a:pt x="360385" y="0"/>
                  <a:pt x="384510" y="0"/>
                </a:cubicBezTo>
                <a:close/>
              </a:path>
            </a:pathLst>
          </a:custGeom>
          <a:solidFill>
            <a:srgbClr val="d8e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50"/>
          <p:cNvSpPr/>
          <p:nvPr/>
        </p:nvSpPr>
        <p:spPr>
          <a:xfrm>
            <a:off x="1619280" y="3778200"/>
            <a:ext cx="384120" cy="384120"/>
          </a:xfrm>
          <a:prstGeom prst="ellipse">
            <a:avLst/>
          </a:prstGeom>
          <a:solidFill>
            <a:srgbClr val="595959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337"/>
          <p:cNvSpPr/>
          <p:nvPr/>
        </p:nvSpPr>
        <p:spPr>
          <a:xfrm>
            <a:off x="1525680" y="4167360"/>
            <a:ext cx="610920" cy="212400"/>
          </a:xfrm>
          <a:custGeom>
            <a:avLst/>
            <a:gdLst/>
            <a:ahLst/>
            <a:rect l="l" t="t" r="r" b="b"/>
            <a:pathLst>
              <a:path w="628974" h="219010">
                <a:moveTo>
                  <a:pt x="314487" y="0"/>
                </a:moveTo>
                <a:cubicBezTo>
                  <a:pt x="442519" y="0"/>
                  <a:pt x="555400" y="80594"/>
                  <a:pt x="622056" y="203174"/>
                </a:cubicBezTo>
                <a:lnTo>
                  <a:pt x="628974" y="219010"/>
                </a:lnTo>
                <a:lnTo>
                  <a:pt x="0" y="219010"/>
                </a:lnTo>
                <a:lnTo>
                  <a:pt x="6918" y="203174"/>
                </a:lnTo>
                <a:cubicBezTo>
                  <a:pt x="73575" y="80594"/>
                  <a:pt x="186455" y="0"/>
                  <a:pt x="314487" y="0"/>
                </a:cubicBezTo>
                <a:close/>
              </a:path>
            </a:pathLst>
          </a:custGeom>
          <a:solidFill>
            <a:srgbClr val="595959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3328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3329"/>
          <p:cNvSpPr/>
          <p:nvPr/>
        </p:nvSpPr>
        <p:spPr>
          <a:xfrm>
            <a:off x="1420560" y="23004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圣诞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C18D-0B5B-4ABD-8F14-8CF216DDFB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矩形 5"/>
          <p:cNvSpPr/>
          <p:nvPr/>
        </p:nvSpPr>
        <p:spPr>
          <a:xfrm>
            <a:off x="-65160" y="-17640"/>
            <a:ext cx="12200040" cy="6858000"/>
          </a:xfrm>
          <a:prstGeom prst="rect">
            <a:avLst/>
          </a:prstGeom>
          <a:solidFill>
            <a:srgbClr val="cbec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"/>
          <p:cNvSpPr/>
          <p:nvPr/>
        </p:nvSpPr>
        <p:spPr>
          <a:xfrm>
            <a:off x="7920" y="4911840"/>
            <a:ext cx="12184200" cy="19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"/>
          <p:cNvSpPr/>
          <p:nvPr/>
        </p:nvSpPr>
        <p:spPr>
          <a:xfrm>
            <a:off x="2959200" y="4191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7T10:0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26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