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924-E6ED-42A1-96C3-73FBB912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0F6-926A-4B16-800D-06F8C14C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2BC-B192-4A12-9FC1-328F96D7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E88-CF32-4E9F-BFA1-DDA159F6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3605-62BD-4AD5-9C29-64410500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55EF-3C4F-48CE-8EFA-A6AE03E6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417C-8763-425C-A631-CF379130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C75C-F2C7-433B-85E2-0E1D8B26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3DE0-5E7D-4C9A-A003-F50F19E5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3F81-9A97-4FD3-A446-0041FC7E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8928-B5B2-4171-8BEF-50090E08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DCB-ED2B-4845-A436-3591E092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69B6-AACE-4EE7-AF4B-6AC6D0CD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862B-C8E4-4C37-AE1E-0B0B5518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A90C-5E34-40A0-9E87-F45125E7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E211-131E-461A-B915-13AD3183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3DCD-42B9-40D7-917F-432B8E09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570-2FFB-4713-9D6B-BF7CD3F0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708-DD1B-4941-A2D9-A88A6ABC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5EC-9720-49CB-82B1-63E16AF3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8A5-76C9-46A3-B13F-DA11006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7A7-AEE2-4D48-9B92-BF37AC81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EA9-4B0A-4D55-AD21-A2395C96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CC3-4B68-47FE-B210-3CD05627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5D84-D395-4996-BE8F-CA0F8A2614A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5CBF-DDD1-404C-98FE-4DBAA43FEED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EB37-8131-4629-85A7-281882D489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857760" y="55008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786120" y="5516640"/>
            <a:ext cx="2428920" cy="1440"/>
            <a:chOff x="3786120" y="5516640"/>
            <a:chExt cx="2428920" cy="1440"/>
          </a:xfrm>
        </p:grpSpPr>
        <p:sp>
          <p:nvSpPr>
            <p:cNvPr id="84" name="直接连接符 5"/>
            <p:cNvSpPr/>
            <p:nvPr/>
          </p:nvSpPr>
          <p:spPr>
            <a:xfrm>
              <a:off x="3786120" y="5516640"/>
              <a:ext cx="2428920" cy="144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786120" y="5516640"/>
              <a:ext cx="242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7"/>
          <p:cNvSpPr/>
          <p:nvPr/>
        </p:nvSpPr>
        <p:spPr>
          <a:xfrm>
            <a:off x="3643200" y="500076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7"/>
          <p:cNvSpPr/>
          <p:nvPr/>
        </p:nvSpPr>
        <p:spPr>
          <a:xfrm>
            <a:off x="1912680" y="333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圣诞节唯美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4B65-2552-460D-9BD9-CA756F1EAA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29260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"/>
          <p:cNvSpPr/>
          <p:nvPr/>
        </p:nvSpPr>
        <p:spPr>
          <a:xfrm>
            <a:off x="5855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"/>
          <p:cNvSpPr/>
          <p:nvPr/>
        </p:nvSpPr>
        <p:spPr>
          <a:xfrm>
            <a:off x="2783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5855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4265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42656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640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3140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5783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32835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35690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5569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3640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5712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5283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51408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140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3497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7174"/>
          <p:cNvSpPr/>
          <p:nvPr/>
        </p:nvSpPr>
        <p:spPr>
          <a:xfrm>
            <a:off x="755640" y="112536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52120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428364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4069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40690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3497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1497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7283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5355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3069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3926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59266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1270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32Z</dcterms:modified>
  <cp:revision>1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