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DFF5-7A00-42C7-90A7-60C11F62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6387-C3B2-42FD-A511-EAA65AC0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D599E2-EB25-484B-B529-2459726B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AF1C0F-133F-48DB-AFF2-ACC91C76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5523FE-C206-47E4-99CF-DC7B0355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85547C-9D25-4C4C-90FA-784274B5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A8D05-2145-4B5D-8533-586CF3B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DF2A47-8A6A-420A-969A-422977B2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0B0035-ED70-4F33-AD59-C7D3754C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85A25F-F4C9-46B5-B935-BE0D09CC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E5F227-F71C-452E-9D53-16C103D7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4C81B3-C146-4C80-8B8C-BCDCEE12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4756-50BE-4D92-9824-6F6782AF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027CE1-56BD-4EC8-9864-9426648D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44EC12-E2D2-44FF-971B-F94F2DA9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E5CEB2-3170-49FD-9254-845FF27B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584797-7F49-4A9A-91CB-770EA8DA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F5DCFD-5B40-498C-9088-B02103B6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4DE697-BF5F-4F08-BCCD-293D6AC4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34DE79-EDA0-43E0-8C2E-4D845284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D5D865-468C-45CF-B421-261089C4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1C9B11-C4DB-408D-BD99-7CC66AE1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1AEC6C-5CE4-488A-9819-8DCBB0A4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1B2B1-0872-4CFD-AA92-0CDC8BCE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2CB1AB-5D19-4047-B581-EBC94E13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2861E8-563E-4D80-BCBF-C6E58F34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53EEC5-A7D5-4088-9BF1-CC2FF65D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240F15-59F7-44BA-B766-2030829B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B376DC-02AC-4162-90AF-5FDF49A0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4DEA00-26CF-4C61-A97B-2E8814F6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4638A3-1D3E-406A-9B74-08AFCCC6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4720E8-EB37-4BB9-A06A-601E1A2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47C2A5-D9A4-4CB3-9EAB-077A39AF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6B9C39-4592-4CA7-8EC2-7A37E217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C648-A0AF-4BC4-824D-160CB3C0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A21CD4-B9ED-41C1-9CF8-88668236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B1D2B7-C96B-44E7-8255-2DBE83D5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1C18FB-9056-4848-A286-B587BD84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A6B8D9-A8D8-4942-9FF0-DAA0CC0F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29A83E-09A9-49C9-BECD-AE8F0347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AD7CE4-A079-4B8A-815B-335C9843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48EA44-4882-43FA-8B87-47800909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8ED61D-9FF8-42B5-8631-841B604B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463B02-6AEE-4BF3-9501-A493F3EE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38A8D8-91BE-4BE3-B809-14172669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3561-F854-4723-AB80-0EB8AC7A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858A03-2CFF-48C0-A77D-DC7CD68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604F08-58D1-4BEC-9440-9713D076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F1B95E-79FA-4FF9-A450-E4D40E56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E9F7C4-BCA7-4628-8D66-7108D788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74B7A6-302F-47C9-8892-8E960283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A29A59-933A-4243-991F-48E9B1C1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D17C74-CDC4-4D19-B264-7C63F370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C0D2D6-7008-44F0-85CC-28F44E4D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9FDD1C-44F0-405E-BFC7-49B7FFFA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ED86B7-2A36-4C87-BB83-954D1FA5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49AC-C935-47D8-95D1-E816263E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8E4EE6-ED1B-4818-A412-CB7D50DB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C471BF-31E0-4393-B1DD-71C60A48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97AA7A-95A9-4EFC-800D-9DE3B25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BFCC43-0DFE-4958-A451-FCE7E2A4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09A000-0F09-42F2-AB31-9EFF317F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E8E39F-CF7F-4A3E-BE9A-916E339D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6F5233-4CE5-4790-AB9F-5A65FE39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CAEB39-7216-4E9C-B544-5B059E6D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0E53DA-10F9-479E-9817-E8586B83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66948C-A8B9-4099-A74D-1C06582A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6359-1686-493C-8AE3-66A45182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C5CDFB-A5D1-482E-AB6C-E91AEF59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4B6BBA-2F27-483F-88FA-AF1A1555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02692D-F452-4060-BAA6-A54C6C5D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D88638-F96E-4E4F-9A6B-08C1085B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61567A0-CBC3-4BFC-AED5-D38D569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CBCD4A-E774-45B6-B4A0-7496A54A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EE4A0F-FAD5-426D-B996-100683C7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5BC15B-F470-47EA-94F6-A5D65C64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9C49D1-E85A-47F6-A7CA-FC5BB19A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6EAE-F2C4-496E-B91C-AD3296F2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30DA-0661-494A-9A8E-4C4EE316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525B-2C5D-4808-9C3C-6FE8D69D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5709-F622-4201-83D3-CE506546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A2AF-0ABF-4537-A477-5D7F36C0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ED2A-7C95-46E4-856E-B056BF71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8F88-4E87-4245-9CAE-2C5744C8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E3D9-B2DA-4E04-A049-EAC5A3DA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DBD4-EFCD-445C-99BD-3C9040F9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B150-2762-4854-9A57-2D633791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41D0E-FA2F-4ED3-8684-A50A13F0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CE450-9B5E-436A-BBA2-96DDE33D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13957-5DAB-419B-BEA5-59281F6D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130E-8752-4DAE-8205-6875D57A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48A81-0292-4431-9964-66E6686A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B5937-096B-4BCC-BE7A-17612712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8E3F9-2E91-4E51-BB4E-C9493B20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66BF1-EADB-4BAB-B31D-A07E39DC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F7E54-F716-4ABD-B4A9-75BCDC3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7B307-CC50-4139-A480-92FE18C3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5C1C0-75AB-4690-B8D3-F1F16809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A3CC1-182E-460C-BF3D-0B52A73D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94508-206D-495D-A18C-4F13E8B4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61ADD-A780-4261-A242-1C387D43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7A6B-2128-4827-9017-CF9AED0E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18C23-BB67-461C-A975-6E4A1B6B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8AFD1-92CE-46B3-8348-A3671C09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87D1C-B0EF-4CA0-B6F7-301E1CA1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02942-EDEB-4EBC-AF14-799323BF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D632F-92E8-4D3D-A435-4CBB9B0F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94237-EC66-4B67-8A56-1C13924A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44876-3B48-4744-A4FA-BCD9CC1E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14569-CFFB-4218-9070-6C600CF0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F6045-481F-4479-B96F-81412656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42754-0F60-4A40-91A3-7A544A38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A3C0-4A30-4694-851B-92B8B32C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D1BE5-888B-4D65-93C8-EB384203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B4410-2F40-43FD-802E-DFB7EF9A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FB97F-9C65-4853-86A3-296F7380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3F794-5935-43C3-A4FE-3FAF7E0D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6E291-83D6-438E-9CEB-13125F74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64678-3EB8-46AA-86F7-25CAF7A4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E36E6-09DF-4199-8CD0-209F188C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B327A-070C-44D4-ABDC-FDA060DE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7F398B-B69B-4E3F-8274-CE59A408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E443D5-1896-49BC-8FFD-A0BD24AF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B02D-76AC-447A-B19B-EDDE4D04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549D2-D7CB-4968-A550-ACF81D4F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171F90-A993-40B1-A53E-843F75B9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778CB-32BB-4FDE-AE6D-20328EF3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449E0-551A-4EBF-B4DB-62A50254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7840F3-90A0-4375-B505-6D9D2650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13721-E36F-4F09-AE39-62EF78D0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CCB28-9D9A-4150-8586-55D746B2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02E520-AD15-49C7-896C-440163F3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2716D-A39B-4BBA-8C03-CFD5DB40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16D4CD-84D9-4502-9213-AE98E19E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C7BE-F1CA-436C-84C9-82950591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6BFFA-0355-4267-A94F-FD8CE14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CAE00-8A2F-43EC-B528-79745909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4D2D20-4873-4B26-B5FE-AF2898BB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8412F3-CA4D-4E3D-974D-AA13E35D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5582F2-2709-4CED-A78E-9241FF58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DA7EEA-B301-4E7E-92B6-BE96C44C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35567A-19C8-4532-99F9-1E282352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61A476-BDB9-4258-88B6-A6D96C57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94DC2B-7FE6-4BE8-8093-0ECDBEDA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373F3A-AA64-4A89-BE93-4E267F3F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5A7D-F5CB-425D-92C6-D8F5496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480B21-B029-44FA-A846-421397C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DF1D01-D0D6-45D5-989C-CDAE8276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77AAC6-42F0-4AB1-B6B9-814028B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3D0005-878D-4EE7-B199-BD1C0E0B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8FF2CC-F9FE-448F-9874-D7DBC9B1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5A5EFA-CF82-4E8F-8933-8FE7214B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51DFB4-2894-4CD8-8B4A-26C41937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AF8FDD-E6A9-4545-88BD-5C68B813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585B5D-FE01-4AB0-85D0-BC95AA10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5D1695-9267-4262-B07D-96A9D158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1600XMAS_4020"/>
          <p:cNvPicPr/>
          <p:nvPr/>
        </p:nvPicPr>
        <p:blipFill>
          <a:blip r:embed="rId2"/>
          <a:stretch/>
        </p:blipFill>
        <p:spPr>
          <a:xfrm>
            <a:off x="0" y="0"/>
            <a:ext cx="9144000" cy="552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67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8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70"/>
          <p:cNvSpPr/>
          <p:nvPr/>
        </p:nvSpPr>
        <p:spPr>
          <a:xfrm flipH="1">
            <a:off x="0" y="793800"/>
            <a:ext cx="3635280" cy="444600"/>
          </a:xfrm>
          <a:custGeom>
            <a:avLst/>
            <a:gdLst/>
            <a:ahLst/>
            <a:rect l="l" t="t" r="r" b="b"/>
            <a:pathLst>
              <a:path w="2096" h="280">
                <a:moveTo>
                  <a:pt x="0" y="16"/>
                </a:moveTo>
                <a:cubicBezTo>
                  <a:pt x="352" y="48"/>
                  <a:pt x="418" y="43"/>
                  <a:pt x="1000" y="104"/>
                </a:cubicBezTo>
                <a:cubicBezTo>
                  <a:pt x="1584" y="165"/>
                  <a:pt x="2048" y="251"/>
                  <a:pt x="2096" y="280"/>
                </a:cubicBezTo>
                <a:lnTo>
                  <a:pt x="2096" y="0"/>
                </a:lnTo>
                <a:lnTo>
                  <a:pt x="0" y="1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71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6d2914"/>
              </a:gs>
              <a:gs pos="50000">
                <a:srgbClr val="eb592b"/>
              </a:gs>
              <a:gs pos="100000">
                <a:srgbClr val="6d291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7086240" y="6629040"/>
            <a:ext cx="1981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4114800" y="662292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92aa2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6A59-9F86-4BF6-ABEF-F33F81F98703}" type="slidenum">
              <a:rPr b="0" lang="zh-CN" sz="1000" spc="-1" strike="noStrike">
                <a:solidFill>
                  <a:srgbClr val="692aa2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380520" y="6553080"/>
            <a:ext cx="1676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72"/>
          <p:cNvSpPr/>
          <p:nvPr/>
        </p:nvSpPr>
        <p:spPr>
          <a:xfrm>
            <a:off x="4978440" y="800280"/>
            <a:ext cx="4165560" cy="44424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77" descr="11018394_03"/>
          <p:cNvPicPr/>
          <p:nvPr/>
        </p:nvPicPr>
        <p:blipFill>
          <a:blip r:embed="rId4"/>
          <a:stretch/>
        </p:blipFill>
        <p:spPr>
          <a:xfrm>
            <a:off x="7656480" y="-2700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41DA-7691-40EA-9DB2-42E68342272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DCBB-F9DE-4297-8BAD-996BC65216C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25AB-07EC-4372-9A2B-6CE3DE1A3C0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3793-0786-4B13-9A45-4B8A57D1C3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4424-FB03-403D-AF1E-BF2AA605768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BDEE-D05E-448B-875F-6319208B76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AE25-0DF1-455A-B10E-287273E4F54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923E-E23B-420C-BC09-459ED44DAB1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9D06-8E36-4834-A787-713695B6682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D9DD-62D2-4183-836A-01D00A4E88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2E00-35A4-45AC-9FAC-A215BC2DFAB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D4DE-F258-44DC-B285-49B14D6CE1C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7" descr="1600XMAS_1002"/>
          <p:cNvPicPr/>
          <p:nvPr/>
        </p:nvPicPr>
        <p:blipFill>
          <a:blip r:embed="rId2"/>
          <a:stretch/>
        </p:blipFill>
        <p:spPr>
          <a:xfrm>
            <a:off x="0" y="0"/>
            <a:ext cx="6305400" cy="5877000"/>
          </a:xfrm>
          <a:prstGeom prst="rect">
            <a:avLst/>
          </a:prstGeom>
          <a:ln w="0">
            <a:noFill/>
          </a:ln>
        </p:spPr>
      </p:pic>
      <p:sp>
        <p:nvSpPr>
          <p:cNvPr id="90" name="Freeform 68"/>
          <p:cNvSpPr/>
          <p:nvPr/>
        </p:nvSpPr>
        <p:spPr>
          <a:xfrm>
            <a:off x="2239920" y="-15840"/>
            <a:ext cx="6916680" cy="6873840"/>
          </a:xfrm>
          <a:custGeom>
            <a:avLst/>
            <a:gdLst/>
            <a:ahLst/>
            <a:rect l="l" t="t" r="r" b="b"/>
            <a:pathLst>
              <a:path w="4357" h="4330">
                <a:moveTo>
                  <a:pt x="189" y="0"/>
                </a:moveTo>
                <a:lnTo>
                  <a:pt x="561" y="181"/>
                </a:lnTo>
                <a:lnTo>
                  <a:pt x="943" y="489"/>
                </a:lnTo>
                <a:lnTo>
                  <a:pt x="1221" y="955"/>
                </a:lnTo>
                <a:lnTo>
                  <a:pt x="1413" y="1618"/>
                </a:lnTo>
                <a:lnTo>
                  <a:pt x="1290" y="2648"/>
                </a:lnTo>
                <a:lnTo>
                  <a:pt x="0" y="4330"/>
                </a:lnTo>
                <a:lnTo>
                  <a:pt x="4349" y="4330"/>
                </a:lnTo>
                <a:lnTo>
                  <a:pt x="4357" y="3"/>
                </a:lnTo>
                <a:lnTo>
                  <a:pt x="1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66"/>
          <p:cNvSpPr/>
          <p:nvPr/>
        </p:nvSpPr>
        <p:spPr>
          <a:xfrm>
            <a:off x="0" y="4489560"/>
            <a:ext cx="408636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fafafa"/>
              </a:gs>
              <a:gs pos="100000">
                <a:srgbClr val="e8e8e8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7"/>
          <p:cNvSpPr/>
          <p:nvPr/>
        </p:nvSpPr>
        <p:spPr>
          <a:xfrm>
            <a:off x="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de7e0d"/>
              </a:gs>
              <a:gs pos="100000">
                <a:srgbClr val="673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4"/>
          <p:cNvSpPr/>
          <p:nvPr/>
        </p:nvSpPr>
        <p:spPr>
          <a:xfrm>
            <a:off x="6781680" y="601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9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solidFill>
            <a:srgbClr val="bf5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297320" y="3936960"/>
            <a:ext cx="4859280" cy="360"/>
            <a:chOff x="4297320" y="3936960"/>
            <a:chExt cx="4859280" cy="360"/>
          </a:xfrm>
        </p:grpSpPr>
        <p:sp>
          <p:nvSpPr>
            <p:cNvPr id="96" name="Line 75"/>
            <p:cNvSpPr/>
            <p:nvPr/>
          </p:nvSpPr>
          <p:spPr>
            <a:xfrm>
              <a:off x="4297320" y="3936960"/>
              <a:ext cx="485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297320" y="393696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284720" y="4365720"/>
            <a:ext cx="4859280" cy="360"/>
            <a:chOff x="4284720" y="4365720"/>
            <a:chExt cx="4859280" cy="360"/>
          </a:xfrm>
        </p:grpSpPr>
        <p:sp>
          <p:nvSpPr>
            <p:cNvPr id="99" name="Line 70"/>
            <p:cNvSpPr/>
            <p:nvPr/>
          </p:nvSpPr>
          <p:spPr>
            <a:xfrm>
              <a:off x="4284720" y="4365720"/>
              <a:ext cx="485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4284720" y="436572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Freeform 71"/>
          <p:cNvSpPr/>
          <p:nvPr/>
        </p:nvSpPr>
        <p:spPr>
          <a:xfrm>
            <a:off x="965160" y="-9360"/>
            <a:ext cx="3822840" cy="6879960"/>
          </a:xfrm>
          <a:custGeom>
            <a:avLst/>
            <a:gdLst/>
            <a:ahLst/>
            <a:rect l="l" t="t" r="r" b="b"/>
            <a:pathLst>
              <a:path w="2408" h="4334">
                <a:moveTo>
                  <a:pt x="858" y="0"/>
                </a:moveTo>
                <a:cubicBezTo>
                  <a:pt x="2020" y="270"/>
                  <a:pt x="2408" y="1630"/>
                  <a:pt x="1984" y="2582"/>
                </a:cubicBezTo>
                <a:cubicBezTo>
                  <a:pt x="1560" y="3534"/>
                  <a:pt x="880" y="3975"/>
                  <a:pt x="0" y="4326"/>
                </a:cubicBezTo>
                <a:lnTo>
                  <a:pt x="1208" y="4334"/>
                </a:lnTo>
                <a:cubicBezTo>
                  <a:pt x="1520" y="4078"/>
                  <a:pt x="2144" y="3342"/>
                  <a:pt x="2272" y="2566"/>
                </a:cubicBezTo>
                <a:cubicBezTo>
                  <a:pt x="2400" y="1790"/>
                  <a:pt x="2278" y="418"/>
                  <a:pt x="998" y="2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e8dcce"/>
              </a:gs>
              <a:gs pos="100000">
                <a:srgbClr val="ab80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8" descr="韩国圣诞主题矢量图标第二-10"/>
          <p:cNvPicPr/>
          <p:nvPr/>
        </p:nvPicPr>
        <p:blipFill>
          <a:blip r:embed="rId3"/>
          <a:stretch/>
        </p:blipFill>
        <p:spPr>
          <a:xfrm>
            <a:off x="7343640" y="3819600"/>
            <a:ext cx="1908360" cy="1838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7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8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6340-254A-486B-B08D-6D7348FA546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E93A-1878-4A6D-94EE-D691810369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E4F0-AFA9-4BD5-B26E-118B10EA868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33E9-8B6E-4401-86E2-915E11C2B5F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3874-96D7-4F58-9FD8-F99479C562B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4C33-9464-437F-A03B-9B254BCB17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485F-2C9E-4BD2-B89A-F286F6C5AAA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014D-0354-4306-A39E-85B2E0FCA0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1B0-72D4-43C9-95D6-6792E2B7F48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7A58-8984-4826-BA81-68F6D538D1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F45F-F8E5-4195-AC52-E484C033F36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A96C-4145-4F51-ACC8-DB6C6ACCEE7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952880" y="2412720"/>
            <a:ext cx="4191120" cy="18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5" name="文本框 15362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文本框 15363"/>
          <p:cNvSpPr/>
          <p:nvPr/>
        </p:nvSpPr>
        <p:spPr>
          <a:xfrm>
            <a:off x="1769760" y="404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圣诞节温馨的烛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BF26-0152-4761-A795-57AADE667B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2024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5d27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bf5d27"/>
                </a:solidFill>
                <a:latin typeface="Arial"/>
                <a:ea typeface="宋体"/>
              </a:rPr>
              <a:t> </a:t>
            </a:r>
            <a:endParaRPr b="1" lang="en-US" sz="3600" spc="-1" strike="noStrike">
              <a:solidFill>
                <a:srgbClr val="bf5d2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5d2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Arial"/>
            </a:endParaRPr>
          </a:p>
        </p:txBody>
      </p:sp>
      <p:sp>
        <p:nvSpPr>
          <p:cNvPr id="603" name="文本框 16387"/>
          <p:cNvSpPr/>
          <p:nvPr/>
        </p:nvSpPr>
        <p:spPr>
          <a:xfrm>
            <a:off x="755640" y="98100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ed337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aed337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00:38:1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41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