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B0D8-40E7-4365-A9F3-B57B82D4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AF22-7863-4FB9-B1B0-E13B6D72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120D-25A9-4627-9668-AAA2794F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03AC-DF14-4F64-A6C0-3E3F6C93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1BE4-CC50-4086-A6A1-761D916C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CEB8-46EA-4982-889B-0EFEB995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517E-35FB-41B2-A20B-5A549833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AB75-6FCE-4587-B8B2-C214C05D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438D-9B81-4BD1-BE55-15DFC861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3B72-C3D7-42A3-B410-CB66BC78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A383-BA42-4F32-858C-773D8A33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377C-F11A-40EF-B589-469D4829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AF9A-DAE2-49F3-A926-DE112D29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5096-1CF9-4B0C-A9F2-73695533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B44D-749C-423D-86EE-720EBB1D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9A74-6982-48BB-B99B-576C0113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C60F-6941-40B2-A419-D4A02A16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29B-DCDB-4670-8A2A-15A30ADE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B340-5573-451D-95D8-076B6B40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D69F-5F06-4FBF-BBA5-5906E8D0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4C4F-09B4-4C67-9DB4-306191CA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2C16-CF59-4FC3-925F-4A310FA0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2B1-DDDB-4229-99BC-EBAD744F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7BE-2E21-4BD2-B114-E3BC20A3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1BFF-664B-41FC-806F-7B7BFDE954E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D296-6F9B-4322-B3A9-591F11FFCAA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216A-CDE7-4756-93F4-782068ABA71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hyperlink" Target="http://www.eeppt.com" TargetMode="External"/><Relationship Id="rId22" Type="http://schemas.openxmlformats.org/officeDocument/2006/relationships/hyperlink" Target="http://www.eeppt.com" TargetMode="External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755640" y="4508640"/>
            <a:ext cx="774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32423"/>
                </a:solidFill>
                <a:latin typeface="华康海报体W12(P)"/>
                <a:ea typeface="华康海报体W12(P)"/>
              </a:rPr>
              <a:t>圣诞快乐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074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2"/>
          <p:cNvGrpSpPr/>
          <p:nvPr/>
        </p:nvGrpSpPr>
        <p:grpSpPr>
          <a:xfrm>
            <a:off x="2322360" y="1339920"/>
            <a:ext cx="4442040" cy="1295280"/>
            <a:chOff x="2322360" y="1339920"/>
            <a:chExt cx="4442040" cy="1295280"/>
          </a:xfrm>
        </p:grpSpPr>
        <p:sp>
          <p:nvSpPr>
            <p:cNvPr id="85" name="矩形 12"/>
            <p:cNvSpPr/>
            <p:nvPr/>
          </p:nvSpPr>
          <p:spPr>
            <a:xfrm>
              <a:off x="5652720" y="2072160"/>
              <a:ext cx="64800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模板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2"/>
                </a:rPr>
                <a:t>www.1ppt.com/mob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行业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3"/>
                </a:rPr>
                <a:t>www.1ppt.com/hangye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节日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4"/>
                </a:rPr>
                <a:t>www.1ppt.com/jier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素材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5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背景图片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6"/>
                </a:rPr>
                <a:t>www.1ppt.com/beijing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图表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7"/>
                </a:rPr>
                <a:t>www.1ppt.com/tubiao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优秀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8"/>
                </a:rPr>
                <a:t>www.1ppt.com/xiaza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9"/>
                </a:rPr>
                <a:t>www.1ppt.com/powerpoint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Word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10"/>
                </a:rPr>
                <a:t>www.1ppt.com/word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教程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11"/>
                </a:rPr>
                <a:t>www.1ppt.com/excel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资料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12"/>
                </a:rPr>
                <a:t>www.1ppt.com/ziliao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课件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13"/>
                </a:rPr>
                <a:t>www.1ppt.com/keji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范文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14"/>
                </a:rPr>
                <a:t>www.1ppt.com/fanwe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  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试卷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15"/>
                </a:rPr>
                <a:t>www.1ppt.com/shit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</a:rPr>
                <a:t>教案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  <a:hlinkClick r:id="rId16"/>
                </a:rPr>
                <a:t>www.1ppt.com/jiao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图片 1" descr=""/>
            <p:cNvPicPr/>
            <p:nvPr/>
          </p:nvPicPr>
          <p:blipFill>
            <a:blip r:embed="rId17"/>
            <a:stretch/>
          </p:blipFill>
          <p:spPr>
            <a:xfrm>
              <a:off x="2322360" y="1339920"/>
              <a:ext cx="444204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矩形 8"/>
          <p:cNvSpPr/>
          <p:nvPr/>
        </p:nvSpPr>
        <p:spPr>
          <a:xfrm>
            <a:off x="1232280" y="633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3997440" y="191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32423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4283640" y="3525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6" descr=""/>
          <p:cNvPicPr/>
          <p:nvPr/>
        </p:nvPicPr>
        <p:blipFill>
          <a:blip r:embed="rId18"/>
          <a:stretch/>
        </p:blipFill>
        <p:spPr>
          <a:xfrm>
            <a:off x="2322360" y="2600280"/>
            <a:ext cx="4440240" cy="12952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7" descr=""/>
          <p:cNvPicPr/>
          <p:nvPr/>
        </p:nvPicPr>
        <p:blipFill>
          <a:blip r:embed="rId19"/>
          <a:stretch/>
        </p:blipFill>
        <p:spPr>
          <a:xfrm>
            <a:off x="2322360" y="3895560"/>
            <a:ext cx="4440240" cy="12956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8" descr=""/>
          <p:cNvPicPr/>
          <p:nvPr/>
        </p:nvPicPr>
        <p:blipFill>
          <a:blip r:embed="rId20"/>
          <a:stretch/>
        </p:blipFill>
        <p:spPr>
          <a:xfrm>
            <a:off x="2322360" y="5184720"/>
            <a:ext cx="4440240" cy="1295280"/>
          </a:xfrm>
          <a:prstGeom prst="rect">
            <a:avLst/>
          </a:prstGeom>
          <a:ln w="0">
            <a:noFill/>
          </a:ln>
        </p:spPr>
      </p:pic>
      <p:sp>
        <p:nvSpPr>
          <p:cNvPr id="93" name="矩形 5"/>
          <p:cNvSpPr/>
          <p:nvPr/>
        </p:nvSpPr>
        <p:spPr>
          <a:xfrm>
            <a:off x="3997440" y="3200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32423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3997440" y="4487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32423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3997440" y="5751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32423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4109"/>
          <p:cNvSpPr/>
          <p:nvPr/>
        </p:nvSpPr>
        <p:spPr>
          <a:xfrm>
            <a:off x="2266920" y="909720"/>
            <a:ext cx="503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108B-CA21-4E77-8615-94BBB42AB17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971640" y="4572000"/>
            <a:ext cx="71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32423"/>
                </a:solidFill>
                <a:latin typeface="华康海报体W12(P)"/>
                <a:ea typeface="华康海报体W12(P)"/>
              </a:rPr>
              <a:t>谢谢观看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3:52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