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2083-DF41-4831-AF7F-9AAFD30AE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89154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000" y="3677040"/>
            <a:ext cx="89154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EAB1-237D-4B79-AD86-FC14C312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99972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367704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3400" y="367704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D188-DE46-486C-95D7-B61638470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28706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9640" y="999720"/>
            <a:ext cx="28706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280" y="999720"/>
            <a:ext cx="28706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000" y="3677040"/>
            <a:ext cx="28706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09640" y="3677040"/>
            <a:ext cx="28706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280" y="3677040"/>
            <a:ext cx="28706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228E-8D57-4DA7-9583-5DFACCF1F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499C-41F2-44EB-8FB5-74131D41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95000" y="999720"/>
            <a:ext cx="891540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781C-71EF-462F-B136-79385E86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89154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52DB-1991-41ED-8446-E4ABE6E6B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4350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999720"/>
            <a:ext cx="4350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C0155-77DE-487C-8163-91A37897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C069-7ECE-4BB9-85A3-23BE2F861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95000" y="274680"/>
            <a:ext cx="89154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C4401-968A-4AC8-BB27-7EFDA8C6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63400" y="999720"/>
            <a:ext cx="4350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5000" y="367704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7FB6-35F4-4689-93A3-B5838FE1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000" y="999720"/>
            <a:ext cx="891540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0B63-ECEB-47C3-817B-C248AF80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4350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99972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63400" y="367704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2E6B-B654-4656-878E-DED67992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99972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5000" y="3677040"/>
            <a:ext cx="89154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41B0-C949-4304-B57B-DE87BF26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89154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5000" y="3677040"/>
            <a:ext cx="89154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3606-5111-497E-A6F7-875D992E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3400" y="99972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95000" y="367704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63400" y="367704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810B-088F-41B9-9A6B-D15BB6AD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28706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509640" y="999720"/>
            <a:ext cx="28706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524280" y="999720"/>
            <a:ext cx="28706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5000" y="3677040"/>
            <a:ext cx="28706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509640" y="3677040"/>
            <a:ext cx="28706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524280" y="3677040"/>
            <a:ext cx="28706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3232-A7F7-4D01-8585-0ABB01ADB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2A6E2-4C03-4323-9148-272DDDC73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95000" y="999720"/>
            <a:ext cx="891540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99F785-055B-423E-85C7-9AE6540B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89154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A2391E-7C02-482D-B1BE-0D0E93B2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4350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3400" y="999720"/>
            <a:ext cx="4350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50E22-5736-4430-BD83-4364D596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C236D-B9DD-49BB-B886-0EC11842F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89154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F592-A875-4378-B175-96E01D88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95000" y="274680"/>
            <a:ext cx="89154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2C15C-9BEE-4E06-B85B-B606EE949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63400" y="999720"/>
            <a:ext cx="4350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5000" y="367704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D3EB8-169E-4E9E-A81C-ABCF803BC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4350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3400" y="99972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063400" y="367704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6B611-E151-4AD5-B66E-840075D2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63400" y="99972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95000" y="3677040"/>
            <a:ext cx="89154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7F882-D29E-420A-889C-FC7EE507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89154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5000" y="3677040"/>
            <a:ext cx="89154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DC744-24D4-4C7D-A5A3-B55D4D509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63400" y="99972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95000" y="367704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63400" y="367704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3D6A6B-A307-434E-ADC8-BEDD22362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28706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09640" y="999720"/>
            <a:ext cx="28706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524280" y="999720"/>
            <a:ext cx="28706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95000" y="3677040"/>
            <a:ext cx="28706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09640" y="3677040"/>
            <a:ext cx="28706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524280" y="3677040"/>
            <a:ext cx="28706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760AC-3FEC-4806-B1B1-47ADA4197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7BC3E-B581-45B6-8A5A-F73236FA8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95000" y="999720"/>
            <a:ext cx="891540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F2C26-E960-40D6-82DC-3022FF98B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89154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E17EA-B24F-4AEB-8C62-DFE4C4356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4350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3400" y="999720"/>
            <a:ext cx="4350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9F86-4FD3-4724-BAA8-E574E7CB2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4350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63400" y="999720"/>
            <a:ext cx="4350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4DF7A-8E8B-4480-BFEA-BDC97C08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246A8-D78D-4628-9599-CE0C35346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95000" y="274680"/>
            <a:ext cx="89154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4C2C6-993B-438A-999E-E0A99F9D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63400" y="999720"/>
            <a:ext cx="4350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95000" y="367704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D5DB07-119F-4A64-9B36-BD65481E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4350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063400" y="99972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063400" y="367704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8ABEA-D05D-426B-97E9-C09848E5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063400" y="99972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5000" y="3677040"/>
            <a:ext cx="89154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0E6FA-B589-45BD-AD2C-01427AF4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89154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5000" y="3677040"/>
            <a:ext cx="89154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54C7B9-8FE6-4F70-9565-315028EA3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63400" y="99972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95000" y="367704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063400" y="367704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F8BCC-7B3E-40BA-A448-DE0C026B3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28706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09640" y="999720"/>
            <a:ext cx="28706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524280" y="999720"/>
            <a:ext cx="28706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95000" y="3677040"/>
            <a:ext cx="28706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509640" y="3677040"/>
            <a:ext cx="28706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524280" y="3677040"/>
            <a:ext cx="28706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5EC66-15B3-4F60-81D6-6A05FD416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F1F49-2831-4251-937C-610A7333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87DF-A6B8-4F99-BD39-8A4B0821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95000" y="999720"/>
            <a:ext cx="891540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B1F1B-DFFD-4B69-8C9A-692CD576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89154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1F67A-D2C9-40C6-9BED-300EB84A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4350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63400" y="999720"/>
            <a:ext cx="4350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22A83-D96A-412F-AA2F-74188023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3B9C1-182B-4528-8DD3-3D786AC0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95000" y="274680"/>
            <a:ext cx="89154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C6C20-AE61-43D1-9303-058350CC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3400" y="999720"/>
            <a:ext cx="4350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95000" y="367704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5D132-1208-421C-BEF5-77C3AFE8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4350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63400" y="99972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63400" y="367704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5459B-0436-4ECD-8BE8-ACC0FBC45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63400" y="99972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5000" y="3677040"/>
            <a:ext cx="89154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EA785-A896-482B-9F08-5626A5EF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89154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95000" y="3677040"/>
            <a:ext cx="89154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605BC-0F2B-45C6-810B-48835394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063400" y="99972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95000" y="367704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063400" y="367704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AEE8D-FF13-470D-BD8D-7582A1199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95000" y="274680"/>
            <a:ext cx="89154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2317-8E27-4D5A-9FD7-438AD345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28706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09640" y="999720"/>
            <a:ext cx="28706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524280" y="999720"/>
            <a:ext cx="28706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95000" y="3677040"/>
            <a:ext cx="28706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09640" y="3677040"/>
            <a:ext cx="28706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524280" y="3677040"/>
            <a:ext cx="287064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68D15-543D-4157-BDDD-0EFC79E80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999720"/>
            <a:ext cx="4350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000" y="367704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31E2-5B61-48B2-9FD3-D08D708E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43506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99972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3400" y="367704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D6A4-32FB-480E-9BFB-105FD8EF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99972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999720"/>
            <a:ext cx="43506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000" y="3677040"/>
            <a:ext cx="8915400" cy="24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731B-B6D0-46A9-9008-F7433006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内页副本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7"/>
          <p:cNvSpPr/>
          <p:nvPr/>
        </p:nvSpPr>
        <p:spPr>
          <a:xfrm>
            <a:off x="8024760" y="31104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999720"/>
            <a:ext cx="89154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6416-43C7-4FF8-9F9B-4000B117EAEB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7DC1-4F51-4EB0-9713-7BE7CA56644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6" descr="内页副本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7"/>
          <p:cNvSpPr/>
          <p:nvPr/>
        </p:nvSpPr>
        <p:spPr>
          <a:xfrm>
            <a:off x="8024760" y="31104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8" descr="圣诞.jpg"/>
          <p:cNvPicPr/>
          <p:nvPr/>
        </p:nvPicPr>
        <p:blipFill>
          <a:blip r:embed="rId3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8024760" y="31104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f2f2f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10" descr="1.png"/>
          <p:cNvPicPr/>
          <p:nvPr/>
        </p:nvPicPr>
        <p:blipFill>
          <a:blip r:embed="rId4"/>
          <a:stretch/>
        </p:blipFill>
        <p:spPr>
          <a:xfrm>
            <a:off x="7574040" y="600120"/>
            <a:ext cx="911160" cy="86040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1" descr="1.png"/>
          <p:cNvPicPr/>
          <p:nvPr/>
        </p:nvPicPr>
        <p:blipFill>
          <a:blip r:embed="rId5"/>
          <a:stretch/>
        </p:blipFill>
        <p:spPr>
          <a:xfrm rot="20010600">
            <a:off x="6254640" y="5997600"/>
            <a:ext cx="911160" cy="8604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2" descr="1.png"/>
          <p:cNvPicPr/>
          <p:nvPr/>
        </p:nvPicPr>
        <p:blipFill>
          <a:blip r:embed="rId6"/>
          <a:stretch/>
        </p:blipFill>
        <p:spPr>
          <a:xfrm rot="20010600">
            <a:off x="7746840" y="5803560"/>
            <a:ext cx="584280" cy="55260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3" descr="1.png"/>
          <p:cNvPicPr/>
          <p:nvPr/>
        </p:nvPicPr>
        <p:blipFill>
          <a:blip r:embed="rId7"/>
          <a:stretch/>
        </p:blipFill>
        <p:spPr>
          <a:xfrm rot="20010600">
            <a:off x="7715160" y="4624560"/>
            <a:ext cx="911160" cy="86040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4" descr="1.png"/>
          <p:cNvPicPr/>
          <p:nvPr/>
        </p:nvPicPr>
        <p:blipFill>
          <a:blip r:embed="rId8"/>
          <a:stretch/>
        </p:blipFill>
        <p:spPr>
          <a:xfrm rot="20010600">
            <a:off x="7262280" y="3381480"/>
            <a:ext cx="438480" cy="41256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5" descr="1.png"/>
          <p:cNvPicPr/>
          <p:nvPr/>
        </p:nvPicPr>
        <p:blipFill>
          <a:blip r:embed="rId9"/>
          <a:stretch/>
        </p:blipFill>
        <p:spPr>
          <a:xfrm rot="20010600">
            <a:off x="8011800" y="2474640"/>
            <a:ext cx="37476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图片 16" descr="1.png"/>
          <p:cNvPicPr/>
          <p:nvPr/>
        </p:nvPicPr>
        <p:blipFill>
          <a:blip r:embed="rId10"/>
          <a:stretch/>
        </p:blipFill>
        <p:spPr>
          <a:xfrm rot="20010600">
            <a:off x="7702200" y="2098800"/>
            <a:ext cx="277920" cy="2635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95000" y="999720"/>
            <a:ext cx="89154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43A0-23FD-465D-8426-93D05B00184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0A28-1D8B-4109-B2F7-AD9535B4B1F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6" descr="内页副本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7"/>
          <p:cNvSpPr/>
          <p:nvPr/>
        </p:nvSpPr>
        <p:spPr>
          <a:xfrm>
            <a:off x="8024760" y="31104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8" descr="内页副本.jpg"/>
          <p:cNvPicPr/>
          <p:nvPr/>
        </p:nvPicPr>
        <p:blipFill>
          <a:blip r:embed="rId3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8024760" y="31104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95000" y="999720"/>
            <a:ext cx="89154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F900-6535-4E33-8DE0-BAFCD140C75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4C72-701A-4CE4-BD94-895C6CD7462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8" descr="字体.png"/>
          <p:cNvPicPr/>
          <p:nvPr/>
        </p:nvPicPr>
        <p:blipFill>
          <a:blip r:embed="rId3"/>
          <a:stretch/>
        </p:blipFill>
        <p:spPr>
          <a:xfrm rot="19681800">
            <a:off x="6241680" y="4640400"/>
            <a:ext cx="3224160" cy="938160"/>
          </a:xfrm>
          <a:prstGeom prst="rect">
            <a:avLst/>
          </a:prstGeom>
          <a:ln w="0">
            <a:noFill/>
          </a:ln>
        </p:spPr>
      </p:pic>
      <p:sp>
        <p:nvSpPr>
          <p:cNvPr id="141" name="矩形 9"/>
          <p:cNvSpPr/>
          <p:nvPr/>
        </p:nvSpPr>
        <p:spPr>
          <a:xfrm rot="19320000">
            <a:off x="6410160" y="5483160"/>
            <a:ext cx="71640" cy="10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95000" y="999720"/>
            <a:ext cx="891540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89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B7DF-C318-4EC1-821F-022878AB901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9EFD6-80BD-4CBC-BA16-A23AA46EB80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0B6A-A73F-4AE2-B340-B3F885DF05B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312C-7BC1-40B2-BFB3-D6F08C4EEE2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95080" y="2357280"/>
            <a:ext cx="745308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圣诞快乐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模板之华丽圣诞树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95440" y="3166560"/>
            <a:ext cx="4967280" cy="32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6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128520" y="5805360"/>
            <a:ext cx="23385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6148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模板使用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95000" y="1071720"/>
            <a:ext cx="8915400" cy="50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添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3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版本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——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——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下调整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7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版本选择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——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在模板中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图片删除，更换您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图片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本模板默认字体为“华文细黑”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如需修改字体请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版权说明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此模板为免费模板，请不要用于任何形式的付费下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7171"/>
          <p:cNvSpPr/>
          <p:nvPr/>
        </p:nvSpPr>
        <p:spPr>
          <a:xfrm>
            <a:off x="3224160" y="47628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B91C-A5AC-4DFE-8AF2-08772233E8F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95080" y="2357280"/>
            <a:ext cx="642924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Arial"/>
              </a:rPr>
              <a:t>感谢聆听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595440" y="3246120"/>
            <a:ext cx="49672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Arial"/>
              </a:rPr>
              <a:t>Thanks for your time</a:t>
            </a:r>
            <a:r>
              <a:rPr b="0" lang="zh-CN" sz="1600" spc="-1" strike="noStrike">
                <a:solidFill>
                  <a:srgbClr val="898989"/>
                </a:solidFill>
                <a:latin typeface="Arial"/>
              </a:rPr>
              <a:t>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05:14:4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3:50Z</dcterms:modified>
  <cp:revision>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