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03F-F404-499E-9EE2-463D1C85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F20-554A-4217-9325-08BA7E3A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6463-760B-4860-9581-50C01384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C5E-F8F3-4AFB-B53C-DBF09778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4E2-D14C-490A-84B5-B4C95119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265-E736-4933-B565-14662FF5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9672-02DA-440E-9CD2-56524291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3C40-E868-46F1-9013-9DDC69D8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FF7-A7C8-41E7-99DE-47DE9746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B637-943C-4612-AF75-61191DF9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61C-101D-4FF5-A46E-B083AD16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B77-6BF6-4C83-9039-1C733FD4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395280" y="83664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395280" y="333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268360" y="981000"/>
            <a:ext cx="6264360" cy="360"/>
            <a:chOff x="2268360" y="981000"/>
            <a:chExt cx="6264360" cy="360"/>
          </a:xfrm>
        </p:grpSpPr>
        <p:sp>
          <p:nvSpPr>
            <p:cNvPr id="4" name="Line 5"/>
            <p:cNvSpPr/>
            <p:nvPr/>
          </p:nvSpPr>
          <p:spPr>
            <a:xfrm>
              <a:off x="2268360" y="981000"/>
              <a:ext cx="6264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>
              <a:off x="2268360" y="981000"/>
              <a:ext cx="62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Picture 6" descr=""/>
          <p:cNvPicPr/>
          <p:nvPr/>
        </p:nvPicPr>
        <p:blipFill>
          <a:blip r:embed="rId3"/>
          <a:stretch/>
        </p:blipFill>
        <p:spPr>
          <a:xfrm>
            <a:off x="0" y="3411360"/>
            <a:ext cx="9144000" cy="34466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7" descr="1"/>
          <p:cNvPicPr/>
          <p:nvPr/>
        </p:nvPicPr>
        <p:blipFill>
          <a:blip r:embed="rId4"/>
          <a:stretch/>
        </p:blipFill>
        <p:spPr>
          <a:xfrm>
            <a:off x="7796160" y="5013360"/>
            <a:ext cx="1166760" cy="12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emplatef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684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"/>
          <p:cNvPicPr/>
          <p:nvPr/>
        </p:nvPicPr>
        <p:blipFill>
          <a:blip r:embed="rId3"/>
          <a:stretch/>
        </p:blipFill>
        <p:spPr>
          <a:xfrm>
            <a:off x="395280" y="3645000"/>
            <a:ext cx="2158920" cy="23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DB0B-7CA9-4749-B626-24AB7FD1378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8355-97A2-403E-A64F-51B744B3C44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2094-D2B9-4E82-AC06-59C839A5580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9" descr="PPT2716926495"/>
          <p:cNvPicPr/>
          <p:nvPr/>
        </p:nvPicPr>
        <p:blipFill>
          <a:blip r:embed="rId1"/>
          <a:stretch/>
        </p:blipFill>
        <p:spPr>
          <a:xfrm>
            <a:off x="3780000" y="-100080"/>
            <a:ext cx="5545080" cy="7201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PPT2716926495"/>
          <p:cNvPicPr/>
          <p:nvPr/>
        </p:nvPicPr>
        <p:blipFill>
          <a:blip r:embed="rId2"/>
          <a:stretch/>
        </p:blipFill>
        <p:spPr>
          <a:xfrm>
            <a:off x="-324000" y="-171360"/>
            <a:ext cx="5616720" cy="7200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未命名01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7" descr="未命名01"/>
          <p:cNvPicPr/>
          <p:nvPr/>
        </p:nvPicPr>
        <p:blipFill>
          <a:blip r:embed="rId4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13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8" descr="图片 2.png"/>
          <p:cNvPicPr/>
          <p:nvPr/>
        </p:nvPicPr>
        <p:blipFill>
          <a:blip r:embed="rId6"/>
          <a:stretch/>
        </p:blipFill>
        <p:spPr>
          <a:xfrm>
            <a:off x="250920" y="-27000"/>
            <a:ext cx="8280360" cy="273528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22" descr="07.png"/>
          <p:cNvPicPr/>
          <p:nvPr/>
        </p:nvPicPr>
        <p:blipFill>
          <a:blip r:embed="rId7"/>
          <a:stretch/>
        </p:blipFill>
        <p:spPr>
          <a:xfrm rot="12462600">
            <a:off x="4858920" y="619560"/>
            <a:ext cx="4075200" cy="279612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22" descr="07.png"/>
          <p:cNvPicPr/>
          <p:nvPr/>
        </p:nvPicPr>
        <p:blipFill>
          <a:blip r:embed="rId8"/>
          <a:stretch/>
        </p:blipFill>
        <p:spPr>
          <a:xfrm>
            <a:off x="539640" y="333360"/>
            <a:ext cx="2318040" cy="396072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22" descr="07.png"/>
          <p:cNvPicPr/>
          <p:nvPr/>
        </p:nvPicPr>
        <p:blipFill>
          <a:blip r:embed="rId9"/>
          <a:stretch/>
        </p:blipFill>
        <p:spPr>
          <a:xfrm>
            <a:off x="395280" y="0"/>
            <a:ext cx="3168720" cy="170028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22" descr="07.png"/>
          <p:cNvPicPr/>
          <p:nvPr/>
        </p:nvPicPr>
        <p:blipFill>
          <a:blip r:embed="rId10"/>
          <a:stretch/>
        </p:blipFill>
        <p:spPr>
          <a:xfrm rot="5276400">
            <a:off x="6348960" y="1863720"/>
            <a:ext cx="4506840" cy="158436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22" descr="07.png"/>
          <p:cNvPicPr/>
          <p:nvPr/>
        </p:nvPicPr>
        <p:blipFill>
          <a:blip r:embed="rId11"/>
          <a:stretch/>
        </p:blipFill>
        <p:spPr>
          <a:xfrm flipH="1" rot="5642400">
            <a:off x="-1152360" y="2094840"/>
            <a:ext cx="3097080" cy="1297080"/>
          </a:xfrm>
          <a:prstGeom prst="rect">
            <a:avLst/>
          </a:prstGeom>
          <a:ln w="0">
            <a:noFill/>
          </a:ln>
        </p:spPr>
      </p:pic>
      <p:sp>
        <p:nvSpPr>
          <p:cNvPr id="178" name="文本框 5132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5133"/>
          <p:cNvSpPr/>
          <p:nvPr/>
        </p:nvSpPr>
        <p:spPr>
          <a:xfrm>
            <a:off x="2696400" y="256536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圣诞开门红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96532E-006 L -0.41146 -1.96532E-006 E">
                                      <p:cBhvr>
                                        <p:cTn id="29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96532E-006 L 0.36424 -1.96532E-006 E">
                                      <p:cBhvr>
                                        <p:cTn id="3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50289E-006 L -0.46858 0.01041 E">
                                      <p:cBhvr>
                                        <p:cTn id="35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4 -1.04046E-006 L 0.43524 -1.04046E-006 E">
                                      <p:cBhvr>
                                        <p:cTn id="3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9:41:3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3:48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