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50A8-CD88-46A4-B7F0-4686F18CB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CC53-8D87-4E6D-9093-70030D41D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D26C-3F58-4726-B557-06A16CD2D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D154-A383-4B8A-B1FF-F9B4A61CA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F645-5309-49DE-9F45-6012B0662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CEB4-7634-4C1D-B853-DF7BD47DEB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FF8D0-52DE-495C-98B7-54613D5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A7770-290C-4B33-98BA-591E93BC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45906-3FBB-4E4F-9A36-0E478D09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75F5-A827-4F80-B63C-9F8FC17704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7A44D-ED20-4726-A2C7-B93C85E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9CB2A-6E22-4934-8C57-74080B21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D0E43-4EDD-46D4-8EE0-1D2CF5E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F62C2-18E1-4214-81E6-C838403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2C3A7-D04C-421D-8ACC-4A21E98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EDADA-3008-4FAC-B21A-086EB30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B689C-7DFA-4990-A6C1-45A4FFF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1F22F-581D-41FC-8C28-094A4043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44C5F-FD34-4AF0-BAAB-40AB833A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879B-7B1E-40E1-B990-BB9B8C9E7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214B-EE59-4F40-8083-A6E8AE6D2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B851-2C61-4DDC-A1BF-8F2052B87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5382-4EAF-40E7-A676-A83BE7F9E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4148-D615-432F-AC85-7D57C24DD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B6EF81E-511D-40FF-8F66-F00FD092944F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59389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1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bg"/>
          <p:cNvPicPr/>
          <p:nvPr/>
        </p:nvPicPr>
        <p:blipFill>
          <a:blip r:embed="rId3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6FE2-BDFD-455C-A83B-A75BB0CC7C7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BC2-9171-4CB4-ABED-281F8269A7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25360" y="3553920"/>
            <a:ext cx="6651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74920" y="46335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EAF01FC-26A8-4EF5-9B30-55E2D0E93D71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6148"/>
          <p:cNvSpPr/>
          <p:nvPr/>
        </p:nvSpPr>
        <p:spPr>
          <a:xfrm>
            <a:off x="1523880" y="6825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2CA-EA02-4319-BC85-A85DF97249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1FCB7B6-1C33-4FF2-BF8E-F981AF03EA9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新年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551400" y="4119480"/>
            <a:ext cx="42098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bg"/>
          <p:cNvPicPr/>
          <p:nvPr/>
        </p:nvPicPr>
        <p:blipFill>
          <a:blip r:embed="rId2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0Z</dcterms:modified>
  <cp:revision>1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