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C256D-2B46-4CCD-B50D-F54F6949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8DDAB-D0D5-4FF7-BE52-08DC7D0A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4B3D6-8E54-4634-AD91-C4227270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E4B9E-47BF-4D32-9C71-F84AF038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9E68D-409C-4964-9914-60F95D30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BBDD6-5FA1-4E6C-8293-FD94C54F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D3C87-9BA8-43C3-AA6C-C12ADDBF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725DA-D8F6-478B-90F2-9B25CF30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8E2E4-E886-451D-8D8F-D2122444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1E839-84D6-4D03-9983-911492C3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29F7F-5963-499B-BE17-92F9DF71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5D7D1-45DF-44E0-954F-8EA0D45D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75D64-4FA9-4752-8FC1-D7047D54E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4648D-520B-49C9-B668-D57AEF38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FE1E56-65C6-49FD-8F6B-71451CDF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EB2C9-50E2-490A-A801-058FF2E9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9E162-5E72-438E-B848-82B19D64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B2504-DB75-460E-82D1-7BFB04A7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0AC44-8959-4ED3-A013-CB29CFDE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48FF0-1B88-47F8-9592-7C53C379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9ED5B-124B-4D09-98F8-4689AFB6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17285-1770-4FF8-BEEC-9D931994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ECA52-A881-42C9-8C59-9BB55B09E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6BAE6C-EC62-4C7C-876D-630990DE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9FC89-E869-421B-8155-F9C29B51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12459-7443-4147-BED9-96440DD7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ADC27-A44E-4E16-9934-07E1BAB6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29EBB-4BA6-4E12-B891-15AD0669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61B30-2C9C-4657-B4BF-98496DF0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ACC9A-C190-4F88-B696-B22AAD0D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6AFE-C983-4A98-8A27-C903F46F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083A62-3A51-42A7-AF03-AF696474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2A71C-59F8-4C0F-BDCD-8DC03C275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8B6C6-036D-4A55-A1B2-BA365F02B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DE5B7-2ADB-4ADC-9526-5D84A288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243E0-7419-41B7-8EE0-AC8F695B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6082A-DE7B-4958-B65D-8C33811B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A7E2D-33E4-4257-8041-1731AF86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216F5-C70D-4AD5-A46D-BF730659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80DFA2-51CA-446C-969F-FB94B9B5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AE491E-613F-48A3-94EC-AA8BAED5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356D-D9E7-4503-B62B-C317AFCB3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3CF58-47CA-49D7-847C-93B292A7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06985-DDB1-43E7-85AD-C92F5135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28064-CD0A-470B-9E60-6C7AEB37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8667C2-D697-4928-8F18-435ABC1B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D3F9A-3BE9-48BB-9F15-BD631C1F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A78D9-C747-4F64-ABE5-8DAE073E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51BE92-8ED1-4F86-A279-64D1E3C4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1146F-D15D-49C9-8FD0-ABBF16BB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C9679-21BB-4925-A319-200749F7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A7ACE-546E-4CA3-A367-3E4F0AA2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CB8-ADA5-43DB-AA42-6DD3E318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C5F57-BC76-44B3-A0AA-1C726CE3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43B73-411F-436E-9791-87CCC863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9A2FF-2297-4E9C-8EF7-3999D2F2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92BE4-EBF2-4480-B8E2-B579E3AF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CB9E4-BA93-4F01-9DD3-6CBDC402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2AD085-996E-40B2-9302-F3A39666A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5487C-9C6E-4482-BCA7-B20FA01A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CADAF-73E0-466A-B4FE-E28C3A2DF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66241-3851-4BBF-8ADA-29A78E97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CB414-02A4-41AE-A4C8-E9237456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383-9885-4A78-8C07-A9F06299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50469-321A-4C5B-93F5-A958A3BC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01ECE-60E6-44C8-A920-75A6847F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A2CB0-6EC0-47A5-971C-A976B9FE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197A5-F417-465A-9C48-2FE8947D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F09BE-15AE-459D-8664-A17094F5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679689-ECAE-4574-9EC3-F79AF136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59FC4-F8F5-4632-99D0-A5536D09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D2D76-FD38-404E-B17A-757E29F9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588350-EE63-4763-AB71-205DC549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6E276-405E-4114-A72A-1C384E5E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B5D3-2B05-41E2-95CF-67742DC9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AFE60-EE67-40B0-91B1-6E8F7B08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E982E-EBA8-4426-A288-E3ED1C78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66A308-372F-41BB-908A-6EBAE0F6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81D536-CEF7-4D61-8705-52533EB0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1762A-9234-4486-AAF1-BEF48043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73E4D-88D8-46D0-B2F2-5B6B3FA1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001BE-0FED-485C-88EE-DDE0AB64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9C4DA-C2E2-47C6-B8FB-690AF18D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E4838-8BFA-4801-B6FC-258D3C55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B79BF-6658-48F3-8008-AFBDD8D1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B2EB-6FDD-45A9-A0CC-4D75EB25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1F082-4AA5-4594-B840-614B0941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221-B999-4D72-A3B4-E6DA0670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23AF-D293-448B-932D-8A4CA2D1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5211-EF2C-4466-819F-27105517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615C-5D50-4DA6-B77B-C8473CE0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8F3D-A6AF-4F3F-B322-961C6CF6B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ED40-5EB4-46A5-B4C0-C143885F3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9663-B243-4F0C-AFBF-B2A7D877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2AB2-6187-476B-B59A-4E54FC02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0814-79BA-4024-92C2-037B9619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D159-D4E9-47B0-945A-AED01864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4DBA-636F-4A70-A098-F3571F40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49B6-F9BE-45AD-AD75-9A2B39EA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B7B5-E223-4022-95A7-9F66E54D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8FD4-9D8A-426D-8FE3-EDA74B16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CAF4-DEA9-4A13-929E-8EB64316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8D8A-E878-4909-B8A3-BFD2239F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945C-F5AC-4ADB-B4F2-C414A805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529BA-6F61-49F0-BA90-CF2FDADD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6E685-AE8F-49EB-BF7D-46361D3F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45C46-DBA5-4435-9C55-4B3D4D67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5EC40-AE1E-4627-9B9B-76A18DB4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A455C-634C-4839-B4CC-025340F7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F10CA-3FA3-41BA-ADBC-26EF1F46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7D1D7-F581-498D-A010-B4FC0CE7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4801D-1DFD-42A0-B961-BAEC50F6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2C77F-9443-45CE-842E-D87947CD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45152-239F-49BC-B698-565D5173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206BD-05DA-4A2B-8298-A5DD6DAD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268F0-2385-41DE-9CF8-D253BE6C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65B3E-3E12-48D0-98F7-FA71B5C5E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3DA69-8F45-48FA-89D6-4BF2A3BE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2873B-6A63-4DCE-994C-0CF81B64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4BB4F-B331-4E32-9CD0-4694CE20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8ADAC-F484-4DF8-B483-ED6445B8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BBF56-16C4-4873-A5B9-B7F07DC7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3A2C4-41BE-4AAF-A1CA-AD8D0F6C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9A5CD-480E-47E2-B8FF-23841232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D6442-386C-437E-BF97-C93261F4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4CED5-F05B-4164-A40F-DE9E0E24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DCD8D-057D-4F4B-B72A-D9B1A428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8377D-78B1-477C-B8B8-FCABBE2B8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F4A18-7D0C-4FA5-938D-A7525A2CB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11CDC-1471-4982-8314-8AA4609E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159FE-C9AA-42CD-9034-42AD973D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B2227-8A8D-4C5B-8CEB-2A50D1DB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E7A7B-AEDF-4082-AEF1-13A41FC0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EC268-D8BA-4186-A924-620CF1FF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FAE38-3364-4C4C-A023-122965E8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F7746-1CCC-473C-B68C-B171A480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7E03B-827D-42FB-9804-F3ACA8B6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99695-76BF-45B9-AE44-042654CA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772D7-A4ED-4F98-B654-7DA9472B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5ED9C-1E49-4EFD-AC3A-70CDCD7C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C7E9F-0C14-4B78-8D35-60C3BBB7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54B24-0168-4CB1-9F0D-EF6733F87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654DA-0E1C-4DC6-BEE6-DB93BA52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6FCDD-CEF1-4E43-9592-00FDFD10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C:\Documents and Settings\鱼不愚\桌面\未标题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圆角矩形​​ 1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4DC1-2DCC-46C4-933D-23AD08DBBF4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3173-0EFD-47FE-8F65-64C7D33A4D4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F18D-D3E2-4454-BE7F-ABF25990BC2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C77B-2597-46F9-8896-038EFFAB5AF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F588-382A-467B-89EE-70CEF5566A4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78EC-1BFB-451B-A997-E0B88B66DF1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7DDF-63B9-4BB6-B645-5D2F9D1D6EA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5471-6EDE-4CE1-8B35-86C5765CFAC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1B2B-42BA-4A8E-A847-976D3AD2EB4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E92B-7CAD-4533-94B7-9C70C80D3E2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7F10-E216-49D4-9166-88D0F085B47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55E4-9E37-4745-951B-9FFBBFB4D3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01B5-D756-451F-813C-B04AE2AE3DA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734A-989D-4461-B342-FFC1AF94AD7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2" descr="C:\Documents and Settings\鱼不愚\桌面\未标题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圆角矩形​​ 1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3" descr="C:\Documents and Settings\鱼不愚\桌面\未标题-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圆角矩形​​ 1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2" descr="C:\Documents and Settings\鱼不愚\桌面\未标题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圆角矩形​​ 1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0"/>
            </a:avLst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3"/>
          <p:cNvSpPr/>
          <p:nvPr/>
        </p:nvSpPr>
        <p:spPr>
          <a:xfrm>
            <a:off x="177840" y="673200"/>
            <a:ext cx="8852040" cy="5486400"/>
          </a:xfrm>
          <a:prstGeom prst="roundRect">
            <a:avLst>
              <a:gd name="adj" fmla="val 5093"/>
            </a:avLst>
          </a:prstGeom>
          <a:solidFill>
            <a:srgbClr val="f2f2f2"/>
          </a:solidFill>
          <a:ln w="93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EA7B-2144-4843-84FB-A602B16E3DA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C2A9-DCC7-4EE3-829E-9EB7C4AC6B9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F479-EDC0-42C2-898B-AF4FE1A73A22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D181-8FD2-463B-82E4-16C95865F19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B209-4C33-499F-8F19-F694F71F948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C714-4F29-4EFC-B029-D870537D705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F46D-0AA9-4531-B31E-119DA85803F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8493-3D57-4E3F-9623-F49B9C98DD5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D4F0-6EB1-4E0F-AFAF-6546BB5182F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A77A-D63A-4BE8-A629-F3854410E55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矩形 2"/>
          <p:cNvSpPr/>
          <p:nvPr/>
        </p:nvSpPr>
        <p:spPr>
          <a:xfrm>
            <a:off x="1604880" y="1600200"/>
            <a:ext cx="566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76092"/>
                </a:solidFill>
                <a:latin typeface="华文中宋"/>
                <a:ea typeface="华文中宋"/>
              </a:rPr>
              <a:t>数据分析报告</a:t>
            </a:r>
            <a:r>
              <a:rPr b="0" lang="zh-CN" sz="4000" spc="-1" strike="noStrike">
                <a:solidFill>
                  <a:srgbClr val="376092"/>
                </a:solidFill>
                <a:latin typeface="华文中宋"/>
                <a:ea typeface="华文中宋"/>
              </a:rPr>
              <a:t>PPT</a:t>
            </a:r>
            <a:r>
              <a:rPr b="0" lang="zh-CN" sz="4000" spc="-1" strike="noStrike">
                <a:solidFill>
                  <a:srgbClr val="376092"/>
                </a:solidFill>
                <a:latin typeface="华文中宋"/>
                <a:ea typeface="华文中宋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1638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144"/>
          <p:cNvSpPr/>
          <p:nvPr/>
        </p:nvSpPr>
        <p:spPr>
          <a:xfrm>
            <a:off x="1871640" y="160020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组合 38"/>
          <p:cNvGrpSpPr/>
          <p:nvPr/>
        </p:nvGrpSpPr>
        <p:grpSpPr>
          <a:xfrm>
            <a:off x="1274760" y="1600200"/>
            <a:ext cx="655560" cy="547560"/>
            <a:chOff x="1274760" y="1600200"/>
            <a:chExt cx="655560" cy="547560"/>
          </a:xfrm>
        </p:grpSpPr>
        <p:sp>
          <p:nvSpPr>
            <p:cNvPr id="615" name="Rectangle 7"/>
            <p:cNvSpPr/>
            <p:nvPr/>
          </p:nvSpPr>
          <p:spPr>
            <a:xfrm>
              <a:off x="1274760" y="1600200"/>
              <a:ext cx="654120" cy="54756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1274760" y="1603080"/>
              <a:ext cx="63360" cy="54144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1280880" y="1612800"/>
              <a:ext cx="647640" cy="131760"/>
            </a:xfrm>
            <a:custGeom>
              <a:avLst/>
              <a:gdLst/>
              <a:ahLst/>
              <a:rect l="l" t="t" r="r" b="b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2"/>
            <p:cNvSpPr/>
            <p:nvPr/>
          </p:nvSpPr>
          <p:spPr>
            <a:xfrm flipH="1">
              <a:off x="1866960" y="1606320"/>
              <a:ext cx="63360" cy="54144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AutoShape 144"/>
          <p:cNvSpPr/>
          <p:nvPr/>
        </p:nvSpPr>
        <p:spPr>
          <a:xfrm>
            <a:off x="1871640" y="2427120"/>
            <a:ext cx="6357960" cy="54000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组合 39"/>
          <p:cNvGrpSpPr/>
          <p:nvPr/>
        </p:nvGrpSpPr>
        <p:grpSpPr>
          <a:xfrm>
            <a:off x="1274760" y="2427120"/>
            <a:ext cx="655560" cy="547920"/>
            <a:chOff x="1274760" y="2427120"/>
            <a:chExt cx="655560" cy="547920"/>
          </a:xfrm>
        </p:grpSpPr>
        <p:sp>
          <p:nvSpPr>
            <p:cNvPr id="621" name="Rectangle 7"/>
            <p:cNvSpPr/>
            <p:nvPr/>
          </p:nvSpPr>
          <p:spPr>
            <a:xfrm>
              <a:off x="1274760" y="2427120"/>
              <a:ext cx="654120" cy="54792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1274760" y="2430000"/>
              <a:ext cx="63360" cy="54180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1280880" y="2430000"/>
              <a:ext cx="647640" cy="131760"/>
            </a:xfrm>
            <a:custGeom>
              <a:avLst/>
              <a:gdLst/>
              <a:ahLst/>
              <a:rect l="l" t="t" r="r" b="b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2"/>
            <p:cNvSpPr/>
            <p:nvPr/>
          </p:nvSpPr>
          <p:spPr>
            <a:xfrm flipH="1">
              <a:off x="1866960" y="2433240"/>
              <a:ext cx="63360" cy="54180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AutoShape 144"/>
          <p:cNvSpPr/>
          <p:nvPr/>
        </p:nvSpPr>
        <p:spPr>
          <a:xfrm>
            <a:off x="1871640" y="325440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组合 40"/>
          <p:cNvGrpSpPr/>
          <p:nvPr/>
        </p:nvGrpSpPr>
        <p:grpSpPr>
          <a:xfrm>
            <a:off x="1263600" y="3255840"/>
            <a:ext cx="654120" cy="549360"/>
            <a:chOff x="1263600" y="3255840"/>
            <a:chExt cx="654120" cy="549360"/>
          </a:xfrm>
        </p:grpSpPr>
        <p:sp>
          <p:nvSpPr>
            <p:cNvPr id="627" name="Rectangle 7"/>
            <p:cNvSpPr/>
            <p:nvPr/>
          </p:nvSpPr>
          <p:spPr>
            <a:xfrm>
              <a:off x="1263600" y="3255840"/>
              <a:ext cx="652680" cy="54936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2"/>
            <p:cNvSpPr/>
            <p:nvPr/>
          </p:nvSpPr>
          <p:spPr>
            <a:xfrm>
              <a:off x="1263600" y="3258720"/>
              <a:ext cx="63360" cy="54324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3"/>
            <p:cNvSpPr/>
            <p:nvPr/>
          </p:nvSpPr>
          <p:spPr>
            <a:xfrm>
              <a:off x="1269720" y="3258720"/>
              <a:ext cx="646200" cy="131760"/>
            </a:xfrm>
            <a:custGeom>
              <a:avLst/>
              <a:gdLst/>
              <a:ahLst/>
              <a:rect l="l" t="t" r="r" b="b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2"/>
            <p:cNvSpPr/>
            <p:nvPr/>
          </p:nvSpPr>
          <p:spPr>
            <a:xfrm flipH="1">
              <a:off x="1854360" y="3261960"/>
              <a:ext cx="63360" cy="54324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AutoShape 144"/>
          <p:cNvSpPr/>
          <p:nvPr/>
        </p:nvSpPr>
        <p:spPr>
          <a:xfrm>
            <a:off x="1871640" y="409104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组合 41"/>
          <p:cNvGrpSpPr/>
          <p:nvPr/>
        </p:nvGrpSpPr>
        <p:grpSpPr>
          <a:xfrm>
            <a:off x="1247760" y="4083120"/>
            <a:ext cx="655560" cy="547560"/>
            <a:chOff x="1247760" y="4083120"/>
            <a:chExt cx="655560" cy="547560"/>
          </a:xfrm>
        </p:grpSpPr>
        <p:sp>
          <p:nvSpPr>
            <p:cNvPr id="633" name="Rectangle 7"/>
            <p:cNvSpPr/>
            <p:nvPr/>
          </p:nvSpPr>
          <p:spPr>
            <a:xfrm>
              <a:off x="1247760" y="4083120"/>
              <a:ext cx="654120" cy="54756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2"/>
            <p:cNvSpPr/>
            <p:nvPr/>
          </p:nvSpPr>
          <p:spPr>
            <a:xfrm>
              <a:off x="1247760" y="4086000"/>
              <a:ext cx="63360" cy="54144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3"/>
            <p:cNvSpPr/>
            <p:nvPr/>
          </p:nvSpPr>
          <p:spPr>
            <a:xfrm>
              <a:off x="1253880" y="4086000"/>
              <a:ext cx="647640" cy="131760"/>
            </a:xfrm>
            <a:custGeom>
              <a:avLst/>
              <a:gdLst/>
              <a:ahLst/>
              <a:rect l="l" t="t" r="r" b="b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2"/>
            <p:cNvSpPr/>
            <p:nvPr/>
          </p:nvSpPr>
          <p:spPr>
            <a:xfrm flipH="1">
              <a:off x="1839960" y="4089240"/>
              <a:ext cx="63360" cy="54144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AutoShape 144"/>
          <p:cNvSpPr/>
          <p:nvPr/>
        </p:nvSpPr>
        <p:spPr>
          <a:xfrm>
            <a:off x="1871640" y="4911840"/>
            <a:ext cx="6357960" cy="539640"/>
          </a:xfrm>
          <a:prstGeom prst="roundRect">
            <a:avLst>
              <a:gd name="adj" fmla="val 10685"/>
            </a:avLst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此处添加标题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组合 42"/>
          <p:cNvGrpSpPr/>
          <p:nvPr/>
        </p:nvGrpSpPr>
        <p:grpSpPr>
          <a:xfrm>
            <a:off x="1265400" y="4910040"/>
            <a:ext cx="653760" cy="547920"/>
            <a:chOff x="1265400" y="4910040"/>
            <a:chExt cx="653760" cy="547920"/>
          </a:xfrm>
        </p:grpSpPr>
        <p:sp>
          <p:nvSpPr>
            <p:cNvPr id="639" name="Rectangle 7"/>
            <p:cNvSpPr/>
            <p:nvPr/>
          </p:nvSpPr>
          <p:spPr>
            <a:xfrm>
              <a:off x="1265400" y="4910040"/>
              <a:ext cx="652320" cy="547920"/>
            </a:xfrm>
            <a:prstGeom prst="rect">
              <a:avLst/>
            </a:prstGeom>
            <a:gradFill rotWithShape="0">
              <a:gsLst>
                <a:gs pos="0">
                  <a:srgbClr val="0a3c64"/>
                </a:gs>
                <a:gs pos="100000">
                  <a:srgbClr val="2fc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Black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2"/>
            <p:cNvSpPr/>
            <p:nvPr/>
          </p:nvSpPr>
          <p:spPr>
            <a:xfrm>
              <a:off x="1265400" y="4912920"/>
              <a:ext cx="63360" cy="54180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3"/>
            <p:cNvSpPr/>
            <p:nvPr/>
          </p:nvSpPr>
          <p:spPr>
            <a:xfrm>
              <a:off x="1271520" y="4912920"/>
              <a:ext cx="645840" cy="131760"/>
            </a:xfrm>
            <a:custGeom>
              <a:avLst/>
              <a:gdLst/>
              <a:ahLst/>
              <a:rect l="l" t="t" r="r" b="b"/>
              <a:pathLst>
                <a:path w="105" h="6">
                  <a:moveTo>
                    <a:pt x="0" y="0"/>
                  </a:moveTo>
                  <a:lnTo>
                    <a:pt x="105" y="0"/>
                  </a:lnTo>
                  <a:cubicBezTo>
                    <a:pt x="103" y="2"/>
                    <a:pt x="101" y="4"/>
                    <a:pt x="100" y="6"/>
                  </a:cubicBezTo>
                  <a:lnTo>
                    <a:pt x="5" y="6"/>
                  </a:lnTo>
                  <a:cubicBezTo>
                    <a:pt x="4" y="4"/>
                    <a:pt x="2" y="2"/>
                    <a:pt x="0" y="0"/>
                  </a:cubicBez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 flipH="1">
              <a:off x="1855800" y="4916160"/>
              <a:ext cx="63360" cy="54180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0" y="22"/>
                  </a:moveTo>
                  <a:lnTo>
                    <a:pt x="0" y="0"/>
                  </a:lnTo>
                  <a:cubicBezTo>
                    <a:pt x="4" y="2"/>
                    <a:pt x="7" y="6"/>
                    <a:pt x="7" y="11"/>
                  </a:cubicBezTo>
                  <a:cubicBezTo>
                    <a:pt x="7" y="15"/>
                    <a:pt x="4" y="19"/>
                    <a:pt x="0" y="22"/>
                  </a:cubicBezTo>
                </a:path>
              </a:pathLst>
            </a:custGeom>
            <a:solidFill>
              <a:srgbClr val="007f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文本框 18433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15F9-FF34-40C1-890D-A12565A135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矩形 4"/>
          <p:cNvSpPr/>
          <p:nvPr/>
        </p:nvSpPr>
        <p:spPr>
          <a:xfrm>
            <a:off x="0" y="65991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0T22:31:57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5-11-13T04:35:50Z</dcterms:modified>
  <cp:revision>19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