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2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1FA-CE66-4C52-A27E-0DD5ED74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C0D-C63A-4AC9-B853-895F5E3F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409E-256B-4ACF-971E-3071E7C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AE6D-946D-4B87-ADEF-F09C599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A4BB7-E6A5-4820-8203-B4F478C6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4870-E179-4AAD-A337-1D40B89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40DC7-DC7D-4638-A432-19870DD2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3E683-F325-4551-9118-C68FEC9F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763B2-7892-40B2-B84B-13F7E7E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620B9-5AA3-4FDD-9283-5C686904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481A5-1059-4DD2-BBD2-A99951DF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FC55A-CF8E-4C54-B6B8-47569D19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1F2-928B-4813-A5B6-E00E7AD6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9757-4496-4450-B88C-321A4F99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C666A-6E89-4E2A-A43F-B1971C6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2D31-A9DF-4417-AC8E-DB63B8E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B502E-B11A-4142-B218-3794F0A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3E458-FD93-4A53-9645-B81687E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C3EE-3020-49CE-92C1-4109B77F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24E40-638C-4003-BBDA-2090DC2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091E5-E39E-44C9-BFA9-A8F4FF1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3339C-1B70-4AAC-B89D-265E4DBB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A03CA-D6AC-4946-83B7-A23993C7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A34-EAD6-4314-A7D0-CE5E3DF5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9E2AD-7277-47A2-8B6A-CAEFC130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BFA7-9897-49B3-9EBE-C4E8A097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97B64-CBAD-4D1B-81F3-C3FC77F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76DA-70DE-430E-BAD9-34CD571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7E540-647C-4BD6-941C-7D534B6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CF149-433C-40EC-81E0-22D2AF6D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8A0F9-830E-4486-8D15-0F0B2DF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3916D-65F4-4696-AA7B-A2451AF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70C75-51DF-458C-8870-A16270C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6ABE-6680-480F-BC0D-395B6A7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FD0-18FD-40E6-9F10-2CA7D0C3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B7C60-6624-4785-9B7E-2B6F2DA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3F174-56FC-4A76-8BC4-F111B19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D395-7DEE-4ECE-8ACA-CAA2AFFD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00986-F944-4E06-8547-B9077DA1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B5D8C-1B57-4833-8C53-BDC1DCE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9C8C-49C6-419A-9CAC-8CA506EF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AF65C-6AAD-43CC-AC80-1EA298AE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1A620-0AF0-4357-A86A-306723E2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4F8CD-2F7C-4953-BDA2-FD5596B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DBEA0-D6CF-4D12-846B-26BC0ED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7E74-A996-49A1-825D-2F0C5D0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A5B18-62EA-4EBE-89E4-FA2BAA6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FFB93-65E9-4772-A7C9-3D2FA1B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56C33-ED41-4687-A916-75A96A3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CCECB-DDE8-4EEF-AC91-9BF2AF66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3B5B0-E057-4B27-9850-0650090C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B8C-41A1-4BF2-85AA-26017CB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D84-6D57-46FC-8EB7-C527B7A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BF40-96CD-4AED-987B-25F2A893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FFE-F693-4378-94D6-4F0B8CDC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652B-B2BD-400D-8FD1-CB0D1E5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18A-9758-498F-B5D1-7EDE8E2F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6C8-BCD9-4F3B-8C85-01F189F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BEEA-1C5B-4F4C-9D7D-1A2460E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60A7-0632-4C96-A9E7-B15EE5EF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5FFD-FB04-4845-894B-67506CBD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290-A8CD-43AD-8C52-44B98DB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2706-0FC3-4DD9-A6F2-DBA7EA55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1168-B735-4400-8D63-0B5057A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A928-AF09-4A80-A33E-A7EF6FF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061E-0DC6-43FC-9D58-E3D042C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0C3A-2AF4-4085-B7C9-FA26B693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EC4-5C2B-478D-B42D-6A940769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024B-ED36-4BA8-BDB3-FD2FADD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0929-9F25-4F0E-94FA-510B0B2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2AD3-6185-40F4-B233-CB87227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734E-2024-4E0E-BA0F-034800F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D985-BF65-4DC5-856E-5F3C945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40E5-01CE-416F-B5D2-03071FF4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4624-A58A-43CC-BB3C-88677FD1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01DA-7952-4362-9521-9D7A1E3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7145-ADC4-4C0C-BEFE-711C6AE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30C2-5FDA-4368-8847-B7E70E8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106-723B-42F6-ABDC-CD0616A7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778EC-1EE6-475E-A4C7-4767D03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C754-7A46-413C-A94B-F18CF0AB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EDB3-BD57-405B-9427-8948000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9B46-EFA1-4EBF-AAA0-5B8BCA1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03CC-A974-4544-9DFC-0AFE00B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92C4-F0EF-4534-8D7F-21F1F94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836B-D4EC-4EC8-87DC-D88BB4D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D915-E849-4152-9278-40DA6416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C84E-40DE-41F6-9535-EE25593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65D4-0B90-4C67-BAD9-99A4BFE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875-B330-449B-ABA0-AA7D011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2B35-B9E3-4F9E-B3E2-C99505A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8B29-F2D4-4B7D-9FD9-BF1A74D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59D0-5BF9-4EA7-B678-7D68732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501C-55F6-4ED5-83AD-23F4107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3250-6787-42B9-89CB-BA08B27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4DD7-F2BE-496A-9117-2BA3969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4C12-996D-4ED6-AB34-D9B603F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7777-489F-4C20-9E72-B8EE9C3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4AC3-B04C-43AC-A1B2-81297346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673A-520C-428C-8DBA-4237212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189-228B-4311-86E1-5682528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D4BE-F9DC-4464-9BB5-E15CB4A9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63EC5-7966-4017-9506-50AC38CC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4E5F-120C-44BF-87FA-A1C04D70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AC62-FF29-4ED1-9B0D-E614C5D8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1E46-DD70-4EEB-B284-A6AA7229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95DE-8C27-4482-9D33-42EA88AB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4167-DD20-4CC7-8C94-0EEDDD9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E291-0D87-48DA-8884-529A7DA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75A8-660A-4802-9587-AFF03EE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39C6-0A40-493D-B6B6-B647EFC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1A3-91CC-4DC0-8784-BCE7C41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7E32-49E7-409D-A914-A58E7E37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C5D5-D552-4208-84ED-16DCD1A7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2E3D-4421-4640-AC13-033C43F6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C1033-1717-424A-BA6B-CC03CAFD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9ACE-4F55-4C4B-895E-85F1602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F995-E38F-4AB3-A952-69224351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55E43-5ADA-403A-AF79-E154435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5FE1D-63D1-4FE1-AE66-FDEC0FC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033DC-90D4-403F-AE76-C5C86E4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372F5-5BCF-4CA9-8EC6-2EBE970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CEA-CD0C-4002-9AAC-4CAB59BF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DD8F8-6F1E-4313-B1A3-7D656B3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B1CE-9EE9-47B6-94D0-8910275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9F9B-7EA1-45D6-8423-5BBACB83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40E7-B11B-48B8-96C5-52CC14EA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410F-2B3A-42AF-AEF9-4EA65FBE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7878-AE56-4195-B7A1-B84F93B6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8D46C-DF99-4164-B694-0088BB8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B2E6-7C45-4B47-8B70-F15B5FD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5A65-BCBB-450F-A3ED-A076B33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5D59-DF45-4FFD-80DB-3F771C4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977-0ED4-4BB0-8D79-DF96D8A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B4D2-6DB8-41C9-A884-A58E342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568E-4BA9-4B13-82F6-BB18338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204D7-2720-4B5A-86CB-F6B2F64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A814-5F7B-45D9-B2E3-12E3B42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0921-45E9-4A7D-9B40-D389F73E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EF394-F31F-4AAF-87D1-5FF62DDD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6A3A-A548-4FCA-8AF6-1CF80A63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FE57-3755-49BB-8A85-0308B3C4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E082E-D4E8-45DC-AC81-0D33AB72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CE992-DFA7-412C-8380-A80E2CD0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19AE-B103-4766-82C9-FF86C27289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81C-19E7-4976-A5FB-8214F7FD708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4DA-BAEE-4B11-BC89-A169D6542E1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9EE-2315-4829-8539-C0C218D3045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17C2-30F3-427B-87F6-B39A7BA8DD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F18-7319-484E-943C-AB264B5441C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8506-C30A-441B-95EC-85C8395FB1A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24E-8BDF-4A2B-9FEA-A56674D41DD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D51-5ED6-4D97-8688-10DB1A8A765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AD7-66C2-4869-BD79-2315A6676C8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8785-8845-4D82-AA39-FF68452BB8A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FDAC-4119-4396-B68E-6289C4B60C5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8993-1B59-4534-BC26-66ECD5D0F42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C:\Mis documentos\Aura\Entertaiment\Imágenes\gallery2.gif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3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Book Antiqua"/>
              <a:ea typeface="Book Antiqua"/>
            </a:endParaRPr>
          </a:p>
        </p:txBody>
      </p:sp>
      <p:sp>
        <p:nvSpPr>
          <p:cNvPr id="494" name="WordArt 4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  <p:sp>
        <p:nvSpPr>
          <p:cNvPr id="49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文本框 13317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文本框 13318"/>
          <p:cNvSpPr/>
          <p:nvPr/>
        </p:nvSpPr>
        <p:spPr>
          <a:xfrm>
            <a:off x="1654200" y="4797360"/>
            <a:ext cx="52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史努比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C:\Mis documentos\Aura\Entertaiment\Imágenes\woodstock_football.gif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宋体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宋体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876F-3F0B-452D-8249-B6D1D48F13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C:\Mis documentos\Aura\Entertaiment\Imágenes\post snoopy.gif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7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宋体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宋体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宋体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73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730000"/>
              </a:gradFill>
              <a:latin typeface="Book Antiqua"/>
              <a:ea typeface="Book Antiqua"/>
            </a:endParaRPr>
          </a:p>
        </p:txBody>
      </p:sp>
      <p:sp>
        <p:nvSpPr>
          <p:cNvPr id="57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C:\Mis documentos\Aura\Entertaiment\Imágenes\Snoopy Jumping2.gif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Mis documentos\Aura\Entertaiment\Imágenes\snoopy3hgv.gif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4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宋体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4343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3" descr="C:\Mis documentos\Aura\Entertaiment\Imágenes\edison snoopy.jpg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50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宋体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5" descr="C:\Mis documentos\Aura\Entertaiment\Imágenes\G_Snoopy2.jpg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6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宋体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宋体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宋体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C:\Mis documentos\Aura\Entertaiment\Imágenes\Snoopy gift.gif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宋体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3" descr="C:\Mis documentos\Aura\Entertaiment\Imágenes\woodstock.gif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25" name="Picture 4" descr="C:\Mis documentos\Aura\Entertaiment\Imágenes\chuck.gif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26" name="Picture 5" descr="C:\Mis documentos\Aura\Entertaiment\Imágenes\franklin.gif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27" name="Picture 6" descr="C:\Mis documentos\Aura\Entertaiment\Imágenes\linus.gif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28" name="Picture 7" descr="C:\Mis documentos\Aura\Entertaiment\Imágenes\lucy.gif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29" name="Picture 8" descr="C:\Mis documentos\Aura\Entertaiment\Imágenes\marcie.gif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30" name="Picture 9" descr="C:\Mis documentos\Aura\Entertaiment\Imágenes\patty.gif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31" name="Picture 10" descr="C:\Mis documentos\Aura\Entertaiment\Imágenes\pigpen.gif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32" name="Picture 11" descr="C:\Mis documentos\Aura\Entertaiment\Imágenes\sally.gif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33" name="Picture 12" descr="C:\Mis documentos\Aura\Entertaiment\Imágenes\schroeder.gif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34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17" descr="C:\Mis documentos\Aura\Entertaiment\Imágenes\meet_snoopy_big.gif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  <p:sp>
        <p:nvSpPr>
          <p:cNvPr id="536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宋体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宋体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C:\Mis documentos\Aura\Entertaiment\Imágenes\meet_charlie_brown_big.gif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宋体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3" descr="C:\Mis documentos\Aura\Entertaiment\Imágenes\flying-woody.gif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C:\Mis documentos\Aura\Entertaiment\Imágenes\snoopy_logo_med.gif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宋体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Mis documentos\Aura\Entertaiment\Imágenes\snoopy seasonal_hockey.gif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宋体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文本框 21508"/>
          <p:cNvSpPr/>
          <p:nvPr/>
        </p:nvSpPr>
        <p:spPr>
          <a:xfrm>
            <a:off x="684360" y="765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1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