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45E4-FBD0-4BF3-9DE7-8F340A32E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8E84-F166-4404-80B0-3F8A3EEC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2CC73-2A9F-4AB3-B300-3057C6CB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9D1EF-E6EF-4C3C-8776-77BFC888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D90AC-0342-4AFF-9AA1-07998F07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05D26-677A-4E92-84D5-08AE6290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F69616-34DA-4DB5-9167-633E6044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60CF3-F908-4309-A481-A92BDD7E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C80669-AADD-435D-B309-6F377603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4571C-1C83-48A2-9FD5-E8E41DA6A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B5838-35C3-489B-B8C7-F3CE32303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7428EA-613C-4390-9E7F-0FAF0F797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2492-E86F-4580-82F9-4B576FB5F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28DC12-D94F-4636-8D70-0B16BB0A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1EB4BE-D899-4F90-BD6B-8DE8CF9C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386A04-CA2A-4214-8503-C5483DB6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BB1FB5-C6D8-4235-8332-5EEB72BC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7DE81D-EB33-42CA-8981-EE511029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91C5AB-4284-4E6F-BCF1-C50D1088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6DF9A7-2C24-4A56-BEA4-2C41C4F8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D16A5-9D9B-4568-894E-284A3918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885FB-074A-4DD8-A9CB-465C62C3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97CB4A-95B2-49CE-89BD-1D34AAFA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08DE-692C-45F9-BD10-2672A8ADC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7652F-1902-484B-8E62-43E0B3457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8519E-B8FC-490E-8E7C-D1A90935E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06D21-51D1-409F-94FC-A1C29B6D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4050D-7811-49AD-AF0D-B4FE429C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BB584-836D-4950-80E7-AACD59EA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91694-9F11-4610-8CF4-7C7EE2D4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FFF1E-9C5B-4024-A410-8867C390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01495-9FCC-4671-8F44-909B4B03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45B65-A2DD-4304-A5B8-9C068E43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0F5AE-E1C0-4B5B-9C90-9EEB1CEF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3983-25C1-42C7-A1E0-E2C67FDA8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5065A-D3C3-4DB4-9B4C-0E2C18DC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2754E-7E79-4BD1-9B20-C7341EBBC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2C3E8-0359-48F7-ACAD-FED94B91B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E9F3A3-6F5D-4AC2-AB20-C86E0187F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61955C-16D9-4E6B-83E6-38B92BC3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DF8E26-7964-4084-B619-F059C464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063093-F2B6-4B8E-8D2C-9FE3BCD8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15FA63-76C6-48F6-AAE6-BDB35A86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2C7733-3F0D-461A-8613-D8DD882D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7D8E82-BB6C-46C6-8591-EE68D913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931D-DA3C-454A-AFC6-E9C40741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437B47-4349-4551-AB5A-0501781A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94D1BA-984C-438E-ADAF-A5A8F3F4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12B114-24C7-4401-96D9-5D88C11A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D077F9-320F-4235-99BD-587AB177B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2113C0-88FF-4FF5-9585-BBB3B1220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F7D7-B601-4D66-8D26-AA03F387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FF53-23AA-4281-B78E-4F45EDB9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FE7C-766D-47A3-AC9F-1F9FC684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302B-4CA1-4066-99D3-94705C82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7CE7-27A4-4FB5-A188-250593E2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B636-F340-47EA-A88B-7CECFD15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094D-39F5-4FA0-B47E-58F28BC0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8F54-4443-41CD-96EC-98C258E5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0857-CB74-4A68-8594-EE99346A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1B71-B23F-461F-B08E-47F32179D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5708-3B48-4623-BBAA-1866EF26F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77E29-5DC0-438A-A467-F0866BBF3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938DB-11C3-4E71-BD94-37148A40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3F73D-35F0-4504-B8C6-9D8D307B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F9699-A577-4D8B-8A14-15774CF2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71971-1E53-48F1-89EE-43E576C2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6092-D1A6-4BD7-8D0C-78603262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09A43-197D-4AFA-AC47-AEFAA976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A5D7E-FC02-4E1A-B338-D42CC1BB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C859B-4208-4125-9E0D-9775F3AA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F8349-5D6D-4421-A282-DAF8A10A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C8305-DC78-4F3B-9475-E68992F8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23A82-4906-4558-BAC8-313FD296B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E30C6-9128-42F1-AD6C-F0E2BDD05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4DF53-838E-472F-9C8E-C5A4B5E88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B21BB-F44D-4648-91F2-FB75F2BA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E7E4A-A402-4B93-B4C5-3B1B3390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23F4-7E9E-4815-B7F7-14A859CD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B65BA-2FA5-456B-AAE3-1DB74B80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13011-A4BE-4887-ADB3-A625AEDC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CB920-21C1-4EDA-8812-CC346A8B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7F58C-8923-4A5F-ADE1-6AA0E03D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D4B28-1D5E-484B-809B-B016694E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21421-10C1-4128-8A6C-23BB9DBA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439E3-E891-460E-AA30-33E3A0AA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99918-6388-4D4F-8CD4-F0FCB20AC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C4E0E-D8C7-427F-BA5D-35C6BC0BB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7E2F4-CEF6-4B3E-A8C2-A7C3019E7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2859-BCA3-4363-A148-E66328EC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584E9-EE91-468C-AF68-30218A51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700D9-7C5A-4BE8-AAA8-52FA9AAC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52842-CD19-440D-85E7-B7039A67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4E0F7-7AF1-4B6C-9D3A-A74DBBDA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93725-8719-4DD9-A49A-7C706A71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D4C8F-2C6C-4C71-93B7-041C1E9B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4DD40-6FEA-4374-A31A-B4122B24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B225A-CC34-49E6-AAC6-B3B0411A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B2151-66F2-4B8F-A41A-4C2D18E0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D2076-9B89-49E6-814B-06BFD036F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B167-2560-4FD8-8E94-F6424C6F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9DB64-502F-4B67-A707-DDCDDCBB8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3A6E8-C0F0-475C-82E7-145A4C537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23BBB-C597-4444-8B34-3E755B59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15AE8-ABE9-4910-9338-D944B6A8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96D1F-4E8D-4A4F-89AE-33F32317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4973E-7575-4666-A8B5-4DC72DE9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2BF5E-BE59-471E-83DD-A69E126E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7C96C-0B72-4BF7-B0D0-3A77D19B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C6590-3031-4D4F-AD48-75C5F734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A062A-6F3B-4CAE-B82F-9FFCBBD4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16C7-F307-4A33-980C-829AE386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302B6-9A67-40A3-8374-9D412063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0D4BB-E892-49F7-94EB-58CDEE793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1FDF7-44E1-4FD3-BFA6-517946A19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DCDBF-0D4A-457F-898D-945B2D959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582DB-0D63-4DCA-A5D1-1367EA73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42DF7-E32B-4E0C-ABC4-BE1C1B87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28AA6-3686-4C05-9818-7BA7CE36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4CA66-77C7-4E30-B41D-0341B7CA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D2535-655A-4C95-B725-AA7B0B66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33A0F-98DC-4FC3-A98B-BABE2A68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E22A-9AF0-45CE-80BD-CA68A23A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E72A2-9C3A-49AE-9398-941E347F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6EE3B-E358-4768-A52B-C2F45A4F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19788-B318-4AF2-97AF-8F615609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28AB9-8D22-4100-8667-A12C81C06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9025A-4D3A-4514-B160-35589792B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1CF32-D960-4019-BBDE-5B84EA875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7E2FB-0E06-47C4-A42C-0B7D6590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339F7-4462-41A7-BC71-23B7D2FB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6FBE0-26B7-430E-80F7-45BCA482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4CFA9-05A7-497D-805D-68514B21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A674-206E-43D9-8BAB-A21FC700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9C729-B69A-440A-B03C-523F6865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4C62F-751F-4D56-A50E-A30828C8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4CD69-B6B9-45E1-8C14-0D430CBD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40B1F-524E-43EE-9573-CC3C1A3C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087EA-8C1E-4AF6-9B0D-C5F73977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1973D-708C-4EA2-8E7B-A0BB69A78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88F26-C117-445D-AA00-FA9808DF6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DDC58-25A8-4612-8D6F-9482F640B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2116AD-EDE1-4FD6-9EA4-295D8206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301F1F-038C-4595-83C8-518E72F8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C2E2-5E18-4797-AF23-46FB1019DB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662D-8418-4352-94AB-2A332798AC5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58B3-9DFA-4389-A1CD-69B9BD46993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C10C-29ED-40B1-8C3C-63963D26D3E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E4E7-9895-4FCC-896A-1136E779BAB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1872-619C-4D60-A1D4-046D21CCBEC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1583-5D53-4871-8BB9-9E5BF59DB09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BB3E-A2D0-4AB8-A440-528E954504A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48CD-62F6-47DD-A312-9E289403FCA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6FE8-59E9-48F6-8E3E-1BD34D0C6C5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1292-4CDC-4D3F-A8A6-EC14FB7A4AD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A0A1-7263-49BA-9EF7-7C744A6C199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53D1-5B2E-4207-838A-5A62F5BCE46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E893-03F3-4CB2-8E5C-4B0ECD8CC0A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DF51-83C2-4336-A1EA-77DDE151304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E62D-2A1E-48A7-933B-3B612EB62E7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0946-7105-40E6-BBA7-EEFCA451028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DDA6-CA13-471F-93DB-4E625A839C3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AFE7-1A92-4E5D-BB83-9606E4197F9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194D-138C-4623-AAB6-23FAD899B94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8C1D-CC37-403C-AFF0-59EFD698F28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9C27-F4B3-443D-9DCF-1F07ED77F74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EBC3-0140-4D49-B1BA-087600BDDD7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矩形 12"/>
          <p:cNvSpPr/>
          <p:nvPr/>
        </p:nvSpPr>
        <p:spPr>
          <a:xfrm>
            <a:off x="179280" y="11124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2" descr="123"/>
          <p:cNvPicPr/>
          <p:nvPr/>
        </p:nvPicPr>
        <p:blipFill>
          <a:blip r:embed="rId1"/>
          <a:stretch/>
        </p:blipFill>
        <p:spPr>
          <a:xfrm>
            <a:off x="-33480" y="189000"/>
            <a:ext cx="9141120" cy="710064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3" descr="123"/>
          <p:cNvPicPr/>
          <p:nvPr/>
        </p:nvPicPr>
        <p:blipFill>
          <a:blip r:embed="rId2"/>
          <a:stretch/>
        </p:blipFill>
        <p:spPr>
          <a:xfrm>
            <a:off x="-33480" y="6480"/>
            <a:ext cx="9203040" cy="614664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4"/>
          <p:cNvSpPr/>
          <p:nvPr/>
        </p:nvSpPr>
        <p:spPr>
          <a:xfrm>
            <a:off x="0" y="-23760"/>
            <a:ext cx="9169560" cy="5014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380280"/>
            <a:ext cx="9169560" cy="504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6"/>
          <p:cNvSpPr/>
          <p:nvPr/>
        </p:nvSpPr>
        <p:spPr>
          <a:xfrm>
            <a:off x="2771640" y="4581360"/>
            <a:ext cx="3745080" cy="648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7" descr="123"/>
          <p:cNvPicPr/>
          <p:nvPr/>
        </p:nvPicPr>
        <p:blipFill>
          <a:blip r:embed="rId3"/>
          <a:stretch/>
        </p:blipFill>
        <p:spPr>
          <a:xfrm>
            <a:off x="539640" y="3571920"/>
            <a:ext cx="5295960" cy="352908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8"/>
          <p:cNvSpPr/>
          <p:nvPr/>
        </p:nvSpPr>
        <p:spPr>
          <a:xfrm>
            <a:off x="3857760" y="4638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Arial"/>
                <a:ea typeface="华文隶书"/>
              </a:rPr>
              <a:t>蛇年快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文本框 14345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文本框 14346"/>
          <p:cNvSpPr/>
          <p:nvPr/>
        </p:nvSpPr>
        <p:spPr>
          <a:xfrm>
            <a:off x="2810880" y="76500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蛇年快乐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2" descr="123"/>
          <p:cNvPicPr/>
          <p:nvPr/>
        </p:nvPicPr>
        <p:blipFill>
          <a:blip r:embed="rId1"/>
          <a:stretch/>
        </p:blipFill>
        <p:spPr>
          <a:xfrm>
            <a:off x="-33480" y="44280"/>
            <a:ext cx="9141120" cy="710100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3"/>
          <p:cNvSpPr/>
          <p:nvPr/>
        </p:nvSpPr>
        <p:spPr>
          <a:xfrm>
            <a:off x="0" y="-23760"/>
            <a:ext cx="9107640" cy="5014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4"/>
          <p:cNvSpPr/>
          <p:nvPr/>
        </p:nvSpPr>
        <p:spPr>
          <a:xfrm>
            <a:off x="0" y="6380280"/>
            <a:ext cx="9107640" cy="504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539640" y="549360"/>
            <a:ext cx="3745080" cy="64764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6" descr="123"/>
          <p:cNvPicPr/>
          <p:nvPr/>
        </p:nvPicPr>
        <p:blipFill>
          <a:blip r:embed="rId2"/>
          <a:stretch/>
        </p:blipFill>
        <p:spPr>
          <a:xfrm>
            <a:off x="-2336760" y="-960480"/>
            <a:ext cx="6905520" cy="4605480"/>
          </a:xfrm>
          <a:prstGeom prst="rect">
            <a:avLst/>
          </a:prstGeom>
          <a:ln w="0">
            <a:noFill/>
          </a:ln>
        </p:spPr>
      </p:pic>
      <p:sp>
        <p:nvSpPr>
          <p:cNvPr id="507" name="文本框 15366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4171-52EC-4FF4-B67B-9074C3193D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5" descr="123"/>
          <p:cNvPicPr/>
          <p:nvPr/>
        </p:nvPicPr>
        <p:blipFill>
          <a:blip r:embed="rId1"/>
          <a:stretch/>
        </p:blipFill>
        <p:spPr>
          <a:xfrm>
            <a:off x="2195640" y="963720"/>
            <a:ext cx="4757760" cy="356400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6"/>
          <p:cNvSpPr/>
          <p:nvPr/>
        </p:nvSpPr>
        <p:spPr>
          <a:xfrm>
            <a:off x="4091040" y="3573360"/>
            <a:ext cx="105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微软雅黑"/>
              </a:rPr>
              <a:t>谢谢聆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7T09:28:0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8:42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