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609-EF12-4488-BDA3-7D94C40F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5E2-C814-4CDF-9C47-4035DC5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261-6720-49A0-987C-B7549E1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3D8-2E05-4B67-B27F-F512F067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247-5FAF-4483-9790-A7B88DBB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268D-69BD-44B6-8F10-E879CB4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615-4F75-448C-AE02-71AD2FF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877-D256-4D26-A7F2-DDB3477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E8FE-C4D5-4CC1-A0C5-05158BB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248A-6999-4396-A68E-2DAC132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1B0F-DAB6-4E7A-8BD3-371B57E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CE4-B00A-49AE-B5EC-4F07034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C766-15E0-4432-90E8-F57057E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A10-EC29-4CF6-A2FE-C5838A3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40D-FC3E-4AC8-AD44-08AB99E1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058-2FE6-4544-AB4F-4F0EAACD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940-A9D6-4884-84B0-77107DFA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8A3-DC0C-4A87-BDBB-904C88E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45B-7362-41E0-AB7E-678A261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CAD-4B31-4168-8D4E-E92D894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225-14FE-4468-9245-C6D97DBB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C5E-E965-4EB7-AB54-072A6E0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458-179F-4E5A-9DBB-D18735C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CEB-38A2-4F19-8A22-68FA10F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968D-0B0D-4967-9120-FB21C4963C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BE28-EC59-41B4-9672-727B3D405D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A00-F5DA-4DDD-A988-FAEE3BA4F2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行业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节日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优秀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占位符 4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" descr=""/>
          <p:cNvPicPr/>
          <p:nvPr/>
        </p:nvPicPr>
        <p:blipFill>
          <a:blip r:embed="rId17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737800" y="260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日快乐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F202-B476-450C-BDA7-770965F44C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占位符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13536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463572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占位符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6"/>
          <p:cNvSpPr/>
          <p:nvPr/>
        </p:nvSpPr>
        <p:spPr>
          <a:xfrm>
            <a:off x="142920" y="0"/>
            <a:ext cx="30002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.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2864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1468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1468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2864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0090-2E7C-47CE-8201-E3F0E2B5A8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占位符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25776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375804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15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894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65894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占位符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960" y="3567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2920" y="3567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22143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2920" y="22143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5D95-EABA-4D6E-B3B6-EACA403735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占位符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1925280" y="4071960"/>
            <a:ext cx="526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5-11-13T04:37:0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