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9678-68E6-4893-ADAD-48D38484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8ABB-1E95-4A41-9BC1-A3FBCCF0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E1630-5852-4353-B2FE-27AD2829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8B12D-E46E-4EAC-BAC1-EB4AA2D5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25356-B05E-4D38-B3BA-0062271A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FB6FB-C642-4CD9-8BCF-598EBD1D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75B1A-C407-4BD8-ACF3-B22E8560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FD5D0-9A79-4432-BB63-76DC0B8C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A4175-E7EA-472A-B79B-3BA0BE2E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E911D-01A2-4269-8D58-67CBB1CD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4E554-6792-41CA-962B-0A8FAD57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0DBB2-9980-4341-999A-BAEEADFC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78E3-CEF9-49BE-8D39-03408101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172BA-0803-4776-802F-17D7FB5C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170C4-8AA4-4434-8DE1-D2BC4F0D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1292F-2233-447A-AAC2-0D5BF8A4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3F758-C79E-4C39-8B9A-F6CBEF7C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EA530-11D3-413D-BECE-C4062CF4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C5B53-238C-434B-9680-D7D266D9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08593-E645-4784-A492-22DE97F9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3D930-4146-46E3-AE9F-8244C5C6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3C9AC-D8E2-477B-94BA-6A647292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83F07-64AA-41CD-9231-18E7FEC1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0719-A891-447A-900F-4CFB3EE3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EEF54-D326-4B97-893F-17EFC2E3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57F35-B5F8-4C7B-9767-C5BF26E5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9B642-6D8E-44A6-9E27-16A8B9CE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7F682-63ED-439B-BD91-C8BB20F2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DA852-D8BB-45F5-8B0F-F58E1329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229DA-D2CE-4EEB-83E8-C652FC56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BF810-1D1D-4813-88F6-A6C05256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967F6-26D7-4FCC-80A6-89B463B9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78713-F908-43C0-9169-AFA2AB14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5F53E-D71D-46E4-82DC-E301054C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952F-14CC-491A-ACD0-F184B1AB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5D8BF-02E4-40F3-B306-C36B3E3F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7C3C7-FBD2-4CFC-8803-0693D33A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F4C77-EADE-4728-A0D8-3F339CBC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DA522-BB80-4B59-946E-1B72245B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F5D43-E6F1-4118-B367-E7846614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56A76-9CC7-4428-B91F-04DE7C93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F45F9-BEF4-4CAA-914F-44B13B5A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4F970-7A43-4CD9-BBF3-D929FA47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E4BFF-60D2-4DD9-BA3F-D445644B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E7D0B-09E8-46F7-BE34-C2F48B0F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2C88-43E1-435A-89B8-B55B7036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A1E29-1745-4A5C-9003-FC3373BC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4544C-9DE1-4E93-B7BA-6D1E0B80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0318E-0CDF-4747-AA4E-B094F5EB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8E28B-9CA6-4488-99EC-FDF1521A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07E2B-C16E-4250-8913-649A7409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D44BB0-8A84-430A-B292-D399A1AF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0FE6E-83A0-48A3-A181-0A326425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F4E93-4562-4A69-AD57-7312BE50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5D574-784B-4DE6-8966-8ED03F85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A1DCB-009D-45A0-8E2B-634A502D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DC61-7DFC-4E9F-AB4B-06F34389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66903F-7E81-4E18-AD9E-E31E6AED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8C0BE-53AB-4377-9F18-B618C1DB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B7F5F-D897-4042-A902-9EB6D691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31CB09-514C-467B-AED9-685D636E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597AF-3E80-4190-8A88-8211DE2F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501B1-DC68-4519-848C-D37FD9C0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6CC8CB-C3D9-4A28-982D-2A00DC4F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8C72-2701-4601-B1D2-BBECF14A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F09C-49DE-4079-9B36-F924C811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BFF9-81E1-4CC9-8037-F92492D4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22AF-79A0-4345-8879-8BE6A43E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013-6BE3-4829-8423-C0281BCA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7CAD-35A6-456A-A23A-A0D782BA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C6A9-821B-40B7-9A71-8A332490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E611-9075-4BF1-8C52-264F59D5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6439-6D23-4840-9426-86BD6979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532D-E8E3-40C7-BBA0-03F48DA2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21017-D0D1-4EB3-86B1-46E0335B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B18DE-382F-4379-94A4-CF6C10F1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92468-7249-4D00-A88B-A5BC6CF5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025D0-165C-4BD9-8991-53AE0ACD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9E4A-0390-4B30-A383-FF301157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810-1CF7-4649-9383-95B023BE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1E5BE-63A4-4EDD-86FB-BD616EA6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87366-6287-41E2-9148-7917DA1E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70DD0-6A19-40A1-9EE6-A35228EF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92964-7321-4885-944B-22B8893F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EC462-67C1-46BF-B1B8-8C41E821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C7253-E468-4DCF-BE9C-D98B8364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0072E-363B-4C15-85F8-8BF0298F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BAF7D-3C08-41A5-A0A8-0B9F0DE2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EFDEF-C945-4C65-A4D2-9E19F614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6EB4D-8DC5-436F-8AE1-41F2B1D9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EE6A-0219-4883-B63A-8FFBCDB0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5C862-F383-4FEF-B443-3A1AE39A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781D7-D51A-409A-A571-C859F3A9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7F8E2-F678-4454-94BE-C4EAEDED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BAF53-D2A2-42B1-B50C-358CD56B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5B5A1-A807-4140-A93A-CDB2CE5B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1C3C6-7681-4CF0-9B95-4F3A2321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2FA69-43E9-4FCE-927D-7B704DCB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FF0AE-1548-4D9E-A31B-673AFD2D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D579B-4350-417D-B56F-9C319629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C8EFA-9949-4120-9F61-C64A515F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B578-B0FB-4266-A78F-2F2816A8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43BA7-528F-4252-9160-4EE09611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32A02-0790-4382-973D-DF372C30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13BC1-541C-473E-9958-ACBACAB1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4D99A-FCAF-4588-9F71-D98D2092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1AB16-FD33-45B6-B058-76614592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8F5AD-603D-4D04-9FEB-5525EAD0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73412-7E27-4545-934F-450077BC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849FF-923B-4A0A-A608-7CD4FB93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B409E-376C-476E-8A7B-D557D792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EA137-84F6-47C8-87AA-1B7F4266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13C-6A40-421F-9326-14F07002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403CB-F438-4DBC-8DB5-250F6B0E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7D55A-7FD3-4283-9E32-83CAFFCF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A8009-DE1B-4AAD-A2E6-5C0E2331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4E253-AFE0-411C-BEF1-194D906E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A26B8-EF04-4657-8C3D-3C11DE66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528C2-1D0C-4D01-94CD-D64FFF1D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B04E7-AE79-4AAC-BC7F-DE05779F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F880E-5672-422F-A94F-0078F6E5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72C2E-813C-4ABF-8B1B-E2EC6B1B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F306F-C9F0-425F-8E0B-77E41133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73C-E882-4FCB-A6BD-94728C05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EB1B1-EB20-491F-92BA-7F335186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9AF14-F8B4-4A74-A6FE-062E9F29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04587-4BBB-4EF7-9C08-32B619E0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9DAC5-66F1-4F70-97E4-3602B46C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6BF20-DA14-4E73-A7DD-C4079469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2FD41-7B04-414A-96A5-D58B1E07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95068-9CAD-4ECC-89B3-C41DBCF5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5E235-491F-4203-BCAC-07D42DB4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09A7D-498E-42FB-83B9-9D1195F4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23B6D-4130-4F4D-BCB3-D32E10E6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6FA6-3F43-407E-B9D2-C1EF9A94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F7902-FF56-43D3-98BF-87FAE2A3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97040-C5B0-404A-9F55-8E674534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E8D4D-5B6E-4487-9437-ACE9ADC9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D5C6B-E426-4539-9304-2BD4C426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7A502-F4FC-4113-85B0-59FA55D3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DC0CB-C88E-491B-877C-BD15E337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309F0-B4B3-4EE6-BC7D-67049ED2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D7898-BDD8-46EA-A59F-E77BB8F6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38A5E-063A-453C-BAA8-3CB77D4B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7D5E8-8F8F-454C-91CF-2590B8B3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442-377C-45EF-8D13-6E9A2ACB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5C861-DFF4-4D9F-B777-82F53182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7F2F7-B58B-4C01-BC18-C268580B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C1618-9040-43F0-B91F-9F3EE2CE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513D0-B22B-47D5-B7B0-89095BAB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3F0B8-3FA0-4D8D-AE12-7ECD34C0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E75DE-20AA-4BC8-9B7A-E778DE0F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C3979-1ABC-4064-B43C-70FE9C45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8A3E9-2ECA-495B-9099-D4A84390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25FDA-9554-4DD4-9C28-2DBA836A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6FC5F-24C7-4BCB-AB74-6C47915F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15E9-91AB-49DF-80D8-334DF36BEB9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D18F-5673-401F-9413-C37022E86D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4107-864C-45E8-B407-DC9249B72E7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71AA-D98B-4E89-B0FA-4542322D717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B668-0779-4616-8EE7-5F94F15BB87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41B9-84DB-4B79-9E74-057ADB0BBC5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FB75-2362-45E3-924E-CCE9FC68FD4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2E16-0476-4E00-A6B1-81621DFF28A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53C5-CD17-491A-B189-E9247796992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D2C9-6251-4126-840F-A24E372682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F7BD-DC19-46E2-8FFE-8C225B6A0C3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1119-3466-48CE-83F5-9A1002757DA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AD4C-E29D-470B-952C-8BDA586791A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166C-93FA-4BD1-A669-141405CF39A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CF73-CFC4-445D-AD51-2273901DB13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1824-5723-41D2-8AF6-592D6F5FCE2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5A68-6EC4-42EE-AA9A-76F0029B0F4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817F-82C0-4696-9CA8-8A2738DEC7B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E595-C2C5-43C3-AE1F-3725271A56E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9CAB-6D82-4CCC-BF80-1E7EFD1C09F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3175-8E9F-488E-805E-C74AC34734A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6653-9E7A-4450-A878-A692F7322C5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6D60-0432-4A83-A66B-C1C7E7B3AE8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FCAC-E335-4D59-B50C-1AF64A89146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E6B0-D493-41D1-AEDF-568A9C13B14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6DCB-A32D-410E-93FA-E5D32DF46CB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jpe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16"/>
          <p:cNvSpPr/>
          <p:nvPr/>
        </p:nvSpPr>
        <p:spPr>
          <a:xfrm>
            <a:off x="0" y="198756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图片 17" descr=""/>
          <p:cNvPicPr/>
          <p:nvPr/>
        </p:nvPicPr>
        <p:blipFill>
          <a:blip r:embed="rId16"/>
          <a:stretch/>
        </p:blipFill>
        <p:spPr>
          <a:xfrm>
            <a:off x="0" y="6084720"/>
            <a:ext cx="5013360" cy="344520"/>
          </a:xfrm>
          <a:prstGeom prst="rect">
            <a:avLst/>
          </a:prstGeom>
          <a:ln w="0">
            <a:noFill/>
          </a:ln>
        </p:spPr>
      </p:pic>
      <p:sp>
        <p:nvSpPr>
          <p:cNvPr id="535" name="矩形 7"/>
          <p:cNvSpPr/>
          <p:nvPr/>
        </p:nvSpPr>
        <p:spPr>
          <a:xfrm>
            <a:off x="0" y="285840"/>
            <a:ext cx="9144000" cy="207144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8"/>
          <p:cNvSpPr/>
          <p:nvPr/>
        </p:nvSpPr>
        <p:spPr>
          <a:xfrm>
            <a:off x="3357720" y="2357280"/>
            <a:ext cx="5786280" cy="414360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9"/>
          <p:cNvSpPr/>
          <p:nvPr/>
        </p:nvSpPr>
        <p:spPr>
          <a:xfrm>
            <a:off x="0" y="2357280"/>
            <a:ext cx="3357720" cy="364356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图片 18" descr=""/>
          <p:cNvPicPr/>
          <p:nvPr/>
        </p:nvPicPr>
        <p:blipFill>
          <a:blip r:embed="rId17"/>
          <a:stretch/>
        </p:blipFill>
        <p:spPr>
          <a:xfrm>
            <a:off x="0" y="142920"/>
            <a:ext cx="9144000" cy="146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10"/>
          <p:cNvSpPr/>
          <p:nvPr/>
        </p:nvSpPr>
        <p:spPr>
          <a:xfrm>
            <a:off x="1187280" y="648828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7"/>
          <p:cNvSpPr/>
          <p:nvPr/>
        </p:nvSpPr>
        <p:spPr>
          <a:xfrm>
            <a:off x="-141120" y="2357280"/>
            <a:ext cx="365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rry’s birth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16"/>
          <p:cNvSpPr/>
          <p:nvPr/>
        </p:nvSpPr>
        <p:spPr>
          <a:xfrm>
            <a:off x="6513840" y="3571920"/>
            <a:ext cx="23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图片 10" descr=""/>
          <p:cNvPicPr/>
          <p:nvPr/>
        </p:nvPicPr>
        <p:blipFill>
          <a:blip r:embed="rId18"/>
          <a:stretch/>
        </p:blipFill>
        <p:spPr>
          <a:xfrm>
            <a:off x="903240" y="3689280"/>
            <a:ext cx="1454040" cy="2239920"/>
          </a:xfrm>
          <a:prstGeom prst="rect">
            <a:avLst/>
          </a:prstGeom>
          <a:ln w="0">
            <a:noFill/>
          </a:ln>
        </p:spPr>
      </p:pic>
      <p:sp>
        <p:nvSpPr>
          <p:cNvPr id="543" name="矩形 14"/>
          <p:cNvSpPr/>
          <p:nvPr/>
        </p:nvSpPr>
        <p:spPr>
          <a:xfrm>
            <a:off x="714960" y="5716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A Photo Albu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15"/>
          <p:cNvSpPr/>
          <p:nvPr/>
        </p:nvSpPr>
        <p:spPr>
          <a:xfrm>
            <a:off x="4840560" y="2571840"/>
            <a:ext cx="427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ppy birth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图片 11" descr=""/>
          <p:cNvPicPr/>
          <p:nvPr/>
        </p:nvPicPr>
        <p:blipFill>
          <a:blip r:embed="rId19"/>
          <a:stretch/>
        </p:blipFill>
        <p:spPr>
          <a:xfrm>
            <a:off x="6500880" y="4500720"/>
            <a:ext cx="1290600" cy="1906560"/>
          </a:xfrm>
          <a:prstGeom prst="rect">
            <a:avLst/>
          </a:prstGeom>
          <a:ln w="0">
            <a:noFill/>
          </a:ln>
        </p:spPr>
      </p:pic>
      <p:sp>
        <p:nvSpPr>
          <p:cNvPr id="546" name="矩形 18"/>
          <p:cNvSpPr/>
          <p:nvPr/>
        </p:nvSpPr>
        <p:spPr>
          <a:xfrm>
            <a:off x="501480" y="336564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9-08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图片占位符 7" descr=""/>
          <p:cNvPicPr/>
          <p:nvPr/>
        </p:nvPicPr>
        <p:blipFill>
          <a:blip r:embed="rId20"/>
          <a:srcRect l="6005" t="0" r="6005" b="0"/>
          <a:stretch/>
        </p:blipFill>
        <p:spPr>
          <a:xfrm>
            <a:off x="3357720" y="2357280"/>
            <a:ext cx="3143160" cy="357192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12" descr=""/>
          <p:cNvPicPr/>
          <p:nvPr/>
        </p:nvPicPr>
        <p:blipFill>
          <a:blip r:embed="rId21"/>
          <a:stretch/>
        </p:blipFill>
        <p:spPr>
          <a:xfrm>
            <a:off x="5929200" y="5214960"/>
            <a:ext cx="704880" cy="884160"/>
          </a:xfrm>
          <a:prstGeom prst="rect">
            <a:avLst/>
          </a:prstGeom>
          <a:ln w="0">
            <a:noFill/>
          </a:ln>
        </p:spPr>
      </p:pic>
      <p:sp>
        <p:nvSpPr>
          <p:cNvPr id="549" name="文本框 14353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354"/>
          <p:cNvSpPr/>
          <p:nvPr/>
        </p:nvSpPr>
        <p:spPr>
          <a:xfrm>
            <a:off x="2153880" y="16286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生日快乐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21B8-186A-453F-916A-BD85FBBB50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8"/>
          <p:cNvSpPr/>
          <p:nvPr/>
        </p:nvSpPr>
        <p:spPr>
          <a:xfrm>
            <a:off x="0" y="0"/>
            <a:ext cx="3357720" cy="650088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17"/>
          <p:cNvSpPr/>
          <p:nvPr/>
        </p:nvSpPr>
        <p:spPr>
          <a:xfrm>
            <a:off x="214200" y="428760"/>
            <a:ext cx="314352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7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9"/>
          <p:cNvSpPr/>
          <p:nvPr/>
        </p:nvSpPr>
        <p:spPr>
          <a:xfrm>
            <a:off x="7572240" y="6072120"/>
            <a:ext cx="1571760" cy="42876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椭圆 12"/>
          <p:cNvSpPr/>
          <p:nvPr/>
        </p:nvSpPr>
        <p:spPr>
          <a:xfrm>
            <a:off x="8215200" y="142920"/>
            <a:ext cx="257400" cy="257040"/>
          </a:xfrm>
          <a:prstGeom prst="ellipse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椭圆 13"/>
          <p:cNvSpPr/>
          <p:nvPr/>
        </p:nvSpPr>
        <p:spPr>
          <a:xfrm>
            <a:off x="7858080" y="142920"/>
            <a:ext cx="257400" cy="257040"/>
          </a:xfrm>
          <a:prstGeom prst="ellipse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椭圆 14"/>
          <p:cNvSpPr/>
          <p:nvPr/>
        </p:nvSpPr>
        <p:spPr>
          <a:xfrm>
            <a:off x="8572680" y="142920"/>
            <a:ext cx="257040" cy="257040"/>
          </a:xfrm>
          <a:prstGeom prst="ellipse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图片 3" descr=""/>
          <p:cNvPicPr/>
          <p:nvPr/>
        </p:nvPicPr>
        <p:blipFill>
          <a:blip r:embed="rId1"/>
          <a:stretch/>
        </p:blipFill>
        <p:spPr>
          <a:xfrm>
            <a:off x="7000920" y="5214960"/>
            <a:ext cx="1076400" cy="135252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4" descr=""/>
          <p:cNvPicPr/>
          <p:nvPr/>
        </p:nvPicPr>
        <p:blipFill>
          <a:blip r:embed="rId2"/>
          <a:stretch/>
        </p:blipFill>
        <p:spPr>
          <a:xfrm>
            <a:off x="3571920" y="5857920"/>
            <a:ext cx="3435480" cy="74304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>
            <a:off x="285840" y="500040"/>
            <a:ext cx="85723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6396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矩形 19"/>
          <p:cNvSpPr/>
          <p:nvPr/>
        </p:nvSpPr>
        <p:spPr>
          <a:xfrm>
            <a:off x="142920" y="500040"/>
            <a:ext cx="5786280" cy="542916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椭圆 6"/>
          <p:cNvSpPr/>
          <p:nvPr/>
        </p:nvSpPr>
        <p:spPr>
          <a:xfrm>
            <a:off x="571680" y="142920"/>
            <a:ext cx="257040" cy="257040"/>
          </a:xfrm>
          <a:prstGeom prst="ellipse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椭圆 7"/>
          <p:cNvSpPr/>
          <p:nvPr/>
        </p:nvSpPr>
        <p:spPr>
          <a:xfrm>
            <a:off x="214200" y="142920"/>
            <a:ext cx="257400" cy="257040"/>
          </a:xfrm>
          <a:prstGeom prst="ellipse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椭圆 8"/>
          <p:cNvSpPr/>
          <p:nvPr/>
        </p:nvSpPr>
        <p:spPr>
          <a:xfrm>
            <a:off x="928800" y="142920"/>
            <a:ext cx="257040" cy="257040"/>
          </a:xfrm>
          <a:prstGeom prst="ellipse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9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10"/>
          <p:cNvSpPr/>
          <p:nvPr/>
        </p:nvSpPr>
        <p:spPr>
          <a:xfrm>
            <a:off x="0" y="6357960"/>
            <a:ext cx="3357720" cy="14292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11"/>
          <p:cNvSpPr/>
          <p:nvPr/>
        </p:nvSpPr>
        <p:spPr>
          <a:xfrm>
            <a:off x="7572240" y="500040"/>
            <a:ext cx="1571760" cy="600084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5929200" y="428400"/>
            <a:ext cx="15717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d249"/>
                </a:solidFill>
                <a:latin typeface="Arial"/>
              </a:rPr>
              <a:t>Happy birthday to Je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d249"/>
                </a:solidFill>
                <a:latin typeface="Arial"/>
              </a:rPr>
              <a:t>Best wishes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图片 5" descr=""/>
          <p:cNvPicPr/>
          <p:nvPr/>
        </p:nvPicPr>
        <p:blipFill>
          <a:blip r:embed="rId1"/>
          <a:stretch/>
        </p:blipFill>
        <p:spPr>
          <a:xfrm>
            <a:off x="3357720" y="5357880"/>
            <a:ext cx="1079280" cy="1357200"/>
          </a:xfrm>
          <a:prstGeom prst="rect">
            <a:avLst/>
          </a:prstGeom>
          <a:ln w="0">
            <a:noFill/>
          </a:ln>
        </p:spPr>
      </p:pic>
      <p:pic>
        <p:nvPicPr>
          <p:cNvPr id="572" name="图片 6" descr=""/>
          <p:cNvPicPr/>
          <p:nvPr/>
        </p:nvPicPr>
        <p:blipFill>
          <a:blip r:embed="rId2"/>
          <a:stretch/>
        </p:blipFill>
        <p:spPr>
          <a:xfrm>
            <a:off x="4500720" y="5929200"/>
            <a:ext cx="3357360" cy="727200"/>
          </a:xfrm>
          <a:prstGeom prst="rect">
            <a:avLst/>
          </a:prstGeom>
          <a:ln w="0">
            <a:noFill/>
          </a:ln>
        </p:spPr>
      </p:pic>
      <p:sp>
        <p:nvSpPr>
          <p:cNvPr id="573" name="矩形 8"/>
          <p:cNvSpPr/>
          <p:nvPr/>
        </p:nvSpPr>
        <p:spPr>
          <a:xfrm rot="5400000">
            <a:off x="5051880" y="2774160"/>
            <a:ext cx="550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PPY BIRTH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13840" y="571680"/>
            <a:ext cx="56437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9F19-3218-437E-91EE-B494689146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141120" y="-141120"/>
            <a:ext cx="7284960" cy="699912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69840" y="-141120"/>
            <a:ext cx="7356600" cy="699912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22"/>
          <p:cNvSpPr/>
          <p:nvPr/>
        </p:nvSpPr>
        <p:spPr>
          <a:xfrm>
            <a:off x="600120" y="500040"/>
            <a:ext cx="257040" cy="257040"/>
          </a:xfrm>
          <a:prstGeom prst="ellipse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23"/>
          <p:cNvSpPr/>
          <p:nvPr/>
        </p:nvSpPr>
        <p:spPr>
          <a:xfrm>
            <a:off x="171360" y="571680"/>
            <a:ext cx="257400" cy="257040"/>
          </a:xfrm>
          <a:prstGeom prst="ellipse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24"/>
          <p:cNvSpPr/>
          <p:nvPr/>
        </p:nvSpPr>
        <p:spPr>
          <a:xfrm>
            <a:off x="1028880" y="428760"/>
            <a:ext cx="257040" cy="257040"/>
          </a:xfrm>
          <a:prstGeom prst="ellipse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 rot="21399600">
            <a:off x="6921360" y="-147600"/>
            <a:ext cx="1860840" cy="663264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14"/>
          <p:cNvSpPr/>
          <p:nvPr/>
        </p:nvSpPr>
        <p:spPr>
          <a:xfrm rot="5166600">
            <a:off x="5442480" y="1452960"/>
            <a:ext cx="359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ppy birth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图片 15" descr=""/>
          <p:cNvPicPr/>
          <p:nvPr/>
        </p:nvPicPr>
        <p:blipFill>
          <a:blip r:embed="rId1"/>
          <a:stretch/>
        </p:blipFill>
        <p:spPr>
          <a:xfrm>
            <a:off x="7429680" y="2643120"/>
            <a:ext cx="1555560" cy="325440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16" descr=""/>
          <p:cNvPicPr/>
          <p:nvPr/>
        </p:nvPicPr>
        <p:blipFill>
          <a:blip r:embed="rId2"/>
          <a:stretch/>
        </p:blipFill>
        <p:spPr>
          <a:xfrm>
            <a:off x="6858000" y="5143680"/>
            <a:ext cx="1071720" cy="165096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 rot="20922000">
            <a:off x="394560" y="968040"/>
            <a:ext cx="3211560" cy="31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 rot="20922000">
            <a:off x="3590280" y="317520"/>
            <a:ext cx="3521160" cy="28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 rot="20922000">
            <a:off x="4187520" y="3286080"/>
            <a:ext cx="3043080" cy="27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 rot="20922000">
            <a:off x="982080" y="3935160"/>
            <a:ext cx="321444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3B63-10E1-4B76-BC86-3D1D589933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 rot="10800000">
            <a:off x="0" y="5657040"/>
            <a:ext cx="9144000" cy="205740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048200" y="1357200"/>
            <a:ext cx="3440160" cy="300060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647640" y="1547640"/>
            <a:ext cx="5435640" cy="488160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69840" y="0"/>
            <a:ext cx="9213840" cy="150984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0" y="-3240"/>
            <a:ext cx="9144000" cy="136044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 rot="839400">
            <a:off x="5781600" y="2768400"/>
            <a:ext cx="3400560" cy="306072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8"/>
          <p:cNvGrpSpPr/>
          <p:nvPr/>
        </p:nvGrpSpPr>
        <p:grpSpPr>
          <a:xfrm>
            <a:off x="456120" y="1114920"/>
            <a:ext cx="8418600" cy="5517360"/>
            <a:chOff x="456120" y="1114920"/>
            <a:chExt cx="8418600" cy="5517360"/>
          </a:xfrm>
        </p:grpSpPr>
        <p:grpSp>
          <p:nvGrpSpPr>
            <p:cNvPr id="597" name="Group 9"/>
            <p:cNvGrpSpPr/>
            <p:nvPr/>
          </p:nvGrpSpPr>
          <p:grpSpPr>
            <a:xfrm>
              <a:off x="456120" y="1114920"/>
              <a:ext cx="8418600" cy="5517360"/>
              <a:chOff x="456120" y="1114920"/>
              <a:chExt cx="8418600" cy="5517360"/>
            </a:xfrm>
          </p:grpSpPr>
          <p:grpSp>
            <p:nvGrpSpPr>
              <p:cNvPr id="598" name="Group 10"/>
              <p:cNvGrpSpPr/>
              <p:nvPr/>
            </p:nvGrpSpPr>
            <p:grpSpPr>
              <a:xfrm>
                <a:off x="3286800" y="1595520"/>
                <a:ext cx="880920" cy="618840"/>
                <a:chOff x="3286800" y="1595520"/>
                <a:chExt cx="880920" cy="618840"/>
              </a:xfrm>
            </p:grpSpPr>
            <p:sp>
              <p:nvSpPr>
                <p:cNvPr id="599" name="椭圆 22"/>
                <p:cNvSpPr/>
                <p:nvPr/>
              </p:nvSpPr>
              <p:spPr>
                <a:xfrm>
                  <a:off x="3786840" y="18334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椭圆 23"/>
                <p:cNvSpPr/>
                <p:nvPr/>
              </p:nvSpPr>
              <p:spPr>
                <a:xfrm>
                  <a:off x="4072680" y="21193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椭圆 24"/>
                <p:cNvSpPr/>
                <p:nvPr/>
              </p:nvSpPr>
              <p:spPr>
                <a:xfrm>
                  <a:off x="3929760" y="19764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椭圆 25"/>
                <p:cNvSpPr/>
                <p:nvPr/>
              </p:nvSpPr>
              <p:spPr>
                <a:xfrm>
                  <a:off x="3286800" y="15955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椭圆 26"/>
                <p:cNvSpPr/>
                <p:nvPr/>
              </p:nvSpPr>
              <p:spPr>
                <a:xfrm>
                  <a:off x="3620160" y="17380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椭圆 27"/>
                <p:cNvSpPr/>
                <p:nvPr/>
              </p:nvSpPr>
              <p:spPr>
                <a:xfrm>
                  <a:off x="3477240" y="16668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5" name="Group 17"/>
              <p:cNvGrpSpPr/>
              <p:nvPr/>
            </p:nvGrpSpPr>
            <p:grpSpPr>
              <a:xfrm>
                <a:off x="2147760" y="1377720"/>
                <a:ext cx="1069200" cy="250560"/>
                <a:chOff x="2147760" y="1377720"/>
                <a:chExt cx="1069200" cy="250560"/>
              </a:xfrm>
            </p:grpSpPr>
            <p:sp>
              <p:nvSpPr>
                <p:cNvPr id="606" name="椭圆 30"/>
                <p:cNvSpPr/>
                <p:nvPr/>
              </p:nvSpPr>
              <p:spPr>
                <a:xfrm rot="19905000">
                  <a:off x="2717640" y="13993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椭圆 31"/>
                <p:cNvSpPr/>
                <p:nvPr/>
              </p:nvSpPr>
              <p:spPr>
                <a:xfrm rot="19905000">
                  <a:off x="3104640" y="15159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椭圆 32"/>
                <p:cNvSpPr/>
                <p:nvPr/>
              </p:nvSpPr>
              <p:spPr>
                <a:xfrm rot="19905000">
                  <a:off x="2910960" y="14576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椭圆 33"/>
                <p:cNvSpPr/>
                <p:nvPr/>
              </p:nvSpPr>
              <p:spPr>
                <a:xfrm rot="19905000">
                  <a:off x="2164320" y="14263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椭圆 34"/>
                <p:cNvSpPr/>
                <p:nvPr/>
              </p:nvSpPr>
              <p:spPr>
                <a:xfrm rot="19905000">
                  <a:off x="2525400" y="13942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椭圆 35"/>
                <p:cNvSpPr/>
                <p:nvPr/>
              </p:nvSpPr>
              <p:spPr>
                <a:xfrm rot="19905000">
                  <a:off x="2365920" y="13989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" name="Group 24"/>
              <p:cNvGrpSpPr/>
              <p:nvPr/>
            </p:nvGrpSpPr>
            <p:grpSpPr>
              <a:xfrm>
                <a:off x="1001520" y="1441800"/>
                <a:ext cx="1060200" cy="319320"/>
                <a:chOff x="1001520" y="1441800"/>
                <a:chExt cx="1060200" cy="319320"/>
              </a:xfrm>
            </p:grpSpPr>
            <p:sp>
              <p:nvSpPr>
                <p:cNvPr id="613" name="椭圆 37"/>
                <p:cNvSpPr/>
                <p:nvPr/>
              </p:nvSpPr>
              <p:spPr>
                <a:xfrm rot="18903000">
                  <a:off x="1542960" y="14616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椭圆 38"/>
                <p:cNvSpPr/>
                <p:nvPr/>
              </p:nvSpPr>
              <p:spPr>
                <a:xfrm rot="18903000">
                  <a:off x="1946880" y="14619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椭圆 39"/>
                <p:cNvSpPr/>
                <p:nvPr/>
              </p:nvSpPr>
              <p:spPr>
                <a:xfrm rot="18903000">
                  <a:off x="1744920" y="1461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椭圆 40"/>
                <p:cNvSpPr/>
                <p:nvPr/>
              </p:nvSpPr>
              <p:spPr>
                <a:xfrm rot="18903000">
                  <a:off x="1020960" y="16462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椭圆 41"/>
                <p:cNvSpPr/>
                <p:nvPr/>
              </p:nvSpPr>
              <p:spPr>
                <a:xfrm rot="18903000">
                  <a:off x="1357560" y="15116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椭圆 42"/>
                <p:cNvSpPr/>
                <p:nvPr/>
              </p:nvSpPr>
              <p:spPr>
                <a:xfrm rot="18903000">
                  <a:off x="1206000" y="15620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9" name="Group 31"/>
              <p:cNvGrpSpPr/>
              <p:nvPr/>
            </p:nvGrpSpPr>
            <p:grpSpPr>
              <a:xfrm>
                <a:off x="4197960" y="1334520"/>
                <a:ext cx="803160" cy="759960"/>
                <a:chOff x="4197960" y="1334520"/>
                <a:chExt cx="803160" cy="759960"/>
              </a:xfrm>
            </p:grpSpPr>
            <p:sp>
              <p:nvSpPr>
                <p:cNvPr id="620" name="椭圆 44"/>
                <p:cNvSpPr/>
                <p:nvPr/>
              </p:nvSpPr>
              <p:spPr>
                <a:xfrm rot="16991400">
                  <a:off x="4552920" y="15570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椭圆 45"/>
                <p:cNvSpPr/>
                <p:nvPr/>
              </p:nvSpPr>
              <p:spPr>
                <a:xfrm rot="16991400">
                  <a:off x="4896360" y="13438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椭圆 46"/>
                <p:cNvSpPr/>
                <p:nvPr/>
              </p:nvSpPr>
              <p:spPr>
                <a:xfrm rot="16991400">
                  <a:off x="4724640" y="14504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椭圆 47"/>
                <p:cNvSpPr/>
                <p:nvPr/>
              </p:nvSpPr>
              <p:spPr>
                <a:xfrm rot="16991400">
                  <a:off x="4207320" y="19897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椭圆 48"/>
                <p:cNvSpPr/>
                <p:nvPr/>
              </p:nvSpPr>
              <p:spPr>
                <a:xfrm rot="16991400">
                  <a:off x="4421880" y="16977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椭圆 49"/>
                <p:cNvSpPr/>
                <p:nvPr/>
              </p:nvSpPr>
              <p:spPr>
                <a:xfrm rot="16991400">
                  <a:off x="4320000" y="18205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" name="Group 38"/>
              <p:cNvGrpSpPr/>
              <p:nvPr/>
            </p:nvGrpSpPr>
            <p:grpSpPr>
              <a:xfrm>
                <a:off x="5069160" y="1114920"/>
                <a:ext cx="1071720" cy="278640"/>
                <a:chOff x="5069160" y="1114920"/>
                <a:chExt cx="1071720" cy="278640"/>
              </a:xfrm>
            </p:grpSpPr>
            <p:sp>
              <p:nvSpPr>
                <p:cNvPr id="627" name="椭圆 51"/>
                <p:cNvSpPr/>
                <p:nvPr/>
              </p:nvSpPr>
              <p:spPr>
                <a:xfrm rot="19163400">
                  <a:off x="5623200" y="113436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椭圆 52"/>
                <p:cNvSpPr/>
                <p:nvPr/>
              </p:nvSpPr>
              <p:spPr>
                <a:xfrm rot="19163400">
                  <a:off x="6026400" y="11649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椭圆 53"/>
                <p:cNvSpPr/>
                <p:nvPr/>
              </p:nvSpPr>
              <p:spPr>
                <a:xfrm rot="19163400">
                  <a:off x="5824800" y="11498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椭圆 54"/>
                <p:cNvSpPr/>
                <p:nvPr/>
              </p:nvSpPr>
              <p:spPr>
                <a:xfrm rot="19163400">
                  <a:off x="5088600" y="12790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椭圆 55"/>
                <p:cNvSpPr/>
                <p:nvPr/>
              </p:nvSpPr>
              <p:spPr>
                <a:xfrm rot="19163400">
                  <a:off x="5434560" y="11703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椭圆 56"/>
                <p:cNvSpPr/>
                <p:nvPr/>
              </p:nvSpPr>
              <p:spPr>
                <a:xfrm rot="19163400">
                  <a:off x="5279760" y="12092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Group 45"/>
              <p:cNvGrpSpPr/>
              <p:nvPr/>
            </p:nvGrpSpPr>
            <p:grpSpPr>
              <a:xfrm>
                <a:off x="6197400" y="1202400"/>
                <a:ext cx="927720" cy="560880"/>
                <a:chOff x="6197400" y="1202400"/>
                <a:chExt cx="927720" cy="560880"/>
              </a:xfrm>
            </p:grpSpPr>
            <p:sp>
              <p:nvSpPr>
                <p:cNvPr id="634" name="椭圆 58"/>
                <p:cNvSpPr/>
                <p:nvPr/>
              </p:nvSpPr>
              <p:spPr>
                <a:xfrm rot="21322200">
                  <a:off x="6718320" y="14022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椭圆 59"/>
                <p:cNvSpPr/>
                <p:nvPr/>
              </p:nvSpPr>
              <p:spPr>
                <a:xfrm rot="21322200">
                  <a:off x="7026480" y="16642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椭圆 60"/>
                <p:cNvSpPr/>
                <p:nvPr/>
              </p:nvSpPr>
              <p:spPr>
                <a:xfrm rot="21322200">
                  <a:off x="6872400" y="15332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椭圆 61"/>
                <p:cNvSpPr/>
                <p:nvPr/>
              </p:nvSpPr>
              <p:spPr>
                <a:xfrm rot="21322200">
                  <a:off x="6201000" y="12056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椭圆 62"/>
                <p:cNvSpPr/>
                <p:nvPr/>
              </p:nvSpPr>
              <p:spPr>
                <a:xfrm rot="21322200">
                  <a:off x="6544800" y="1320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椭圆 63"/>
                <p:cNvSpPr/>
                <p:nvPr/>
              </p:nvSpPr>
              <p:spPr>
                <a:xfrm rot="21322200">
                  <a:off x="6396480" y="12610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0" name="Group 52"/>
              <p:cNvGrpSpPr/>
              <p:nvPr/>
            </p:nvGrpSpPr>
            <p:grpSpPr>
              <a:xfrm>
                <a:off x="7129440" y="1801080"/>
                <a:ext cx="533160" cy="984600"/>
                <a:chOff x="7129440" y="1801080"/>
                <a:chExt cx="533160" cy="984600"/>
              </a:xfrm>
            </p:grpSpPr>
            <p:sp>
              <p:nvSpPr>
                <p:cNvPr id="641" name="椭圆 65"/>
                <p:cNvSpPr/>
                <p:nvPr/>
              </p:nvSpPr>
              <p:spPr>
                <a:xfrm rot="1863600">
                  <a:off x="7452000" y="22806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椭圆 66"/>
                <p:cNvSpPr/>
                <p:nvPr/>
              </p:nvSpPr>
              <p:spPr>
                <a:xfrm rot="1863600">
                  <a:off x="7549560" y="26730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椭圆 67"/>
                <p:cNvSpPr/>
                <p:nvPr/>
              </p:nvSpPr>
              <p:spPr>
                <a:xfrm rot="1863600">
                  <a:off x="7500960" y="24768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椭圆 68"/>
                <p:cNvSpPr/>
                <p:nvPr/>
              </p:nvSpPr>
              <p:spPr>
                <a:xfrm rot="1863600">
                  <a:off x="7146720" y="18187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椭圆 69"/>
                <p:cNvSpPr/>
                <p:nvPr/>
              </p:nvSpPr>
              <p:spPr>
                <a:xfrm rot="1863600">
                  <a:off x="7358400" y="21128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椭圆 70"/>
                <p:cNvSpPr/>
                <p:nvPr/>
              </p:nvSpPr>
              <p:spPr>
                <a:xfrm rot="1863600">
                  <a:off x="7273080" y="19782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Group 59"/>
              <p:cNvGrpSpPr/>
              <p:nvPr/>
            </p:nvGrpSpPr>
            <p:grpSpPr>
              <a:xfrm>
                <a:off x="7759440" y="2660040"/>
                <a:ext cx="950760" cy="528840"/>
                <a:chOff x="7759440" y="2660040"/>
                <a:chExt cx="950760" cy="528840"/>
              </a:xfrm>
            </p:grpSpPr>
            <p:sp>
              <p:nvSpPr>
                <p:cNvPr id="648" name="椭圆 72"/>
                <p:cNvSpPr/>
                <p:nvPr/>
              </p:nvSpPr>
              <p:spPr>
                <a:xfrm rot="21173400">
                  <a:off x="8290440" y="28396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椭圆 73"/>
                <p:cNvSpPr/>
                <p:nvPr/>
              </p:nvSpPr>
              <p:spPr>
                <a:xfrm rot="21173400">
                  <a:off x="8609400" y="30880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椭圆 74"/>
                <p:cNvSpPr/>
                <p:nvPr/>
              </p:nvSpPr>
              <p:spPr>
                <a:xfrm rot="21173400">
                  <a:off x="8449920" y="29638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椭圆 75"/>
                <p:cNvSpPr/>
                <p:nvPr/>
              </p:nvSpPr>
              <p:spPr>
                <a:xfrm rot="21173400">
                  <a:off x="7764840" y="2665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椭圆 76"/>
                <p:cNvSpPr/>
                <p:nvPr/>
              </p:nvSpPr>
              <p:spPr>
                <a:xfrm rot="21173400">
                  <a:off x="8113320" y="27655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椭圆 77"/>
                <p:cNvSpPr/>
                <p:nvPr/>
              </p:nvSpPr>
              <p:spPr>
                <a:xfrm rot="21173400">
                  <a:off x="7962840" y="2712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" name="Group 66"/>
              <p:cNvGrpSpPr/>
              <p:nvPr/>
            </p:nvGrpSpPr>
            <p:grpSpPr>
              <a:xfrm>
                <a:off x="2766600" y="6074640"/>
                <a:ext cx="1001880" cy="498600"/>
                <a:chOff x="2766600" y="6074640"/>
                <a:chExt cx="1001880" cy="498600"/>
              </a:xfrm>
            </p:grpSpPr>
            <p:sp>
              <p:nvSpPr>
                <p:cNvPr id="655" name="椭圆 79"/>
                <p:cNvSpPr/>
                <p:nvPr/>
              </p:nvSpPr>
              <p:spPr>
                <a:xfrm rot="7405800">
                  <a:off x="3180960" y="63788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椭圆 80"/>
                <p:cNvSpPr/>
                <p:nvPr/>
              </p:nvSpPr>
              <p:spPr>
                <a:xfrm rot="7405800">
                  <a:off x="2784960" y="64598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椭圆 81"/>
                <p:cNvSpPr/>
                <p:nvPr/>
              </p:nvSpPr>
              <p:spPr>
                <a:xfrm rot="7405800">
                  <a:off x="2982960" y="6419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椭圆 82"/>
                <p:cNvSpPr/>
                <p:nvPr/>
              </p:nvSpPr>
              <p:spPr>
                <a:xfrm rot="7405800">
                  <a:off x="3655080" y="60926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椭圆 83"/>
                <p:cNvSpPr/>
                <p:nvPr/>
              </p:nvSpPr>
              <p:spPr>
                <a:xfrm rot="7405800">
                  <a:off x="3352320" y="62920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椭圆 84"/>
                <p:cNvSpPr/>
                <p:nvPr/>
              </p:nvSpPr>
              <p:spPr>
                <a:xfrm rot="7405800">
                  <a:off x="3490560" y="6212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Group 73"/>
              <p:cNvGrpSpPr/>
              <p:nvPr/>
            </p:nvGrpSpPr>
            <p:grpSpPr>
              <a:xfrm>
                <a:off x="3816360" y="5327640"/>
                <a:ext cx="755640" cy="798480"/>
                <a:chOff x="3816360" y="5327640"/>
                <a:chExt cx="755640" cy="798480"/>
              </a:xfrm>
            </p:grpSpPr>
            <p:sp>
              <p:nvSpPr>
                <p:cNvPr id="662" name="椭圆 86"/>
                <p:cNvSpPr/>
                <p:nvPr/>
              </p:nvSpPr>
              <p:spPr>
                <a:xfrm rot="5969400">
                  <a:off x="4152600" y="57888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87"/>
                <p:cNvSpPr/>
                <p:nvPr/>
              </p:nvSpPr>
              <p:spPr>
                <a:xfrm rot="5969400">
                  <a:off x="3823560" y="60238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椭圆 88"/>
                <p:cNvSpPr/>
                <p:nvPr/>
              </p:nvSpPr>
              <p:spPr>
                <a:xfrm rot="5969400">
                  <a:off x="3988080" y="5906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椭圆 89"/>
                <p:cNvSpPr/>
                <p:nvPr/>
              </p:nvSpPr>
              <p:spPr>
                <a:xfrm rot="5969400">
                  <a:off x="4469760" y="53348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椭圆 90"/>
                <p:cNvSpPr/>
                <p:nvPr/>
              </p:nvSpPr>
              <p:spPr>
                <a:xfrm rot="5969400">
                  <a:off x="4274280" y="56401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椭圆 91"/>
                <p:cNvSpPr/>
                <p:nvPr/>
              </p:nvSpPr>
              <p:spPr>
                <a:xfrm rot="5969400">
                  <a:off x="4367880" y="55108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Group 80"/>
              <p:cNvGrpSpPr/>
              <p:nvPr/>
            </p:nvGrpSpPr>
            <p:grpSpPr>
              <a:xfrm>
                <a:off x="4563360" y="4190760"/>
                <a:ext cx="367200" cy="1032120"/>
                <a:chOff x="4563360" y="4190760"/>
                <a:chExt cx="367200" cy="1032120"/>
              </a:xfrm>
            </p:grpSpPr>
            <p:sp>
              <p:nvSpPr>
                <p:cNvPr id="669" name="椭圆 93"/>
                <p:cNvSpPr/>
                <p:nvPr/>
              </p:nvSpPr>
              <p:spPr>
                <a:xfrm rot="4288800">
                  <a:off x="4755600" y="4753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椭圆 94"/>
                <p:cNvSpPr/>
                <p:nvPr/>
              </p:nvSpPr>
              <p:spPr>
                <a:xfrm rot="4288800">
                  <a:off x="4575600" y="51152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椭圆 95"/>
                <p:cNvSpPr/>
                <p:nvPr/>
              </p:nvSpPr>
              <p:spPr>
                <a:xfrm rot="4288800">
                  <a:off x="4665600" y="4934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椭圆 96"/>
                <p:cNvSpPr/>
                <p:nvPr/>
              </p:nvSpPr>
              <p:spPr>
                <a:xfrm rot="4288800">
                  <a:off x="4822560" y="420336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椭圆 97"/>
                <p:cNvSpPr/>
                <p:nvPr/>
              </p:nvSpPr>
              <p:spPr>
                <a:xfrm rot="4288800">
                  <a:off x="4793400" y="45648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椭圆 98"/>
                <p:cNvSpPr/>
                <p:nvPr/>
              </p:nvSpPr>
              <p:spPr>
                <a:xfrm rot="4288800">
                  <a:off x="4815360" y="44067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Group 87"/>
              <p:cNvGrpSpPr/>
              <p:nvPr/>
            </p:nvGrpSpPr>
            <p:grpSpPr>
              <a:xfrm>
                <a:off x="1606320" y="6418080"/>
                <a:ext cx="1076040" cy="214200"/>
                <a:chOff x="1606320" y="6418080"/>
                <a:chExt cx="1076040" cy="214200"/>
              </a:xfrm>
            </p:grpSpPr>
            <p:sp>
              <p:nvSpPr>
                <p:cNvPr id="676" name="椭圆 100"/>
                <p:cNvSpPr/>
                <p:nvPr/>
              </p:nvSpPr>
              <p:spPr>
                <a:xfrm rot="8760600">
                  <a:off x="2021040" y="65185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椭圆 101"/>
                <p:cNvSpPr/>
                <p:nvPr/>
              </p:nvSpPr>
              <p:spPr>
                <a:xfrm rot="8760600">
                  <a:off x="1624320" y="6441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椭圆 102"/>
                <p:cNvSpPr/>
                <p:nvPr/>
              </p:nvSpPr>
              <p:spPr>
                <a:xfrm rot="8760600">
                  <a:off x="1822680" y="64800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椭圆 103"/>
                <p:cNvSpPr/>
                <p:nvPr/>
              </p:nvSpPr>
              <p:spPr>
                <a:xfrm rot="8760600">
                  <a:off x="2568600" y="6436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椭圆 104"/>
                <p:cNvSpPr/>
                <p:nvPr/>
              </p:nvSpPr>
              <p:spPr>
                <a:xfrm rot="8760600">
                  <a:off x="2212560" y="6504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椭圆 105"/>
                <p:cNvSpPr/>
                <p:nvPr/>
              </p:nvSpPr>
              <p:spPr>
                <a:xfrm rot="8760600">
                  <a:off x="2370960" y="6483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Group 94"/>
              <p:cNvGrpSpPr/>
              <p:nvPr/>
            </p:nvGrpSpPr>
            <p:grpSpPr>
              <a:xfrm>
                <a:off x="456120" y="6085080"/>
                <a:ext cx="1022040" cy="392760"/>
                <a:chOff x="456120" y="6085080"/>
                <a:chExt cx="1022040" cy="392760"/>
              </a:xfrm>
            </p:grpSpPr>
            <p:sp>
              <p:nvSpPr>
                <p:cNvPr id="683" name="椭圆 107"/>
                <p:cNvSpPr/>
                <p:nvPr/>
              </p:nvSpPr>
              <p:spPr>
                <a:xfrm rot="9792000">
                  <a:off x="823680" y="628776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椭圆 108"/>
                <p:cNvSpPr/>
                <p:nvPr/>
              </p:nvSpPr>
              <p:spPr>
                <a:xfrm rot="9792000">
                  <a:off x="467640" y="60966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椭圆 109"/>
                <p:cNvSpPr/>
                <p:nvPr/>
              </p:nvSpPr>
              <p:spPr>
                <a:xfrm rot="9792000">
                  <a:off x="645840" y="61920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椭圆 110"/>
                <p:cNvSpPr/>
                <p:nvPr/>
              </p:nvSpPr>
              <p:spPr>
                <a:xfrm rot="9792000">
                  <a:off x="1371240" y="63709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椭圆 111"/>
                <p:cNvSpPr/>
                <p:nvPr/>
              </p:nvSpPr>
              <p:spPr>
                <a:xfrm rot="9792000">
                  <a:off x="1010880" y="63306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椭圆 112"/>
                <p:cNvSpPr/>
                <p:nvPr/>
              </p:nvSpPr>
              <p:spPr>
                <a:xfrm rot="9792000">
                  <a:off x="1168200" y="6357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Group 101"/>
              <p:cNvGrpSpPr/>
              <p:nvPr/>
            </p:nvGrpSpPr>
            <p:grpSpPr>
              <a:xfrm>
                <a:off x="4941000" y="4261320"/>
                <a:ext cx="1060200" cy="284400"/>
                <a:chOff x="4941000" y="4261320"/>
                <a:chExt cx="1060200" cy="284400"/>
              </a:xfrm>
            </p:grpSpPr>
            <p:sp>
              <p:nvSpPr>
                <p:cNvPr id="690" name="椭圆 114"/>
                <p:cNvSpPr/>
                <p:nvPr/>
              </p:nvSpPr>
              <p:spPr>
                <a:xfrm rot="9298800">
                  <a:off x="5336280" y="44150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椭圆 115"/>
                <p:cNvSpPr/>
                <p:nvPr/>
              </p:nvSpPr>
              <p:spPr>
                <a:xfrm rot="9298800">
                  <a:off x="4956480" y="42768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椭圆 116"/>
                <p:cNvSpPr/>
                <p:nvPr/>
              </p:nvSpPr>
              <p:spPr>
                <a:xfrm rot="9298800">
                  <a:off x="5146560" y="43459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椭圆 117"/>
                <p:cNvSpPr/>
                <p:nvPr/>
              </p:nvSpPr>
              <p:spPr>
                <a:xfrm rot="9298800">
                  <a:off x="5890320" y="44190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椭圆 118"/>
                <p:cNvSpPr/>
                <p:nvPr/>
              </p:nvSpPr>
              <p:spPr>
                <a:xfrm rot="9298800">
                  <a:off x="5527800" y="44308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椭圆 119"/>
                <p:cNvSpPr/>
                <p:nvPr/>
              </p:nvSpPr>
              <p:spPr>
                <a:xfrm rot="9298800">
                  <a:off x="5687280" y="44348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6" name="Group 108"/>
              <p:cNvGrpSpPr/>
              <p:nvPr/>
            </p:nvGrpSpPr>
            <p:grpSpPr>
              <a:xfrm>
                <a:off x="5889960" y="5058720"/>
                <a:ext cx="818280" cy="727200"/>
                <a:chOff x="5889960" y="5058720"/>
                <a:chExt cx="818280" cy="727200"/>
              </a:xfrm>
            </p:grpSpPr>
            <p:sp>
              <p:nvSpPr>
                <p:cNvPr id="697" name="椭圆 121"/>
                <p:cNvSpPr/>
                <p:nvPr/>
              </p:nvSpPr>
              <p:spPr>
                <a:xfrm rot="11243400">
                  <a:off x="6142320" y="53848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椭圆 122"/>
                <p:cNvSpPr/>
                <p:nvPr/>
              </p:nvSpPr>
              <p:spPr>
                <a:xfrm rot="11243400">
                  <a:off x="5895720" y="5064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椭圆 123"/>
                <p:cNvSpPr/>
                <p:nvPr/>
              </p:nvSpPr>
              <p:spPr>
                <a:xfrm rot="11243400">
                  <a:off x="6018840" y="52246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椭圆 124"/>
                <p:cNvSpPr/>
                <p:nvPr/>
              </p:nvSpPr>
              <p:spPr>
                <a:xfrm rot="11243400">
                  <a:off x="6607440" y="56851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椭圆 125"/>
                <p:cNvSpPr/>
                <p:nvPr/>
              </p:nvSpPr>
              <p:spPr>
                <a:xfrm rot="11243400">
                  <a:off x="6295320" y="55008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椭圆 126"/>
                <p:cNvSpPr/>
                <p:nvPr/>
              </p:nvSpPr>
              <p:spPr>
                <a:xfrm rot="11243400">
                  <a:off x="6427800" y="55900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" name="Group 115"/>
              <p:cNvGrpSpPr/>
              <p:nvPr/>
            </p:nvGrpSpPr>
            <p:grpSpPr>
              <a:xfrm>
                <a:off x="6799320" y="5740560"/>
                <a:ext cx="1055160" cy="301680"/>
                <a:chOff x="6799320" y="5740560"/>
                <a:chExt cx="1055160" cy="301680"/>
              </a:xfrm>
            </p:grpSpPr>
            <p:sp>
              <p:nvSpPr>
                <p:cNvPr id="704" name="椭圆 128"/>
                <p:cNvSpPr/>
                <p:nvPr/>
              </p:nvSpPr>
              <p:spPr>
                <a:xfrm rot="9384600">
                  <a:off x="7190640" y="59029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椭圆 129"/>
                <p:cNvSpPr/>
                <p:nvPr/>
              </p:nvSpPr>
              <p:spPr>
                <a:xfrm rot="9384600">
                  <a:off x="6814440" y="57553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椭圆 130"/>
                <p:cNvSpPr/>
                <p:nvPr/>
              </p:nvSpPr>
              <p:spPr>
                <a:xfrm rot="9384600">
                  <a:off x="7002360" y="58291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椭圆 131"/>
                <p:cNvSpPr/>
                <p:nvPr/>
              </p:nvSpPr>
              <p:spPr>
                <a:xfrm rot="9384600">
                  <a:off x="7744320" y="59209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椭圆 132"/>
                <p:cNvSpPr/>
                <p:nvPr/>
              </p:nvSpPr>
              <p:spPr>
                <a:xfrm rot="9384600">
                  <a:off x="7381440" y="59234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椭圆 133"/>
                <p:cNvSpPr/>
                <p:nvPr/>
              </p:nvSpPr>
              <p:spPr>
                <a:xfrm rot="9384600">
                  <a:off x="7541280" y="59317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Group 122"/>
              <p:cNvGrpSpPr/>
              <p:nvPr/>
            </p:nvGrpSpPr>
            <p:grpSpPr>
              <a:xfrm>
                <a:off x="7930440" y="5374800"/>
                <a:ext cx="944280" cy="601200"/>
                <a:chOff x="7930440" y="5374800"/>
                <a:chExt cx="944280" cy="601200"/>
              </a:xfrm>
            </p:grpSpPr>
            <p:sp>
              <p:nvSpPr>
                <p:cNvPr id="711" name="椭圆 135"/>
                <p:cNvSpPr/>
                <p:nvPr/>
              </p:nvSpPr>
              <p:spPr>
                <a:xfrm rot="6972000">
                  <a:off x="8328960" y="5734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椭圆 136"/>
                <p:cNvSpPr/>
                <p:nvPr/>
              </p:nvSpPr>
              <p:spPr>
                <a:xfrm rot="6972000">
                  <a:off x="7946280" y="58647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椭圆 137"/>
                <p:cNvSpPr/>
                <p:nvPr/>
              </p:nvSpPr>
              <p:spPr>
                <a:xfrm rot="6972000">
                  <a:off x="8137800" y="5799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椭圆 138"/>
                <p:cNvSpPr/>
                <p:nvPr/>
              </p:nvSpPr>
              <p:spPr>
                <a:xfrm rot="6972000">
                  <a:off x="8763480" y="53910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椭圆 139"/>
                <p:cNvSpPr/>
                <p:nvPr/>
              </p:nvSpPr>
              <p:spPr>
                <a:xfrm rot="6972000">
                  <a:off x="8488440" y="56271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椭圆 140"/>
                <p:cNvSpPr/>
                <p:nvPr/>
              </p:nvSpPr>
              <p:spPr>
                <a:xfrm rot="6972000">
                  <a:off x="8615160" y="55303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7" name="椭圆 142"/>
            <p:cNvSpPr/>
            <p:nvPr/>
          </p:nvSpPr>
          <p:spPr>
            <a:xfrm rot="11243400">
              <a:off x="5793120" y="4935240"/>
              <a:ext cx="95040" cy="95040"/>
            </a:xfrm>
            <a:prstGeom prst="ellipse">
              <a:avLst/>
            </a:prstGeom>
            <a:solidFill>
              <a:srgbClr val="a6d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43"/>
            <p:cNvSpPr/>
            <p:nvPr/>
          </p:nvSpPr>
          <p:spPr>
            <a:xfrm rot="11243400">
              <a:off x="5829480" y="4578120"/>
              <a:ext cx="95040" cy="95040"/>
            </a:xfrm>
            <a:prstGeom prst="ellipse">
              <a:avLst/>
            </a:prstGeom>
            <a:solidFill>
              <a:srgbClr val="ff8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144"/>
            <p:cNvSpPr/>
            <p:nvPr/>
          </p:nvSpPr>
          <p:spPr>
            <a:xfrm rot="11243400">
              <a:off x="5829480" y="4757040"/>
              <a:ext cx="95040" cy="95040"/>
            </a:xfrm>
            <a:prstGeom prst="ellipse">
              <a:avLst/>
            </a:prstGeom>
            <a:solidFill>
              <a:srgbClr val="18c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5" descr=""/>
          <p:cNvPicPr/>
          <p:nvPr/>
        </p:nvPicPr>
        <p:blipFill>
          <a:blip r:embed="rId1"/>
          <a:stretch/>
        </p:blipFill>
        <p:spPr>
          <a:xfrm rot="21424200">
            <a:off x="3595680" y="294840"/>
            <a:ext cx="3616200" cy="78444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133"/>
          <p:cNvGrpSpPr/>
          <p:nvPr/>
        </p:nvGrpSpPr>
        <p:grpSpPr>
          <a:xfrm>
            <a:off x="7121520" y="142920"/>
            <a:ext cx="1951200" cy="1917720"/>
            <a:chOff x="7121520" y="142920"/>
            <a:chExt cx="1951200" cy="1917720"/>
          </a:xfrm>
        </p:grpSpPr>
        <p:pic>
          <p:nvPicPr>
            <p:cNvPr id="722" name="图片 11" descr=""/>
            <p:cNvPicPr/>
            <p:nvPr/>
          </p:nvPicPr>
          <p:blipFill>
            <a:blip r:embed="rId2"/>
            <a:stretch/>
          </p:blipFill>
          <p:spPr>
            <a:xfrm>
              <a:off x="7121520" y="156960"/>
              <a:ext cx="1951200" cy="190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图片 7" descr=""/>
            <p:cNvPicPr/>
            <p:nvPr/>
          </p:nvPicPr>
          <p:blipFill>
            <a:blip r:embed="rId3"/>
            <a:stretch/>
          </p:blipFill>
          <p:spPr>
            <a:xfrm flipH="1">
              <a:off x="8332560" y="156960"/>
              <a:ext cx="120960" cy="75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图片 8" descr=""/>
            <p:cNvPicPr/>
            <p:nvPr/>
          </p:nvPicPr>
          <p:blipFill>
            <a:blip r:embed="rId4"/>
            <a:stretch/>
          </p:blipFill>
          <p:spPr>
            <a:xfrm flipH="1">
              <a:off x="7794360" y="142920"/>
              <a:ext cx="123120" cy="77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5" name=""/>
          <p:cNvSpPr txBox="1"/>
          <p:nvPr/>
        </p:nvSpPr>
        <p:spPr>
          <a:xfrm>
            <a:off x="-355680" y="1642680"/>
            <a:ext cx="51292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274640" y="1428480"/>
            <a:ext cx="3141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 rot="402000">
            <a:off x="5989320" y="2844360"/>
            <a:ext cx="314172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21644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矩形 19"/>
          <p:cNvSpPr/>
          <p:nvPr/>
        </p:nvSpPr>
        <p:spPr>
          <a:xfrm>
            <a:off x="5929200" y="500040"/>
            <a:ext cx="3071880" cy="2928960"/>
          </a:xfrm>
          <a:prstGeom prst="rect">
            <a:avLst/>
          </a:prstGeom>
          <a:solidFill>
            <a:srgbClr val="a6d249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20"/>
          <p:cNvSpPr/>
          <p:nvPr/>
        </p:nvSpPr>
        <p:spPr>
          <a:xfrm>
            <a:off x="142920" y="5715000"/>
            <a:ext cx="5786280" cy="642960"/>
          </a:xfrm>
          <a:prstGeom prst="rect">
            <a:avLst/>
          </a:prstGeom>
          <a:solidFill>
            <a:srgbClr val="18c2c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5"/>
          <p:cNvSpPr/>
          <p:nvPr/>
        </p:nvSpPr>
        <p:spPr>
          <a:xfrm>
            <a:off x="142920" y="500040"/>
            <a:ext cx="5786280" cy="521496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9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14"/>
          <p:cNvSpPr/>
          <p:nvPr/>
        </p:nvSpPr>
        <p:spPr>
          <a:xfrm>
            <a:off x="5929200" y="3429000"/>
            <a:ext cx="3071880" cy="292896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图片 24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146160"/>
          </a:xfrm>
          <a:prstGeom prst="rect">
            <a:avLst/>
          </a:prstGeom>
          <a:ln w="0">
            <a:noFill/>
          </a:ln>
        </p:spPr>
      </p:pic>
      <p:sp>
        <p:nvSpPr>
          <p:cNvPr id="735" name="矩形 22"/>
          <p:cNvSpPr/>
          <p:nvPr/>
        </p:nvSpPr>
        <p:spPr>
          <a:xfrm>
            <a:off x="310320" y="5643720"/>
            <a:ext cx="549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c2cf"/>
                </a:solidFill>
                <a:latin typeface="Arial"/>
              </a:rPr>
              <a:t>H</a:t>
            </a:r>
            <a:r>
              <a:rPr b="0" lang="en-US" sz="4800" spc="-1" strike="noStrike">
                <a:solidFill>
                  <a:srgbClr val="ff8aac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a6d249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dd740b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ee9af0"/>
                </a:solidFill>
                <a:latin typeface="Arial"/>
              </a:rPr>
              <a:t>Y</a:t>
            </a:r>
            <a:r>
              <a:rPr b="0" lang="en-US" sz="4800" spc="-1" strike="noStrike">
                <a:solidFill>
                  <a:srgbClr val="18c2c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7030a0"/>
                </a:solidFill>
                <a:latin typeface="Arial"/>
              </a:rPr>
              <a:t>B</a:t>
            </a:r>
            <a:r>
              <a:rPr b="0" lang="en-US" sz="4800" spc="-1" strike="noStrike">
                <a:solidFill>
                  <a:srgbClr val="18c2cf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efc515"/>
                </a:solidFill>
                <a:latin typeface="Arial"/>
              </a:rPr>
              <a:t>R</a:t>
            </a:r>
            <a:r>
              <a:rPr b="0" lang="en-US" sz="4800" spc="-1" strike="noStrike">
                <a:solidFill>
                  <a:srgbClr val="92d050"/>
                </a:solidFill>
                <a:latin typeface="Arial"/>
              </a:rPr>
              <a:t>T</a:t>
            </a:r>
            <a:r>
              <a:rPr b="0" lang="en-US" sz="4800" spc="-1" strike="noStrike">
                <a:solidFill>
                  <a:srgbClr val="e36c09"/>
                </a:solidFill>
                <a:latin typeface="Arial"/>
              </a:rPr>
              <a:t>H</a:t>
            </a:r>
            <a:r>
              <a:rPr b="0" lang="en-US" sz="4800" spc="-1" strike="noStrike">
                <a:solidFill>
                  <a:srgbClr val="538cd5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4bacc6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c0504d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图片 23" descr=""/>
          <p:cNvPicPr/>
          <p:nvPr/>
        </p:nvPicPr>
        <p:blipFill>
          <a:blip r:embed="rId2"/>
          <a:stretch/>
        </p:blipFill>
        <p:spPr>
          <a:xfrm>
            <a:off x="5159520" y="2643120"/>
            <a:ext cx="1555560" cy="325440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 txBox="1"/>
          <p:nvPr/>
        </p:nvSpPr>
        <p:spPr>
          <a:xfrm>
            <a:off x="213840" y="571320"/>
            <a:ext cx="56437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6000840" y="571320"/>
            <a:ext cx="29289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6000840" y="3500280"/>
            <a:ext cx="29289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1105-ED53-43E8-96C1-DAEAD2ACB1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图片 9" descr=""/>
          <p:cNvPicPr/>
          <p:nvPr/>
        </p:nvPicPr>
        <p:blipFill>
          <a:blip r:embed="rId1"/>
          <a:stretch/>
        </p:blipFill>
        <p:spPr>
          <a:xfrm>
            <a:off x="0" y="6357960"/>
            <a:ext cx="9144000" cy="146160"/>
          </a:xfrm>
          <a:prstGeom prst="rect">
            <a:avLst/>
          </a:prstGeom>
          <a:ln w="0">
            <a:noFill/>
          </a:ln>
        </p:spPr>
      </p:pic>
      <p:sp>
        <p:nvSpPr>
          <p:cNvPr id="745" name="矩形 6"/>
          <p:cNvSpPr/>
          <p:nvPr/>
        </p:nvSpPr>
        <p:spPr>
          <a:xfrm>
            <a:off x="3357720" y="714240"/>
            <a:ext cx="5786280" cy="557244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4"/>
          <p:cNvGrpSpPr/>
          <p:nvPr/>
        </p:nvGrpSpPr>
        <p:grpSpPr>
          <a:xfrm>
            <a:off x="-11160" y="3997440"/>
            <a:ext cx="9155160" cy="2789280"/>
            <a:chOff x="-11160" y="3997440"/>
            <a:chExt cx="9155160" cy="2789280"/>
          </a:xfrm>
        </p:grpSpPr>
        <p:pic>
          <p:nvPicPr>
            <p:cNvPr id="747" name="图片 11" descr=""/>
            <p:cNvPicPr/>
            <p:nvPr/>
          </p:nvPicPr>
          <p:blipFill>
            <a:blip r:embed="rId2"/>
            <a:stretch/>
          </p:blipFill>
          <p:spPr>
            <a:xfrm>
              <a:off x="-11160" y="4926240"/>
              <a:ext cx="5012640" cy="3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图片 12" descr=""/>
            <p:cNvPicPr/>
            <p:nvPr/>
          </p:nvPicPr>
          <p:blipFill>
            <a:blip r:embed="rId3"/>
            <a:stretch/>
          </p:blipFill>
          <p:spPr>
            <a:xfrm>
              <a:off x="4131360" y="4926240"/>
              <a:ext cx="5012640" cy="3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图片 13" descr=""/>
            <p:cNvPicPr/>
            <p:nvPr/>
          </p:nvPicPr>
          <p:blipFill>
            <a:blip r:embed="rId4"/>
            <a:stretch/>
          </p:blipFill>
          <p:spPr>
            <a:xfrm>
              <a:off x="4059720" y="3997440"/>
              <a:ext cx="2780640" cy="278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0" name="矩形 7"/>
          <p:cNvSpPr/>
          <p:nvPr/>
        </p:nvSpPr>
        <p:spPr>
          <a:xfrm>
            <a:off x="0" y="714240"/>
            <a:ext cx="3357720" cy="557244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图片 49" descr=""/>
          <p:cNvPicPr/>
          <p:nvPr/>
        </p:nvPicPr>
        <p:blipFill>
          <a:blip r:embed="rId5"/>
          <a:stretch/>
        </p:blipFill>
        <p:spPr>
          <a:xfrm>
            <a:off x="0" y="214200"/>
            <a:ext cx="9144000" cy="276480"/>
          </a:xfrm>
          <a:prstGeom prst="rect">
            <a:avLst/>
          </a:prstGeom>
          <a:ln w="0">
            <a:noFill/>
          </a:ln>
        </p:spPr>
      </p:pic>
      <p:sp>
        <p:nvSpPr>
          <p:cNvPr id="752" name="矩形 5"/>
          <p:cNvSpPr/>
          <p:nvPr/>
        </p:nvSpPr>
        <p:spPr>
          <a:xfrm>
            <a:off x="3632760" y="1573200"/>
            <a:ext cx="512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图片占位符 8" descr=""/>
          <p:cNvPicPr/>
          <p:nvPr/>
        </p:nvPicPr>
        <p:blipFill>
          <a:blip r:embed="rId6"/>
          <a:srcRect l="20945" t="0" r="20945" b="0"/>
          <a:stretch/>
        </p:blipFill>
        <p:spPr>
          <a:xfrm>
            <a:off x="142920" y="857160"/>
            <a:ext cx="30718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6:4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58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