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8E8D-3D72-4F28-A5C5-B56008FF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5F5-209C-4AC4-8CA0-8140D15B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9A5-B901-43B8-821A-715F8EEB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F2B-16E5-4A6C-BC03-4835F4A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A7B0-0107-4790-B8E6-6F0C6843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1C4F-EDC5-4D7B-B4C8-601C78F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F2DE-0B75-435A-B26B-7AC4FFA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0AC-A421-430D-986A-26CCD9AB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15E0-CCBA-494A-8842-BA6242E9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6DED-40B0-45CB-A0C4-58D22C4E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3A5C-C0F4-4183-8610-6972C8C9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CD2-C7F2-4FD2-945F-C98F35CC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5A58-921A-490C-BC7E-BF55422F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C5F-3DF9-4C99-AAB0-1F9C7E60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0020-3606-4AEF-9965-FB226805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2484-DE5F-4A17-8D4F-F74B2D0F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F02F-C8CA-457E-9E4A-EB6FDC00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38BC-EE5D-4E81-8D47-9BCC8F38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013-A09A-489B-9BB9-B4CF112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CC7-CE56-4F13-8E87-B4F8DC48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B7D-438C-4B41-87A7-077200C1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B5F-D1F7-4CF8-B957-AC28D327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426-18B8-43D4-BA75-E64776F2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C30-9B11-4541-9F56-E7720962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25F4-06C6-48CE-B13F-732ED80DD13E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22E-CF86-4706-B16F-BC5101AAEDD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3A03-D38C-4314-89F0-2248327323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68D3-982A-4089-B9E1-03C6FC7BC3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  <p:pic>
        <p:nvPicPr>
          <p:cNvPr id="89" name="图片 3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10282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307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3078"/>
          <p:cNvSpPr/>
          <p:nvPr/>
        </p:nvSpPr>
        <p:spPr>
          <a:xfrm>
            <a:off x="3314160" y="260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生日蜡烛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7T10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01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