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92007-6A5D-414B-BC99-6DC57236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350B5-6380-4DDE-BBBF-D7DF05BA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1703C-A0AB-45C8-98ED-3BB5F8CA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9F006-D3E4-45BC-A289-1645805A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D129F-A7DB-4783-867D-8FFB149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48E86-12E1-4B14-832F-321BC9C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3A007-A8C9-4F6B-9C36-543A7957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9756-A2C1-4B27-904E-6E062129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BFCC-21EE-4B91-8258-9371EB63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3C59C-D93E-45CE-836C-3AD3237D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55EA6-8421-4639-BA55-8D33B455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BC393-0D2A-4163-BEB6-05946C4A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AA2E-24A4-462A-B724-EB96DC3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1F874-6FB0-42EC-A2A0-B85DD6C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322C-9C9F-4CBB-98A7-79EA15CC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EAAE4-3EEA-4E5B-B6B1-825EC0B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1E35F-66F6-43DF-B180-990D6E34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DF6A5-0DB8-4432-A8E6-528DDEB8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5AD12-CC83-4154-B562-D6A0F2C0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7F9F8-2D86-4C86-86F7-4BEB42DA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77FE-B50B-4502-B0B8-C36BBA8E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4804A-FF93-4799-A613-4D6D1AE2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ED333-6681-496A-A732-29198AB9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3F96B-0150-414B-924F-D0735CDE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37C9D-22A2-4E50-BFE2-85899321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1857B-0EC2-4EBD-91E4-702EC2E1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2EE75-FEFC-4A62-AC3B-90B56D40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EDCE3-C222-46B5-BF6B-444CAB3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2FE87-CBE0-4E45-966E-1596D128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B4A8D-AD77-43AC-9099-6058E8C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510-658D-405A-973A-CF6ED512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E8B64-252B-4DC5-A0DC-9F95D344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7729B-708F-4D24-B8EC-5DD3B88F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D065E-E4A1-42EB-8C09-03E777C7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76801-BFBD-4E83-A984-AF72BEA5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FBAA4-4BB3-4EBD-AD86-FDD0BA47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F8D31-9F87-49C5-98B4-42A17B38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27A5F-D149-4D38-97BE-CE224EC5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6FBEC-3F98-4005-B3ED-8DE7DDE4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04BEC-3C51-4DAD-BAF3-E8A63767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BCB78-6BF3-4E34-A21A-F6398D3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205-C93F-44A0-AD78-BEB002F9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3C0CD-7134-497E-8780-BF2958D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F5A00-37EA-44F9-840F-2450DA4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02B1D-0B2C-4C37-9637-FEC602E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2F57E-E2AE-448E-B9A0-870B50DD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2580B-201C-49B0-9AD2-2122D148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C6076-6958-43BE-BB09-EBE797BB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BF426-3A27-47EB-99E7-FD3073C1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E6BC5-226C-4CAD-955F-FED108CE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DB9D-E9E9-4648-8F0B-14E72804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4D370-1927-45D6-B200-493E4BA7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F44-40DC-4ACC-BF9F-8A5871F1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58FB-8AB3-49C7-A998-E2BF3A56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010F9-AC53-4B43-88C0-4C3107E5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79F2E-E02B-4E59-A3EB-FD979B1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4A36F-87BA-407B-ACBB-2E69C06E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6F9E5-7895-4983-A773-91A39AAB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24E68-1109-4801-AF2F-44326A63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C86F8-8F7A-47D4-9C48-1780487D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70905-237B-4A25-BC22-F899512B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1270C-5BD5-4789-8D91-3D4B2A38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F4DE9-87B1-4EEC-A1F4-D0D5EA16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000-2C42-4DAC-9F04-F9577E17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8D812-50E0-4BC8-828C-C0B865B8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1738B-5893-4819-A96A-AD927E25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ACB37-50EA-4662-8F7E-D98429A1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9D3A6-6670-4D84-9753-FF3D6E2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197AB-D734-4A17-961E-CAE742E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4C76E-9BAC-4B59-AA5F-992C0623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0E8C2-1641-48C6-A207-59AAA22E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1DDC8-5EAB-4235-9B49-5CC219D3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C89C6-33D3-46DA-A308-54138003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591-A076-4C65-8802-FA2E2EB9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2DA-AC4F-42A5-A35F-DBFEEEDC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F70-7E17-456A-BE08-48264EF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F8F-11C9-4B04-90F0-59D38342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EB1-BB39-4128-B00E-A4975F95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58C-5B9A-4511-AA64-0FF4AED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758-CD02-41E6-ACCC-22EEA446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AAD-2517-4E8C-BACA-DD5524CF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D1A5-2241-47FD-804A-A82EBA9F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6F72-7A4F-4C70-AE74-1E2EF021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964F-1061-40F6-8085-690C5FEC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4DDB-88BB-4D7E-8356-C2EC74D5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41E2-83CC-4315-B617-5036A0B6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B3F2-2DDB-4DF8-97BC-BF2881D4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FB1B-F514-4730-95B9-D44877A0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6D5F-CE76-4473-A8F8-1E5FF65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81EE-8F69-4304-81F0-3F4651E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9B33-F103-49B7-A4AA-A4348C93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FF0-051B-42E7-84F7-2F537F55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33E9-83B3-42F0-9074-B7ED1BF5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2B7D-DACC-4E3F-BC77-B305BA43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BD4F-258E-4E48-B3A8-C4607785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DBF8-0E48-49E8-AA5D-FEB0CB0E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94F3-3D6A-4942-AF81-F3FE6B8E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91DB-08EE-465C-85DD-E9BD21EB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948A-6EEA-40C7-936C-2B5B5C0E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2EE4-09F3-47D3-B1E1-FFDA4686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7067-7146-4299-B0DA-E89D397E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34FB-FE6C-4C58-998C-FFDEB055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C170-8F13-4FE5-9369-045D0105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0F31-5584-4BCA-9041-B954095C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7A70-9865-4DE5-88AF-A0E51BC3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7E1E-4000-4A75-B590-450EBFDF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3DC0-F3FD-4078-94A6-0E404768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2304-6B99-4990-B1F1-9FC2DD06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1F94-81C7-4369-A4A6-53F00B4D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A186-628A-4BBB-94EB-1C33BE33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15BC-3C9D-49F5-B633-D62DAAB2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57777-05FE-43AC-A4A9-A88C6871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6E0E-A8D2-4148-BCF1-EA43EB0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1FB7-8390-4BF8-B724-3C2D3900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F91E-6B9B-4F82-A3DE-75129FCF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F623-8B9E-4218-8E01-42C18425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D5653-E5C5-41A7-B322-C59A18E6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12BB3-0FEC-4C49-A33C-5CE5061A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1A65B-779A-4255-B4DA-BC762760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071F2-D35B-499F-A963-B010A065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9BD8-3AEE-4703-A5DE-D4131CA6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7DC20-9B06-4538-861D-43B78AEF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3400-CEC7-40C1-9EAD-06CC79A1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D5A0C-3A59-4762-A149-2BB9354B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6EB60-2926-4883-91E1-A489A63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C060C-911A-4DA3-B811-3CA45EED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58D54-A8BD-4A3F-9BDF-13264EF6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A8CF6-5124-4837-A2F5-C4014000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7E12-B33F-45A3-BCAF-64084A90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A46C2-E345-4793-BFE1-AE82FED6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1926-3187-4E20-A019-EFB91821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309BA-3C21-4C17-ACFA-3A0A0322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52EA-2763-44AE-8EC1-22A73082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B897-0260-4DB7-91F5-B2A6843A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6C9D-9097-47DF-BCCB-A1816D97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599C2-286F-433C-8E1E-D60CFD05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26EAC-F92B-425B-A806-32D666B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74DA0-63E5-41E9-AEE7-CC01E355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12EA3-343D-4449-B675-B6E23A00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87CB9-8F11-48BC-AC3A-25592553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4CE21-845B-4D70-B791-9BC209FB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491AA-E630-4536-84F7-4AFF8B67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46EEE-0C74-4021-AF15-FB20DAEB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FB4C-0157-4CC4-B932-3FA62A21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6807-06B8-42AE-B29E-EB6B6BF9891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2C9C-8040-4CB1-9406-AD4F1409FE8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329B-0F0E-4BA1-8522-39D2845A50A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0BA7-E2DC-4104-AFE4-4A7FD8887A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855E-2FDF-4535-856B-8C648A0039B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0456-F4B7-4A68-95BE-C86435377D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910-0471-4C3F-8C84-AC47B00FD30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FEA2-B0E6-4E6C-B744-71F86A2DA6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8E2-BDAB-46EB-9270-32ED7535C28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2A60-10F2-451C-87E6-032E264EA3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DCF-8DE3-49BD-A9D1-2BF50D6A9B9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B4C1-8B9C-4545-8C1F-95EE0AFBE4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2633-C1CF-474F-90A1-64DC367655D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BD6A-B149-43D1-86B5-9503F3764D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FBD-8A56-466E-8E6F-C90426B22C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194E-059C-4FE6-9BAA-61D268DD1F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D5F4-8E99-497C-BA99-4BA6D37E99D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1E3E-3134-4940-B79A-7F410821A0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AF37-23EF-4E54-8822-91D7B49E41C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8CCC-7671-4960-9685-7AB31049DF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89D5-2D55-4184-8D74-FFD6D8009DF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5A87-9DE9-4428-A77C-A3C37D0925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127D-5506-4A4C-BF58-029BA1C4F1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3564-C01E-47B0-B371-AE3A0FA949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11"/>
          <p:cNvSpPr/>
          <p:nvPr/>
        </p:nvSpPr>
        <p:spPr>
          <a:xfrm>
            <a:off x="971640" y="5148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文本框 1536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文本框 15363"/>
          <p:cNvSpPr/>
          <p:nvPr/>
        </p:nvSpPr>
        <p:spPr>
          <a:xfrm>
            <a:off x="2815200" y="1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生日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제목 1"/>
          <p:cNvSpPr/>
          <p:nvPr/>
        </p:nvSpPr>
        <p:spPr>
          <a:xfrm>
            <a:off x="519120" y="620640"/>
            <a:ext cx="82296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Click To Edit Title Styl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72" name="그룹 61"/>
          <p:cNvGrpSpPr/>
          <p:nvPr/>
        </p:nvGrpSpPr>
        <p:grpSpPr>
          <a:xfrm>
            <a:off x="1558800" y="1531800"/>
            <a:ext cx="6048360" cy="1263960"/>
            <a:chOff x="1558800" y="1531800"/>
            <a:chExt cx="6048360" cy="1263960"/>
          </a:xfrm>
        </p:grpSpPr>
        <p:sp>
          <p:nvSpPr>
            <p:cNvPr id="573" name="모서리가 둥근 직사각형 48"/>
            <p:cNvSpPr/>
            <p:nvPr/>
          </p:nvSpPr>
          <p:spPr>
            <a:xfrm>
              <a:off x="1558800" y="2037240"/>
              <a:ext cx="6048360" cy="75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43137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74" name="그룹 51"/>
            <p:cNvGrpSpPr/>
            <p:nvPr/>
          </p:nvGrpSpPr>
          <p:grpSpPr>
            <a:xfrm>
              <a:off x="1827360" y="1531800"/>
              <a:ext cx="5180760" cy="1011240"/>
              <a:chOff x="1827360" y="1531800"/>
              <a:chExt cx="5180760" cy="1011240"/>
            </a:xfrm>
          </p:grpSpPr>
          <p:grpSp>
            <p:nvGrpSpPr>
              <p:cNvPr id="575" name="그룹 49"/>
              <p:cNvGrpSpPr/>
              <p:nvPr/>
            </p:nvGrpSpPr>
            <p:grpSpPr>
              <a:xfrm>
                <a:off x="2698920" y="1645200"/>
                <a:ext cx="4309200" cy="784080"/>
                <a:chOff x="2698920" y="1645200"/>
                <a:chExt cx="4309200" cy="784080"/>
              </a:xfrm>
            </p:grpSpPr>
            <p:sp>
              <p:nvSpPr>
                <p:cNvPr id="576" name="AutoShape 50"/>
                <p:cNvSpPr/>
                <p:nvPr/>
              </p:nvSpPr>
              <p:spPr>
                <a:xfrm>
                  <a:off x="2698920" y="1645200"/>
                  <a:ext cx="4309200" cy="784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6a6a6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51"/>
                <p:cNvSpPr/>
                <p:nvPr/>
              </p:nvSpPr>
              <p:spPr>
                <a:xfrm>
                  <a:off x="2838960" y="1687680"/>
                  <a:ext cx="4034520" cy="368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90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그룹 50"/>
              <p:cNvGrpSpPr/>
              <p:nvPr/>
            </p:nvGrpSpPr>
            <p:grpSpPr>
              <a:xfrm>
                <a:off x="1827360" y="1531800"/>
                <a:ext cx="1081080" cy="1011240"/>
                <a:chOff x="1827360" y="1531800"/>
                <a:chExt cx="1081080" cy="1011240"/>
              </a:xfrm>
            </p:grpSpPr>
            <p:grpSp>
              <p:nvGrpSpPr>
                <p:cNvPr id="579" name="그룹 39"/>
                <p:cNvGrpSpPr/>
                <p:nvPr/>
              </p:nvGrpSpPr>
              <p:grpSpPr>
                <a:xfrm>
                  <a:off x="1827360" y="1531800"/>
                  <a:ext cx="1081080" cy="1011240"/>
                  <a:chOff x="1827360" y="1531800"/>
                  <a:chExt cx="1081080" cy="1011240"/>
                </a:xfrm>
              </p:grpSpPr>
              <p:grpSp>
                <p:nvGrpSpPr>
                  <p:cNvPr id="580" name="Group 53"/>
                  <p:cNvGrpSpPr/>
                  <p:nvPr/>
                </p:nvGrpSpPr>
                <p:grpSpPr>
                  <a:xfrm>
                    <a:off x="1827360" y="1531800"/>
                    <a:ext cx="1081080" cy="1011240"/>
                    <a:chOff x="1827360" y="1531800"/>
                    <a:chExt cx="1081080" cy="1011240"/>
                  </a:xfrm>
                </p:grpSpPr>
                <p:grpSp>
                  <p:nvGrpSpPr>
                    <p:cNvPr id="581" name="Oval 54"/>
                    <p:cNvGrpSpPr/>
                    <p:nvPr/>
                  </p:nvGrpSpPr>
                  <p:grpSpPr>
                    <a:xfrm>
                      <a:off x="1827360" y="1531800"/>
                      <a:ext cx="1081080" cy="1011240"/>
                      <a:chOff x="1827360" y="1531800"/>
                      <a:chExt cx="1081080" cy="1011240"/>
                    </a:xfrm>
                  </p:grpSpPr>
                  <p:pic>
                    <p:nvPicPr>
                      <p:cNvPr id="582" name="Oval 54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827360" y="1531800"/>
                        <a:ext cx="1081080" cy="101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583" name="文本框 16397"/>
                      <p:cNvSpPr/>
                      <p:nvPr/>
                    </p:nvSpPr>
                    <p:spPr>
                      <a:xfrm>
                        <a:off x="2008800" y="1699560"/>
                        <a:ext cx="587160" cy="53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2000" rIns="72000" tIns="0" bIns="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4d4d4d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4" name="Oval 55"/>
                    <p:cNvSpPr/>
                    <p:nvPr/>
                  </p:nvSpPr>
                  <p:spPr>
                    <a:xfrm>
                      <a:off x="2050920" y="1683720"/>
                      <a:ext cx="139320" cy="126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67abf5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5" name="Freeform 56"/>
                  <p:cNvSpPr/>
                  <p:nvPr/>
                </p:nvSpPr>
                <p:spPr>
                  <a:xfrm>
                    <a:off x="1884240" y="1547640"/>
                    <a:ext cx="96840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6" name="WordArt 251"/>
                <p:cNvSpPr txBox="1"/>
                <p:nvPr/>
              </p:nvSpPr>
              <p:spPr>
                <a:xfrm>
                  <a:off x="1990800" y="1932840"/>
                  <a:ext cx="754200" cy="209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굴림"/>
                    </a:rPr>
                    <a:t>2013. 05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굴림"/>
                    <a:ea typeface="굴림"/>
                  </a:endParaRPr>
                </a:p>
              </p:txBody>
            </p:sp>
          </p:grpSp>
        </p:grpSp>
      </p:grpSp>
      <p:sp>
        <p:nvSpPr>
          <p:cNvPr id="587" name="모서리가 둥근 직사각형 8"/>
          <p:cNvSpPr/>
          <p:nvPr/>
        </p:nvSpPr>
        <p:spPr>
          <a:xfrm>
            <a:off x="1916280" y="3038400"/>
            <a:ext cx="6048360" cy="7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43137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88" name="그룹 84"/>
          <p:cNvGrpSpPr/>
          <p:nvPr/>
        </p:nvGrpSpPr>
        <p:grpSpPr>
          <a:xfrm>
            <a:off x="2093760" y="2498760"/>
            <a:ext cx="5181840" cy="1011240"/>
            <a:chOff x="2093760" y="2498760"/>
            <a:chExt cx="5181840" cy="1011240"/>
          </a:xfrm>
        </p:grpSpPr>
        <p:grpSp>
          <p:nvGrpSpPr>
            <p:cNvPr id="589" name="그룹 85"/>
            <p:cNvGrpSpPr/>
            <p:nvPr/>
          </p:nvGrpSpPr>
          <p:grpSpPr>
            <a:xfrm>
              <a:off x="2965680" y="2612160"/>
              <a:ext cx="4309920" cy="784080"/>
              <a:chOff x="2965680" y="2612160"/>
              <a:chExt cx="4309920" cy="784080"/>
            </a:xfrm>
          </p:grpSpPr>
          <p:sp>
            <p:nvSpPr>
              <p:cNvPr id="590" name="AutoShape 50"/>
              <p:cNvSpPr/>
              <p:nvPr/>
            </p:nvSpPr>
            <p:spPr>
              <a:xfrm>
                <a:off x="2965680" y="2612160"/>
                <a:ext cx="4309920" cy="78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1" name="AutoShape 51"/>
              <p:cNvSpPr/>
              <p:nvPr/>
            </p:nvSpPr>
            <p:spPr>
              <a:xfrm>
                <a:off x="3105720" y="2654640"/>
                <a:ext cx="4035240" cy="368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90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86"/>
            <p:cNvGrpSpPr/>
            <p:nvPr/>
          </p:nvGrpSpPr>
          <p:grpSpPr>
            <a:xfrm>
              <a:off x="2093760" y="2498760"/>
              <a:ext cx="1081440" cy="1011240"/>
              <a:chOff x="2093760" y="2498760"/>
              <a:chExt cx="1081440" cy="1011240"/>
            </a:xfrm>
          </p:grpSpPr>
          <p:grpSp>
            <p:nvGrpSpPr>
              <p:cNvPr id="593" name="그룹 87"/>
              <p:cNvGrpSpPr/>
              <p:nvPr/>
            </p:nvGrpSpPr>
            <p:grpSpPr>
              <a:xfrm>
                <a:off x="2093760" y="2498760"/>
                <a:ext cx="1081440" cy="1011240"/>
                <a:chOff x="2093760" y="2498760"/>
                <a:chExt cx="1081440" cy="1011240"/>
              </a:xfrm>
            </p:grpSpPr>
            <p:grpSp>
              <p:nvGrpSpPr>
                <p:cNvPr id="594" name="Group 53"/>
                <p:cNvGrpSpPr/>
                <p:nvPr/>
              </p:nvGrpSpPr>
              <p:grpSpPr>
                <a:xfrm>
                  <a:off x="2093760" y="2498760"/>
                  <a:ext cx="1081440" cy="1011240"/>
                  <a:chOff x="2093760" y="2498760"/>
                  <a:chExt cx="1081440" cy="1011240"/>
                </a:xfrm>
              </p:grpSpPr>
              <p:grpSp>
                <p:nvGrpSpPr>
                  <p:cNvPr id="595" name="Oval 54"/>
                  <p:cNvGrpSpPr/>
                  <p:nvPr/>
                </p:nvGrpSpPr>
                <p:grpSpPr>
                  <a:xfrm>
                    <a:off x="2093760" y="2498760"/>
                    <a:ext cx="1081440" cy="1011240"/>
                    <a:chOff x="2093760" y="2498760"/>
                    <a:chExt cx="1081440" cy="1011240"/>
                  </a:xfrm>
                </p:grpSpPr>
                <p:pic>
                  <p:nvPicPr>
                    <p:cNvPr id="596" name="Oval 5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3760" y="2498760"/>
                      <a:ext cx="1081440" cy="101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7" name="文本框 16411"/>
                    <p:cNvSpPr/>
                    <p:nvPr/>
                  </p:nvSpPr>
                  <p:spPr>
                    <a:xfrm>
                      <a:off x="2274120" y="2664720"/>
                      <a:ext cx="58716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72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8" name="Oval 55"/>
                  <p:cNvSpPr/>
                  <p:nvPr/>
                </p:nvSpPr>
                <p:spPr>
                  <a:xfrm>
                    <a:off x="2316960" y="2648880"/>
                    <a:ext cx="139320" cy="126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" name="Freeform 56"/>
                <p:cNvSpPr/>
                <p:nvPr/>
              </p:nvSpPr>
              <p:spPr>
                <a:xfrm>
                  <a:off x="2150640" y="2514600"/>
                  <a:ext cx="968760" cy="30384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WordArt 251"/>
              <p:cNvSpPr txBox="1"/>
              <p:nvPr/>
            </p:nvSpPr>
            <p:spPr>
              <a:xfrm>
                <a:off x="2257200" y="2899800"/>
                <a:ext cx="754560" cy="20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굴림"/>
                  </a:rPr>
                  <a:t>2012. 05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ffffff">
                        <a:alpha val="35000"/>
                      </a:srgbClr>
                    </a:outerShdw>
                  </a:effectLst>
                  <a:latin typeface="굴림"/>
                  <a:ea typeface="굴림"/>
                </a:endParaRPr>
              </a:p>
            </p:txBody>
          </p:sp>
        </p:grpSp>
      </p:grpSp>
      <p:grpSp>
        <p:nvGrpSpPr>
          <p:cNvPr id="601" name="그룹 95"/>
          <p:cNvGrpSpPr/>
          <p:nvPr/>
        </p:nvGrpSpPr>
        <p:grpSpPr>
          <a:xfrm>
            <a:off x="2201760" y="3532320"/>
            <a:ext cx="6048360" cy="1263600"/>
            <a:chOff x="2201760" y="3532320"/>
            <a:chExt cx="6048360" cy="1263600"/>
          </a:xfrm>
        </p:grpSpPr>
        <p:sp>
          <p:nvSpPr>
            <p:cNvPr id="602" name="모서리가 둥근 직사각형 26"/>
            <p:cNvSpPr/>
            <p:nvPr/>
          </p:nvSpPr>
          <p:spPr>
            <a:xfrm>
              <a:off x="2201760" y="4037760"/>
              <a:ext cx="6048360" cy="75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43137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03" name="그룹 97"/>
            <p:cNvGrpSpPr/>
            <p:nvPr/>
          </p:nvGrpSpPr>
          <p:grpSpPr>
            <a:xfrm>
              <a:off x="2470320" y="3532320"/>
              <a:ext cx="5180760" cy="1010880"/>
              <a:chOff x="2470320" y="3532320"/>
              <a:chExt cx="5180760" cy="1010880"/>
            </a:xfrm>
          </p:grpSpPr>
          <p:grpSp>
            <p:nvGrpSpPr>
              <p:cNvPr id="604" name="그룹 98"/>
              <p:cNvGrpSpPr/>
              <p:nvPr/>
            </p:nvGrpSpPr>
            <p:grpSpPr>
              <a:xfrm>
                <a:off x="3341880" y="3645720"/>
                <a:ext cx="4309200" cy="783720"/>
                <a:chOff x="3341880" y="3645720"/>
                <a:chExt cx="4309200" cy="783720"/>
              </a:xfrm>
            </p:grpSpPr>
            <p:sp>
              <p:nvSpPr>
                <p:cNvPr id="605" name="AutoShape 50"/>
                <p:cNvSpPr/>
                <p:nvPr/>
              </p:nvSpPr>
              <p:spPr>
                <a:xfrm>
                  <a:off x="3341880" y="3645720"/>
                  <a:ext cx="4309200" cy="783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6a6a6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51"/>
                <p:cNvSpPr/>
                <p:nvPr/>
              </p:nvSpPr>
              <p:spPr>
                <a:xfrm>
                  <a:off x="3481920" y="3688200"/>
                  <a:ext cx="4034520" cy="368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90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그룹 99"/>
              <p:cNvGrpSpPr/>
              <p:nvPr/>
            </p:nvGrpSpPr>
            <p:grpSpPr>
              <a:xfrm>
                <a:off x="2470320" y="3532320"/>
                <a:ext cx="1081080" cy="1010880"/>
                <a:chOff x="2470320" y="3532320"/>
                <a:chExt cx="1081080" cy="1010880"/>
              </a:xfrm>
            </p:grpSpPr>
            <p:grpSp>
              <p:nvGrpSpPr>
                <p:cNvPr id="608" name="그룹 100"/>
                <p:cNvGrpSpPr/>
                <p:nvPr/>
              </p:nvGrpSpPr>
              <p:grpSpPr>
                <a:xfrm>
                  <a:off x="2470320" y="3532320"/>
                  <a:ext cx="1081080" cy="1010880"/>
                  <a:chOff x="2470320" y="3532320"/>
                  <a:chExt cx="1081080" cy="1010880"/>
                </a:xfrm>
              </p:grpSpPr>
              <p:grpSp>
                <p:nvGrpSpPr>
                  <p:cNvPr id="609" name="Group 53"/>
                  <p:cNvGrpSpPr/>
                  <p:nvPr/>
                </p:nvGrpSpPr>
                <p:grpSpPr>
                  <a:xfrm>
                    <a:off x="2470320" y="3532320"/>
                    <a:ext cx="1081080" cy="1010880"/>
                    <a:chOff x="2470320" y="3532320"/>
                    <a:chExt cx="1081080" cy="1010880"/>
                  </a:xfrm>
                </p:grpSpPr>
                <p:grpSp>
                  <p:nvGrpSpPr>
                    <p:cNvPr id="610" name="Oval 54"/>
                    <p:cNvGrpSpPr/>
                    <p:nvPr/>
                  </p:nvGrpSpPr>
                  <p:grpSpPr>
                    <a:xfrm>
                      <a:off x="2470320" y="3532320"/>
                      <a:ext cx="1081080" cy="1010880"/>
                      <a:chOff x="2470320" y="3532320"/>
                      <a:chExt cx="1081080" cy="1010880"/>
                    </a:xfrm>
                  </p:grpSpPr>
                  <p:pic>
                    <p:nvPicPr>
                      <p:cNvPr id="611" name="Oval 5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470320" y="3532320"/>
                        <a:ext cx="1081080" cy="101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612" name="文本框 16426"/>
                      <p:cNvSpPr/>
                      <p:nvPr/>
                    </p:nvSpPr>
                    <p:spPr>
                      <a:xfrm>
                        <a:off x="2653200" y="3696840"/>
                        <a:ext cx="584640" cy="538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2000" rIns="72000" tIns="0" bIns="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4d4d4d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13" name="Oval 55"/>
                    <p:cNvSpPr/>
                    <p:nvPr/>
                  </p:nvSpPr>
                  <p:spPr>
                    <a:xfrm>
                      <a:off x="2695320" y="3681000"/>
                      <a:ext cx="138600" cy="127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67abf5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4" name="Freeform 56"/>
                  <p:cNvSpPr/>
                  <p:nvPr/>
                </p:nvSpPr>
                <p:spPr>
                  <a:xfrm>
                    <a:off x="2527200" y="3548160"/>
                    <a:ext cx="96840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5" name="WordArt 251"/>
                <p:cNvSpPr txBox="1"/>
                <p:nvPr/>
              </p:nvSpPr>
              <p:spPr>
                <a:xfrm>
                  <a:off x="2633760" y="3933000"/>
                  <a:ext cx="754200" cy="209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굴림"/>
                    </a:rPr>
                    <a:t>2010. 05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굴림"/>
                    <a:ea typeface="굴림"/>
                  </a:endParaRPr>
                </a:p>
              </p:txBody>
            </p:sp>
          </p:grpSp>
        </p:grpSp>
      </p:grpSp>
      <p:grpSp>
        <p:nvGrpSpPr>
          <p:cNvPr id="616" name="그룹 108"/>
          <p:cNvGrpSpPr/>
          <p:nvPr/>
        </p:nvGrpSpPr>
        <p:grpSpPr>
          <a:xfrm>
            <a:off x="2487600" y="4532400"/>
            <a:ext cx="6048360" cy="1263600"/>
            <a:chOff x="2487600" y="4532400"/>
            <a:chExt cx="6048360" cy="1263600"/>
          </a:xfrm>
        </p:grpSpPr>
        <p:sp>
          <p:nvSpPr>
            <p:cNvPr id="617" name="모서리가 둥근 직사각형 14"/>
            <p:cNvSpPr/>
            <p:nvPr/>
          </p:nvSpPr>
          <p:spPr>
            <a:xfrm>
              <a:off x="2487600" y="5037840"/>
              <a:ext cx="6048360" cy="75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43137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18" name="그룹 110"/>
            <p:cNvGrpSpPr/>
            <p:nvPr/>
          </p:nvGrpSpPr>
          <p:grpSpPr>
            <a:xfrm>
              <a:off x="2756160" y="4532400"/>
              <a:ext cx="5180760" cy="1010880"/>
              <a:chOff x="2756160" y="4532400"/>
              <a:chExt cx="5180760" cy="1010880"/>
            </a:xfrm>
          </p:grpSpPr>
          <p:grpSp>
            <p:nvGrpSpPr>
              <p:cNvPr id="619" name="그룹 111"/>
              <p:cNvGrpSpPr/>
              <p:nvPr/>
            </p:nvGrpSpPr>
            <p:grpSpPr>
              <a:xfrm>
                <a:off x="3627720" y="4645800"/>
                <a:ext cx="4309200" cy="783720"/>
                <a:chOff x="3627720" y="4645800"/>
                <a:chExt cx="4309200" cy="783720"/>
              </a:xfrm>
            </p:grpSpPr>
            <p:sp>
              <p:nvSpPr>
                <p:cNvPr id="620" name="AutoShape 50"/>
                <p:cNvSpPr/>
                <p:nvPr/>
              </p:nvSpPr>
              <p:spPr>
                <a:xfrm>
                  <a:off x="3627720" y="4645800"/>
                  <a:ext cx="4309200" cy="783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6a6a6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51"/>
                <p:cNvSpPr/>
                <p:nvPr/>
              </p:nvSpPr>
              <p:spPr>
                <a:xfrm>
                  <a:off x="3767760" y="4688280"/>
                  <a:ext cx="4034520" cy="368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90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그룹 112"/>
              <p:cNvGrpSpPr/>
              <p:nvPr/>
            </p:nvGrpSpPr>
            <p:grpSpPr>
              <a:xfrm>
                <a:off x="2756160" y="4532400"/>
                <a:ext cx="1081080" cy="1010880"/>
                <a:chOff x="2756160" y="4532400"/>
                <a:chExt cx="1081080" cy="1010880"/>
              </a:xfrm>
            </p:grpSpPr>
            <p:grpSp>
              <p:nvGrpSpPr>
                <p:cNvPr id="623" name="그룹 113"/>
                <p:cNvGrpSpPr/>
                <p:nvPr/>
              </p:nvGrpSpPr>
              <p:grpSpPr>
                <a:xfrm>
                  <a:off x="2756160" y="4532400"/>
                  <a:ext cx="1081080" cy="1010880"/>
                  <a:chOff x="2756160" y="4532400"/>
                  <a:chExt cx="1081080" cy="1010880"/>
                </a:xfrm>
              </p:grpSpPr>
              <p:grpSp>
                <p:nvGrpSpPr>
                  <p:cNvPr id="624" name="Group 53"/>
                  <p:cNvGrpSpPr/>
                  <p:nvPr/>
                </p:nvGrpSpPr>
                <p:grpSpPr>
                  <a:xfrm>
                    <a:off x="2756160" y="4532400"/>
                    <a:ext cx="1081080" cy="1010880"/>
                    <a:chOff x="2756160" y="4532400"/>
                    <a:chExt cx="1081080" cy="1010880"/>
                  </a:xfrm>
                </p:grpSpPr>
                <p:grpSp>
                  <p:nvGrpSpPr>
                    <p:cNvPr id="625" name="Oval 54"/>
                    <p:cNvGrpSpPr/>
                    <p:nvPr/>
                  </p:nvGrpSpPr>
                  <p:grpSpPr>
                    <a:xfrm>
                      <a:off x="2756160" y="4532400"/>
                      <a:ext cx="1081080" cy="1010880"/>
                      <a:chOff x="2756160" y="4532400"/>
                      <a:chExt cx="1081080" cy="1010880"/>
                    </a:xfrm>
                  </p:grpSpPr>
                  <p:pic>
                    <p:nvPicPr>
                      <p:cNvPr id="626" name="Oval 5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56160" y="4532400"/>
                        <a:ext cx="1081080" cy="101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627" name="文本框 16441"/>
                      <p:cNvSpPr/>
                      <p:nvPr/>
                    </p:nvSpPr>
                    <p:spPr>
                      <a:xfrm>
                        <a:off x="2938320" y="4696920"/>
                        <a:ext cx="584640" cy="538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2000" rIns="72000" tIns="0" bIns="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4d4d4d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28" name="Oval 55"/>
                    <p:cNvSpPr/>
                    <p:nvPr/>
                  </p:nvSpPr>
                  <p:spPr>
                    <a:xfrm>
                      <a:off x="2980800" y="4681080"/>
                      <a:ext cx="138600" cy="127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67abf5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9" name="Freeform 56"/>
                  <p:cNvSpPr/>
                  <p:nvPr/>
                </p:nvSpPr>
                <p:spPr>
                  <a:xfrm>
                    <a:off x="2813040" y="4548240"/>
                    <a:ext cx="96840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" name="WordArt 251"/>
                <p:cNvSpPr txBox="1"/>
                <p:nvPr/>
              </p:nvSpPr>
              <p:spPr>
                <a:xfrm>
                  <a:off x="2919600" y="4933080"/>
                  <a:ext cx="754200" cy="209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굴림"/>
                    </a:rPr>
                    <a:t>2009. 05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굴림"/>
                    <a:ea typeface="굴림"/>
                  </a:endParaRPr>
                </a:p>
              </p:txBody>
            </p:sp>
          </p:grpSp>
        </p:grpSp>
      </p:grpSp>
      <p:sp>
        <p:nvSpPr>
          <p:cNvPr id="631" name="文本框 16445"/>
          <p:cNvSpPr/>
          <p:nvPr/>
        </p:nvSpPr>
        <p:spPr>
          <a:xfrm>
            <a:off x="971640" y="2602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43a7c"/>
                </a:solidFill>
                <a:uFillTx/>
                <a:latin typeface="Arial"/>
                <a:ea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f43a7c"/>
                </a:solidFill>
                <a:uFillTx/>
                <a:latin typeface="Arial"/>
                <a:ea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6730-04B8-4C4D-A2D6-38EAC1045258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979280" y="692280"/>
            <a:ext cx="655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2:23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56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