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2.jpeg" ContentType="image/jpeg"/>
  <Override PartName="/ppt/media/image1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8ECE-DF6D-4A0C-928D-253ED0E4B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F202-2FA9-4781-8FA6-7EDAA0484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B714-7819-4620-80EC-6F06D5F2D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4027-C2D2-4199-A377-3C2DA0E94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4F96-49F8-4298-804A-D8B406B3D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C42B-763A-468B-8BDE-80B5896BC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F8A4-7EA7-4C50-8300-DD7DA1576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2975-7031-45C3-9E35-511259C9E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0FFD-3004-4114-B632-784953D2A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7A1B-4404-455B-A8A1-2A6300F19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9C82-F6E4-437D-A981-F42DCDEA0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09D6-7A70-40B4-8D14-05760564C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025" descr="图片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28760" y="164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31640" y="1573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45134-4723-41C8-8E5D-446E99BD4EE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2049" descr="图片1副本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8760" y="164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31640" y="1573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08120" y="1501920"/>
            <a:ext cx="7772400" cy="116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微软雅黑"/>
              </a:rPr>
              <a:t>商务报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微软雅黑"/>
              </a:rPr>
              <a:t>模板打包下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2892600"/>
            <a:ext cx="6400800" cy="96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0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121" name="文本框 5123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03040" y="75960"/>
            <a:ext cx="8229600" cy="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未知"/>
          <p:cNvSpPr/>
          <p:nvPr/>
        </p:nvSpPr>
        <p:spPr>
          <a:xfrm>
            <a:off x="3333600" y="1460520"/>
            <a:ext cx="2552760" cy="1420920"/>
          </a:xfrm>
          <a:custGeom>
            <a:avLst/>
            <a:gdLst/>
            <a:ahLst/>
            <a:rect l="l" t="t" r="r" b="b"/>
            <a:pathLst>
              <a:path w="873" h="895">
                <a:moveTo>
                  <a:pt x="0" y="0"/>
                </a:moveTo>
                <a:lnTo>
                  <a:pt x="0" y="895"/>
                </a:lnTo>
                <a:lnTo>
                  <a:pt x="873" y="895"/>
                </a:lnTo>
              </a:path>
            </a:pathLst>
          </a:custGeom>
          <a:noFill/>
          <a:ln w="2232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未知"/>
          <p:cNvSpPr/>
          <p:nvPr/>
        </p:nvSpPr>
        <p:spPr>
          <a:xfrm rot="5400000">
            <a:off x="6780960" y="2153160"/>
            <a:ext cx="1317600" cy="2773440"/>
          </a:xfrm>
          <a:custGeom>
            <a:avLst/>
            <a:gdLst/>
            <a:ahLst/>
            <a:rect l="l" t="t" r="r" b="b"/>
            <a:pathLst>
              <a:path w="873" h="895">
                <a:moveTo>
                  <a:pt x="0" y="0"/>
                </a:moveTo>
                <a:lnTo>
                  <a:pt x="0" y="895"/>
                </a:lnTo>
                <a:lnTo>
                  <a:pt x="873" y="895"/>
                </a:lnTo>
              </a:path>
            </a:pathLst>
          </a:custGeom>
          <a:noFill/>
          <a:ln w="2232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未知"/>
          <p:cNvSpPr/>
          <p:nvPr/>
        </p:nvSpPr>
        <p:spPr>
          <a:xfrm flipH="1" flipV="1">
            <a:off x="3497400" y="4342680"/>
            <a:ext cx="2552400" cy="1420920"/>
          </a:xfrm>
          <a:custGeom>
            <a:avLst/>
            <a:gdLst/>
            <a:ahLst/>
            <a:rect l="l" t="t" r="r" b="b"/>
            <a:pathLst>
              <a:path w="873" h="895">
                <a:moveTo>
                  <a:pt x="0" y="0"/>
                </a:moveTo>
                <a:lnTo>
                  <a:pt x="0" y="895"/>
                </a:lnTo>
                <a:lnTo>
                  <a:pt x="873" y="895"/>
                </a:lnTo>
              </a:path>
            </a:pathLst>
          </a:custGeom>
          <a:noFill/>
          <a:ln w="2232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未知"/>
          <p:cNvSpPr/>
          <p:nvPr/>
        </p:nvSpPr>
        <p:spPr>
          <a:xfrm flipH="1" flipV="1" rot="5400000">
            <a:off x="1281960" y="2296440"/>
            <a:ext cx="1317600" cy="2773440"/>
          </a:xfrm>
          <a:custGeom>
            <a:avLst/>
            <a:gdLst/>
            <a:ahLst/>
            <a:rect l="l" t="t" r="r" b="b"/>
            <a:pathLst>
              <a:path w="873" h="895">
                <a:moveTo>
                  <a:pt x="0" y="0"/>
                </a:moveTo>
                <a:lnTo>
                  <a:pt x="0" y="895"/>
                </a:lnTo>
                <a:lnTo>
                  <a:pt x="873" y="895"/>
                </a:lnTo>
              </a:path>
            </a:pathLst>
          </a:custGeom>
          <a:noFill/>
          <a:ln w="2232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矩形 14342"/>
          <p:cNvSpPr/>
          <p:nvPr/>
        </p:nvSpPr>
        <p:spPr>
          <a:xfrm>
            <a:off x="3710160" y="3259080"/>
            <a:ext cx="1962000" cy="704880"/>
          </a:xfrm>
          <a:prstGeom prst="rect">
            <a:avLst/>
          </a:prstGeom>
          <a:solidFill>
            <a:srgbClr val="009900"/>
          </a:solidFill>
          <a:ln w="64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矩形 14343"/>
          <p:cNvSpPr/>
          <p:nvPr/>
        </p:nvSpPr>
        <p:spPr>
          <a:xfrm>
            <a:off x="3449520" y="1511280"/>
            <a:ext cx="271440" cy="2714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矩形 14344"/>
          <p:cNvSpPr/>
          <p:nvPr/>
        </p:nvSpPr>
        <p:spPr>
          <a:xfrm>
            <a:off x="8531280" y="2984400"/>
            <a:ext cx="271440" cy="271440"/>
          </a:xfrm>
          <a:prstGeom prst="rect">
            <a:avLst/>
          </a:prstGeom>
          <a:solidFill>
            <a:srgbClr val="ffcc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矩形 14345"/>
          <p:cNvSpPr/>
          <p:nvPr/>
        </p:nvSpPr>
        <p:spPr>
          <a:xfrm>
            <a:off x="5645160" y="5467320"/>
            <a:ext cx="271440" cy="2714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矩形 14346"/>
          <p:cNvSpPr/>
          <p:nvPr/>
        </p:nvSpPr>
        <p:spPr>
          <a:xfrm>
            <a:off x="555480" y="4000680"/>
            <a:ext cx="271440" cy="2714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文本框 14347"/>
          <p:cNvSpPr/>
          <p:nvPr/>
        </p:nvSpPr>
        <p:spPr>
          <a:xfrm>
            <a:off x="3929040" y="3355920"/>
            <a:ext cx="15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文本框 14348"/>
          <p:cNvSpPr/>
          <p:nvPr/>
        </p:nvSpPr>
        <p:spPr>
          <a:xfrm>
            <a:off x="3459240" y="1897200"/>
            <a:ext cx="531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文本框 14349"/>
          <p:cNvSpPr/>
          <p:nvPr/>
        </p:nvSpPr>
        <p:spPr>
          <a:xfrm>
            <a:off x="617400" y="4554360"/>
            <a:ext cx="531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文本框 14350"/>
          <p:cNvSpPr/>
          <p:nvPr/>
        </p:nvSpPr>
        <p:spPr>
          <a:xfrm>
            <a:off x="6246720" y="3432240"/>
            <a:ext cx="2133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文本框 14351"/>
          <p:cNvSpPr/>
          <p:nvPr/>
        </p:nvSpPr>
        <p:spPr>
          <a:xfrm>
            <a:off x="922320" y="1971720"/>
            <a:ext cx="2133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矩形 14352"/>
          <p:cNvSpPr/>
          <p:nvPr/>
        </p:nvSpPr>
        <p:spPr>
          <a:xfrm>
            <a:off x="3702240" y="1454040"/>
            <a:ext cx="206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矩形 14353"/>
          <p:cNvSpPr/>
          <p:nvPr/>
        </p:nvSpPr>
        <p:spPr>
          <a:xfrm>
            <a:off x="6490080" y="2916360"/>
            <a:ext cx="206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矩形 14354"/>
          <p:cNvSpPr/>
          <p:nvPr/>
        </p:nvSpPr>
        <p:spPr>
          <a:xfrm>
            <a:off x="3597480" y="5389560"/>
            <a:ext cx="206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矩形 14355"/>
          <p:cNvSpPr/>
          <p:nvPr/>
        </p:nvSpPr>
        <p:spPr>
          <a:xfrm>
            <a:off x="806760" y="3956040"/>
            <a:ext cx="206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矩形 15361"/>
          <p:cNvSpPr txBox="1"/>
          <p:nvPr/>
        </p:nvSpPr>
        <p:spPr>
          <a:xfrm>
            <a:off x="1758960" y="1922400"/>
            <a:ext cx="57592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round/>
                </a:ln>
                <a:gradFill rotWithShape="0">
                  <a:gsLst>
                    <a:gs pos="0">
                      <a:srgbClr val="009900"/>
                    </a:gs>
                    <a:gs pos="100000">
                      <a:srgbClr val="99cc00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28440">
                <a:solidFill>
                  <a:srgbClr val="ffffff"/>
                </a:solidFill>
                <a:round/>
              </a:ln>
              <a:gradFill rotWithShape="0">
                <a:gsLst>
                  <a:gs pos="0">
                    <a:srgbClr val="009900"/>
                  </a:gs>
                  <a:gs pos="100000">
                    <a:srgbClr val="99cc00"/>
                  </a:gs>
                </a:gsLst>
                <a:lin ang="0"/>
              </a:gradFill>
              <a:effectLst>
                <a:outerShdw dist="53966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1371600" y="2892600"/>
            <a:ext cx="6400800" cy="96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0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505" name="文本框 15363"/>
          <p:cNvSpPr/>
          <p:nvPr/>
        </p:nvSpPr>
        <p:spPr>
          <a:xfrm>
            <a:off x="660240" y="121284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灯片编号占位符 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BDBAB-1186-4321-81E5-C907D16FB5BC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矩形 16385"/>
          <p:cNvSpPr/>
          <p:nvPr/>
        </p:nvSpPr>
        <p:spPr>
          <a:xfrm>
            <a:off x="0" y="4078440"/>
            <a:ext cx="9144000" cy="27810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文本框 16386"/>
          <p:cNvSpPr/>
          <p:nvPr/>
        </p:nvSpPr>
        <p:spPr>
          <a:xfrm>
            <a:off x="396720" y="1413000"/>
            <a:ext cx="576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5f5f5f"/>
                </a:solidFill>
                <a:latin typeface="Arial"/>
                <a:ea typeface="微软雅黑"/>
              </a:rPr>
              <a:t>谢谢</a:t>
            </a:r>
            <a:r>
              <a:rPr b="1" i="1" lang="zh-CN" sz="6000" spc="-1" strike="noStrike">
                <a:solidFill>
                  <a:srgbClr val="ccffcc"/>
                </a:solidFill>
                <a:latin typeface="Arial"/>
                <a:ea typeface="微软雅黑"/>
              </a:rPr>
              <a:t>观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Box 5"/>
          <p:cNvSpPr/>
          <p:nvPr/>
        </p:nvSpPr>
        <p:spPr>
          <a:xfrm>
            <a:off x="324000" y="443700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f5f5f"/>
                </a:solidFill>
                <a:latin typeface="Arial Unicode MS"/>
                <a:ea typeface="Arial Unicode MS"/>
              </a:rPr>
              <a:t>WPS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zh-CN" sz="4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Off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Box 6"/>
          <p:cNvSpPr/>
          <p:nvPr/>
        </p:nvSpPr>
        <p:spPr>
          <a:xfrm>
            <a:off x="-219600" y="5302080"/>
            <a:ext cx="39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stral"/>
              </a:rPr>
              <a:t>Make Presentation much more f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Box 10"/>
          <p:cNvSpPr/>
          <p:nvPr/>
        </p:nvSpPr>
        <p:spPr>
          <a:xfrm>
            <a:off x="7524720" y="5950080"/>
            <a:ext cx="158436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@WPS</a:t>
            </a: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官方微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@kingsoftw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图片 16390" descr="LOGO_24x24"/>
          <p:cNvPicPr/>
          <p:nvPr/>
        </p:nvPicPr>
        <p:blipFill>
          <a:blip r:embed="rId1"/>
          <a:stretch/>
        </p:blipFill>
        <p:spPr>
          <a:xfrm>
            <a:off x="7236000" y="5950080"/>
            <a:ext cx="234720" cy="234720"/>
          </a:xfrm>
          <a:prstGeom prst="rect">
            <a:avLst/>
          </a:prstGeom>
          <a:ln w="0">
            <a:noFill/>
          </a:ln>
        </p:spPr>
      </p:pic>
      <p:pic>
        <p:nvPicPr>
          <p:cNvPr id="516" name="图片 16391" descr="32-腾讯微博"/>
          <p:cNvPicPr/>
          <p:nvPr/>
        </p:nvPicPr>
        <p:blipFill>
          <a:blip r:embed="rId2"/>
          <a:stretch/>
        </p:blipFill>
        <p:spPr>
          <a:xfrm>
            <a:off x="7237440" y="62388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03040" y="75960"/>
            <a:ext cx="8229600" cy="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6146"/>
          <p:cNvSpPr/>
          <p:nvPr/>
        </p:nvSpPr>
        <p:spPr>
          <a:xfrm>
            <a:off x="3548160" y="256716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组合 6147"/>
          <p:cNvGrpSpPr/>
          <p:nvPr/>
        </p:nvGrpSpPr>
        <p:grpSpPr>
          <a:xfrm>
            <a:off x="2882160" y="2541600"/>
            <a:ext cx="3537720" cy="584640"/>
            <a:chOff x="2882160" y="2541600"/>
            <a:chExt cx="3537720" cy="584640"/>
          </a:xfrm>
        </p:grpSpPr>
        <p:grpSp>
          <p:nvGrpSpPr>
            <p:cNvPr id="125" name=""/>
            <p:cNvGrpSpPr/>
            <p:nvPr/>
          </p:nvGrpSpPr>
          <p:grpSpPr>
            <a:xfrm>
              <a:off x="3178440" y="2992320"/>
              <a:ext cx="3241440" cy="360"/>
              <a:chOff x="3178440" y="2992320"/>
              <a:chExt cx="3241440" cy="360"/>
            </a:xfrm>
          </p:grpSpPr>
          <p:sp>
            <p:nvSpPr>
              <p:cNvPr id="126" name="直接连接符 6148"/>
              <p:cNvSpPr/>
              <p:nvPr/>
            </p:nvSpPr>
            <p:spPr>
              <a:xfrm>
                <a:off x="3178440" y="2992320"/>
                <a:ext cx="3241440" cy="0"/>
              </a:xfrm>
              <a:prstGeom prst="line">
                <a:avLst/>
              </a:prstGeom>
              <a:ln w="9360">
                <a:solidFill>
                  <a:srgbClr val="33cc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 txBox="1"/>
              <p:nvPr/>
            </p:nvSpPr>
            <p:spPr>
              <a:xfrm>
                <a:off x="3178440" y="2992320"/>
                <a:ext cx="3241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" name="组合 6149"/>
            <p:cNvGrpSpPr/>
            <p:nvPr/>
          </p:nvGrpSpPr>
          <p:grpSpPr>
            <a:xfrm>
              <a:off x="2882160" y="2541600"/>
              <a:ext cx="612360" cy="584640"/>
              <a:chOff x="2882160" y="2541600"/>
              <a:chExt cx="612360" cy="584640"/>
            </a:xfrm>
          </p:grpSpPr>
          <p:grpSp>
            <p:nvGrpSpPr>
              <p:cNvPr id="129" name="组合 6150"/>
              <p:cNvGrpSpPr/>
              <p:nvPr/>
            </p:nvGrpSpPr>
            <p:grpSpPr>
              <a:xfrm>
                <a:off x="2882160" y="2541600"/>
                <a:ext cx="612360" cy="584640"/>
                <a:chOff x="2882160" y="2541600"/>
                <a:chExt cx="612360" cy="584640"/>
              </a:xfrm>
            </p:grpSpPr>
            <p:grpSp>
              <p:nvGrpSpPr>
                <p:cNvPr id="130" name="组合 6151"/>
                <p:cNvGrpSpPr/>
                <p:nvPr/>
              </p:nvGrpSpPr>
              <p:grpSpPr>
                <a:xfrm>
                  <a:off x="2882160" y="2541600"/>
                  <a:ext cx="612360" cy="584640"/>
                  <a:chOff x="2882160" y="2541600"/>
                  <a:chExt cx="612360" cy="584640"/>
                </a:xfrm>
              </p:grpSpPr>
              <p:sp>
                <p:nvSpPr>
                  <p:cNvPr id="131" name="任意多边形 6152"/>
                  <p:cNvSpPr/>
                  <p:nvPr/>
                </p:nvSpPr>
                <p:spPr>
                  <a:xfrm>
                    <a:off x="3081240" y="2541600"/>
                    <a:ext cx="214560" cy="286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0860" y="2187"/>
                        </a:moveTo>
                        <a:cubicBezTo>
                          <a:pt x="10451" y="1746"/>
                          <a:pt x="9529" y="1018"/>
                          <a:pt x="9015" y="730"/>
                        </a:cubicBezTo>
                        <a:cubicBezTo>
                          <a:pt x="7865" y="152"/>
                          <a:pt x="6685" y="0"/>
                          <a:pt x="5415" y="0"/>
                        </a:cubicBezTo>
                        <a:cubicBezTo>
                          <a:pt x="4175" y="152"/>
                          <a:pt x="2995" y="575"/>
                          <a:pt x="1967" y="1305"/>
                        </a:cubicBezTo>
                        <a:cubicBezTo>
                          <a:pt x="1150" y="2187"/>
                          <a:pt x="575" y="3222"/>
                          <a:pt x="242" y="4220"/>
                        </a:cubicBezTo>
                        <a:cubicBezTo>
                          <a:pt x="0" y="5410"/>
                          <a:pt x="242" y="6560"/>
                          <a:pt x="575" y="7597"/>
                        </a:cubicBezTo>
                        <a:lnTo>
                          <a:pt x="10860" y="21600"/>
                        </a:lnTo>
                        <a:lnTo>
                          <a:pt x="20995" y="7597"/>
                        </a:lnTo>
                        <a:cubicBezTo>
                          <a:pt x="21480" y="6560"/>
                          <a:pt x="21600" y="5410"/>
                          <a:pt x="21480" y="4220"/>
                        </a:cubicBezTo>
                        <a:cubicBezTo>
                          <a:pt x="21115" y="3222"/>
                          <a:pt x="20420" y="2187"/>
                          <a:pt x="19632" y="1305"/>
                        </a:cubicBezTo>
                        <a:cubicBezTo>
                          <a:pt x="18575" y="575"/>
                          <a:pt x="17425" y="152"/>
                          <a:pt x="16275" y="0"/>
                        </a:cubicBezTo>
                        <a:cubicBezTo>
                          <a:pt x="15005" y="0"/>
                          <a:pt x="13735" y="152"/>
                          <a:pt x="12705" y="730"/>
                        </a:cubicBezTo>
                        <a:cubicBezTo>
                          <a:pt x="12176" y="1018"/>
                          <a:pt x="11254" y="1746"/>
                          <a:pt x="10860" y="2187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cc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任意多边形 6153"/>
                  <p:cNvSpPr/>
                  <p:nvPr/>
                </p:nvSpPr>
                <p:spPr>
                  <a:xfrm rot="4320000">
                    <a:off x="3217680" y="2643120"/>
                    <a:ext cx="214920" cy="28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0860" y="2187"/>
                        </a:moveTo>
                        <a:cubicBezTo>
                          <a:pt x="10451" y="1746"/>
                          <a:pt x="9529" y="1018"/>
                          <a:pt x="9015" y="730"/>
                        </a:cubicBezTo>
                        <a:cubicBezTo>
                          <a:pt x="7865" y="152"/>
                          <a:pt x="6685" y="0"/>
                          <a:pt x="5415" y="0"/>
                        </a:cubicBezTo>
                        <a:cubicBezTo>
                          <a:pt x="4175" y="152"/>
                          <a:pt x="2995" y="575"/>
                          <a:pt x="1967" y="1305"/>
                        </a:cubicBezTo>
                        <a:cubicBezTo>
                          <a:pt x="1150" y="2187"/>
                          <a:pt x="575" y="3222"/>
                          <a:pt x="242" y="4220"/>
                        </a:cubicBezTo>
                        <a:cubicBezTo>
                          <a:pt x="0" y="5410"/>
                          <a:pt x="242" y="6560"/>
                          <a:pt x="575" y="7597"/>
                        </a:cubicBezTo>
                        <a:lnTo>
                          <a:pt x="10860" y="21600"/>
                        </a:lnTo>
                        <a:lnTo>
                          <a:pt x="20995" y="7597"/>
                        </a:lnTo>
                        <a:cubicBezTo>
                          <a:pt x="21480" y="6560"/>
                          <a:pt x="21600" y="5410"/>
                          <a:pt x="21480" y="4220"/>
                        </a:cubicBezTo>
                        <a:cubicBezTo>
                          <a:pt x="21115" y="3222"/>
                          <a:pt x="20420" y="2187"/>
                          <a:pt x="19632" y="1305"/>
                        </a:cubicBezTo>
                        <a:cubicBezTo>
                          <a:pt x="18575" y="575"/>
                          <a:pt x="17425" y="152"/>
                          <a:pt x="16275" y="0"/>
                        </a:cubicBezTo>
                        <a:cubicBezTo>
                          <a:pt x="15005" y="0"/>
                          <a:pt x="13735" y="152"/>
                          <a:pt x="12705" y="730"/>
                        </a:cubicBezTo>
                        <a:cubicBezTo>
                          <a:pt x="12176" y="1018"/>
                          <a:pt x="11254" y="1746"/>
                          <a:pt x="10860" y="2187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cc00"/>
                      </a:gs>
                      <a:gs pos="100000">
                        <a:srgbClr val="ffffff"/>
                      </a:gs>
                    </a:gsLst>
                    <a:lin ang="108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任意多边形 6154"/>
                  <p:cNvSpPr/>
                  <p:nvPr/>
                </p:nvSpPr>
                <p:spPr>
                  <a:xfrm rot="8640000">
                    <a:off x="3164400" y="2804040"/>
                    <a:ext cx="214560" cy="286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0860" y="2187"/>
                        </a:moveTo>
                        <a:cubicBezTo>
                          <a:pt x="10451" y="1746"/>
                          <a:pt x="9529" y="1018"/>
                          <a:pt x="9015" y="730"/>
                        </a:cubicBezTo>
                        <a:cubicBezTo>
                          <a:pt x="7865" y="152"/>
                          <a:pt x="6685" y="0"/>
                          <a:pt x="5415" y="0"/>
                        </a:cubicBezTo>
                        <a:cubicBezTo>
                          <a:pt x="4175" y="152"/>
                          <a:pt x="2995" y="575"/>
                          <a:pt x="1967" y="1305"/>
                        </a:cubicBezTo>
                        <a:cubicBezTo>
                          <a:pt x="1150" y="2187"/>
                          <a:pt x="575" y="3222"/>
                          <a:pt x="242" y="4220"/>
                        </a:cubicBezTo>
                        <a:cubicBezTo>
                          <a:pt x="0" y="5410"/>
                          <a:pt x="242" y="6560"/>
                          <a:pt x="575" y="7597"/>
                        </a:cubicBezTo>
                        <a:lnTo>
                          <a:pt x="10860" y="21600"/>
                        </a:lnTo>
                        <a:lnTo>
                          <a:pt x="20995" y="7597"/>
                        </a:lnTo>
                        <a:cubicBezTo>
                          <a:pt x="21480" y="6560"/>
                          <a:pt x="21600" y="5410"/>
                          <a:pt x="21480" y="4220"/>
                        </a:cubicBezTo>
                        <a:cubicBezTo>
                          <a:pt x="21115" y="3222"/>
                          <a:pt x="20420" y="2187"/>
                          <a:pt x="19632" y="1305"/>
                        </a:cubicBezTo>
                        <a:cubicBezTo>
                          <a:pt x="18575" y="575"/>
                          <a:pt x="17425" y="152"/>
                          <a:pt x="16275" y="0"/>
                        </a:cubicBezTo>
                        <a:cubicBezTo>
                          <a:pt x="15005" y="0"/>
                          <a:pt x="13735" y="152"/>
                          <a:pt x="12705" y="730"/>
                        </a:cubicBezTo>
                        <a:cubicBezTo>
                          <a:pt x="12176" y="1018"/>
                          <a:pt x="11254" y="1746"/>
                          <a:pt x="10860" y="2187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cc00"/>
                      </a:gs>
                      <a:gs pos="100000">
                        <a:srgbClr val="ffffff"/>
                      </a:gs>
                    </a:gsLst>
                    <a:lin ang="1836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任意多边形 6155"/>
                  <p:cNvSpPr/>
                  <p:nvPr/>
                </p:nvSpPr>
                <p:spPr>
                  <a:xfrm rot="17280000">
                    <a:off x="2943720" y="2642760"/>
                    <a:ext cx="214920" cy="28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0860" y="2187"/>
                        </a:moveTo>
                        <a:cubicBezTo>
                          <a:pt x="10451" y="1746"/>
                          <a:pt x="9529" y="1018"/>
                          <a:pt x="9015" y="730"/>
                        </a:cubicBezTo>
                        <a:cubicBezTo>
                          <a:pt x="7865" y="152"/>
                          <a:pt x="6685" y="0"/>
                          <a:pt x="5415" y="0"/>
                        </a:cubicBezTo>
                        <a:cubicBezTo>
                          <a:pt x="4175" y="152"/>
                          <a:pt x="2995" y="575"/>
                          <a:pt x="1967" y="1305"/>
                        </a:cubicBezTo>
                        <a:cubicBezTo>
                          <a:pt x="1150" y="2187"/>
                          <a:pt x="575" y="3222"/>
                          <a:pt x="242" y="4220"/>
                        </a:cubicBezTo>
                        <a:cubicBezTo>
                          <a:pt x="0" y="5410"/>
                          <a:pt x="242" y="6560"/>
                          <a:pt x="575" y="7597"/>
                        </a:cubicBezTo>
                        <a:lnTo>
                          <a:pt x="10860" y="21600"/>
                        </a:lnTo>
                        <a:lnTo>
                          <a:pt x="20995" y="7597"/>
                        </a:lnTo>
                        <a:cubicBezTo>
                          <a:pt x="21480" y="6560"/>
                          <a:pt x="21600" y="5410"/>
                          <a:pt x="21480" y="4220"/>
                        </a:cubicBezTo>
                        <a:cubicBezTo>
                          <a:pt x="21115" y="3222"/>
                          <a:pt x="20420" y="2187"/>
                          <a:pt x="19632" y="1305"/>
                        </a:cubicBezTo>
                        <a:cubicBezTo>
                          <a:pt x="18575" y="575"/>
                          <a:pt x="17425" y="152"/>
                          <a:pt x="16275" y="0"/>
                        </a:cubicBezTo>
                        <a:cubicBezTo>
                          <a:pt x="15005" y="0"/>
                          <a:pt x="13735" y="152"/>
                          <a:pt x="12705" y="730"/>
                        </a:cubicBezTo>
                        <a:cubicBezTo>
                          <a:pt x="12176" y="1018"/>
                          <a:pt x="11254" y="1746"/>
                          <a:pt x="10860" y="2187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cc00"/>
                      </a:gs>
                      <a:gs pos="100000">
                        <a:srgbClr val="ffffff"/>
                      </a:gs>
                    </a:gsLst>
                    <a:lin ang="97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任意多边形 6156"/>
                  <p:cNvSpPr/>
                  <p:nvPr/>
                </p:nvSpPr>
                <p:spPr>
                  <a:xfrm rot="12960000">
                    <a:off x="2997360" y="2797920"/>
                    <a:ext cx="214560" cy="286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0860" y="2187"/>
                        </a:moveTo>
                        <a:cubicBezTo>
                          <a:pt x="10451" y="1746"/>
                          <a:pt x="9529" y="1018"/>
                          <a:pt x="9015" y="730"/>
                        </a:cubicBezTo>
                        <a:cubicBezTo>
                          <a:pt x="7865" y="152"/>
                          <a:pt x="6685" y="0"/>
                          <a:pt x="5415" y="0"/>
                        </a:cubicBezTo>
                        <a:cubicBezTo>
                          <a:pt x="4175" y="152"/>
                          <a:pt x="2995" y="575"/>
                          <a:pt x="1967" y="1305"/>
                        </a:cubicBezTo>
                        <a:cubicBezTo>
                          <a:pt x="1150" y="2187"/>
                          <a:pt x="575" y="3222"/>
                          <a:pt x="242" y="4220"/>
                        </a:cubicBezTo>
                        <a:cubicBezTo>
                          <a:pt x="0" y="5410"/>
                          <a:pt x="242" y="6560"/>
                          <a:pt x="575" y="7597"/>
                        </a:cubicBezTo>
                        <a:lnTo>
                          <a:pt x="10860" y="21600"/>
                        </a:lnTo>
                        <a:lnTo>
                          <a:pt x="20995" y="7597"/>
                        </a:lnTo>
                        <a:cubicBezTo>
                          <a:pt x="21480" y="6560"/>
                          <a:pt x="21600" y="5410"/>
                          <a:pt x="21480" y="4220"/>
                        </a:cubicBezTo>
                        <a:cubicBezTo>
                          <a:pt x="21115" y="3222"/>
                          <a:pt x="20420" y="2187"/>
                          <a:pt x="19632" y="1305"/>
                        </a:cubicBezTo>
                        <a:cubicBezTo>
                          <a:pt x="18575" y="575"/>
                          <a:pt x="17425" y="152"/>
                          <a:pt x="16275" y="0"/>
                        </a:cubicBezTo>
                        <a:cubicBezTo>
                          <a:pt x="15005" y="0"/>
                          <a:pt x="13735" y="152"/>
                          <a:pt x="12705" y="730"/>
                        </a:cubicBezTo>
                        <a:cubicBezTo>
                          <a:pt x="12176" y="1018"/>
                          <a:pt x="11254" y="1746"/>
                          <a:pt x="10860" y="2187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cc00"/>
                      </a:gs>
                      <a:gs pos="100000">
                        <a:srgbClr val="ffffff"/>
                      </a:gs>
                    </a:gsLst>
                    <a:lin ang="1404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组合 6157"/>
                <p:cNvGrpSpPr/>
                <p:nvPr/>
              </p:nvGrpSpPr>
              <p:grpSpPr>
                <a:xfrm>
                  <a:off x="2936880" y="2595240"/>
                  <a:ext cx="496800" cy="474840"/>
                  <a:chOff x="2936880" y="2595240"/>
                  <a:chExt cx="496800" cy="474840"/>
                </a:xfrm>
              </p:grpSpPr>
              <p:sp>
                <p:nvSpPr>
                  <p:cNvPr id="137" name="任意多边形 6158"/>
                  <p:cNvSpPr/>
                  <p:nvPr/>
                </p:nvSpPr>
                <p:spPr>
                  <a:xfrm>
                    <a:off x="3098160" y="2595240"/>
                    <a:ext cx="173880" cy="232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0860" y="2187"/>
                        </a:moveTo>
                        <a:cubicBezTo>
                          <a:pt x="10451" y="1746"/>
                          <a:pt x="9529" y="1018"/>
                          <a:pt x="9015" y="730"/>
                        </a:cubicBezTo>
                        <a:cubicBezTo>
                          <a:pt x="7865" y="152"/>
                          <a:pt x="6685" y="0"/>
                          <a:pt x="5415" y="0"/>
                        </a:cubicBezTo>
                        <a:cubicBezTo>
                          <a:pt x="4175" y="152"/>
                          <a:pt x="2995" y="575"/>
                          <a:pt x="1967" y="1305"/>
                        </a:cubicBezTo>
                        <a:cubicBezTo>
                          <a:pt x="1150" y="2187"/>
                          <a:pt x="575" y="3222"/>
                          <a:pt x="242" y="4220"/>
                        </a:cubicBezTo>
                        <a:cubicBezTo>
                          <a:pt x="0" y="5410"/>
                          <a:pt x="242" y="6560"/>
                          <a:pt x="575" y="7597"/>
                        </a:cubicBezTo>
                        <a:lnTo>
                          <a:pt x="10860" y="21600"/>
                        </a:lnTo>
                        <a:lnTo>
                          <a:pt x="20995" y="7597"/>
                        </a:lnTo>
                        <a:cubicBezTo>
                          <a:pt x="21480" y="6560"/>
                          <a:pt x="21600" y="5410"/>
                          <a:pt x="21480" y="4220"/>
                        </a:cubicBezTo>
                        <a:cubicBezTo>
                          <a:pt x="21115" y="3222"/>
                          <a:pt x="20420" y="2187"/>
                          <a:pt x="19632" y="1305"/>
                        </a:cubicBezTo>
                        <a:cubicBezTo>
                          <a:pt x="18575" y="575"/>
                          <a:pt x="17425" y="152"/>
                          <a:pt x="16275" y="0"/>
                        </a:cubicBezTo>
                        <a:cubicBezTo>
                          <a:pt x="15005" y="0"/>
                          <a:pt x="13735" y="152"/>
                          <a:pt x="12705" y="730"/>
                        </a:cubicBezTo>
                        <a:cubicBezTo>
                          <a:pt x="12176" y="1018"/>
                          <a:pt x="11254" y="1746"/>
                          <a:pt x="10860" y="2187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任意多边形 6159"/>
                  <p:cNvSpPr/>
                  <p:nvPr/>
                </p:nvSpPr>
                <p:spPr>
                  <a:xfrm rot="4320000">
                    <a:off x="3208680" y="2677320"/>
                    <a:ext cx="174600" cy="232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0860" y="2187"/>
                        </a:moveTo>
                        <a:cubicBezTo>
                          <a:pt x="10451" y="1746"/>
                          <a:pt x="9529" y="1018"/>
                          <a:pt x="9015" y="730"/>
                        </a:cubicBezTo>
                        <a:cubicBezTo>
                          <a:pt x="7865" y="152"/>
                          <a:pt x="6685" y="0"/>
                          <a:pt x="5415" y="0"/>
                        </a:cubicBezTo>
                        <a:cubicBezTo>
                          <a:pt x="4175" y="152"/>
                          <a:pt x="2995" y="575"/>
                          <a:pt x="1967" y="1305"/>
                        </a:cubicBezTo>
                        <a:cubicBezTo>
                          <a:pt x="1150" y="2187"/>
                          <a:pt x="575" y="3222"/>
                          <a:pt x="242" y="4220"/>
                        </a:cubicBezTo>
                        <a:cubicBezTo>
                          <a:pt x="0" y="5410"/>
                          <a:pt x="242" y="6560"/>
                          <a:pt x="575" y="7597"/>
                        </a:cubicBezTo>
                        <a:lnTo>
                          <a:pt x="10860" y="21600"/>
                        </a:lnTo>
                        <a:lnTo>
                          <a:pt x="20995" y="7597"/>
                        </a:lnTo>
                        <a:cubicBezTo>
                          <a:pt x="21480" y="6560"/>
                          <a:pt x="21600" y="5410"/>
                          <a:pt x="21480" y="4220"/>
                        </a:cubicBezTo>
                        <a:cubicBezTo>
                          <a:pt x="21115" y="3222"/>
                          <a:pt x="20420" y="2187"/>
                          <a:pt x="19632" y="1305"/>
                        </a:cubicBezTo>
                        <a:cubicBezTo>
                          <a:pt x="18575" y="575"/>
                          <a:pt x="17425" y="152"/>
                          <a:pt x="16275" y="0"/>
                        </a:cubicBezTo>
                        <a:cubicBezTo>
                          <a:pt x="15005" y="0"/>
                          <a:pt x="13735" y="152"/>
                          <a:pt x="12705" y="730"/>
                        </a:cubicBezTo>
                        <a:cubicBezTo>
                          <a:pt x="12176" y="1018"/>
                          <a:pt x="11254" y="1746"/>
                          <a:pt x="10860" y="2187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任意多边形 6160"/>
                  <p:cNvSpPr/>
                  <p:nvPr/>
                </p:nvSpPr>
                <p:spPr>
                  <a:xfrm rot="8640000">
                    <a:off x="3165840" y="2808360"/>
                    <a:ext cx="173880" cy="232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0860" y="2187"/>
                        </a:moveTo>
                        <a:cubicBezTo>
                          <a:pt x="10451" y="1746"/>
                          <a:pt x="9529" y="1018"/>
                          <a:pt x="9015" y="730"/>
                        </a:cubicBezTo>
                        <a:cubicBezTo>
                          <a:pt x="7865" y="152"/>
                          <a:pt x="6685" y="0"/>
                          <a:pt x="5415" y="0"/>
                        </a:cubicBezTo>
                        <a:cubicBezTo>
                          <a:pt x="4175" y="152"/>
                          <a:pt x="2995" y="575"/>
                          <a:pt x="1967" y="1305"/>
                        </a:cubicBezTo>
                        <a:cubicBezTo>
                          <a:pt x="1150" y="2187"/>
                          <a:pt x="575" y="3222"/>
                          <a:pt x="242" y="4220"/>
                        </a:cubicBezTo>
                        <a:cubicBezTo>
                          <a:pt x="0" y="5410"/>
                          <a:pt x="242" y="6560"/>
                          <a:pt x="575" y="7597"/>
                        </a:cubicBezTo>
                        <a:lnTo>
                          <a:pt x="10860" y="21600"/>
                        </a:lnTo>
                        <a:lnTo>
                          <a:pt x="20995" y="7597"/>
                        </a:lnTo>
                        <a:cubicBezTo>
                          <a:pt x="21480" y="6560"/>
                          <a:pt x="21600" y="5410"/>
                          <a:pt x="21480" y="4220"/>
                        </a:cubicBezTo>
                        <a:cubicBezTo>
                          <a:pt x="21115" y="3222"/>
                          <a:pt x="20420" y="2187"/>
                          <a:pt x="19632" y="1305"/>
                        </a:cubicBezTo>
                        <a:cubicBezTo>
                          <a:pt x="18575" y="575"/>
                          <a:pt x="17425" y="152"/>
                          <a:pt x="16275" y="0"/>
                        </a:cubicBezTo>
                        <a:cubicBezTo>
                          <a:pt x="15005" y="0"/>
                          <a:pt x="13735" y="152"/>
                          <a:pt x="12705" y="730"/>
                        </a:cubicBezTo>
                        <a:cubicBezTo>
                          <a:pt x="12176" y="1018"/>
                          <a:pt x="11254" y="1746"/>
                          <a:pt x="10860" y="2187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任意多边形 6161"/>
                  <p:cNvSpPr/>
                  <p:nvPr/>
                </p:nvSpPr>
                <p:spPr>
                  <a:xfrm rot="17280000">
                    <a:off x="2986920" y="2677320"/>
                    <a:ext cx="174600" cy="232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0860" y="2187"/>
                        </a:moveTo>
                        <a:cubicBezTo>
                          <a:pt x="10451" y="1746"/>
                          <a:pt x="9529" y="1018"/>
                          <a:pt x="9015" y="730"/>
                        </a:cubicBezTo>
                        <a:cubicBezTo>
                          <a:pt x="7865" y="152"/>
                          <a:pt x="6685" y="0"/>
                          <a:pt x="5415" y="0"/>
                        </a:cubicBezTo>
                        <a:cubicBezTo>
                          <a:pt x="4175" y="152"/>
                          <a:pt x="2995" y="575"/>
                          <a:pt x="1967" y="1305"/>
                        </a:cubicBezTo>
                        <a:cubicBezTo>
                          <a:pt x="1150" y="2187"/>
                          <a:pt x="575" y="3222"/>
                          <a:pt x="242" y="4220"/>
                        </a:cubicBezTo>
                        <a:cubicBezTo>
                          <a:pt x="0" y="5410"/>
                          <a:pt x="242" y="6560"/>
                          <a:pt x="575" y="7597"/>
                        </a:cubicBezTo>
                        <a:lnTo>
                          <a:pt x="10860" y="21600"/>
                        </a:lnTo>
                        <a:lnTo>
                          <a:pt x="20995" y="7597"/>
                        </a:lnTo>
                        <a:cubicBezTo>
                          <a:pt x="21480" y="6560"/>
                          <a:pt x="21600" y="5410"/>
                          <a:pt x="21480" y="4220"/>
                        </a:cubicBezTo>
                        <a:cubicBezTo>
                          <a:pt x="21115" y="3222"/>
                          <a:pt x="20420" y="2187"/>
                          <a:pt x="19632" y="1305"/>
                        </a:cubicBezTo>
                        <a:cubicBezTo>
                          <a:pt x="18575" y="575"/>
                          <a:pt x="17425" y="152"/>
                          <a:pt x="16275" y="0"/>
                        </a:cubicBezTo>
                        <a:cubicBezTo>
                          <a:pt x="15005" y="0"/>
                          <a:pt x="13735" y="152"/>
                          <a:pt x="12705" y="730"/>
                        </a:cubicBezTo>
                        <a:cubicBezTo>
                          <a:pt x="12176" y="1018"/>
                          <a:pt x="11254" y="1746"/>
                          <a:pt x="10860" y="2187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任意多边形 6162"/>
                  <p:cNvSpPr/>
                  <p:nvPr/>
                </p:nvSpPr>
                <p:spPr>
                  <a:xfrm rot="12960000">
                    <a:off x="3029760" y="2803320"/>
                    <a:ext cx="173880" cy="232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0860" y="2187"/>
                        </a:moveTo>
                        <a:cubicBezTo>
                          <a:pt x="10451" y="1746"/>
                          <a:pt x="9529" y="1018"/>
                          <a:pt x="9015" y="730"/>
                        </a:cubicBezTo>
                        <a:cubicBezTo>
                          <a:pt x="7865" y="152"/>
                          <a:pt x="6685" y="0"/>
                          <a:pt x="5415" y="0"/>
                        </a:cubicBezTo>
                        <a:cubicBezTo>
                          <a:pt x="4175" y="152"/>
                          <a:pt x="2995" y="575"/>
                          <a:pt x="1967" y="1305"/>
                        </a:cubicBezTo>
                        <a:cubicBezTo>
                          <a:pt x="1150" y="2187"/>
                          <a:pt x="575" y="3222"/>
                          <a:pt x="242" y="4220"/>
                        </a:cubicBezTo>
                        <a:cubicBezTo>
                          <a:pt x="0" y="5410"/>
                          <a:pt x="242" y="6560"/>
                          <a:pt x="575" y="7597"/>
                        </a:cubicBezTo>
                        <a:lnTo>
                          <a:pt x="10860" y="21600"/>
                        </a:lnTo>
                        <a:lnTo>
                          <a:pt x="20995" y="7597"/>
                        </a:lnTo>
                        <a:cubicBezTo>
                          <a:pt x="21480" y="6560"/>
                          <a:pt x="21600" y="5410"/>
                          <a:pt x="21480" y="4220"/>
                        </a:cubicBezTo>
                        <a:cubicBezTo>
                          <a:pt x="21115" y="3222"/>
                          <a:pt x="20420" y="2187"/>
                          <a:pt x="19632" y="1305"/>
                        </a:cubicBezTo>
                        <a:cubicBezTo>
                          <a:pt x="18575" y="575"/>
                          <a:pt x="17425" y="152"/>
                          <a:pt x="16275" y="0"/>
                        </a:cubicBezTo>
                        <a:cubicBezTo>
                          <a:pt x="15005" y="0"/>
                          <a:pt x="13735" y="152"/>
                          <a:pt x="12705" y="730"/>
                        </a:cubicBezTo>
                        <a:cubicBezTo>
                          <a:pt x="12176" y="1018"/>
                          <a:pt x="11254" y="1746"/>
                          <a:pt x="10860" y="2187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2" name="文本框 6163"/>
              <p:cNvSpPr/>
              <p:nvPr/>
            </p:nvSpPr>
            <p:spPr>
              <a:xfrm>
                <a:off x="3006720" y="2643120"/>
                <a:ext cx="336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9900"/>
                    </a:solidFill>
                    <a:latin typeface="Arial Black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" name="组合 6164"/>
          <p:cNvGrpSpPr/>
          <p:nvPr/>
        </p:nvGrpSpPr>
        <p:grpSpPr>
          <a:xfrm>
            <a:off x="2882160" y="3160800"/>
            <a:ext cx="3537720" cy="584640"/>
            <a:chOff x="2882160" y="3160800"/>
            <a:chExt cx="3537720" cy="584640"/>
          </a:xfrm>
        </p:grpSpPr>
        <p:grpSp>
          <p:nvGrpSpPr>
            <p:cNvPr id="144" name=""/>
            <p:cNvGrpSpPr/>
            <p:nvPr/>
          </p:nvGrpSpPr>
          <p:grpSpPr>
            <a:xfrm>
              <a:off x="3178440" y="3611520"/>
              <a:ext cx="3241440" cy="360"/>
              <a:chOff x="3178440" y="3611520"/>
              <a:chExt cx="3241440" cy="360"/>
            </a:xfrm>
          </p:grpSpPr>
          <p:sp>
            <p:nvSpPr>
              <p:cNvPr id="145" name="直接连接符 6165"/>
              <p:cNvSpPr/>
              <p:nvPr/>
            </p:nvSpPr>
            <p:spPr>
              <a:xfrm>
                <a:off x="3178440" y="3611520"/>
                <a:ext cx="3241440" cy="0"/>
              </a:xfrm>
              <a:prstGeom prst="line">
                <a:avLst/>
              </a:prstGeom>
              <a:ln w="9360">
                <a:solidFill>
                  <a:srgbClr val="ff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 txBox="1"/>
              <p:nvPr/>
            </p:nvSpPr>
            <p:spPr>
              <a:xfrm>
                <a:off x="3178440" y="3611520"/>
                <a:ext cx="3241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组合 6166"/>
            <p:cNvGrpSpPr/>
            <p:nvPr/>
          </p:nvGrpSpPr>
          <p:grpSpPr>
            <a:xfrm>
              <a:off x="2882160" y="3160800"/>
              <a:ext cx="612360" cy="584640"/>
              <a:chOff x="2882160" y="3160800"/>
              <a:chExt cx="612360" cy="584640"/>
            </a:xfrm>
          </p:grpSpPr>
          <p:grpSp>
            <p:nvGrpSpPr>
              <p:cNvPr id="148" name="组合 6167"/>
              <p:cNvGrpSpPr/>
              <p:nvPr/>
            </p:nvGrpSpPr>
            <p:grpSpPr>
              <a:xfrm>
                <a:off x="2882160" y="3160800"/>
                <a:ext cx="612360" cy="584640"/>
                <a:chOff x="2882160" y="3160800"/>
                <a:chExt cx="612360" cy="584640"/>
              </a:xfrm>
            </p:grpSpPr>
            <p:grpSp>
              <p:nvGrpSpPr>
                <p:cNvPr id="149" name="组合 6168"/>
                <p:cNvGrpSpPr/>
                <p:nvPr/>
              </p:nvGrpSpPr>
              <p:grpSpPr>
                <a:xfrm>
                  <a:off x="2882160" y="3160800"/>
                  <a:ext cx="612360" cy="584640"/>
                  <a:chOff x="2882160" y="3160800"/>
                  <a:chExt cx="612360" cy="584640"/>
                </a:xfrm>
              </p:grpSpPr>
              <p:sp>
                <p:nvSpPr>
                  <p:cNvPr id="150" name="任意多边形 6169"/>
                  <p:cNvSpPr/>
                  <p:nvPr/>
                </p:nvSpPr>
                <p:spPr>
                  <a:xfrm>
                    <a:off x="3081240" y="3160800"/>
                    <a:ext cx="214560" cy="286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0860" y="2187"/>
                        </a:moveTo>
                        <a:cubicBezTo>
                          <a:pt x="10451" y="1746"/>
                          <a:pt x="9529" y="1018"/>
                          <a:pt x="9015" y="730"/>
                        </a:cubicBezTo>
                        <a:cubicBezTo>
                          <a:pt x="7865" y="152"/>
                          <a:pt x="6685" y="0"/>
                          <a:pt x="5415" y="0"/>
                        </a:cubicBezTo>
                        <a:cubicBezTo>
                          <a:pt x="4175" y="152"/>
                          <a:pt x="2995" y="575"/>
                          <a:pt x="1967" y="1305"/>
                        </a:cubicBezTo>
                        <a:cubicBezTo>
                          <a:pt x="1150" y="2187"/>
                          <a:pt x="575" y="3222"/>
                          <a:pt x="242" y="4220"/>
                        </a:cubicBezTo>
                        <a:cubicBezTo>
                          <a:pt x="0" y="5410"/>
                          <a:pt x="242" y="6560"/>
                          <a:pt x="575" y="7597"/>
                        </a:cubicBezTo>
                        <a:lnTo>
                          <a:pt x="10860" y="21600"/>
                        </a:lnTo>
                        <a:lnTo>
                          <a:pt x="20995" y="7597"/>
                        </a:lnTo>
                        <a:cubicBezTo>
                          <a:pt x="21480" y="6560"/>
                          <a:pt x="21600" y="5410"/>
                          <a:pt x="21480" y="4220"/>
                        </a:cubicBezTo>
                        <a:cubicBezTo>
                          <a:pt x="21115" y="3222"/>
                          <a:pt x="20420" y="2187"/>
                          <a:pt x="19632" y="1305"/>
                        </a:cubicBezTo>
                        <a:cubicBezTo>
                          <a:pt x="18575" y="575"/>
                          <a:pt x="17425" y="152"/>
                          <a:pt x="16275" y="0"/>
                        </a:cubicBezTo>
                        <a:cubicBezTo>
                          <a:pt x="15005" y="0"/>
                          <a:pt x="13735" y="152"/>
                          <a:pt x="12705" y="730"/>
                        </a:cubicBezTo>
                        <a:cubicBezTo>
                          <a:pt x="12176" y="1018"/>
                          <a:pt x="11254" y="1746"/>
                          <a:pt x="10860" y="2187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任意多边形 6170"/>
                  <p:cNvSpPr/>
                  <p:nvPr/>
                </p:nvSpPr>
                <p:spPr>
                  <a:xfrm rot="4320000">
                    <a:off x="3217680" y="3262320"/>
                    <a:ext cx="214920" cy="28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0860" y="2187"/>
                        </a:moveTo>
                        <a:cubicBezTo>
                          <a:pt x="10451" y="1746"/>
                          <a:pt x="9529" y="1018"/>
                          <a:pt x="9015" y="730"/>
                        </a:cubicBezTo>
                        <a:cubicBezTo>
                          <a:pt x="7865" y="152"/>
                          <a:pt x="6685" y="0"/>
                          <a:pt x="5415" y="0"/>
                        </a:cubicBezTo>
                        <a:cubicBezTo>
                          <a:pt x="4175" y="152"/>
                          <a:pt x="2995" y="575"/>
                          <a:pt x="1967" y="1305"/>
                        </a:cubicBezTo>
                        <a:cubicBezTo>
                          <a:pt x="1150" y="2187"/>
                          <a:pt x="575" y="3222"/>
                          <a:pt x="242" y="4220"/>
                        </a:cubicBezTo>
                        <a:cubicBezTo>
                          <a:pt x="0" y="5410"/>
                          <a:pt x="242" y="6560"/>
                          <a:pt x="575" y="7597"/>
                        </a:cubicBezTo>
                        <a:lnTo>
                          <a:pt x="10860" y="21600"/>
                        </a:lnTo>
                        <a:lnTo>
                          <a:pt x="20995" y="7597"/>
                        </a:lnTo>
                        <a:cubicBezTo>
                          <a:pt x="21480" y="6560"/>
                          <a:pt x="21600" y="5410"/>
                          <a:pt x="21480" y="4220"/>
                        </a:cubicBezTo>
                        <a:cubicBezTo>
                          <a:pt x="21115" y="3222"/>
                          <a:pt x="20420" y="2187"/>
                          <a:pt x="19632" y="1305"/>
                        </a:cubicBezTo>
                        <a:cubicBezTo>
                          <a:pt x="18575" y="575"/>
                          <a:pt x="17425" y="152"/>
                          <a:pt x="16275" y="0"/>
                        </a:cubicBezTo>
                        <a:cubicBezTo>
                          <a:pt x="15005" y="0"/>
                          <a:pt x="13735" y="152"/>
                          <a:pt x="12705" y="730"/>
                        </a:cubicBezTo>
                        <a:cubicBezTo>
                          <a:pt x="12176" y="1018"/>
                          <a:pt x="11254" y="1746"/>
                          <a:pt x="10860" y="2187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ff"/>
                      </a:gs>
                      <a:gs pos="100000">
                        <a:srgbClr val="ffffff"/>
                      </a:gs>
                    </a:gsLst>
                    <a:lin ang="108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任意多边形 6171"/>
                  <p:cNvSpPr/>
                  <p:nvPr/>
                </p:nvSpPr>
                <p:spPr>
                  <a:xfrm rot="8640000">
                    <a:off x="3164400" y="3423240"/>
                    <a:ext cx="214560" cy="286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0860" y="2187"/>
                        </a:moveTo>
                        <a:cubicBezTo>
                          <a:pt x="10451" y="1746"/>
                          <a:pt x="9529" y="1018"/>
                          <a:pt x="9015" y="730"/>
                        </a:cubicBezTo>
                        <a:cubicBezTo>
                          <a:pt x="7865" y="152"/>
                          <a:pt x="6685" y="0"/>
                          <a:pt x="5415" y="0"/>
                        </a:cubicBezTo>
                        <a:cubicBezTo>
                          <a:pt x="4175" y="152"/>
                          <a:pt x="2995" y="575"/>
                          <a:pt x="1967" y="1305"/>
                        </a:cubicBezTo>
                        <a:cubicBezTo>
                          <a:pt x="1150" y="2187"/>
                          <a:pt x="575" y="3222"/>
                          <a:pt x="242" y="4220"/>
                        </a:cubicBezTo>
                        <a:cubicBezTo>
                          <a:pt x="0" y="5410"/>
                          <a:pt x="242" y="6560"/>
                          <a:pt x="575" y="7597"/>
                        </a:cubicBezTo>
                        <a:lnTo>
                          <a:pt x="10860" y="21600"/>
                        </a:lnTo>
                        <a:lnTo>
                          <a:pt x="20995" y="7597"/>
                        </a:lnTo>
                        <a:cubicBezTo>
                          <a:pt x="21480" y="6560"/>
                          <a:pt x="21600" y="5410"/>
                          <a:pt x="21480" y="4220"/>
                        </a:cubicBezTo>
                        <a:cubicBezTo>
                          <a:pt x="21115" y="3222"/>
                          <a:pt x="20420" y="2187"/>
                          <a:pt x="19632" y="1305"/>
                        </a:cubicBezTo>
                        <a:cubicBezTo>
                          <a:pt x="18575" y="575"/>
                          <a:pt x="17425" y="152"/>
                          <a:pt x="16275" y="0"/>
                        </a:cubicBezTo>
                        <a:cubicBezTo>
                          <a:pt x="15005" y="0"/>
                          <a:pt x="13735" y="152"/>
                          <a:pt x="12705" y="730"/>
                        </a:cubicBezTo>
                        <a:cubicBezTo>
                          <a:pt x="12176" y="1018"/>
                          <a:pt x="11254" y="1746"/>
                          <a:pt x="10860" y="2187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ff"/>
                      </a:gs>
                      <a:gs pos="100000">
                        <a:srgbClr val="ffffff"/>
                      </a:gs>
                    </a:gsLst>
                    <a:lin ang="1836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任意多边形 6172"/>
                  <p:cNvSpPr/>
                  <p:nvPr/>
                </p:nvSpPr>
                <p:spPr>
                  <a:xfrm rot="17280000">
                    <a:off x="2943720" y="3261960"/>
                    <a:ext cx="214920" cy="28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0860" y="2187"/>
                        </a:moveTo>
                        <a:cubicBezTo>
                          <a:pt x="10451" y="1746"/>
                          <a:pt x="9529" y="1018"/>
                          <a:pt x="9015" y="730"/>
                        </a:cubicBezTo>
                        <a:cubicBezTo>
                          <a:pt x="7865" y="152"/>
                          <a:pt x="6685" y="0"/>
                          <a:pt x="5415" y="0"/>
                        </a:cubicBezTo>
                        <a:cubicBezTo>
                          <a:pt x="4175" y="152"/>
                          <a:pt x="2995" y="575"/>
                          <a:pt x="1967" y="1305"/>
                        </a:cubicBezTo>
                        <a:cubicBezTo>
                          <a:pt x="1150" y="2187"/>
                          <a:pt x="575" y="3222"/>
                          <a:pt x="242" y="4220"/>
                        </a:cubicBezTo>
                        <a:cubicBezTo>
                          <a:pt x="0" y="5410"/>
                          <a:pt x="242" y="6560"/>
                          <a:pt x="575" y="7597"/>
                        </a:cubicBezTo>
                        <a:lnTo>
                          <a:pt x="10860" y="21600"/>
                        </a:lnTo>
                        <a:lnTo>
                          <a:pt x="20995" y="7597"/>
                        </a:lnTo>
                        <a:cubicBezTo>
                          <a:pt x="21480" y="6560"/>
                          <a:pt x="21600" y="5410"/>
                          <a:pt x="21480" y="4220"/>
                        </a:cubicBezTo>
                        <a:cubicBezTo>
                          <a:pt x="21115" y="3222"/>
                          <a:pt x="20420" y="2187"/>
                          <a:pt x="19632" y="1305"/>
                        </a:cubicBezTo>
                        <a:cubicBezTo>
                          <a:pt x="18575" y="575"/>
                          <a:pt x="17425" y="152"/>
                          <a:pt x="16275" y="0"/>
                        </a:cubicBezTo>
                        <a:cubicBezTo>
                          <a:pt x="15005" y="0"/>
                          <a:pt x="13735" y="152"/>
                          <a:pt x="12705" y="730"/>
                        </a:cubicBezTo>
                        <a:cubicBezTo>
                          <a:pt x="12176" y="1018"/>
                          <a:pt x="11254" y="1746"/>
                          <a:pt x="10860" y="2187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ff"/>
                      </a:gs>
                      <a:gs pos="100000">
                        <a:srgbClr val="ffffff"/>
                      </a:gs>
                    </a:gsLst>
                    <a:lin ang="97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任意多边形 6173"/>
                  <p:cNvSpPr/>
                  <p:nvPr/>
                </p:nvSpPr>
                <p:spPr>
                  <a:xfrm rot="12960000">
                    <a:off x="2997360" y="3417120"/>
                    <a:ext cx="214560" cy="286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0860" y="2187"/>
                        </a:moveTo>
                        <a:cubicBezTo>
                          <a:pt x="10451" y="1746"/>
                          <a:pt x="9529" y="1018"/>
                          <a:pt x="9015" y="730"/>
                        </a:cubicBezTo>
                        <a:cubicBezTo>
                          <a:pt x="7865" y="152"/>
                          <a:pt x="6685" y="0"/>
                          <a:pt x="5415" y="0"/>
                        </a:cubicBezTo>
                        <a:cubicBezTo>
                          <a:pt x="4175" y="152"/>
                          <a:pt x="2995" y="575"/>
                          <a:pt x="1967" y="1305"/>
                        </a:cubicBezTo>
                        <a:cubicBezTo>
                          <a:pt x="1150" y="2187"/>
                          <a:pt x="575" y="3222"/>
                          <a:pt x="242" y="4220"/>
                        </a:cubicBezTo>
                        <a:cubicBezTo>
                          <a:pt x="0" y="5410"/>
                          <a:pt x="242" y="6560"/>
                          <a:pt x="575" y="7597"/>
                        </a:cubicBezTo>
                        <a:lnTo>
                          <a:pt x="10860" y="21600"/>
                        </a:lnTo>
                        <a:lnTo>
                          <a:pt x="20995" y="7597"/>
                        </a:lnTo>
                        <a:cubicBezTo>
                          <a:pt x="21480" y="6560"/>
                          <a:pt x="21600" y="5410"/>
                          <a:pt x="21480" y="4220"/>
                        </a:cubicBezTo>
                        <a:cubicBezTo>
                          <a:pt x="21115" y="3222"/>
                          <a:pt x="20420" y="2187"/>
                          <a:pt x="19632" y="1305"/>
                        </a:cubicBezTo>
                        <a:cubicBezTo>
                          <a:pt x="18575" y="575"/>
                          <a:pt x="17425" y="152"/>
                          <a:pt x="16275" y="0"/>
                        </a:cubicBezTo>
                        <a:cubicBezTo>
                          <a:pt x="15005" y="0"/>
                          <a:pt x="13735" y="152"/>
                          <a:pt x="12705" y="730"/>
                        </a:cubicBezTo>
                        <a:cubicBezTo>
                          <a:pt x="12176" y="1018"/>
                          <a:pt x="11254" y="1746"/>
                          <a:pt x="10860" y="2187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ff"/>
                      </a:gs>
                      <a:gs pos="100000">
                        <a:srgbClr val="ffffff"/>
                      </a:gs>
                    </a:gsLst>
                    <a:lin ang="1404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5" name="组合 6174"/>
                <p:cNvGrpSpPr/>
                <p:nvPr/>
              </p:nvGrpSpPr>
              <p:grpSpPr>
                <a:xfrm>
                  <a:off x="2936520" y="3214800"/>
                  <a:ext cx="497880" cy="474480"/>
                  <a:chOff x="2936520" y="3214800"/>
                  <a:chExt cx="497880" cy="474480"/>
                </a:xfrm>
              </p:grpSpPr>
              <p:sp>
                <p:nvSpPr>
                  <p:cNvPr id="156" name="任意多边形 6175"/>
                  <p:cNvSpPr/>
                  <p:nvPr/>
                </p:nvSpPr>
                <p:spPr>
                  <a:xfrm>
                    <a:off x="3098160" y="3214800"/>
                    <a:ext cx="174240" cy="232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0860" y="2187"/>
                        </a:moveTo>
                        <a:cubicBezTo>
                          <a:pt x="10451" y="1746"/>
                          <a:pt x="9529" y="1018"/>
                          <a:pt x="9015" y="730"/>
                        </a:cubicBezTo>
                        <a:cubicBezTo>
                          <a:pt x="7865" y="152"/>
                          <a:pt x="6685" y="0"/>
                          <a:pt x="5415" y="0"/>
                        </a:cubicBezTo>
                        <a:cubicBezTo>
                          <a:pt x="4175" y="152"/>
                          <a:pt x="2995" y="575"/>
                          <a:pt x="1967" y="1305"/>
                        </a:cubicBezTo>
                        <a:cubicBezTo>
                          <a:pt x="1150" y="2187"/>
                          <a:pt x="575" y="3222"/>
                          <a:pt x="242" y="4220"/>
                        </a:cubicBezTo>
                        <a:cubicBezTo>
                          <a:pt x="0" y="5410"/>
                          <a:pt x="242" y="6560"/>
                          <a:pt x="575" y="7597"/>
                        </a:cubicBezTo>
                        <a:lnTo>
                          <a:pt x="10860" y="21600"/>
                        </a:lnTo>
                        <a:lnTo>
                          <a:pt x="20995" y="7597"/>
                        </a:lnTo>
                        <a:cubicBezTo>
                          <a:pt x="21480" y="6560"/>
                          <a:pt x="21600" y="5410"/>
                          <a:pt x="21480" y="4220"/>
                        </a:cubicBezTo>
                        <a:cubicBezTo>
                          <a:pt x="21115" y="3222"/>
                          <a:pt x="20420" y="2187"/>
                          <a:pt x="19632" y="1305"/>
                        </a:cubicBezTo>
                        <a:cubicBezTo>
                          <a:pt x="18575" y="575"/>
                          <a:pt x="17425" y="152"/>
                          <a:pt x="16275" y="0"/>
                        </a:cubicBezTo>
                        <a:cubicBezTo>
                          <a:pt x="15005" y="0"/>
                          <a:pt x="13735" y="152"/>
                          <a:pt x="12705" y="730"/>
                        </a:cubicBezTo>
                        <a:cubicBezTo>
                          <a:pt x="12176" y="1018"/>
                          <a:pt x="11254" y="1746"/>
                          <a:pt x="10860" y="2187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任意多边形 6176"/>
                  <p:cNvSpPr/>
                  <p:nvPr/>
                </p:nvSpPr>
                <p:spPr>
                  <a:xfrm rot="4320000">
                    <a:off x="3209400" y="3296880"/>
                    <a:ext cx="174600" cy="232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0860" y="2187"/>
                        </a:moveTo>
                        <a:cubicBezTo>
                          <a:pt x="10451" y="1746"/>
                          <a:pt x="9529" y="1018"/>
                          <a:pt x="9015" y="730"/>
                        </a:cubicBezTo>
                        <a:cubicBezTo>
                          <a:pt x="7865" y="152"/>
                          <a:pt x="6685" y="0"/>
                          <a:pt x="5415" y="0"/>
                        </a:cubicBezTo>
                        <a:cubicBezTo>
                          <a:pt x="4175" y="152"/>
                          <a:pt x="2995" y="575"/>
                          <a:pt x="1967" y="1305"/>
                        </a:cubicBezTo>
                        <a:cubicBezTo>
                          <a:pt x="1150" y="2187"/>
                          <a:pt x="575" y="3222"/>
                          <a:pt x="242" y="4220"/>
                        </a:cubicBezTo>
                        <a:cubicBezTo>
                          <a:pt x="0" y="5410"/>
                          <a:pt x="242" y="6560"/>
                          <a:pt x="575" y="7597"/>
                        </a:cubicBezTo>
                        <a:lnTo>
                          <a:pt x="10860" y="21600"/>
                        </a:lnTo>
                        <a:lnTo>
                          <a:pt x="20995" y="7597"/>
                        </a:lnTo>
                        <a:cubicBezTo>
                          <a:pt x="21480" y="6560"/>
                          <a:pt x="21600" y="5410"/>
                          <a:pt x="21480" y="4220"/>
                        </a:cubicBezTo>
                        <a:cubicBezTo>
                          <a:pt x="21115" y="3222"/>
                          <a:pt x="20420" y="2187"/>
                          <a:pt x="19632" y="1305"/>
                        </a:cubicBezTo>
                        <a:cubicBezTo>
                          <a:pt x="18575" y="575"/>
                          <a:pt x="17425" y="152"/>
                          <a:pt x="16275" y="0"/>
                        </a:cubicBezTo>
                        <a:cubicBezTo>
                          <a:pt x="15005" y="0"/>
                          <a:pt x="13735" y="152"/>
                          <a:pt x="12705" y="730"/>
                        </a:cubicBezTo>
                        <a:cubicBezTo>
                          <a:pt x="12176" y="1018"/>
                          <a:pt x="11254" y="1746"/>
                          <a:pt x="10860" y="2187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任意多边形 6177"/>
                  <p:cNvSpPr/>
                  <p:nvPr/>
                </p:nvSpPr>
                <p:spPr>
                  <a:xfrm rot="8640000">
                    <a:off x="3165840" y="3427560"/>
                    <a:ext cx="174240" cy="232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0860" y="2187"/>
                        </a:moveTo>
                        <a:cubicBezTo>
                          <a:pt x="10451" y="1746"/>
                          <a:pt x="9529" y="1018"/>
                          <a:pt x="9015" y="730"/>
                        </a:cubicBezTo>
                        <a:cubicBezTo>
                          <a:pt x="7865" y="152"/>
                          <a:pt x="6685" y="0"/>
                          <a:pt x="5415" y="0"/>
                        </a:cubicBezTo>
                        <a:cubicBezTo>
                          <a:pt x="4175" y="152"/>
                          <a:pt x="2995" y="575"/>
                          <a:pt x="1967" y="1305"/>
                        </a:cubicBezTo>
                        <a:cubicBezTo>
                          <a:pt x="1150" y="2187"/>
                          <a:pt x="575" y="3222"/>
                          <a:pt x="242" y="4220"/>
                        </a:cubicBezTo>
                        <a:cubicBezTo>
                          <a:pt x="0" y="5410"/>
                          <a:pt x="242" y="6560"/>
                          <a:pt x="575" y="7597"/>
                        </a:cubicBezTo>
                        <a:lnTo>
                          <a:pt x="10860" y="21600"/>
                        </a:lnTo>
                        <a:lnTo>
                          <a:pt x="20995" y="7597"/>
                        </a:lnTo>
                        <a:cubicBezTo>
                          <a:pt x="21480" y="6560"/>
                          <a:pt x="21600" y="5410"/>
                          <a:pt x="21480" y="4220"/>
                        </a:cubicBezTo>
                        <a:cubicBezTo>
                          <a:pt x="21115" y="3222"/>
                          <a:pt x="20420" y="2187"/>
                          <a:pt x="19632" y="1305"/>
                        </a:cubicBezTo>
                        <a:cubicBezTo>
                          <a:pt x="18575" y="575"/>
                          <a:pt x="17425" y="152"/>
                          <a:pt x="16275" y="0"/>
                        </a:cubicBezTo>
                        <a:cubicBezTo>
                          <a:pt x="15005" y="0"/>
                          <a:pt x="13735" y="152"/>
                          <a:pt x="12705" y="730"/>
                        </a:cubicBezTo>
                        <a:cubicBezTo>
                          <a:pt x="12176" y="1018"/>
                          <a:pt x="11254" y="1746"/>
                          <a:pt x="10860" y="2187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任意多边形 6178"/>
                  <p:cNvSpPr/>
                  <p:nvPr/>
                </p:nvSpPr>
                <p:spPr>
                  <a:xfrm rot="17280000">
                    <a:off x="2986560" y="3296520"/>
                    <a:ext cx="174600" cy="232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0860" y="2187"/>
                        </a:moveTo>
                        <a:cubicBezTo>
                          <a:pt x="10451" y="1746"/>
                          <a:pt x="9529" y="1018"/>
                          <a:pt x="9015" y="730"/>
                        </a:cubicBezTo>
                        <a:cubicBezTo>
                          <a:pt x="7865" y="152"/>
                          <a:pt x="6685" y="0"/>
                          <a:pt x="5415" y="0"/>
                        </a:cubicBezTo>
                        <a:cubicBezTo>
                          <a:pt x="4175" y="152"/>
                          <a:pt x="2995" y="575"/>
                          <a:pt x="1967" y="1305"/>
                        </a:cubicBezTo>
                        <a:cubicBezTo>
                          <a:pt x="1150" y="2187"/>
                          <a:pt x="575" y="3222"/>
                          <a:pt x="242" y="4220"/>
                        </a:cubicBezTo>
                        <a:cubicBezTo>
                          <a:pt x="0" y="5410"/>
                          <a:pt x="242" y="6560"/>
                          <a:pt x="575" y="7597"/>
                        </a:cubicBezTo>
                        <a:lnTo>
                          <a:pt x="10860" y="21600"/>
                        </a:lnTo>
                        <a:lnTo>
                          <a:pt x="20995" y="7597"/>
                        </a:lnTo>
                        <a:cubicBezTo>
                          <a:pt x="21480" y="6560"/>
                          <a:pt x="21600" y="5410"/>
                          <a:pt x="21480" y="4220"/>
                        </a:cubicBezTo>
                        <a:cubicBezTo>
                          <a:pt x="21115" y="3222"/>
                          <a:pt x="20420" y="2187"/>
                          <a:pt x="19632" y="1305"/>
                        </a:cubicBezTo>
                        <a:cubicBezTo>
                          <a:pt x="18575" y="575"/>
                          <a:pt x="17425" y="152"/>
                          <a:pt x="16275" y="0"/>
                        </a:cubicBezTo>
                        <a:cubicBezTo>
                          <a:pt x="15005" y="0"/>
                          <a:pt x="13735" y="152"/>
                          <a:pt x="12705" y="730"/>
                        </a:cubicBezTo>
                        <a:cubicBezTo>
                          <a:pt x="12176" y="1018"/>
                          <a:pt x="11254" y="1746"/>
                          <a:pt x="10860" y="2187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任意多边形 6179"/>
                  <p:cNvSpPr/>
                  <p:nvPr/>
                </p:nvSpPr>
                <p:spPr>
                  <a:xfrm rot="12960000">
                    <a:off x="3030120" y="3423240"/>
                    <a:ext cx="174240" cy="232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0860" y="2187"/>
                        </a:moveTo>
                        <a:cubicBezTo>
                          <a:pt x="10451" y="1746"/>
                          <a:pt x="9529" y="1018"/>
                          <a:pt x="9015" y="730"/>
                        </a:cubicBezTo>
                        <a:cubicBezTo>
                          <a:pt x="7865" y="152"/>
                          <a:pt x="6685" y="0"/>
                          <a:pt x="5415" y="0"/>
                        </a:cubicBezTo>
                        <a:cubicBezTo>
                          <a:pt x="4175" y="152"/>
                          <a:pt x="2995" y="575"/>
                          <a:pt x="1967" y="1305"/>
                        </a:cubicBezTo>
                        <a:cubicBezTo>
                          <a:pt x="1150" y="2187"/>
                          <a:pt x="575" y="3222"/>
                          <a:pt x="242" y="4220"/>
                        </a:cubicBezTo>
                        <a:cubicBezTo>
                          <a:pt x="0" y="5410"/>
                          <a:pt x="242" y="6560"/>
                          <a:pt x="575" y="7597"/>
                        </a:cubicBezTo>
                        <a:lnTo>
                          <a:pt x="10860" y="21600"/>
                        </a:lnTo>
                        <a:lnTo>
                          <a:pt x="20995" y="7597"/>
                        </a:lnTo>
                        <a:cubicBezTo>
                          <a:pt x="21480" y="6560"/>
                          <a:pt x="21600" y="5410"/>
                          <a:pt x="21480" y="4220"/>
                        </a:cubicBezTo>
                        <a:cubicBezTo>
                          <a:pt x="21115" y="3222"/>
                          <a:pt x="20420" y="2187"/>
                          <a:pt x="19632" y="1305"/>
                        </a:cubicBezTo>
                        <a:cubicBezTo>
                          <a:pt x="18575" y="575"/>
                          <a:pt x="17425" y="152"/>
                          <a:pt x="16275" y="0"/>
                        </a:cubicBezTo>
                        <a:cubicBezTo>
                          <a:pt x="15005" y="0"/>
                          <a:pt x="13735" y="152"/>
                          <a:pt x="12705" y="730"/>
                        </a:cubicBezTo>
                        <a:cubicBezTo>
                          <a:pt x="12176" y="1018"/>
                          <a:pt x="11254" y="1746"/>
                          <a:pt x="10860" y="2187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61" name="文本框 6180"/>
              <p:cNvSpPr/>
              <p:nvPr/>
            </p:nvSpPr>
            <p:spPr>
              <a:xfrm>
                <a:off x="3006720" y="3262320"/>
                <a:ext cx="336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66ff"/>
                    </a:solidFill>
                    <a:latin typeface="Arial Black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2" name="组合 6181"/>
          <p:cNvGrpSpPr/>
          <p:nvPr/>
        </p:nvGrpSpPr>
        <p:grpSpPr>
          <a:xfrm>
            <a:off x="2869200" y="3780000"/>
            <a:ext cx="3537720" cy="584640"/>
            <a:chOff x="2869200" y="3780000"/>
            <a:chExt cx="3537720" cy="584640"/>
          </a:xfrm>
        </p:grpSpPr>
        <p:grpSp>
          <p:nvGrpSpPr>
            <p:cNvPr id="163" name=""/>
            <p:cNvGrpSpPr/>
            <p:nvPr/>
          </p:nvGrpSpPr>
          <p:grpSpPr>
            <a:xfrm>
              <a:off x="3165480" y="4230360"/>
              <a:ext cx="3241440" cy="360"/>
              <a:chOff x="3165480" y="4230360"/>
              <a:chExt cx="3241440" cy="360"/>
            </a:xfrm>
          </p:grpSpPr>
          <p:sp>
            <p:nvSpPr>
              <p:cNvPr id="164" name="直接连接符 6182"/>
              <p:cNvSpPr/>
              <p:nvPr/>
            </p:nvSpPr>
            <p:spPr>
              <a:xfrm>
                <a:off x="3165480" y="4230360"/>
                <a:ext cx="3241440" cy="0"/>
              </a:xfrm>
              <a:prstGeom prst="line">
                <a:avLst/>
              </a:prstGeom>
              <a:ln w="9360">
                <a:solidFill>
                  <a:srgbClr val="33cc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 txBox="1"/>
              <p:nvPr/>
            </p:nvSpPr>
            <p:spPr>
              <a:xfrm>
                <a:off x="3165480" y="4230360"/>
                <a:ext cx="3241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" name="组合 6183"/>
            <p:cNvGrpSpPr/>
            <p:nvPr/>
          </p:nvGrpSpPr>
          <p:grpSpPr>
            <a:xfrm>
              <a:off x="2869200" y="3780000"/>
              <a:ext cx="612360" cy="584640"/>
              <a:chOff x="2869200" y="3780000"/>
              <a:chExt cx="612360" cy="584640"/>
            </a:xfrm>
          </p:grpSpPr>
          <p:grpSp>
            <p:nvGrpSpPr>
              <p:cNvPr id="167" name="组合 6184"/>
              <p:cNvGrpSpPr/>
              <p:nvPr/>
            </p:nvGrpSpPr>
            <p:grpSpPr>
              <a:xfrm>
                <a:off x="2869200" y="3780000"/>
                <a:ext cx="612360" cy="584640"/>
                <a:chOff x="2869200" y="3780000"/>
                <a:chExt cx="612360" cy="584640"/>
              </a:xfrm>
            </p:grpSpPr>
            <p:grpSp>
              <p:nvGrpSpPr>
                <p:cNvPr id="168" name="组合 6185"/>
                <p:cNvGrpSpPr/>
                <p:nvPr/>
              </p:nvGrpSpPr>
              <p:grpSpPr>
                <a:xfrm>
                  <a:off x="2869200" y="3780000"/>
                  <a:ext cx="612360" cy="584640"/>
                  <a:chOff x="2869200" y="3780000"/>
                  <a:chExt cx="612360" cy="584640"/>
                </a:xfrm>
              </p:grpSpPr>
              <p:sp>
                <p:nvSpPr>
                  <p:cNvPr id="169" name="任意多边形 6186"/>
                  <p:cNvSpPr/>
                  <p:nvPr/>
                </p:nvSpPr>
                <p:spPr>
                  <a:xfrm>
                    <a:off x="3068280" y="3780000"/>
                    <a:ext cx="214560" cy="28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0860" y="2187"/>
                        </a:moveTo>
                        <a:cubicBezTo>
                          <a:pt x="10451" y="1746"/>
                          <a:pt x="9529" y="1018"/>
                          <a:pt x="9015" y="730"/>
                        </a:cubicBezTo>
                        <a:cubicBezTo>
                          <a:pt x="7865" y="152"/>
                          <a:pt x="6685" y="0"/>
                          <a:pt x="5415" y="0"/>
                        </a:cubicBezTo>
                        <a:cubicBezTo>
                          <a:pt x="4175" y="152"/>
                          <a:pt x="2995" y="575"/>
                          <a:pt x="1967" y="1305"/>
                        </a:cubicBezTo>
                        <a:cubicBezTo>
                          <a:pt x="1150" y="2187"/>
                          <a:pt x="575" y="3222"/>
                          <a:pt x="242" y="4220"/>
                        </a:cubicBezTo>
                        <a:cubicBezTo>
                          <a:pt x="0" y="5410"/>
                          <a:pt x="242" y="6560"/>
                          <a:pt x="575" y="7597"/>
                        </a:cubicBezTo>
                        <a:lnTo>
                          <a:pt x="10860" y="21600"/>
                        </a:lnTo>
                        <a:lnTo>
                          <a:pt x="20995" y="7597"/>
                        </a:lnTo>
                        <a:cubicBezTo>
                          <a:pt x="21480" y="6560"/>
                          <a:pt x="21600" y="5410"/>
                          <a:pt x="21480" y="4220"/>
                        </a:cubicBezTo>
                        <a:cubicBezTo>
                          <a:pt x="21115" y="3222"/>
                          <a:pt x="20420" y="2187"/>
                          <a:pt x="19632" y="1305"/>
                        </a:cubicBezTo>
                        <a:cubicBezTo>
                          <a:pt x="18575" y="575"/>
                          <a:pt x="17425" y="152"/>
                          <a:pt x="16275" y="0"/>
                        </a:cubicBezTo>
                        <a:cubicBezTo>
                          <a:pt x="15005" y="0"/>
                          <a:pt x="13735" y="152"/>
                          <a:pt x="12705" y="730"/>
                        </a:cubicBezTo>
                        <a:cubicBezTo>
                          <a:pt x="12176" y="1018"/>
                          <a:pt x="11254" y="1746"/>
                          <a:pt x="10860" y="2187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cc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任意多边形 6187"/>
                  <p:cNvSpPr/>
                  <p:nvPr/>
                </p:nvSpPr>
                <p:spPr>
                  <a:xfrm rot="4320000">
                    <a:off x="3205080" y="3881160"/>
                    <a:ext cx="214560" cy="28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0860" y="2187"/>
                        </a:moveTo>
                        <a:cubicBezTo>
                          <a:pt x="10451" y="1746"/>
                          <a:pt x="9529" y="1018"/>
                          <a:pt x="9015" y="730"/>
                        </a:cubicBezTo>
                        <a:cubicBezTo>
                          <a:pt x="7865" y="152"/>
                          <a:pt x="6685" y="0"/>
                          <a:pt x="5415" y="0"/>
                        </a:cubicBezTo>
                        <a:cubicBezTo>
                          <a:pt x="4175" y="152"/>
                          <a:pt x="2995" y="575"/>
                          <a:pt x="1967" y="1305"/>
                        </a:cubicBezTo>
                        <a:cubicBezTo>
                          <a:pt x="1150" y="2187"/>
                          <a:pt x="575" y="3222"/>
                          <a:pt x="242" y="4220"/>
                        </a:cubicBezTo>
                        <a:cubicBezTo>
                          <a:pt x="0" y="5410"/>
                          <a:pt x="242" y="6560"/>
                          <a:pt x="575" y="7597"/>
                        </a:cubicBezTo>
                        <a:lnTo>
                          <a:pt x="10860" y="21600"/>
                        </a:lnTo>
                        <a:lnTo>
                          <a:pt x="20995" y="7597"/>
                        </a:lnTo>
                        <a:cubicBezTo>
                          <a:pt x="21480" y="6560"/>
                          <a:pt x="21600" y="5410"/>
                          <a:pt x="21480" y="4220"/>
                        </a:cubicBezTo>
                        <a:cubicBezTo>
                          <a:pt x="21115" y="3222"/>
                          <a:pt x="20420" y="2187"/>
                          <a:pt x="19632" y="1305"/>
                        </a:cubicBezTo>
                        <a:cubicBezTo>
                          <a:pt x="18575" y="575"/>
                          <a:pt x="17425" y="152"/>
                          <a:pt x="16275" y="0"/>
                        </a:cubicBezTo>
                        <a:cubicBezTo>
                          <a:pt x="15005" y="0"/>
                          <a:pt x="13735" y="152"/>
                          <a:pt x="12705" y="730"/>
                        </a:cubicBezTo>
                        <a:cubicBezTo>
                          <a:pt x="12176" y="1018"/>
                          <a:pt x="11254" y="1746"/>
                          <a:pt x="10860" y="2187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cc00"/>
                      </a:gs>
                      <a:gs pos="100000">
                        <a:srgbClr val="ffffff"/>
                      </a:gs>
                    </a:gsLst>
                    <a:lin ang="108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任意多边形 6188"/>
                  <p:cNvSpPr/>
                  <p:nvPr/>
                </p:nvSpPr>
                <p:spPr>
                  <a:xfrm rot="8640000">
                    <a:off x="3151440" y="4042440"/>
                    <a:ext cx="214560" cy="286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0860" y="2187"/>
                        </a:moveTo>
                        <a:cubicBezTo>
                          <a:pt x="10451" y="1746"/>
                          <a:pt x="9529" y="1018"/>
                          <a:pt x="9015" y="730"/>
                        </a:cubicBezTo>
                        <a:cubicBezTo>
                          <a:pt x="7865" y="152"/>
                          <a:pt x="6685" y="0"/>
                          <a:pt x="5415" y="0"/>
                        </a:cubicBezTo>
                        <a:cubicBezTo>
                          <a:pt x="4175" y="152"/>
                          <a:pt x="2995" y="575"/>
                          <a:pt x="1967" y="1305"/>
                        </a:cubicBezTo>
                        <a:cubicBezTo>
                          <a:pt x="1150" y="2187"/>
                          <a:pt x="575" y="3222"/>
                          <a:pt x="242" y="4220"/>
                        </a:cubicBezTo>
                        <a:cubicBezTo>
                          <a:pt x="0" y="5410"/>
                          <a:pt x="242" y="6560"/>
                          <a:pt x="575" y="7597"/>
                        </a:cubicBezTo>
                        <a:lnTo>
                          <a:pt x="10860" y="21600"/>
                        </a:lnTo>
                        <a:lnTo>
                          <a:pt x="20995" y="7597"/>
                        </a:lnTo>
                        <a:cubicBezTo>
                          <a:pt x="21480" y="6560"/>
                          <a:pt x="21600" y="5410"/>
                          <a:pt x="21480" y="4220"/>
                        </a:cubicBezTo>
                        <a:cubicBezTo>
                          <a:pt x="21115" y="3222"/>
                          <a:pt x="20420" y="2187"/>
                          <a:pt x="19632" y="1305"/>
                        </a:cubicBezTo>
                        <a:cubicBezTo>
                          <a:pt x="18575" y="575"/>
                          <a:pt x="17425" y="152"/>
                          <a:pt x="16275" y="0"/>
                        </a:cubicBezTo>
                        <a:cubicBezTo>
                          <a:pt x="15005" y="0"/>
                          <a:pt x="13735" y="152"/>
                          <a:pt x="12705" y="730"/>
                        </a:cubicBezTo>
                        <a:cubicBezTo>
                          <a:pt x="12176" y="1018"/>
                          <a:pt x="11254" y="1746"/>
                          <a:pt x="10860" y="2187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cc00"/>
                      </a:gs>
                      <a:gs pos="100000">
                        <a:srgbClr val="ffffff"/>
                      </a:gs>
                    </a:gsLst>
                    <a:lin ang="1836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任意多边形 6189"/>
                  <p:cNvSpPr/>
                  <p:nvPr/>
                </p:nvSpPr>
                <p:spPr>
                  <a:xfrm rot="17280000">
                    <a:off x="2931120" y="3881160"/>
                    <a:ext cx="214560" cy="28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0860" y="2187"/>
                        </a:moveTo>
                        <a:cubicBezTo>
                          <a:pt x="10451" y="1746"/>
                          <a:pt x="9529" y="1018"/>
                          <a:pt x="9015" y="730"/>
                        </a:cubicBezTo>
                        <a:cubicBezTo>
                          <a:pt x="7865" y="152"/>
                          <a:pt x="6685" y="0"/>
                          <a:pt x="5415" y="0"/>
                        </a:cubicBezTo>
                        <a:cubicBezTo>
                          <a:pt x="4175" y="152"/>
                          <a:pt x="2995" y="575"/>
                          <a:pt x="1967" y="1305"/>
                        </a:cubicBezTo>
                        <a:cubicBezTo>
                          <a:pt x="1150" y="2187"/>
                          <a:pt x="575" y="3222"/>
                          <a:pt x="242" y="4220"/>
                        </a:cubicBezTo>
                        <a:cubicBezTo>
                          <a:pt x="0" y="5410"/>
                          <a:pt x="242" y="6560"/>
                          <a:pt x="575" y="7597"/>
                        </a:cubicBezTo>
                        <a:lnTo>
                          <a:pt x="10860" y="21600"/>
                        </a:lnTo>
                        <a:lnTo>
                          <a:pt x="20995" y="7597"/>
                        </a:lnTo>
                        <a:cubicBezTo>
                          <a:pt x="21480" y="6560"/>
                          <a:pt x="21600" y="5410"/>
                          <a:pt x="21480" y="4220"/>
                        </a:cubicBezTo>
                        <a:cubicBezTo>
                          <a:pt x="21115" y="3222"/>
                          <a:pt x="20420" y="2187"/>
                          <a:pt x="19632" y="1305"/>
                        </a:cubicBezTo>
                        <a:cubicBezTo>
                          <a:pt x="18575" y="575"/>
                          <a:pt x="17425" y="152"/>
                          <a:pt x="16275" y="0"/>
                        </a:cubicBezTo>
                        <a:cubicBezTo>
                          <a:pt x="15005" y="0"/>
                          <a:pt x="13735" y="152"/>
                          <a:pt x="12705" y="730"/>
                        </a:cubicBezTo>
                        <a:cubicBezTo>
                          <a:pt x="12176" y="1018"/>
                          <a:pt x="11254" y="1746"/>
                          <a:pt x="10860" y="2187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cc00"/>
                      </a:gs>
                      <a:gs pos="100000">
                        <a:srgbClr val="ffffff"/>
                      </a:gs>
                    </a:gsLst>
                    <a:lin ang="97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任意多边形 6190"/>
                  <p:cNvSpPr/>
                  <p:nvPr/>
                </p:nvSpPr>
                <p:spPr>
                  <a:xfrm rot="12960000">
                    <a:off x="2984760" y="4035600"/>
                    <a:ext cx="214560" cy="28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0860" y="2187"/>
                        </a:moveTo>
                        <a:cubicBezTo>
                          <a:pt x="10451" y="1746"/>
                          <a:pt x="9529" y="1018"/>
                          <a:pt x="9015" y="730"/>
                        </a:cubicBezTo>
                        <a:cubicBezTo>
                          <a:pt x="7865" y="152"/>
                          <a:pt x="6685" y="0"/>
                          <a:pt x="5415" y="0"/>
                        </a:cubicBezTo>
                        <a:cubicBezTo>
                          <a:pt x="4175" y="152"/>
                          <a:pt x="2995" y="575"/>
                          <a:pt x="1967" y="1305"/>
                        </a:cubicBezTo>
                        <a:cubicBezTo>
                          <a:pt x="1150" y="2187"/>
                          <a:pt x="575" y="3222"/>
                          <a:pt x="242" y="4220"/>
                        </a:cubicBezTo>
                        <a:cubicBezTo>
                          <a:pt x="0" y="5410"/>
                          <a:pt x="242" y="6560"/>
                          <a:pt x="575" y="7597"/>
                        </a:cubicBezTo>
                        <a:lnTo>
                          <a:pt x="10860" y="21600"/>
                        </a:lnTo>
                        <a:lnTo>
                          <a:pt x="20995" y="7597"/>
                        </a:lnTo>
                        <a:cubicBezTo>
                          <a:pt x="21480" y="6560"/>
                          <a:pt x="21600" y="5410"/>
                          <a:pt x="21480" y="4220"/>
                        </a:cubicBezTo>
                        <a:cubicBezTo>
                          <a:pt x="21115" y="3222"/>
                          <a:pt x="20420" y="2187"/>
                          <a:pt x="19632" y="1305"/>
                        </a:cubicBezTo>
                        <a:cubicBezTo>
                          <a:pt x="18575" y="575"/>
                          <a:pt x="17425" y="152"/>
                          <a:pt x="16275" y="0"/>
                        </a:cubicBezTo>
                        <a:cubicBezTo>
                          <a:pt x="15005" y="0"/>
                          <a:pt x="13735" y="152"/>
                          <a:pt x="12705" y="730"/>
                        </a:cubicBezTo>
                        <a:cubicBezTo>
                          <a:pt x="12176" y="1018"/>
                          <a:pt x="11254" y="1746"/>
                          <a:pt x="10860" y="2187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cc00"/>
                      </a:gs>
                      <a:gs pos="100000">
                        <a:srgbClr val="ffffff"/>
                      </a:gs>
                    </a:gsLst>
                    <a:lin ang="1404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" name="组合 6191"/>
                <p:cNvGrpSpPr/>
                <p:nvPr/>
              </p:nvGrpSpPr>
              <p:grpSpPr>
                <a:xfrm>
                  <a:off x="2923920" y="3833640"/>
                  <a:ext cx="496800" cy="474840"/>
                  <a:chOff x="2923920" y="3833640"/>
                  <a:chExt cx="496800" cy="474840"/>
                </a:xfrm>
              </p:grpSpPr>
              <p:sp>
                <p:nvSpPr>
                  <p:cNvPr id="175" name="任意多边形 6192"/>
                  <p:cNvSpPr/>
                  <p:nvPr/>
                </p:nvSpPr>
                <p:spPr>
                  <a:xfrm>
                    <a:off x="3085200" y="3833640"/>
                    <a:ext cx="173880" cy="232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0860" y="2187"/>
                        </a:moveTo>
                        <a:cubicBezTo>
                          <a:pt x="10451" y="1746"/>
                          <a:pt x="9529" y="1018"/>
                          <a:pt x="9015" y="730"/>
                        </a:cubicBezTo>
                        <a:cubicBezTo>
                          <a:pt x="7865" y="152"/>
                          <a:pt x="6685" y="0"/>
                          <a:pt x="5415" y="0"/>
                        </a:cubicBezTo>
                        <a:cubicBezTo>
                          <a:pt x="4175" y="152"/>
                          <a:pt x="2995" y="575"/>
                          <a:pt x="1967" y="1305"/>
                        </a:cubicBezTo>
                        <a:cubicBezTo>
                          <a:pt x="1150" y="2187"/>
                          <a:pt x="575" y="3222"/>
                          <a:pt x="242" y="4220"/>
                        </a:cubicBezTo>
                        <a:cubicBezTo>
                          <a:pt x="0" y="5410"/>
                          <a:pt x="242" y="6560"/>
                          <a:pt x="575" y="7597"/>
                        </a:cubicBezTo>
                        <a:lnTo>
                          <a:pt x="10860" y="21600"/>
                        </a:lnTo>
                        <a:lnTo>
                          <a:pt x="20995" y="7597"/>
                        </a:lnTo>
                        <a:cubicBezTo>
                          <a:pt x="21480" y="6560"/>
                          <a:pt x="21600" y="5410"/>
                          <a:pt x="21480" y="4220"/>
                        </a:cubicBezTo>
                        <a:cubicBezTo>
                          <a:pt x="21115" y="3222"/>
                          <a:pt x="20420" y="2187"/>
                          <a:pt x="19632" y="1305"/>
                        </a:cubicBezTo>
                        <a:cubicBezTo>
                          <a:pt x="18575" y="575"/>
                          <a:pt x="17425" y="152"/>
                          <a:pt x="16275" y="0"/>
                        </a:cubicBezTo>
                        <a:cubicBezTo>
                          <a:pt x="15005" y="0"/>
                          <a:pt x="13735" y="152"/>
                          <a:pt x="12705" y="730"/>
                        </a:cubicBezTo>
                        <a:cubicBezTo>
                          <a:pt x="12176" y="1018"/>
                          <a:pt x="11254" y="1746"/>
                          <a:pt x="10860" y="2187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任意多边形 6193"/>
                  <p:cNvSpPr/>
                  <p:nvPr/>
                </p:nvSpPr>
                <p:spPr>
                  <a:xfrm rot="4320000">
                    <a:off x="3195720" y="3915720"/>
                    <a:ext cx="174600" cy="232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0860" y="2187"/>
                        </a:moveTo>
                        <a:cubicBezTo>
                          <a:pt x="10451" y="1746"/>
                          <a:pt x="9529" y="1018"/>
                          <a:pt x="9015" y="730"/>
                        </a:cubicBezTo>
                        <a:cubicBezTo>
                          <a:pt x="7865" y="152"/>
                          <a:pt x="6685" y="0"/>
                          <a:pt x="5415" y="0"/>
                        </a:cubicBezTo>
                        <a:cubicBezTo>
                          <a:pt x="4175" y="152"/>
                          <a:pt x="2995" y="575"/>
                          <a:pt x="1967" y="1305"/>
                        </a:cubicBezTo>
                        <a:cubicBezTo>
                          <a:pt x="1150" y="2187"/>
                          <a:pt x="575" y="3222"/>
                          <a:pt x="242" y="4220"/>
                        </a:cubicBezTo>
                        <a:cubicBezTo>
                          <a:pt x="0" y="5410"/>
                          <a:pt x="242" y="6560"/>
                          <a:pt x="575" y="7597"/>
                        </a:cubicBezTo>
                        <a:lnTo>
                          <a:pt x="10860" y="21600"/>
                        </a:lnTo>
                        <a:lnTo>
                          <a:pt x="20995" y="7597"/>
                        </a:lnTo>
                        <a:cubicBezTo>
                          <a:pt x="21480" y="6560"/>
                          <a:pt x="21600" y="5410"/>
                          <a:pt x="21480" y="4220"/>
                        </a:cubicBezTo>
                        <a:cubicBezTo>
                          <a:pt x="21115" y="3222"/>
                          <a:pt x="20420" y="2187"/>
                          <a:pt x="19632" y="1305"/>
                        </a:cubicBezTo>
                        <a:cubicBezTo>
                          <a:pt x="18575" y="575"/>
                          <a:pt x="17425" y="152"/>
                          <a:pt x="16275" y="0"/>
                        </a:cubicBezTo>
                        <a:cubicBezTo>
                          <a:pt x="15005" y="0"/>
                          <a:pt x="13735" y="152"/>
                          <a:pt x="12705" y="730"/>
                        </a:cubicBezTo>
                        <a:cubicBezTo>
                          <a:pt x="12176" y="1018"/>
                          <a:pt x="11254" y="1746"/>
                          <a:pt x="10860" y="2187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任意多边形 6194"/>
                  <p:cNvSpPr/>
                  <p:nvPr/>
                </p:nvSpPr>
                <p:spPr>
                  <a:xfrm rot="8640000">
                    <a:off x="3152880" y="4046760"/>
                    <a:ext cx="173880" cy="232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0860" y="2187"/>
                        </a:moveTo>
                        <a:cubicBezTo>
                          <a:pt x="10451" y="1746"/>
                          <a:pt x="9529" y="1018"/>
                          <a:pt x="9015" y="730"/>
                        </a:cubicBezTo>
                        <a:cubicBezTo>
                          <a:pt x="7865" y="152"/>
                          <a:pt x="6685" y="0"/>
                          <a:pt x="5415" y="0"/>
                        </a:cubicBezTo>
                        <a:cubicBezTo>
                          <a:pt x="4175" y="152"/>
                          <a:pt x="2995" y="575"/>
                          <a:pt x="1967" y="1305"/>
                        </a:cubicBezTo>
                        <a:cubicBezTo>
                          <a:pt x="1150" y="2187"/>
                          <a:pt x="575" y="3222"/>
                          <a:pt x="242" y="4220"/>
                        </a:cubicBezTo>
                        <a:cubicBezTo>
                          <a:pt x="0" y="5410"/>
                          <a:pt x="242" y="6560"/>
                          <a:pt x="575" y="7597"/>
                        </a:cubicBezTo>
                        <a:lnTo>
                          <a:pt x="10860" y="21600"/>
                        </a:lnTo>
                        <a:lnTo>
                          <a:pt x="20995" y="7597"/>
                        </a:lnTo>
                        <a:cubicBezTo>
                          <a:pt x="21480" y="6560"/>
                          <a:pt x="21600" y="5410"/>
                          <a:pt x="21480" y="4220"/>
                        </a:cubicBezTo>
                        <a:cubicBezTo>
                          <a:pt x="21115" y="3222"/>
                          <a:pt x="20420" y="2187"/>
                          <a:pt x="19632" y="1305"/>
                        </a:cubicBezTo>
                        <a:cubicBezTo>
                          <a:pt x="18575" y="575"/>
                          <a:pt x="17425" y="152"/>
                          <a:pt x="16275" y="0"/>
                        </a:cubicBezTo>
                        <a:cubicBezTo>
                          <a:pt x="15005" y="0"/>
                          <a:pt x="13735" y="152"/>
                          <a:pt x="12705" y="730"/>
                        </a:cubicBezTo>
                        <a:cubicBezTo>
                          <a:pt x="12176" y="1018"/>
                          <a:pt x="11254" y="1746"/>
                          <a:pt x="10860" y="2187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任意多边形 6195"/>
                  <p:cNvSpPr/>
                  <p:nvPr/>
                </p:nvSpPr>
                <p:spPr>
                  <a:xfrm rot="17280000">
                    <a:off x="2973960" y="3915720"/>
                    <a:ext cx="174600" cy="232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0860" y="2187"/>
                        </a:moveTo>
                        <a:cubicBezTo>
                          <a:pt x="10451" y="1746"/>
                          <a:pt x="9529" y="1018"/>
                          <a:pt x="9015" y="730"/>
                        </a:cubicBezTo>
                        <a:cubicBezTo>
                          <a:pt x="7865" y="152"/>
                          <a:pt x="6685" y="0"/>
                          <a:pt x="5415" y="0"/>
                        </a:cubicBezTo>
                        <a:cubicBezTo>
                          <a:pt x="4175" y="152"/>
                          <a:pt x="2995" y="575"/>
                          <a:pt x="1967" y="1305"/>
                        </a:cubicBezTo>
                        <a:cubicBezTo>
                          <a:pt x="1150" y="2187"/>
                          <a:pt x="575" y="3222"/>
                          <a:pt x="242" y="4220"/>
                        </a:cubicBezTo>
                        <a:cubicBezTo>
                          <a:pt x="0" y="5410"/>
                          <a:pt x="242" y="6560"/>
                          <a:pt x="575" y="7597"/>
                        </a:cubicBezTo>
                        <a:lnTo>
                          <a:pt x="10860" y="21600"/>
                        </a:lnTo>
                        <a:lnTo>
                          <a:pt x="20995" y="7597"/>
                        </a:lnTo>
                        <a:cubicBezTo>
                          <a:pt x="21480" y="6560"/>
                          <a:pt x="21600" y="5410"/>
                          <a:pt x="21480" y="4220"/>
                        </a:cubicBezTo>
                        <a:cubicBezTo>
                          <a:pt x="21115" y="3222"/>
                          <a:pt x="20420" y="2187"/>
                          <a:pt x="19632" y="1305"/>
                        </a:cubicBezTo>
                        <a:cubicBezTo>
                          <a:pt x="18575" y="575"/>
                          <a:pt x="17425" y="152"/>
                          <a:pt x="16275" y="0"/>
                        </a:cubicBezTo>
                        <a:cubicBezTo>
                          <a:pt x="15005" y="0"/>
                          <a:pt x="13735" y="152"/>
                          <a:pt x="12705" y="730"/>
                        </a:cubicBezTo>
                        <a:cubicBezTo>
                          <a:pt x="12176" y="1018"/>
                          <a:pt x="11254" y="1746"/>
                          <a:pt x="10860" y="2187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任意多边形 6196"/>
                  <p:cNvSpPr/>
                  <p:nvPr/>
                </p:nvSpPr>
                <p:spPr>
                  <a:xfrm rot="12960000">
                    <a:off x="3016800" y="4041720"/>
                    <a:ext cx="173880" cy="232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0860" y="2187"/>
                        </a:moveTo>
                        <a:cubicBezTo>
                          <a:pt x="10451" y="1746"/>
                          <a:pt x="9529" y="1018"/>
                          <a:pt x="9015" y="730"/>
                        </a:cubicBezTo>
                        <a:cubicBezTo>
                          <a:pt x="7865" y="152"/>
                          <a:pt x="6685" y="0"/>
                          <a:pt x="5415" y="0"/>
                        </a:cubicBezTo>
                        <a:cubicBezTo>
                          <a:pt x="4175" y="152"/>
                          <a:pt x="2995" y="575"/>
                          <a:pt x="1967" y="1305"/>
                        </a:cubicBezTo>
                        <a:cubicBezTo>
                          <a:pt x="1150" y="2187"/>
                          <a:pt x="575" y="3222"/>
                          <a:pt x="242" y="4220"/>
                        </a:cubicBezTo>
                        <a:cubicBezTo>
                          <a:pt x="0" y="5410"/>
                          <a:pt x="242" y="6560"/>
                          <a:pt x="575" y="7597"/>
                        </a:cubicBezTo>
                        <a:lnTo>
                          <a:pt x="10860" y="21600"/>
                        </a:lnTo>
                        <a:lnTo>
                          <a:pt x="20995" y="7597"/>
                        </a:lnTo>
                        <a:cubicBezTo>
                          <a:pt x="21480" y="6560"/>
                          <a:pt x="21600" y="5410"/>
                          <a:pt x="21480" y="4220"/>
                        </a:cubicBezTo>
                        <a:cubicBezTo>
                          <a:pt x="21115" y="3222"/>
                          <a:pt x="20420" y="2187"/>
                          <a:pt x="19632" y="1305"/>
                        </a:cubicBezTo>
                        <a:cubicBezTo>
                          <a:pt x="18575" y="575"/>
                          <a:pt x="17425" y="152"/>
                          <a:pt x="16275" y="0"/>
                        </a:cubicBezTo>
                        <a:cubicBezTo>
                          <a:pt x="15005" y="0"/>
                          <a:pt x="13735" y="152"/>
                          <a:pt x="12705" y="730"/>
                        </a:cubicBezTo>
                        <a:cubicBezTo>
                          <a:pt x="12176" y="1018"/>
                          <a:pt x="11254" y="1746"/>
                          <a:pt x="10860" y="2187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80" name="文本框 6197"/>
              <p:cNvSpPr/>
              <p:nvPr/>
            </p:nvSpPr>
            <p:spPr>
              <a:xfrm>
                <a:off x="2993760" y="3881160"/>
                <a:ext cx="336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9900"/>
                    </a:solidFill>
                    <a:latin typeface="Arial Black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1" name="组合 6198"/>
          <p:cNvGrpSpPr/>
          <p:nvPr/>
        </p:nvGrpSpPr>
        <p:grpSpPr>
          <a:xfrm>
            <a:off x="2869200" y="4398840"/>
            <a:ext cx="3537720" cy="584640"/>
            <a:chOff x="2869200" y="4398840"/>
            <a:chExt cx="3537720" cy="584640"/>
          </a:xfrm>
        </p:grpSpPr>
        <p:grpSp>
          <p:nvGrpSpPr>
            <p:cNvPr id="182" name=""/>
            <p:cNvGrpSpPr/>
            <p:nvPr/>
          </p:nvGrpSpPr>
          <p:grpSpPr>
            <a:xfrm>
              <a:off x="3165480" y="4849560"/>
              <a:ext cx="3241440" cy="360"/>
              <a:chOff x="3165480" y="4849560"/>
              <a:chExt cx="3241440" cy="360"/>
            </a:xfrm>
          </p:grpSpPr>
          <p:sp>
            <p:nvSpPr>
              <p:cNvPr id="183" name="直接连接符 6199"/>
              <p:cNvSpPr/>
              <p:nvPr/>
            </p:nvSpPr>
            <p:spPr>
              <a:xfrm>
                <a:off x="3165480" y="4849560"/>
                <a:ext cx="3241440" cy="0"/>
              </a:xfrm>
              <a:prstGeom prst="line">
                <a:avLst/>
              </a:prstGeom>
              <a:ln w="9360">
                <a:solidFill>
                  <a:srgbClr val="ff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 txBox="1"/>
              <p:nvPr/>
            </p:nvSpPr>
            <p:spPr>
              <a:xfrm>
                <a:off x="3165480" y="4849560"/>
                <a:ext cx="3241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组合 6200"/>
            <p:cNvGrpSpPr/>
            <p:nvPr/>
          </p:nvGrpSpPr>
          <p:grpSpPr>
            <a:xfrm>
              <a:off x="2869200" y="4398840"/>
              <a:ext cx="612360" cy="584640"/>
              <a:chOff x="2869200" y="4398840"/>
              <a:chExt cx="612360" cy="584640"/>
            </a:xfrm>
          </p:grpSpPr>
          <p:grpSp>
            <p:nvGrpSpPr>
              <p:cNvPr id="186" name="组合 6201"/>
              <p:cNvGrpSpPr/>
              <p:nvPr/>
            </p:nvGrpSpPr>
            <p:grpSpPr>
              <a:xfrm>
                <a:off x="2869200" y="4398840"/>
                <a:ext cx="612360" cy="584640"/>
                <a:chOff x="2869200" y="4398840"/>
                <a:chExt cx="612360" cy="584640"/>
              </a:xfrm>
            </p:grpSpPr>
            <p:grpSp>
              <p:nvGrpSpPr>
                <p:cNvPr id="187" name="组合 6202"/>
                <p:cNvGrpSpPr/>
                <p:nvPr/>
              </p:nvGrpSpPr>
              <p:grpSpPr>
                <a:xfrm>
                  <a:off x="2869200" y="4398840"/>
                  <a:ext cx="612360" cy="584640"/>
                  <a:chOff x="2869200" y="4398840"/>
                  <a:chExt cx="612360" cy="584640"/>
                </a:xfrm>
              </p:grpSpPr>
              <p:sp>
                <p:nvSpPr>
                  <p:cNvPr id="188" name="任意多边形 6203"/>
                  <p:cNvSpPr/>
                  <p:nvPr/>
                </p:nvSpPr>
                <p:spPr>
                  <a:xfrm>
                    <a:off x="3068280" y="4398840"/>
                    <a:ext cx="214560" cy="286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0860" y="2187"/>
                        </a:moveTo>
                        <a:cubicBezTo>
                          <a:pt x="10451" y="1746"/>
                          <a:pt x="9529" y="1018"/>
                          <a:pt x="9015" y="730"/>
                        </a:cubicBezTo>
                        <a:cubicBezTo>
                          <a:pt x="7865" y="152"/>
                          <a:pt x="6685" y="0"/>
                          <a:pt x="5415" y="0"/>
                        </a:cubicBezTo>
                        <a:cubicBezTo>
                          <a:pt x="4175" y="152"/>
                          <a:pt x="2995" y="575"/>
                          <a:pt x="1967" y="1305"/>
                        </a:cubicBezTo>
                        <a:cubicBezTo>
                          <a:pt x="1150" y="2187"/>
                          <a:pt x="575" y="3222"/>
                          <a:pt x="242" y="4220"/>
                        </a:cubicBezTo>
                        <a:cubicBezTo>
                          <a:pt x="0" y="5410"/>
                          <a:pt x="242" y="6560"/>
                          <a:pt x="575" y="7597"/>
                        </a:cubicBezTo>
                        <a:lnTo>
                          <a:pt x="10860" y="21600"/>
                        </a:lnTo>
                        <a:lnTo>
                          <a:pt x="20995" y="7597"/>
                        </a:lnTo>
                        <a:cubicBezTo>
                          <a:pt x="21480" y="6560"/>
                          <a:pt x="21600" y="5410"/>
                          <a:pt x="21480" y="4220"/>
                        </a:cubicBezTo>
                        <a:cubicBezTo>
                          <a:pt x="21115" y="3222"/>
                          <a:pt x="20420" y="2187"/>
                          <a:pt x="19632" y="1305"/>
                        </a:cubicBezTo>
                        <a:cubicBezTo>
                          <a:pt x="18575" y="575"/>
                          <a:pt x="17425" y="152"/>
                          <a:pt x="16275" y="0"/>
                        </a:cubicBezTo>
                        <a:cubicBezTo>
                          <a:pt x="15005" y="0"/>
                          <a:pt x="13735" y="152"/>
                          <a:pt x="12705" y="730"/>
                        </a:cubicBezTo>
                        <a:cubicBezTo>
                          <a:pt x="12176" y="1018"/>
                          <a:pt x="11254" y="1746"/>
                          <a:pt x="10860" y="2187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任意多边形 6204"/>
                  <p:cNvSpPr/>
                  <p:nvPr/>
                </p:nvSpPr>
                <p:spPr>
                  <a:xfrm rot="4320000">
                    <a:off x="3204720" y="4500360"/>
                    <a:ext cx="214920" cy="28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0860" y="2187"/>
                        </a:moveTo>
                        <a:cubicBezTo>
                          <a:pt x="10451" y="1746"/>
                          <a:pt x="9529" y="1018"/>
                          <a:pt x="9015" y="730"/>
                        </a:cubicBezTo>
                        <a:cubicBezTo>
                          <a:pt x="7865" y="152"/>
                          <a:pt x="6685" y="0"/>
                          <a:pt x="5415" y="0"/>
                        </a:cubicBezTo>
                        <a:cubicBezTo>
                          <a:pt x="4175" y="152"/>
                          <a:pt x="2995" y="575"/>
                          <a:pt x="1967" y="1305"/>
                        </a:cubicBezTo>
                        <a:cubicBezTo>
                          <a:pt x="1150" y="2187"/>
                          <a:pt x="575" y="3222"/>
                          <a:pt x="242" y="4220"/>
                        </a:cubicBezTo>
                        <a:cubicBezTo>
                          <a:pt x="0" y="5410"/>
                          <a:pt x="242" y="6560"/>
                          <a:pt x="575" y="7597"/>
                        </a:cubicBezTo>
                        <a:lnTo>
                          <a:pt x="10860" y="21600"/>
                        </a:lnTo>
                        <a:lnTo>
                          <a:pt x="20995" y="7597"/>
                        </a:lnTo>
                        <a:cubicBezTo>
                          <a:pt x="21480" y="6560"/>
                          <a:pt x="21600" y="5410"/>
                          <a:pt x="21480" y="4220"/>
                        </a:cubicBezTo>
                        <a:cubicBezTo>
                          <a:pt x="21115" y="3222"/>
                          <a:pt x="20420" y="2187"/>
                          <a:pt x="19632" y="1305"/>
                        </a:cubicBezTo>
                        <a:cubicBezTo>
                          <a:pt x="18575" y="575"/>
                          <a:pt x="17425" y="152"/>
                          <a:pt x="16275" y="0"/>
                        </a:cubicBezTo>
                        <a:cubicBezTo>
                          <a:pt x="15005" y="0"/>
                          <a:pt x="13735" y="152"/>
                          <a:pt x="12705" y="730"/>
                        </a:cubicBezTo>
                        <a:cubicBezTo>
                          <a:pt x="12176" y="1018"/>
                          <a:pt x="11254" y="1746"/>
                          <a:pt x="10860" y="2187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ff"/>
                      </a:gs>
                      <a:gs pos="100000">
                        <a:srgbClr val="ffffff"/>
                      </a:gs>
                    </a:gsLst>
                    <a:lin ang="108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任意多边形 6205"/>
                  <p:cNvSpPr/>
                  <p:nvPr/>
                </p:nvSpPr>
                <p:spPr>
                  <a:xfrm rot="8640000">
                    <a:off x="3151440" y="4661280"/>
                    <a:ext cx="214560" cy="286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0860" y="2187"/>
                        </a:moveTo>
                        <a:cubicBezTo>
                          <a:pt x="10451" y="1746"/>
                          <a:pt x="9529" y="1018"/>
                          <a:pt x="9015" y="730"/>
                        </a:cubicBezTo>
                        <a:cubicBezTo>
                          <a:pt x="7865" y="152"/>
                          <a:pt x="6685" y="0"/>
                          <a:pt x="5415" y="0"/>
                        </a:cubicBezTo>
                        <a:cubicBezTo>
                          <a:pt x="4175" y="152"/>
                          <a:pt x="2995" y="575"/>
                          <a:pt x="1967" y="1305"/>
                        </a:cubicBezTo>
                        <a:cubicBezTo>
                          <a:pt x="1150" y="2187"/>
                          <a:pt x="575" y="3222"/>
                          <a:pt x="242" y="4220"/>
                        </a:cubicBezTo>
                        <a:cubicBezTo>
                          <a:pt x="0" y="5410"/>
                          <a:pt x="242" y="6560"/>
                          <a:pt x="575" y="7597"/>
                        </a:cubicBezTo>
                        <a:lnTo>
                          <a:pt x="10860" y="21600"/>
                        </a:lnTo>
                        <a:lnTo>
                          <a:pt x="20995" y="7597"/>
                        </a:lnTo>
                        <a:cubicBezTo>
                          <a:pt x="21480" y="6560"/>
                          <a:pt x="21600" y="5410"/>
                          <a:pt x="21480" y="4220"/>
                        </a:cubicBezTo>
                        <a:cubicBezTo>
                          <a:pt x="21115" y="3222"/>
                          <a:pt x="20420" y="2187"/>
                          <a:pt x="19632" y="1305"/>
                        </a:cubicBezTo>
                        <a:cubicBezTo>
                          <a:pt x="18575" y="575"/>
                          <a:pt x="17425" y="152"/>
                          <a:pt x="16275" y="0"/>
                        </a:cubicBezTo>
                        <a:cubicBezTo>
                          <a:pt x="15005" y="0"/>
                          <a:pt x="13735" y="152"/>
                          <a:pt x="12705" y="730"/>
                        </a:cubicBezTo>
                        <a:cubicBezTo>
                          <a:pt x="12176" y="1018"/>
                          <a:pt x="11254" y="1746"/>
                          <a:pt x="10860" y="2187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ff"/>
                      </a:gs>
                      <a:gs pos="100000">
                        <a:srgbClr val="ffffff"/>
                      </a:gs>
                    </a:gsLst>
                    <a:lin ang="1836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任意多边形 6206"/>
                  <p:cNvSpPr/>
                  <p:nvPr/>
                </p:nvSpPr>
                <p:spPr>
                  <a:xfrm rot="17280000">
                    <a:off x="2930760" y="4500000"/>
                    <a:ext cx="214920" cy="28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0860" y="2187"/>
                        </a:moveTo>
                        <a:cubicBezTo>
                          <a:pt x="10451" y="1746"/>
                          <a:pt x="9529" y="1018"/>
                          <a:pt x="9015" y="730"/>
                        </a:cubicBezTo>
                        <a:cubicBezTo>
                          <a:pt x="7865" y="152"/>
                          <a:pt x="6685" y="0"/>
                          <a:pt x="5415" y="0"/>
                        </a:cubicBezTo>
                        <a:cubicBezTo>
                          <a:pt x="4175" y="152"/>
                          <a:pt x="2995" y="575"/>
                          <a:pt x="1967" y="1305"/>
                        </a:cubicBezTo>
                        <a:cubicBezTo>
                          <a:pt x="1150" y="2187"/>
                          <a:pt x="575" y="3222"/>
                          <a:pt x="242" y="4220"/>
                        </a:cubicBezTo>
                        <a:cubicBezTo>
                          <a:pt x="0" y="5410"/>
                          <a:pt x="242" y="6560"/>
                          <a:pt x="575" y="7597"/>
                        </a:cubicBezTo>
                        <a:lnTo>
                          <a:pt x="10860" y="21600"/>
                        </a:lnTo>
                        <a:lnTo>
                          <a:pt x="20995" y="7597"/>
                        </a:lnTo>
                        <a:cubicBezTo>
                          <a:pt x="21480" y="6560"/>
                          <a:pt x="21600" y="5410"/>
                          <a:pt x="21480" y="4220"/>
                        </a:cubicBezTo>
                        <a:cubicBezTo>
                          <a:pt x="21115" y="3222"/>
                          <a:pt x="20420" y="2187"/>
                          <a:pt x="19632" y="1305"/>
                        </a:cubicBezTo>
                        <a:cubicBezTo>
                          <a:pt x="18575" y="575"/>
                          <a:pt x="17425" y="152"/>
                          <a:pt x="16275" y="0"/>
                        </a:cubicBezTo>
                        <a:cubicBezTo>
                          <a:pt x="15005" y="0"/>
                          <a:pt x="13735" y="152"/>
                          <a:pt x="12705" y="730"/>
                        </a:cubicBezTo>
                        <a:cubicBezTo>
                          <a:pt x="12176" y="1018"/>
                          <a:pt x="11254" y="1746"/>
                          <a:pt x="10860" y="2187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ff"/>
                      </a:gs>
                      <a:gs pos="100000">
                        <a:srgbClr val="ffffff"/>
                      </a:gs>
                    </a:gsLst>
                    <a:lin ang="97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任意多边形 6207"/>
                  <p:cNvSpPr/>
                  <p:nvPr/>
                </p:nvSpPr>
                <p:spPr>
                  <a:xfrm rot="12960000">
                    <a:off x="2984400" y="4655160"/>
                    <a:ext cx="214560" cy="286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0860" y="2187"/>
                        </a:moveTo>
                        <a:cubicBezTo>
                          <a:pt x="10451" y="1746"/>
                          <a:pt x="9529" y="1018"/>
                          <a:pt x="9015" y="730"/>
                        </a:cubicBezTo>
                        <a:cubicBezTo>
                          <a:pt x="7865" y="152"/>
                          <a:pt x="6685" y="0"/>
                          <a:pt x="5415" y="0"/>
                        </a:cubicBezTo>
                        <a:cubicBezTo>
                          <a:pt x="4175" y="152"/>
                          <a:pt x="2995" y="575"/>
                          <a:pt x="1967" y="1305"/>
                        </a:cubicBezTo>
                        <a:cubicBezTo>
                          <a:pt x="1150" y="2187"/>
                          <a:pt x="575" y="3222"/>
                          <a:pt x="242" y="4220"/>
                        </a:cubicBezTo>
                        <a:cubicBezTo>
                          <a:pt x="0" y="5410"/>
                          <a:pt x="242" y="6560"/>
                          <a:pt x="575" y="7597"/>
                        </a:cubicBezTo>
                        <a:lnTo>
                          <a:pt x="10860" y="21600"/>
                        </a:lnTo>
                        <a:lnTo>
                          <a:pt x="20995" y="7597"/>
                        </a:lnTo>
                        <a:cubicBezTo>
                          <a:pt x="21480" y="6560"/>
                          <a:pt x="21600" y="5410"/>
                          <a:pt x="21480" y="4220"/>
                        </a:cubicBezTo>
                        <a:cubicBezTo>
                          <a:pt x="21115" y="3222"/>
                          <a:pt x="20420" y="2187"/>
                          <a:pt x="19632" y="1305"/>
                        </a:cubicBezTo>
                        <a:cubicBezTo>
                          <a:pt x="18575" y="575"/>
                          <a:pt x="17425" y="152"/>
                          <a:pt x="16275" y="0"/>
                        </a:cubicBezTo>
                        <a:cubicBezTo>
                          <a:pt x="15005" y="0"/>
                          <a:pt x="13735" y="152"/>
                          <a:pt x="12705" y="730"/>
                        </a:cubicBezTo>
                        <a:cubicBezTo>
                          <a:pt x="12176" y="1018"/>
                          <a:pt x="11254" y="1746"/>
                          <a:pt x="10860" y="2187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ff"/>
                      </a:gs>
                      <a:gs pos="100000">
                        <a:srgbClr val="ffffff"/>
                      </a:gs>
                    </a:gsLst>
                    <a:lin ang="1404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3" name="组合 6208"/>
                <p:cNvGrpSpPr/>
                <p:nvPr/>
              </p:nvGrpSpPr>
              <p:grpSpPr>
                <a:xfrm>
                  <a:off x="2923560" y="4452840"/>
                  <a:ext cx="497880" cy="474480"/>
                  <a:chOff x="2923560" y="4452840"/>
                  <a:chExt cx="497880" cy="474480"/>
                </a:xfrm>
              </p:grpSpPr>
              <p:sp>
                <p:nvSpPr>
                  <p:cNvPr id="194" name="任意多边形 6209"/>
                  <p:cNvSpPr/>
                  <p:nvPr/>
                </p:nvSpPr>
                <p:spPr>
                  <a:xfrm>
                    <a:off x="3085200" y="4452840"/>
                    <a:ext cx="174240" cy="232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0860" y="2187"/>
                        </a:moveTo>
                        <a:cubicBezTo>
                          <a:pt x="10451" y="1746"/>
                          <a:pt x="9529" y="1018"/>
                          <a:pt x="9015" y="730"/>
                        </a:cubicBezTo>
                        <a:cubicBezTo>
                          <a:pt x="7865" y="152"/>
                          <a:pt x="6685" y="0"/>
                          <a:pt x="5415" y="0"/>
                        </a:cubicBezTo>
                        <a:cubicBezTo>
                          <a:pt x="4175" y="152"/>
                          <a:pt x="2995" y="575"/>
                          <a:pt x="1967" y="1305"/>
                        </a:cubicBezTo>
                        <a:cubicBezTo>
                          <a:pt x="1150" y="2187"/>
                          <a:pt x="575" y="3222"/>
                          <a:pt x="242" y="4220"/>
                        </a:cubicBezTo>
                        <a:cubicBezTo>
                          <a:pt x="0" y="5410"/>
                          <a:pt x="242" y="6560"/>
                          <a:pt x="575" y="7597"/>
                        </a:cubicBezTo>
                        <a:lnTo>
                          <a:pt x="10860" y="21600"/>
                        </a:lnTo>
                        <a:lnTo>
                          <a:pt x="20995" y="7597"/>
                        </a:lnTo>
                        <a:cubicBezTo>
                          <a:pt x="21480" y="6560"/>
                          <a:pt x="21600" y="5410"/>
                          <a:pt x="21480" y="4220"/>
                        </a:cubicBezTo>
                        <a:cubicBezTo>
                          <a:pt x="21115" y="3222"/>
                          <a:pt x="20420" y="2187"/>
                          <a:pt x="19632" y="1305"/>
                        </a:cubicBezTo>
                        <a:cubicBezTo>
                          <a:pt x="18575" y="575"/>
                          <a:pt x="17425" y="152"/>
                          <a:pt x="16275" y="0"/>
                        </a:cubicBezTo>
                        <a:cubicBezTo>
                          <a:pt x="15005" y="0"/>
                          <a:pt x="13735" y="152"/>
                          <a:pt x="12705" y="730"/>
                        </a:cubicBezTo>
                        <a:cubicBezTo>
                          <a:pt x="12176" y="1018"/>
                          <a:pt x="11254" y="1746"/>
                          <a:pt x="10860" y="2187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任意多边形 6210"/>
                  <p:cNvSpPr/>
                  <p:nvPr/>
                </p:nvSpPr>
                <p:spPr>
                  <a:xfrm rot="4320000">
                    <a:off x="3196440" y="4534920"/>
                    <a:ext cx="174600" cy="232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0860" y="2187"/>
                        </a:moveTo>
                        <a:cubicBezTo>
                          <a:pt x="10451" y="1746"/>
                          <a:pt x="9529" y="1018"/>
                          <a:pt x="9015" y="730"/>
                        </a:cubicBezTo>
                        <a:cubicBezTo>
                          <a:pt x="7865" y="152"/>
                          <a:pt x="6685" y="0"/>
                          <a:pt x="5415" y="0"/>
                        </a:cubicBezTo>
                        <a:cubicBezTo>
                          <a:pt x="4175" y="152"/>
                          <a:pt x="2995" y="575"/>
                          <a:pt x="1967" y="1305"/>
                        </a:cubicBezTo>
                        <a:cubicBezTo>
                          <a:pt x="1150" y="2187"/>
                          <a:pt x="575" y="3222"/>
                          <a:pt x="242" y="4220"/>
                        </a:cubicBezTo>
                        <a:cubicBezTo>
                          <a:pt x="0" y="5410"/>
                          <a:pt x="242" y="6560"/>
                          <a:pt x="575" y="7597"/>
                        </a:cubicBezTo>
                        <a:lnTo>
                          <a:pt x="10860" y="21600"/>
                        </a:lnTo>
                        <a:lnTo>
                          <a:pt x="20995" y="7597"/>
                        </a:lnTo>
                        <a:cubicBezTo>
                          <a:pt x="21480" y="6560"/>
                          <a:pt x="21600" y="5410"/>
                          <a:pt x="21480" y="4220"/>
                        </a:cubicBezTo>
                        <a:cubicBezTo>
                          <a:pt x="21115" y="3222"/>
                          <a:pt x="20420" y="2187"/>
                          <a:pt x="19632" y="1305"/>
                        </a:cubicBezTo>
                        <a:cubicBezTo>
                          <a:pt x="18575" y="575"/>
                          <a:pt x="17425" y="152"/>
                          <a:pt x="16275" y="0"/>
                        </a:cubicBezTo>
                        <a:cubicBezTo>
                          <a:pt x="15005" y="0"/>
                          <a:pt x="13735" y="152"/>
                          <a:pt x="12705" y="730"/>
                        </a:cubicBezTo>
                        <a:cubicBezTo>
                          <a:pt x="12176" y="1018"/>
                          <a:pt x="11254" y="1746"/>
                          <a:pt x="10860" y="2187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任意多边形 6211"/>
                  <p:cNvSpPr/>
                  <p:nvPr/>
                </p:nvSpPr>
                <p:spPr>
                  <a:xfrm rot="8640000">
                    <a:off x="3152880" y="4665600"/>
                    <a:ext cx="174240" cy="232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0860" y="2187"/>
                        </a:moveTo>
                        <a:cubicBezTo>
                          <a:pt x="10451" y="1746"/>
                          <a:pt x="9529" y="1018"/>
                          <a:pt x="9015" y="730"/>
                        </a:cubicBezTo>
                        <a:cubicBezTo>
                          <a:pt x="7865" y="152"/>
                          <a:pt x="6685" y="0"/>
                          <a:pt x="5415" y="0"/>
                        </a:cubicBezTo>
                        <a:cubicBezTo>
                          <a:pt x="4175" y="152"/>
                          <a:pt x="2995" y="575"/>
                          <a:pt x="1967" y="1305"/>
                        </a:cubicBezTo>
                        <a:cubicBezTo>
                          <a:pt x="1150" y="2187"/>
                          <a:pt x="575" y="3222"/>
                          <a:pt x="242" y="4220"/>
                        </a:cubicBezTo>
                        <a:cubicBezTo>
                          <a:pt x="0" y="5410"/>
                          <a:pt x="242" y="6560"/>
                          <a:pt x="575" y="7597"/>
                        </a:cubicBezTo>
                        <a:lnTo>
                          <a:pt x="10860" y="21600"/>
                        </a:lnTo>
                        <a:lnTo>
                          <a:pt x="20995" y="7597"/>
                        </a:lnTo>
                        <a:cubicBezTo>
                          <a:pt x="21480" y="6560"/>
                          <a:pt x="21600" y="5410"/>
                          <a:pt x="21480" y="4220"/>
                        </a:cubicBezTo>
                        <a:cubicBezTo>
                          <a:pt x="21115" y="3222"/>
                          <a:pt x="20420" y="2187"/>
                          <a:pt x="19632" y="1305"/>
                        </a:cubicBezTo>
                        <a:cubicBezTo>
                          <a:pt x="18575" y="575"/>
                          <a:pt x="17425" y="152"/>
                          <a:pt x="16275" y="0"/>
                        </a:cubicBezTo>
                        <a:cubicBezTo>
                          <a:pt x="15005" y="0"/>
                          <a:pt x="13735" y="152"/>
                          <a:pt x="12705" y="730"/>
                        </a:cubicBezTo>
                        <a:cubicBezTo>
                          <a:pt x="12176" y="1018"/>
                          <a:pt x="11254" y="1746"/>
                          <a:pt x="10860" y="2187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任意多边形 6212"/>
                  <p:cNvSpPr/>
                  <p:nvPr/>
                </p:nvSpPr>
                <p:spPr>
                  <a:xfrm rot="17280000">
                    <a:off x="2973600" y="4534560"/>
                    <a:ext cx="174600" cy="232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0860" y="2187"/>
                        </a:moveTo>
                        <a:cubicBezTo>
                          <a:pt x="10451" y="1746"/>
                          <a:pt x="9529" y="1018"/>
                          <a:pt x="9015" y="730"/>
                        </a:cubicBezTo>
                        <a:cubicBezTo>
                          <a:pt x="7865" y="152"/>
                          <a:pt x="6685" y="0"/>
                          <a:pt x="5415" y="0"/>
                        </a:cubicBezTo>
                        <a:cubicBezTo>
                          <a:pt x="4175" y="152"/>
                          <a:pt x="2995" y="575"/>
                          <a:pt x="1967" y="1305"/>
                        </a:cubicBezTo>
                        <a:cubicBezTo>
                          <a:pt x="1150" y="2187"/>
                          <a:pt x="575" y="3222"/>
                          <a:pt x="242" y="4220"/>
                        </a:cubicBezTo>
                        <a:cubicBezTo>
                          <a:pt x="0" y="5410"/>
                          <a:pt x="242" y="6560"/>
                          <a:pt x="575" y="7597"/>
                        </a:cubicBezTo>
                        <a:lnTo>
                          <a:pt x="10860" y="21600"/>
                        </a:lnTo>
                        <a:lnTo>
                          <a:pt x="20995" y="7597"/>
                        </a:lnTo>
                        <a:cubicBezTo>
                          <a:pt x="21480" y="6560"/>
                          <a:pt x="21600" y="5410"/>
                          <a:pt x="21480" y="4220"/>
                        </a:cubicBezTo>
                        <a:cubicBezTo>
                          <a:pt x="21115" y="3222"/>
                          <a:pt x="20420" y="2187"/>
                          <a:pt x="19632" y="1305"/>
                        </a:cubicBezTo>
                        <a:cubicBezTo>
                          <a:pt x="18575" y="575"/>
                          <a:pt x="17425" y="152"/>
                          <a:pt x="16275" y="0"/>
                        </a:cubicBezTo>
                        <a:cubicBezTo>
                          <a:pt x="15005" y="0"/>
                          <a:pt x="13735" y="152"/>
                          <a:pt x="12705" y="730"/>
                        </a:cubicBezTo>
                        <a:cubicBezTo>
                          <a:pt x="12176" y="1018"/>
                          <a:pt x="11254" y="1746"/>
                          <a:pt x="10860" y="2187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任意多边形 6213"/>
                  <p:cNvSpPr/>
                  <p:nvPr/>
                </p:nvSpPr>
                <p:spPr>
                  <a:xfrm rot="12960000">
                    <a:off x="3017160" y="4661280"/>
                    <a:ext cx="174240" cy="232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0860" y="2187"/>
                        </a:moveTo>
                        <a:cubicBezTo>
                          <a:pt x="10451" y="1746"/>
                          <a:pt x="9529" y="1018"/>
                          <a:pt x="9015" y="730"/>
                        </a:cubicBezTo>
                        <a:cubicBezTo>
                          <a:pt x="7865" y="152"/>
                          <a:pt x="6685" y="0"/>
                          <a:pt x="5415" y="0"/>
                        </a:cubicBezTo>
                        <a:cubicBezTo>
                          <a:pt x="4175" y="152"/>
                          <a:pt x="2995" y="575"/>
                          <a:pt x="1967" y="1305"/>
                        </a:cubicBezTo>
                        <a:cubicBezTo>
                          <a:pt x="1150" y="2187"/>
                          <a:pt x="575" y="3222"/>
                          <a:pt x="242" y="4220"/>
                        </a:cubicBezTo>
                        <a:cubicBezTo>
                          <a:pt x="0" y="5410"/>
                          <a:pt x="242" y="6560"/>
                          <a:pt x="575" y="7597"/>
                        </a:cubicBezTo>
                        <a:lnTo>
                          <a:pt x="10860" y="21600"/>
                        </a:lnTo>
                        <a:lnTo>
                          <a:pt x="20995" y="7597"/>
                        </a:lnTo>
                        <a:cubicBezTo>
                          <a:pt x="21480" y="6560"/>
                          <a:pt x="21600" y="5410"/>
                          <a:pt x="21480" y="4220"/>
                        </a:cubicBezTo>
                        <a:cubicBezTo>
                          <a:pt x="21115" y="3222"/>
                          <a:pt x="20420" y="2187"/>
                          <a:pt x="19632" y="1305"/>
                        </a:cubicBezTo>
                        <a:cubicBezTo>
                          <a:pt x="18575" y="575"/>
                          <a:pt x="17425" y="152"/>
                          <a:pt x="16275" y="0"/>
                        </a:cubicBezTo>
                        <a:cubicBezTo>
                          <a:pt x="15005" y="0"/>
                          <a:pt x="13735" y="152"/>
                          <a:pt x="12705" y="730"/>
                        </a:cubicBezTo>
                        <a:cubicBezTo>
                          <a:pt x="12176" y="1018"/>
                          <a:pt x="11254" y="1746"/>
                          <a:pt x="10860" y="2187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99" name="文本框 6214"/>
              <p:cNvSpPr/>
              <p:nvPr/>
            </p:nvSpPr>
            <p:spPr>
              <a:xfrm>
                <a:off x="2993760" y="4500360"/>
                <a:ext cx="336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66ff"/>
                    </a:solidFill>
                    <a:latin typeface="Arial Black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0" name="组合 6215"/>
          <p:cNvGrpSpPr/>
          <p:nvPr/>
        </p:nvGrpSpPr>
        <p:grpSpPr>
          <a:xfrm>
            <a:off x="2867760" y="5016600"/>
            <a:ext cx="3537720" cy="584640"/>
            <a:chOff x="2867760" y="5016600"/>
            <a:chExt cx="3537720" cy="584640"/>
          </a:xfrm>
        </p:grpSpPr>
        <p:grpSp>
          <p:nvGrpSpPr>
            <p:cNvPr id="201" name=""/>
            <p:cNvGrpSpPr/>
            <p:nvPr/>
          </p:nvGrpSpPr>
          <p:grpSpPr>
            <a:xfrm>
              <a:off x="3164040" y="5466960"/>
              <a:ext cx="3241440" cy="360"/>
              <a:chOff x="3164040" y="5466960"/>
              <a:chExt cx="3241440" cy="360"/>
            </a:xfrm>
          </p:grpSpPr>
          <p:sp>
            <p:nvSpPr>
              <p:cNvPr id="202" name="直接连接符 6216"/>
              <p:cNvSpPr/>
              <p:nvPr/>
            </p:nvSpPr>
            <p:spPr>
              <a:xfrm>
                <a:off x="3164040" y="5466960"/>
                <a:ext cx="3241440" cy="0"/>
              </a:xfrm>
              <a:prstGeom prst="line">
                <a:avLst/>
              </a:prstGeom>
              <a:ln w="9360">
                <a:solidFill>
                  <a:srgbClr val="33cc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 txBox="1"/>
              <p:nvPr/>
            </p:nvSpPr>
            <p:spPr>
              <a:xfrm>
                <a:off x="3164040" y="5466960"/>
                <a:ext cx="3241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4" name="组合 6217"/>
            <p:cNvGrpSpPr/>
            <p:nvPr/>
          </p:nvGrpSpPr>
          <p:grpSpPr>
            <a:xfrm>
              <a:off x="2867760" y="5016600"/>
              <a:ext cx="612360" cy="584640"/>
              <a:chOff x="2867760" y="5016600"/>
              <a:chExt cx="612360" cy="584640"/>
            </a:xfrm>
          </p:grpSpPr>
          <p:grpSp>
            <p:nvGrpSpPr>
              <p:cNvPr id="205" name="组合 6218"/>
              <p:cNvGrpSpPr/>
              <p:nvPr/>
            </p:nvGrpSpPr>
            <p:grpSpPr>
              <a:xfrm>
                <a:off x="2867760" y="5016600"/>
                <a:ext cx="612360" cy="584640"/>
                <a:chOff x="2867760" y="5016600"/>
                <a:chExt cx="612360" cy="584640"/>
              </a:xfrm>
            </p:grpSpPr>
            <p:grpSp>
              <p:nvGrpSpPr>
                <p:cNvPr id="206" name="组合 6219"/>
                <p:cNvGrpSpPr/>
                <p:nvPr/>
              </p:nvGrpSpPr>
              <p:grpSpPr>
                <a:xfrm>
                  <a:off x="2867760" y="5016600"/>
                  <a:ext cx="612360" cy="584640"/>
                  <a:chOff x="2867760" y="5016600"/>
                  <a:chExt cx="612360" cy="584640"/>
                </a:xfrm>
              </p:grpSpPr>
              <p:sp>
                <p:nvSpPr>
                  <p:cNvPr id="207" name="任意多边形 6220"/>
                  <p:cNvSpPr/>
                  <p:nvPr/>
                </p:nvSpPr>
                <p:spPr>
                  <a:xfrm>
                    <a:off x="3066840" y="5016600"/>
                    <a:ext cx="214560" cy="28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0860" y="2187"/>
                        </a:moveTo>
                        <a:cubicBezTo>
                          <a:pt x="10451" y="1746"/>
                          <a:pt x="9529" y="1018"/>
                          <a:pt x="9015" y="730"/>
                        </a:cubicBezTo>
                        <a:cubicBezTo>
                          <a:pt x="7865" y="152"/>
                          <a:pt x="6685" y="0"/>
                          <a:pt x="5415" y="0"/>
                        </a:cubicBezTo>
                        <a:cubicBezTo>
                          <a:pt x="4175" y="152"/>
                          <a:pt x="2995" y="575"/>
                          <a:pt x="1967" y="1305"/>
                        </a:cubicBezTo>
                        <a:cubicBezTo>
                          <a:pt x="1150" y="2187"/>
                          <a:pt x="575" y="3222"/>
                          <a:pt x="242" y="4220"/>
                        </a:cubicBezTo>
                        <a:cubicBezTo>
                          <a:pt x="0" y="5410"/>
                          <a:pt x="242" y="6560"/>
                          <a:pt x="575" y="7597"/>
                        </a:cubicBezTo>
                        <a:lnTo>
                          <a:pt x="10860" y="21600"/>
                        </a:lnTo>
                        <a:lnTo>
                          <a:pt x="20995" y="7597"/>
                        </a:lnTo>
                        <a:cubicBezTo>
                          <a:pt x="21480" y="6560"/>
                          <a:pt x="21600" y="5410"/>
                          <a:pt x="21480" y="4220"/>
                        </a:cubicBezTo>
                        <a:cubicBezTo>
                          <a:pt x="21115" y="3222"/>
                          <a:pt x="20420" y="2187"/>
                          <a:pt x="19632" y="1305"/>
                        </a:cubicBezTo>
                        <a:cubicBezTo>
                          <a:pt x="18575" y="575"/>
                          <a:pt x="17425" y="152"/>
                          <a:pt x="16275" y="0"/>
                        </a:cubicBezTo>
                        <a:cubicBezTo>
                          <a:pt x="15005" y="0"/>
                          <a:pt x="13735" y="152"/>
                          <a:pt x="12705" y="730"/>
                        </a:cubicBezTo>
                        <a:cubicBezTo>
                          <a:pt x="12176" y="1018"/>
                          <a:pt x="11254" y="1746"/>
                          <a:pt x="10860" y="2187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cc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任意多边形 6221"/>
                  <p:cNvSpPr/>
                  <p:nvPr/>
                </p:nvSpPr>
                <p:spPr>
                  <a:xfrm rot="4320000">
                    <a:off x="3203640" y="5117760"/>
                    <a:ext cx="214560" cy="28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0860" y="2187"/>
                        </a:moveTo>
                        <a:cubicBezTo>
                          <a:pt x="10451" y="1746"/>
                          <a:pt x="9529" y="1018"/>
                          <a:pt x="9015" y="730"/>
                        </a:cubicBezTo>
                        <a:cubicBezTo>
                          <a:pt x="7865" y="152"/>
                          <a:pt x="6685" y="0"/>
                          <a:pt x="5415" y="0"/>
                        </a:cubicBezTo>
                        <a:cubicBezTo>
                          <a:pt x="4175" y="152"/>
                          <a:pt x="2995" y="575"/>
                          <a:pt x="1967" y="1305"/>
                        </a:cubicBezTo>
                        <a:cubicBezTo>
                          <a:pt x="1150" y="2187"/>
                          <a:pt x="575" y="3222"/>
                          <a:pt x="242" y="4220"/>
                        </a:cubicBezTo>
                        <a:cubicBezTo>
                          <a:pt x="0" y="5410"/>
                          <a:pt x="242" y="6560"/>
                          <a:pt x="575" y="7597"/>
                        </a:cubicBezTo>
                        <a:lnTo>
                          <a:pt x="10860" y="21600"/>
                        </a:lnTo>
                        <a:lnTo>
                          <a:pt x="20995" y="7597"/>
                        </a:lnTo>
                        <a:cubicBezTo>
                          <a:pt x="21480" y="6560"/>
                          <a:pt x="21600" y="5410"/>
                          <a:pt x="21480" y="4220"/>
                        </a:cubicBezTo>
                        <a:cubicBezTo>
                          <a:pt x="21115" y="3222"/>
                          <a:pt x="20420" y="2187"/>
                          <a:pt x="19632" y="1305"/>
                        </a:cubicBezTo>
                        <a:cubicBezTo>
                          <a:pt x="18575" y="575"/>
                          <a:pt x="17425" y="152"/>
                          <a:pt x="16275" y="0"/>
                        </a:cubicBezTo>
                        <a:cubicBezTo>
                          <a:pt x="15005" y="0"/>
                          <a:pt x="13735" y="152"/>
                          <a:pt x="12705" y="730"/>
                        </a:cubicBezTo>
                        <a:cubicBezTo>
                          <a:pt x="12176" y="1018"/>
                          <a:pt x="11254" y="1746"/>
                          <a:pt x="10860" y="2187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cc00"/>
                      </a:gs>
                      <a:gs pos="100000">
                        <a:srgbClr val="ffffff"/>
                      </a:gs>
                    </a:gsLst>
                    <a:lin ang="108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任意多边形 6222"/>
                  <p:cNvSpPr/>
                  <p:nvPr/>
                </p:nvSpPr>
                <p:spPr>
                  <a:xfrm rot="8640000">
                    <a:off x="3150000" y="5279040"/>
                    <a:ext cx="214560" cy="286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0860" y="2187"/>
                        </a:moveTo>
                        <a:cubicBezTo>
                          <a:pt x="10451" y="1746"/>
                          <a:pt x="9529" y="1018"/>
                          <a:pt x="9015" y="730"/>
                        </a:cubicBezTo>
                        <a:cubicBezTo>
                          <a:pt x="7865" y="152"/>
                          <a:pt x="6685" y="0"/>
                          <a:pt x="5415" y="0"/>
                        </a:cubicBezTo>
                        <a:cubicBezTo>
                          <a:pt x="4175" y="152"/>
                          <a:pt x="2995" y="575"/>
                          <a:pt x="1967" y="1305"/>
                        </a:cubicBezTo>
                        <a:cubicBezTo>
                          <a:pt x="1150" y="2187"/>
                          <a:pt x="575" y="3222"/>
                          <a:pt x="242" y="4220"/>
                        </a:cubicBezTo>
                        <a:cubicBezTo>
                          <a:pt x="0" y="5410"/>
                          <a:pt x="242" y="6560"/>
                          <a:pt x="575" y="7597"/>
                        </a:cubicBezTo>
                        <a:lnTo>
                          <a:pt x="10860" y="21600"/>
                        </a:lnTo>
                        <a:lnTo>
                          <a:pt x="20995" y="7597"/>
                        </a:lnTo>
                        <a:cubicBezTo>
                          <a:pt x="21480" y="6560"/>
                          <a:pt x="21600" y="5410"/>
                          <a:pt x="21480" y="4220"/>
                        </a:cubicBezTo>
                        <a:cubicBezTo>
                          <a:pt x="21115" y="3222"/>
                          <a:pt x="20420" y="2187"/>
                          <a:pt x="19632" y="1305"/>
                        </a:cubicBezTo>
                        <a:cubicBezTo>
                          <a:pt x="18575" y="575"/>
                          <a:pt x="17425" y="152"/>
                          <a:pt x="16275" y="0"/>
                        </a:cubicBezTo>
                        <a:cubicBezTo>
                          <a:pt x="15005" y="0"/>
                          <a:pt x="13735" y="152"/>
                          <a:pt x="12705" y="730"/>
                        </a:cubicBezTo>
                        <a:cubicBezTo>
                          <a:pt x="12176" y="1018"/>
                          <a:pt x="11254" y="1746"/>
                          <a:pt x="10860" y="2187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cc00"/>
                      </a:gs>
                      <a:gs pos="100000">
                        <a:srgbClr val="ffffff"/>
                      </a:gs>
                    </a:gsLst>
                    <a:lin ang="1836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任意多边形 6223"/>
                  <p:cNvSpPr/>
                  <p:nvPr/>
                </p:nvSpPr>
                <p:spPr>
                  <a:xfrm rot="17280000">
                    <a:off x="2929680" y="5117760"/>
                    <a:ext cx="214560" cy="28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0860" y="2187"/>
                        </a:moveTo>
                        <a:cubicBezTo>
                          <a:pt x="10451" y="1746"/>
                          <a:pt x="9529" y="1018"/>
                          <a:pt x="9015" y="730"/>
                        </a:cubicBezTo>
                        <a:cubicBezTo>
                          <a:pt x="7865" y="152"/>
                          <a:pt x="6685" y="0"/>
                          <a:pt x="5415" y="0"/>
                        </a:cubicBezTo>
                        <a:cubicBezTo>
                          <a:pt x="4175" y="152"/>
                          <a:pt x="2995" y="575"/>
                          <a:pt x="1967" y="1305"/>
                        </a:cubicBezTo>
                        <a:cubicBezTo>
                          <a:pt x="1150" y="2187"/>
                          <a:pt x="575" y="3222"/>
                          <a:pt x="242" y="4220"/>
                        </a:cubicBezTo>
                        <a:cubicBezTo>
                          <a:pt x="0" y="5410"/>
                          <a:pt x="242" y="6560"/>
                          <a:pt x="575" y="7597"/>
                        </a:cubicBezTo>
                        <a:lnTo>
                          <a:pt x="10860" y="21600"/>
                        </a:lnTo>
                        <a:lnTo>
                          <a:pt x="20995" y="7597"/>
                        </a:lnTo>
                        <a:cubicBezTo>
                          <a:pt x="21480" y="6560"/>
                          <a:pt x="21600" y="5410"/>
                          <a:pt x="21480" y="4220"/>
                        </a:cubicBezTo>
                        <a:cubicBezTo>
                          <a:pt x="21115" y="3222"/>
                          <a:pt x="20420" y="2187"/>
                          <a:pt x="19632" y="1305"/>
                        </a:cubicBezTo>
                        <a:cubicBezTo>
                          <a:pt x="18575" y="575"/>
                          <a:pt x="17425" y="152"/>
                          <a:pt x="16275" y="0"/>
                        </a:cubicBezTo>
                        <a:cubicBezTo>
                          <a:pt x="15005" y="0"/>
                          <a:pt x="13735" y="152"/>
                          <a:pt x="12705" y="730"/>
                        </a:cubicBezTo>
                        <a:cubicBezTo>
                          <a:pt x="12176" y="1018"/>
                          <a:pt x="11254" y="1746"/>
                          <a:pt x="10860" y="2187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cc00"/>
                      </a:gs>
                      <a:gs pos="100000">
                        <a:srgbClr val="ffffff"/>
                      </a:gs>
                    </a:gsLst>
                    <a:lin ang="97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任意多边形 6224"/>
                  <p:cNvSpPr/>
                  <p:nvPr/>
                </p:nvSpPr>
                <p:spPr>
                  <a:xfrm rot="12960000">
                    <a:off x="2983320" y="5272200"/>
                    <a:ext cx="214560" cy="28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0860" y="2187"/>
                        </a:moveTo>
                        <a:cubicBezTo>
                          <a:pt x="10451" y="1746"/>
                          <a:pt x="9529" y="1018"/>
                          <a:pt x="9015" y="730"/>
                        </a:cubicBezTo>
                        <a:cubicBezTo>
                          <a:pt x="7865" y="152"/>
                          <a:pt x="6685" y="0"/>
                          <a:pt x="5415" y="0"/>
                        </a:cubicBezTo>
                        <a:cubicBezTo>
                          <a:pt x="4175" y="152"/>
                          <a:pt x="2995" y="575"/>
                          <a:pt x="1967" y="1305"/>
                        </a:cubicBezTo>
                        <a:cubicBezTo>
                          <a:pt x="1150" y="2187"/>
                          <a:pt x="575" y="3222"/>
                          <a:pt x="242" y="4220"/>
                        </a:cubicBezTo>
                        <a:cubicBezTo>
                          <a:pt x="0" y="5410"/>
                          <a:pt x="242" y="6560"/>
                          <a:pt x="575" y="7597"/>
                        </a:cubicBezTo>
                        <a:lnTo>
                          <a:pt x="10860" y="21600"/>
                        </a:lnTo>
                        <a:lnTo>
                          <a:pt x="20995" y="7597"/>
                        </a:lnTo>
                        <a:cubicBezTo>
                          <a:pt x="21480" y="6560"/>
                          <a:pt x="21600" y="5410"/>
                          <a:pt x="21480" y="4220"/>
                        </a:cubicBezTo>
                        <a:cubicBezTo>
                          <a:pt x="21115" y="3222"/>
                          <a:pt x="20420" y="2187"/>
                          <a:pt x="19632" y="1305"/>
                        </a:cubicBezTo>
                        <a:cubicBezTo>
                          <a:pt x="18575" y="575"/>
                          <a:pt x="17425" y="152"/>
                          <a:pt x="16275" y="0"/>
                        </a:cubicBezTo>
                        <a:cubicBezTo>
                          <a:pt x="15005" y="0"/>
                          <a:pt x="13735" y="152"/>
                          <a:pt x="12705" y="730"/>
                        </a:cubicBezTo>
                        <a:cubicBezTo>
                          <a:pt x="12176" y="1018"/>
                          <a:pt x="11254" y="1746"/>
                          <a:pt x="10860" y="2187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cc00"/>
                      </a:gs>
                      <a:gs pos="100000">
                        <a:srgbClr val="ffffff"/>
                      </a:gs>
                    </a:gsLst>
                    <a:lin ang="1404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2" name="组合 6225"/>
                <p:cNvGrpSpPr/>
                <p:nvPr/>
              </p:nvGrpSpPr>
              <p:grpSpPr>
                <a:xfrm>
                  <a:off x="2922480" y="5070240"/>
                  <a:ext cx="496800" cy="474840"/>
                  <a:chOff x="2922480" y="5070240"/>
                  <a:chExt cx="496800" cy="474840"/>
                </a:xfrm>
              </p:grpSpPr>
              <p:sp>
                <p:nvSpPr>
                  <p:cNvPr id="213" name="任意多边形 6226"/>
                  <p:cNvSpPr/>
                  <p:nvPr/>
                </p:nvSpPr>
                <p:spPr>
                  <a:xfrm>
                    <a:off x="3083760" y="5070240"/>
                    <a:ext cx="173880" cy="232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0860" y="2187"/>
                        </a:moveTo>
                        <a:cubicBezTo>
                          <a:pt x="10451" y="1746"/>
                          <a:pt x="9529" y="1018"/>
                          <a:pt x="9015" y="730"/>
                        </a:cubicBezTo>
                        <a:cubicBezTo>
                          <a:pt x="7865" y="152"/>
                          <a:pt x="6685" y="0"/>
                          <a:pt x="5415" y="0"/>
                        </a:cubicBezTo>
                        <a:cubicBezTo>
                          <a:pt x="4175" y="152"/>
                          <a:pt x="2995" y="575"/>
                          <a:pt x="1967" y="1305"/>
                        </a:cubicBezTo>
                        <a:cubicBezTo>
                          <a:pt x="1150" y="2187"/>
                          <a:pt x="575" y="3222"/>
                          <a:pt x="242" y="4220"/>
                        </a:cubicBezTo>
                        <a:cubicBezTo>
                          <a:pt x="0" y="5410"/>
                          <a:pt x="242" y="6560"/>
                          <a:pt x="575" y="7597"/>
                        </a:cubicBezTo>
                        <a:lnTo>
                          <a:pt x="10860" y="21600"/>
                        </a:lnTo>
                        <a:lnTo>
                          <a:pt x="20995" y="7597"/>
                        </a:lnTo>
                        <a:cubicBezTo>
                          <a:pt x="21480" y="6560"/>
                          <a:pt x="21600" y="5410"/>
                          <a:pt x="21480" y="4220"/>
                        </a:cubicBezTo>
                        <a:cubicBezTo>
                          <a:pt x="21115" y="3222"/>
                          <a:pt x="20420" y="2187"/>
                          <a:pt x="19632" y="1305"/>
                        </a:cubicBezTo>
                        <a:cubicBezTo>
                          <a:pt x="18575" y="575"/>
                          <a:pt x="17425" y="152"/>
                          <a:pt x="16275" y="0"/>
                        </a:cubicBezTo>
                        <a:cubicBezTo>
                          <a:pt x="15005" y="0"/>
                          <a:pt x="13735" y="152"/>
                          <a:pt x="12705" y="730"/>
                        </a:cubicBezTo>
                        <a:cubicBezTo>
                          <a:pt x="12176" y="1018"/>
                          <a:pt x="11254" y="1746"/>
                          <a:pt x="10860" y="2187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任意多边形 6227"/>
                  <p:cNvSpPr/>
                  <p:nvPr/>
                </p:nvSpPr>
                <p:spPr>
                  <a:xfrm rot="4320000">
                    <a:off x="3194280" y="5152320"/>
                    <a:ext cx="174600" cy="232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0860" y="2187"/>
                        </a:moveTo>
                        <a:cubicBezTo>
                          <a:pt x="10451" y="1746"/>
                          <a:pt x="9529" y="1018"/>
                          <a:pt x="9015" y="730"/>
                        </a:cubicBezTo>
                        <a:cubicBezTo>
                          <a:pt x="7865" y="152"/>
                          <a:pt x="6685" y="0"/>
                          <a:pt x="5415" y="0"/>
                        </a:cubicBezTo>
                        <a:cubicBezTo>
                          <a:pt x="4175" y="152"/>
                          <a:pt x="2995" y="575"/>
                          <a:pt x="1967" y="1305"/>
                        </a:cubicBezTo>
                        <a:cubicBezTo>
                          <a:pt x="1150" y="2187"/>
                          <a:pt x="575" y="3222"/>
                          <a:pt x="242" y="4220"/>
                        </a:cubicBezTo>
                        <a:cubicBezTo>
                          <a:pt x="0" y="5410"/>
                          <a:pt x="242" y="6560"/>
                          <a:pt x="575" y="7597"/>
                        </a:cubicBezTo>
                        <a:lnTo>
                          <a:pt x="10860" y="21600"/>
                        </a:lnTo>
                        <a:lnTo>
                          <a:pt x="20995" y="7597"/>
                        </a:lnTo>
                        <a:cubicBezTo>
                          <a:pt x="21480" y="6560"/>
                          <a:pt x="21600" y="5410"/>
                          <a:pt x="21480" y="4220"/>
                        </a:cubicBezTo>
                        <a:cubicBezTo>
                          <a:pt x="21115" y="3222"/>
                          <a:pt x="20420" y="2187"/>
                          <a:pt x="19632" y="1305"/>
                        </a:cubicBezTo>
                        <a:cubicBezTo>
                          <a:pt x="18575" y="575"/>
                          <a:pt x="17425" y="152"/>
                          <a:pt x="16275" y="0"/>
                        </a:cubicBezTo>
                        <a:cubicBezTo>
                          <a:pt x="15005" y="0"/>
                          <a:pt x="13735" y="152"/>
                          <a:pt x="12705" y="730"/>
                        </a:cubicBezTo>
                        <a:cubicBezTo>
                          <a:pt x="12176" y="1018"/>
                          <a:pt x="11254" y="1746"/>
                          <a:pt x="10860" y="2187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任意多边形 6228"/>
                  <p:cNvSpPr/>
                  <p:nvPr/>
                </p:nvSpPr>
                <p:spPr>
                  <a:xfrm rot="8640000">
                    <a:off x="3151440" y="5283360"/>
                    <a:ext cx="173880" cy="232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0860" y="2187"/>
                        </a:moveTo>
                        <a:cubicBezTo>
                          <a:pt x="10451" y="1746"/>
                          <a:pt x="9529" y="1018"/>
                          <a:pt x="9015" y="730"/>
                        </a:cubicBezTo>
                        <a:cubicBezTo>
                          <a:pt x="7865" y="152"/>
                          <a:pt x="6685" y="0"/>
                          <a:pt x="5415" y="0"/>
                        </a:cubicBezTo>
                        <a:cubicBezTo>
                          <a:pt x="4175" y="152"/>
                          <a:pt x="2995" y="575"/>
                          <a:pt x="1967" y="1305"/>
                        </a:cubicBezTo>
                        <a:cubicBezTo>
                          <a:pt x="1150" y="2187"/>
                          <a:pt x="575" y="3222"/>
                          <a:pt x="242" y="4220"/>
                        </a:cubicBezTo>
                        <a:cubicBezTo>
                          <a:pt x="0" y="5410"/>
                          <a:pt x="242" y="6560"/>
                          <a:pt x="575" y="7597"/>
                        </a:cubicBezTo>
                        <a:lnTo>
                          <a:pt x="10860" y="21600"/>
                        </a:lnTo>
                        <a:lnTo>
                          <a:pt x="20995" y="7597"/>
                        </a:lnTo>
                        <a:cubicBezTo>
                          <a:pt x="21480" y="6560"/>
                          <a:pt x="21600" y="5410"/>
                          <a:pt x="21480" y="4220"/>
                        </a:cubicBezTo>
                        <a:cubicBezTo>
                          <a:pt x="21115" y="3222"/>
                          <a:pt x="20420" y="2187"/>
                          <a:pt x="19632" y="1305"/>
                        </a:cubicBezTo>
                        <a:cubicBezTo>
                          <a:pt x="18575" y="575"/>
                          <a:pt x="17425" y="152"/>
                          <a:pt x="16275" y="0"/>
                        </a:cubicBezTo>
                        <a:cubicBezTo>
                          <a:pt x="15005" y="0"/>
                          <a:pt x="13735" y="152"/>
                          <a:pt x="12705" y="730"/>
                        </a:cubicBezTo>
                        <a:cubicBezTo>
                          <a:pt x="12176" y="1018"/>
                          <a:pt x="11254" y="1746"/>
                          <a:pt x="10860" y="2187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任意多边形 6229"/>
                  <p:cNvSpPr/>
                  <p:nvPr/>
                </p:nvSpPr>
                <p:spPr>
                  <a:xfrm rot="17280000">
                    <a:off x="2972520" y="5152320"/>
                    <a:ext cx="174600" cy="232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0860" y="2187"/>
                        </a:moveTo>
                        <a:cubicBezTo>
                          <a:pt x="10451" y="1746"/>
                          <a:pt x="9529" y="1018"/>
                          <a:pt x="9015" y="730"/>
                        </a:cubicBezTo>
                        <a:cubicBezTo>
                          <a:pt x="7865" y="152"/>
                          <a:pt x="6685" y="0"/>
                          <a:pt x="5415" y="0"/>
                        </a:cubicBezTo>
                        <a:cubicBezTo>
                          <a:pt x="4175" y="152"/>
                          <a:pt x="2995" y="575"/>
                          <a:pt x="1967" y="1305"/>
                        </a:cubicBezTo>
                        <a:cubicBezTo>
                          <a:pt x="1150" y="2187"/>
                          <a:pt x="575" y="3222"/>
                          <a:pt x="242" y="4220"/>
                        </a:cubicBezTo>
                        <a:cubicBezTo>
                          <a:pt x="0" y="5410"/>
                          <a:pt x="242" y="6560"/>
                          <a:pt x="575" y="7597"/>
                        </a:cubicBezTo>
                        <a:lnTo>
                          <a:pt x="10860" y="21600"/>
                        </a:lnTo>
                        <a:lnTo>
                          <a:pt x="20995" y="7597"/>
                        </a:lnTo>
                        <a:cubicBezTo>
                          <a:pt x="21480" y="6560"/>
                          <a:pt x="21600" y="5410"/>
                          <a:pt x="21480" y="4220"/>
                        </a:cubicBezTo>
                        <a:cubicBezTo>
                          <a:pt x="21115" y="3222"/>
                          <a:pt x="20420" y="2187"/>
                          <a:pt x="19632" y="1305"/>
                        </a:cubicBezTo>
                        <a:cubicBezTo>
                          <a:pt x="18575" y="575"/>
                          <a:pt x="17425" y="152"/>
                          <a:pt x="16275" y="0"/>
                        </a:cubicBezTo>
                        <a:cubicBezTo>
                          <a:pt x="15005" y="0"/>
                          <a:pt x="13735" y="152"/>
                          <a:pt x="12705" y="730"/>
                        </a:cubicBezTo>
                        <a:cubicBezTo>
                          <a:pt x="12176" y="1018"/>
                          <a:pt x="11254" y="1746"/>
                          <a:pt x="10860" y="2187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任意多边形 6230"/>
                  <p:cNvSpPr/>
                  <p:nvPr/>
                </p:nvSpPr>
                <p:spPr>
                  <a:xfrm rot="12960000">
                    <a:off x="3015360" y="5278320"/>
                    <a:ext cx="173880" cy="232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0860" y="2187"/>
                        </a:moveTo>
                        <a:cubicBezTo>
                          <a:pt x="10451" y="1746"/>
                          <a:pt x="9529" y="1018"/>
                          <a:pt x="9015" y="730"/>
                        </a:cubicBezTo>
                        <a:cubicBezTo>
                          <a:pt x="7865" y="152"/>
                          <a:pt x="6685" y="0"/>
                          <a:pt x="5415" y="0"/>
                        </a:cubicBezTo>
                        <a:cubicBezTo>
                          <a:pt x="4175" y="152"/>
                          <a:pt x="2995" y="575"/>
                          <a:pt x="1967" y="1305"/>
                        </a:cubicBezTo>
                        <a:cubicBezTo>
                          <a:pt x="1150" y="2187"/>
                          <a:pt x="575" y="3222"/>
                          <a:pt x="242" y="4220"/>
                        </a:cubicBezTo>
                        <a:cubicBezTo>
                          <a:pt x="0" y="5410"/>
                          <a:pt x="242" y="6560"/>
                          <a:pt x="575" y="7597"/>
                        </a:cubicBezTo>
                        <a:lnTo>
                          <a:pt x="10860" y="21600"/>
                        </a:lnTo>
                        <a:lnTo>
                          <a:pt x="20995" y="7597"/>
                        </a:lnTo>
                        <a:cubicBezTo>
                          <a:pt x="21480" y="6560"/>
                          <a:pt x="21600" y="5410"/>
                          <a:pt x="21480" y="4220"/>
                        </a:cubicBezTo>
                        <a:cubicBezTo>
                          <a:pt x="21115" y="3222"/>
                          <a:pt x="20420" y="2187"/>
                          <a:pt x="19632" y="1305"/>
                        </a:cubicBezTo>
                        <a:cubicBezTo>
                          <a:pt x="18575" y="575"/>
                          <a:pt x="17425" y="152"/>
                          <a:pt x="16275" y="0"/>
                        </a:cubicBezTo>
                        <a:cubicBezTo>
                          <a:pt x="15005" y="0"/>
                          <a:pt x="13735" y="152"/>
                          <a:pt x="12705" y="730"/>
                        </a:cubicBezTo>
                        <a:cubicBezTo>
                          <a:pt x="12176" y="1018"/>
                          <a:pt x="11254" y="1746"/>
                          <a:pt x="10860" y="2187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18" name="文本框 6231"/>
              <p:cNvSpPr/>
              <p:nvPr/>
            </p:nvSpPr>
            <p:spPr>
              <a:xfrm>
                <a:off x="2992320" y="5117760"/>
                <a:ext cx="336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9900"/>
                    </a:solidFill>
                    <a:latin typeface="Arial Black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9" name="矩形 6232"/>
          <p:cNvSpPr/>
          <p:nvPr/>
        </p:nvSpPr>
        <p:spPr>
          <a:xfrm>
            <a:off x="3548160" y="31291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6233"/>
          <p:cNvSpPr/>
          <p:nvPr/>
        </p:nvSpPr>
        <p:spPr>
          <a:xfrm>
            <a:off x="3548160" y="376380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6234"/>
          <p:cNvSpPr/>
          <p:nvPr/>
        </p:nvSpPr>
        <p:spPr>
          <a:xfrm>
            <a:off x="3548160" y="438300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6235"/>
          <p:cNvSpPr/>
          <p:nvPr/>
        </p:nvSpPr>
        <p:spPr>
          <a:xfrm>
            <a:off x="3548160" y="500220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棱台 6236"/>
          <p:cNvSpPr/>
          <p:nvPr/>
        </p:nvSpPr>
        <p:spPr>
          <a:xfrm>
            <a:off x="6389640" y="2846520"/>
            <a:ext cx="279360" cy="279360"/>
          </a:xfrm>
          <a:prstGeom prst="bevel">
            <a:avLst>
              <a:gd name="adj" fmla="val 12500"/>
            </a:avLst>
          </a:prstGeom>
          <a:solidFill>
            <a:srgbClr val="009900">
              <a:alpha val="40000"/>
            </a:srgbClr>
          </a:solidFill>
          <a:ln w="0">
            <a:noFill/>
          </a:ln>
          <a:effectLst>
            <a:outerShdw dist="153753" dir="2700000" blurRad="0" rotWithShape="0">
              <a:srgbClr val="cc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棱台 6237"/>
          <p:cNvSpPr/>
          <p:nvPr/>
        </p:nvSpPr>
        <p:spPr>
          <a:xfrm>
            <a:off x="6389640" y="3465360"/>
            <a:ext cx="279360" cy="279720"/>
          </a:xfrm>
          <a:prstGeom prst="bevel">
            <a:avLst>
              <a:gd name="adj" fmla="val 12500"/>
            </a:avLst>
          </a:prstGeom>
          <a:solidFill>
            <a:srgbClr val="ff66ff">
              <a:alpha val="40000"/>
            </a:srgbClr>
          </a:solidFill>
          <a:ln w="0">
            <a:noFill/>
          </a:ln>
          <a:effectLst>
            <a:outerShdw dist="153753" dir="2700000" blurRad="0" rotWithShape="0">
              <a:srgbClr val="ff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棱台 6238"/>
          <p:cNvSpPr/>
          <p:nvPr/>
        </p:nvSpPr>
        <p:spPr>
          <a:xfrm>
            <a:off x="6389640" y="4084560"/>
            <a:ext cx="279360" cy="279360"/>
          </a:xfrm>
          <a:prstGeom prst="bevel">
            <a:avLst>
              <a:gd name="adj" fmla="val 12500"/>
            </a:avLst>
          </a:prstGeom>
          <a:solidFill>
            <a:srgbClr val="009900">
              <a:alpha val="40000"/>
            </a:srgbClr>
          </a:solidFill>
          <a:ln w="0">
            <a:noFill/>
          </a:ln>
          <a:effectLst>
            <a:outerShdw dist="153753" dir="2700000" blurRad="0" rotWithShape="0">
              <a:srgbClr val="cc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棱台 6239"/>
          <p:cNvSpPr/>
          <p:nvPr/>
        </p:nvSpPr>
        <p:spPr>
          <a:xfrm>
            <a:off x="6375240" y="5322960"/>
            <a:ext cx="279720" cy="279360"/>
          </a:xfrm>
          <a:prstGeom prst="bevel">
            <a:avLst>
              <a:gd name="adj" fmla="val 12500"/>
            </a:avLst>
          </a:prstGeom>
          <a:solidFill>
            <a:srgbClr val="009900">
              <a:alpha val="40000"/>
            </a:srgbClr>
          </a:solidFill>
          <a:ln w="0">
            <a:noFill/>
          </a:ln>
          <a:effectLst>
            <a:outerShdw dist="153753" dir="2700000" blurRad="0" rotWithShape="0">
              <a:srgbClr val="cc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棱台 6240"/>
          <p:cNvSpPr/>
          <p:nvPr/>
        </p:nvSpPr>
        <p:spPr>
          <a:xfrm>
            <a:off x="6375240" y="4705200"/>
            <a:ext cx="279720" cy="279720"/>
          </a:xfrm>
          <a:prstGeom prst="bevel">
            <a:avLst>
              <a:gd name="adj" fmla="val 12500"/>
            </a:avLst>
          </a:prstGeom>
          <a:solidFill>
            <a:srgbClr val="ff66ff">
              <a:alpha val="40000"/>
            </a:srgbClr>
          </a:solidFill>
          <a:ln w="0">
            <a:noFill/>
          </a:ln>
          <a:effectLst>
            <a:outerShdw dist="153753" dir="2700000" blurRad="0" rotWithShape="0">
              <a:srgbClr val="ff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图片 6241" descr="未标题-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96720" y="1214280"/>
            <a:ext cx="1702080" cy="1627200"/>
          </a:xfrm>
          <a:prstGeom prst="rect">
            <a:avLst/>
          </a:prstGeom>
          <a:ln w="0">
            <a:noFill/>
          </a:ln>
        </p:spPr>
      </p:pic>
      <p:sp>
        <p:nvSpPr>
          <p:cNvPr id="229" name="矩形 6242"/>
          <p:cNvSpPr/>
          <p:nvPr/>
        </p:nvSpPr>
        <p:spPr>
          <a:xfrm>
            <a:off x="0" y="1149480"/>
            <a:ext cx="4543560" cy="898560"/>
          </a:xfrm>
          <a:prstGeom prst="rect">
            <a:avLst/>
          </a:prstGeom>
          <a:gradFill rotWithShape="0">
            <a:gsLst>
              <a:gs pos="0">
                <a:srgbClr val="33cc33">
                  <a:alpha val="4000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6243"/>
          <p:cNvSpPr/>
          <p:nvPr/>
        </p:nvSpPr>
        <p:spPr>
          <a:xfrm>
            <a:off x="114480" y="1139760"/>
            <a:ext cx="3759120" cy="8175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33cc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03040" y="75960"/>
            <a:ext cx="8229600" cy="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图片 7170" descr="未标题-1"/>
          <p:cNvPicPr/>
          <p:nvPr/>
        </p:nvPicPr>
        <p:blipFill>
          <a:blip r:embed="rId1"/>
          <a:stretch/>
        </p:blipFill>
        <p:spPr>
          <a:xfrm>
            <a:off x="0" y="2486160"/>
            <a:ext cx="9144000" cy="4051080"/>
          </a:xfrm>
          <a:prstGeom prst="rect">
            <a:avLst/>
          </a:prstGeom>
          <a:ln w="0">
            <a:noFill/>
          </a:ln>
        </p:spPr>
      </p:pic>
      <p:sp>
        <p:nvSpPr>
          <p:cNvPr id="233" name="矩形 7171"/>
          <p:cNvSpPr/>
          <p:nvPr/>
        </p:nvSpPr>
        <p:spPr>
          <a:xfrm>
            <a:off x="0" y="3321000"/>
            <a:ext cx="9144000" cy="29718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组合 7172"/>
          <p:cNvGrpSpPr/>
          <p:nvPr/>
        </p:nvGrpSpPr>
        <p:grpSpPr>
          <a:xfrm>
            <a:off x="743400" y="1566720"/>
            <a:ext cx="504720" cy="482040"/>
            <a:chOff x="743400" y="1566720"/>
            <a:chExt cx="504720" cy="482040"/>
          </a:xfrm>
        </p:grpSpPr>
        <p:sp>
          <p:nvSpPr>
            <p:cNvPr id="235" name="任意多边形 7173"/>
            <p:cNvSpPr/>
            <p:nvPr/>
          </p:nvSpPr>
          <p:spPr>
            <a:xfrm>
              <a:off x="907560" y="1566720"/>
              <a:ext cx="176760" cy="235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gradFill rotWithShape="0">
              <a:gsLst>
                <a:gs pos="0">
                  <a:srgbClr val="00cc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任意多边形 7174"/>
            <p:cNvSpPr/>
            <p:nvPr/>
          </p:nvSpPr>
          <p:spPr>
            <a:xfrm rot="4320000">
              <a:off x="1019880" y="1650240"/>
              <a:ext cx="177120" cy="235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gradFill rotWithShape="0">
              <a:gsLst>
                <a:gs pos="0">
                  <a:srgbClr val="00cc00"/>
                </a:gs>
                <a:gs pos="100000">
                  <a:srgbClr val="ffffff"/>
                </a:gs>
              </a:gsLst>
              <a:lin ang="10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任意多边形 7175"/>
            <p:cNvSpPr/>
            <p:nvPr/>
          </p:nvSpPr>
          <p:spPr>
            <a:xfrm rot="8640000">
              <a:off x="975960" y="1782720"/>
              <a:ext cx="176760" cy="236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gradFill rotWithShape="0">
              <a:gsLst>
                <a:gs pos="0">
                  <a:srgbClr val="00cc00"/>
                </a:gs>
                <a:gs pos="100000">
                  <a:srgbClr val="ffffff"/>
                </a:gs>
              </a:gsLst>
              <a:lin ang="183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任意多边形 7176"/>
            <p:cNvSpPr/>
            <p:nvPr/>
          </p:nvSpPr>
          <p:spPr>
            <a:xfrm rot="17280000">
              <a:off x="794160" y="1650240"/>
              <a:ext cx="177120" cy="235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gradFill rotWithShape="0">
              <a:gsLst>
                <a:gs pos="0">
                  <a:srgbClr val="00cc00"/>
                </a:gs>
                <a:gs pos="100000">
                  <a:srgbClr val="ffffff"/>
                </a:gs>
              </a:gsLst>
              <a:lin ang="97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任意多边形 7177"/>
            <p:cNvSpPr/>
            <p:nvPr/>
          </p:nvSpPr>
          <p:spPr>
            <a:xfrm rot="12960000">
              <a:off x="838080" y="1777680"/>
              <a:ext cx="176760" cy="235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gradFill rotWithShape="0">
              <a:gsLst>
                <a:gs pos="0">
                  <a:srgbClr val="00cc00"/>
                </a:gs>
                <a:gs pos="100000">
                  <a:srgbClr val="ffffff"/>
                </a:gs>
              </a:gsLst>
              <a:lin ang="140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组合 7178"/>
          <p:cNvGrpSpPr/>
          <p:nvPr/>
        </p:nvGrpSpPr>
        <p:grpSpPr>
          <a:xfrm>
            <a:off x="743400" y="2230560"/>
            <a:ext cx="504720" cy="481320"/>
            <a:chOff x="743400" y="2230560"/>
            <a:chExt cx="504720" cy="481320"/>
          </a:xfrm>
        </p:grpSpPr>
        <p:sp>
          <p:nvSpPr>
            <p:cNvPr id="241" name="任意多边形 7179"/>
            <p:cNvSpPr/>
            <p:nvPr/>
          </p:nvSpPr>
          <p:spPr>
            <a:xfrm>
              <a:off x="907560" y="2230560"/>
              <a:ext cx="176760" cy="235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gradFill rotWithShape="0">
              <a:gsLst>
                <a:gs pos="0">
                  <a:srgbClr val="ff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任意多边形 7180"/>
            <p:cNvSpPr/>
            <p:nvPr/>
          </p:nvSpPr>
          <p:spPr>
            <a:xfrm rot="4320000">
              <a:off x="1019880" y="2313720"/>
              <a:ext cx="176760" cy="235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gradFill rotWithShape="0">
              <a:gsLst>
                <a:gs pos="0">
                  <a:srgbClr val="ffccff"/>
                </a:gs>
                <a:gs pos="100000">
                  <a:srgbClr val="ffffff"/>
                </a:gs>
              </a:gsLst>
              <a:lin ang="10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任意多边形 7181"/>
            <p:cNvSpPr/>
            <p:nvPr/>
          </p:nvSpPr>
          <p:spPr>
            <a:xfrm rot="8640000">
              <a:off x="975600" y="2446200"/>
              <a:ext cx="176760" cy="235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gradFill rotWithShape="0">
              <a:gsLst>
                <a:gs pos="0">
                  <a:srgbClr val="ffccff"/>
                </a:gs>
                <a:gs pos="100000">
                  <a:srgbClr val="ffffff"/>
                </a:gs>
              </a:gsLst>
              <a:lin ang="183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任意多边形 7182"/>
            <p:cNvSpPr/>
            <p:nvPr/>
          </p:nvSpPr>
          <p:spPr>
            <a:xfrm rot="17280000">
              <a:off x="794160" y="2313360"/>
              <a:ext cx="176760" cy="235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gradFill rotWithShape="0">
              <a:gsLst>
                <a:gs pos="0">
                  <a:srgbClr val="ffccff"/>
                </a:gs>
                <a:gs pos="100000">
                  <a:srgbClr val="ffffff"/>
                </a:gs>
              </a:gsLst>
              <a:lin ang="97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任意多边形 7183"/>
            <p:cNvSpPr/>
            <p:nvPr/>
          </p:nvSpPr>
          <p:spPr>
            <a:xfrm rot="12960000">
              <a:off x="838080" y="2441520"/>
              <a:ext cx="176760" cy="235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gradFill rotWithShape="0">
              <a:gsLst>
                <a:gs pos="0">
                  <a:srgbClr val="ffccff"/>
                </a:gs>
                <a:gs pos="100000">
                  <a:srgbClr val="ffffff"/>
                </a:gs>
              </a:gsLst>
              <a:lin ang="140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993600" y="1990800"/>
            <a:ext cx="3241800" cy="360"/>
            <a:chOff x="993600" y="1990800"/>
            <a:chExt cx="3241800" cy="360"/>
          </a:xfrm>
        </p:grpSpPr>
        <p:sp>
          <p:nvSpPr>
            <p:cNvPr id="247" name="直接连接符 7184"/>
            <p:cNvSpPr/>
            <p:nvPr/>
          </p:nvSpPr>
          <p:spPr>
            <a:xfrm>
              <a:off x="993600" y="1990800"/>
              <a:ext cx="3241800" cy="0"/>
            </a:xfrm>
            <a:prstGeom prst="line">
              <a:avLst/>
            </a:prstGeom>
            <a:ln cap="rnd" w="28440">
              <a:solidFill>
                <a:srgbClr val="33cc33"/>
              </a:solidFill>
              <a:custDash>
                <a:ds d="100000" sp="1000"/>
              </a:custDash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 txBox="1"/>
            <p:nvPr/>
          </p:nvSpPr>
          <p:spPr>
            <a:xfrm>
              <a:off x="993600" y="1990800"/>
              <a:ext cx="3241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993600" y="2649600"/>
            <a:ext cx="3241800" cy="360"/>
            <a:chOff x="993600" y="2649600"/>
            <a:chExt cx="3241800" cy="360"/>
          </a:xfrm>
        </p:grpSpPr>
        <p:sp>
          <p:nvSpPr>
            <p:cNvPr id="250" name="直接连接符 7185"/>
            <p:cNvSpPr/>
            <p:nvPr/>
          </p:nvSpPr>
          <p:spPr>
            <a:xfrm>
              <a:off x="993600" y="2649600"/>
              <a:ext cx="3241800" cy="0"/>
            </a:xfrm>
            <a:prstGeom prst="line">
              <a:avLst/>
            </a:prstGeom>
            <a:ln cap="rnd" w="28440">
              <a:solidFill>
                <a:srgbClr val="ffccff"/>
              </a:solidFill>
              <a:custDash>
                <a:ds d="100000" sp="1000"/>
              </a:custDash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 txBox="1"/>
            <p:nvPr/>
          </p:nvSpPr>
          <p:spPr>
            <a:xfrm>
              <a:off x="993600" y="2649600"/>
              <a:ext cx="3241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组合 7186"/>
          <p:cNvGrpSpPr/>
          <p:nvPr/>
        </p:nvGrpSpPr>
        <p:grpSpPr>
          <a:xfrm>
            <a:off x="743400" y="2873520"/>
            <a:ext cx="504720" cy="481320"/>
            <a:chOff x="743400" y="2873520"/>
            <a:chExt cx="504720" cy="481320"/>
          </a:xfrm>
        </p:grpSpPr>
        <p:sp>
          <p:nvSpPr>
            <p:cNvPr id="253" name="任意多边形 7187"/>
            <p:cNvSpPr/>
            <p:nvPr/>
          </p:nvSpPr>
          <p:spPr>
            <a:xfrm>
              <a:off x="907560" y="2873520"/>
              <a:ext cx="176760" cy="235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gradFill rotWithShape="0">
              <a:gsLst>
                <a:gs pos="0">
                  <a:srgbClr val="00cc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任意多边形 7188"/>
            <p:cNvSpPr/>
            <p:nvPr/>
          </p:nvSpPr>
          <p:spPr>
            <a:xfrm rot="4320000">
              <a:off x="1019880" y="2956680"/>
              <a:ext cx="176760" cy="235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gradFill rotWithShape="0">
              <a:gsLst>
                <a:gs pos="0">
                  <a:srgbClr val="00cc00"/>
                </a:gs>
                <a:gs pos="100000">
                  <a:srgbClr val="ffffff"/>
                </a:gs>
              </a:gsLst>
              <a:lin ang="10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任意多边形 7189"/>
            <p:cNvSpPr/>
            <p:nvPr/>
          </p:nvSpPr>
          <p:spPr>
            <a:xfrm rot="8640000">
              <a:off x="975600" y="3089160"/>
              <a:ext cx="176760" cy="235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gradFill rotWithShape="0">
              <a:gsLst>
                <a:gs pos="0">
                  <a:srgbClr val="00cc00"/>
                </a:gs>
                <a:gs pos="100000">
                  <a:srgbClr val="ffffff"/>
                </a:gs>
              </a:gsLst>
              <a:lin ang="183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任意多边形 7190"/>
            <p:cNvSpPr/>
            <p:nvPr/>
          </p:nvSpPr>
          <p:spPr>
            <a:xfrm rot="17280000">
              <a:off x="794160" y="2956320"/>
              <a:ext cx="176760" cy="235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gradFill rotWithShape="0">
              <a:gsLst>
                <a:gs pos="0">
                  <a:srgbClr val="00cc00"/>
                </a:gs>
                <a:gs pos="100000">
                  <a:srgbClr val="ffffff"/>
                </a:gs>
              </a:gsLst>
              <a:lin ang="97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任意多边形 7191"/>
            <p:cNvSpPr/>
            <p:nvPr/>
          </p:nvSpPr>
          <p:spPr>
            <a:xfrm rot="12960000">
              <a:off x="838080" y="3084480"/>
              <a:ext cx="176760" cy="235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gradFill rotWithShape="0">
              <a:gsLst>
                <a:gs pos="0">
                  <a:srgbClr val="00cc00"/>
                </a:gs>
                <a:gs pos="100000">
                  <a:srgbClr val="ffffff"/>
                </a:gs>
              </a:gsLst>
              <a:lin ang="140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组合 7192"/>
          <p:cNvGrpSpPr/>
          <p:nvPr/>
        </p:nvGrpSpPr>
        <p:grpSpPr>
          <a:xfrm>
            <a:off x="743400" y="3537000"/>
            <a:ext cx="504720" cy="482040"/>
            <a:chOff x="743400" y="3537000"/>
            <a:chExt cx="504720" cy="482040"/>
          </a:xfrm>
        </p:grpSpPr>
        <p:sp>
          <p:nvSpPr>
            <p:cNvPr id="259" name="任意多边形 7193"/>
            <p:cNvSpPr/>
            <p:nvPr/>
          </p:nvSpPr>
          <p:spPr>
            <a:xfrm>
              <a:off x="907560" y="3537000"/>
              <a:ext cx="176760" cy="235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gradFill rotWithShape="0">
              <a:gsLst>
                <a:gs pos="0">
                  <a:srgbClr val="ff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任意多边形 7194"/>
            <p:cNvSpPr/>
            <p:nvPr/>
          </p:nvSpPr>
          <p:spPr>
            <a:xfrm rot="4320000">
              <a:off x="1019880" y="3620520"/>
              <a:ext cx="177120" cy="235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gradFill rotWithShape="0">
              <a:gsLst>
                <a:gs pos="0">
                  <a:srgbClr val="ffccff"/>
                </a:gs>
                <a:gs pos="100000">
                  <a:srgbClr val="ffffff"/>
                </a:gs>
              </a:gsLst>
              <a:lin ang="10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任意多边形 7195"/>
            <p:cNvSpPr/>
            <p:nvPr/>
          </p:nvSpPr>
          <p:spPr>
            <a:xfrm rot="8640000">
              <a:off x="975960" y="3753000"/>
              <a:ext cx="176760" cy="236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gradFill rotWithShape="0">
              <a:gsLst>
                <a:gs pos="0">
                  <a:srgbClr val="ffccff"/>
                </a:gs>
                <a:gs pos="100000">
                  <a:srgbClr val="ffffff"/>
                </a:gs>
              </a:gsLst>
              <a:lin ang="183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任意多边形 7196"/>
            <p:cNvSpPr/>
            <p:nvPr/>
          </p:nvSpPr>
          <p:spPr>
            <a:xfrm rot="17280000">
              <a:off x="794160" y="3620520"/>
              <a:ext cx="177120" cy="235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gradFill rotWithShape="0">
              <a:gsLst>
                <a:gs pos="0">
                  <a:srgbClr val="ffccff"/>
                </a:gs>
                <a:gs pos="100000">
                  <a:srgbClr val="ffffff"/>
                </a:gs>
              </a:gsLst>
              <a:lin ang="97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任意多边形 7197"/>
            <p:cNvSpPr/>
            <p:nvPr/>
          </p:nvSpPr>
          <p:spPr>
            <a:xfrm rot="12960000">
              <a:off x="838080" y="3747960"/>
              <a:ext cx="176760" cy="235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gradFill rotWithShape="0">
              <a:gsLst>
                <a:gs pos="0">
                  <a:srgbClr val="ffccff"/>
                </a:gs>
                <a:gs pos="100000">
                  <a:srgbClr val="ffffff"/>
                </a:gs>
              </a:gsLst>
              <a:lin ang="140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993600" y="3297240"/>
            <a:ext cx="3241800" cy="360"/>
            <a:chOff x="993600" y="3297240"/>
            <a:chExt cx="3241800" cy="360"/>
          </a:xfrm>
        </p:grpSpPr>
        <p:sp>
          <p:nvSpPr>
            <p:cNvPr id="265" name="直接连接符 7198"/>
            <p:cNvSpPr/>
            <p:nvPr/>
          </p:nvSpPr>
          <p:spPr>
            <a:xfrm>
              <a:off x="993600" y="3297240"/>
              <a:ext cx="3241800" cy="0"/>
            </a:xfrm>
            <a:prstGeom prst="line">
              <a:avLst/>
            </a:prstGeom>
            <a:ln cap="rnd" w="28440">
              <a:solidFill>
                <a:srgbClr val="33cc33"/>
              </a:solidFill>
              <a:custDash>
                <a:ds d="100000" sp="1000"/>
              </a:custDash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 txBox="1"/>
            <p:nvPr/>
          </p:nvSpPr>
          <p:spPr>
            <a:xfrm>
              <a:off x="993600" y="3297240"/>
              <a:ext cx="3241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993600" y="3956040"/>
            <a:ext cx="3241800" cy="360"/>
            <a:chOff x="993600" y="3956040"/>
            <a:chExt cx="3241800" cy="360"/>
          </a:xfrm>
        </p:grpSpPr>
        <p:sp>
          <p:nvSpPr>
            <p:cNvPr id="268" name="直接连接符 7199"/>
            <p:cNvSpPr/>
            <p:nvPr/>
          </p:nvSpPr>
          <p:spPr>
            <a:xfrm>
              <a:off x="993600" y="3956040"/>
              <a:ext cx="3241800" cy="0"/>
            </a:xfrm>
            <a:prstGeom prst="line">
              <a:avLst/>
            </a:prstGeom>
            <a:ln cap="rnd" w="28440">
              <a:solidFill>
                <a:srgbClr val="ffccff"/>
              </a:solidFill>
              <a:custDash>
                <a:ds d="100000" sp="1000"/>
              </a:custDash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 txBox="1"/>
            <p:nvPr/>
          </p:nvSpPr>
          <p:spPr>
            <a:xfrm>
              <a:off x="993600" y="3956040"/>
              <a:ext cx="3241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矩形 7200"/>
          <p:cNvSpPr/>
          <p:nvPr/>
        </p:nvSpPr>
        <p:spPr>
          <a:xfrm>
            <a:off x="1322280" y="152244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7201"/>
          <p:cNvSpPr/>
          <p:nvPr/>
        </p:nvSpPr>
        <p:spPr>
          <a:xfrm>
            <a:off x="1322280" y="218268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7202"/>
          <p:cNvSpPr/>
          <p:nvPr/>
        </p:nvSpPr>
        <p:spPr>
          <a:xfrm>
            <a:off x="1335240" y="284328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7203"/>
          <p:cNvSpPr/>
          <p:nvPr/>
        </p:nvSpPr>
        <p:spPr>
          <a:xfrm>
            <a:off x="1335240" y="349416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文本框 7204"/>
          <p:cNvSpPr/>
          <p:nvPr/>
        </p:nvSpPr>
        <p:spPr>
          <a:xfrm>
            <a:off x="822240" y="161460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文本框 7205"/>
          <p:cNvSpPr/>
          <p:nvPr/>
        </p:nvSpPr>
        <p:spPr>
          <a:xfrm>
            <a:off x="822240" y="228744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ff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文本框 7206"/>
          <p:cNvSpPr/>
          <p:nvPr/>
        </p:nvSpPr>
        <p:spPr>
          <a:xfrm>
            <a:off x="822240" y="291780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文本框 7207"/>
          <p:cNvSpPr/>
          <p:nvPr/>
        </p:nvSpPr>
        <p:spPr>
          <a:xfrm>
            <a:off x="822240" y="357840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ff"/>
                </a:solidFill>
                <a:latin typeface="Arial Black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图片 7208" descr="5"/>
          <p:cNvPicPr/>
          <p:nvPr/>
        </p:nvPicPr>
        <p:blipFill>
          <a:blip r:embed="rId2"/>
          <a:stretch/>
        </p:blipFill>
        <p:spPr>
          <a:xfrm rot="563400">
            <a:off x="7020000" y="3560400"/>
            <a:ext cx="1218960" cy="19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03040" y="75960"/>
            <a:ext cx="8229600" cy="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8194" descr="未标题-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619440" y="3022560"/>
            <a:ext cx="1701720" cy="1627200"/>
          </a:xfrm>
          <a:prstGeom prst="rect">
            <a:avLst/>
          </a:prstGeom>
          <a:ln w="0">
            <a:noFill/>
          </a:ln>
        </p:spPr>
      </p:pic>
      <p:sp>
        <p:nvSpPr>
          <p:cNvPr id="281" name="矩形 8195"/>
          <p:cNvSpPr/>
          <p:nvPr/>
        </p:nvSpPr>
        <p:spPr>
          <a:xfrm>
            <a:off x="3691080" y="3597120"/>
            <a:ext cx="1734840" cy="424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4473360" y="2538000"/>
            <a:ext cx="360" cy="576360"/>
            <a:chOff x="4473360" y="2538000"/>
            <a:chExt cx="360" cy="576360"/>
          </a:xfrm>
        </p:grpSpPr>
        <p:sp>
          <p:nvSpPr>
            <p:cNvPr id="283" name="直接连接符 8196"/>
            <p:cNvSpPr/>
            <p:nvPr/>
          </p:nvSpPr>
          <p:spPr>
            <a:xfrm flipV="1">
              <a:off x="4473720" y="2538000"/>
              <a:ext cx="0" cy="576360"/>
            </a:xfrm>
            <a:prstGeom prst="line">
              <a:avLst/>
            </a:prstGeom>
            <a:ln w="2844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 txBox="1"/>
            <p:nvPr/>
          </p:nvSpPr>
          <p:spPr>
            <a:xfrm rot="10800000">
              <a:off x="4473360" y="2538000"/>
              <a:ext cx="360" cy="576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2635200" y="2536920"/>
            <a:ext cx="3432240" cy="360"/>
            <a:chOff x="2635200" y="2536920"/>
            <a:chExt cx="3432240" cy="360"/>
          </a:xfrm>
        </p:grpSpPr>
        <p:sp>
          <p:nvSpPr>
            <p:cNvPr id="286" name="直接连接符 8197"/>
            <p:cNvSpPr/>
            <p:nvPr/>
          </p:nvSpPr>
          <p:spPr>
            <a:xfrm>
              <a:off x="2635200" y="2536920"/>
              <a:ext cx="3432240" cy="0"/>
            </a:xfrm>
            <a:prstGeom prst="line">
              <a:avLst/>
            </a:prstGeom>
            <a:ln w="2844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 txBox="1"/>
            <p:nvPr/>
          </p:nvSpPr>
          <p:spPr>
            <a:xfrm>
              <a:off x="2635200" y="2536920"/>
              <a:ext cx="34322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组合 8198"/>
          <p:cNvGrpSpPr/>
          <p:nvPr/>
        </p:nvGrpSpPr>
        <p:grpSpPr>
          <a:xfrm>
            <a:off x="2784600" y="1476360"/>
            <a:ext cx="336600" cy="398880"/>
            <a:chOff x="2784600" y="1476360"/>
            <a:chExt cx="336600" cy="398880"/>
          </a:xfrm>
        </p:grpSpPr>
        <p:sp>
          <p:nvSpPr>
            <p:cNvPr id="289" name="矩形 8199"/>
            <p:cNvSpPr/>
            <p:nvPr/>
          </p:nvSpPr>
          <p:spPr>
            <a:xfrm>
              <a:off x="2802240" y="1519200"/>
              <a:ext cx="318960" cy="31896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文本框 8200"/>
            <p:cNvSpPr/>
            <p:nvPr/>
          </p:nvSpPr>
          <p:spPr>
            <a:xfrm>
              <a:off x="2784600" y="147636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文本框 8201"/>
          <p:cNvSpPr/>
          <p:nvPr/>
        </p:nvSpPr>
        <p:spPr>
          <a:xfrm>
            <a:off x="2692440" y="1862280"/>
            <a:ext cx="316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is a Design Digital Content &amp;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5165640" y="3468600"/>
            <a:ext cx="546480" cy="177840"/>
            <a:chOff x="5165640" y="3468600"/>
            <a:chExt cx="546480" cy="177840"/>
          </a:xfrm>
        </p:grpSpPr>
        <p:sp>
          <p:nvSpPr>
            <p:cNvPr id="293" name="直接连接符 8202"/>
            <p:cNvSpPr/>
            <p:nvPr/>
          </p:nvSpPr>
          <p:spPr>
            <a:xfrm flipV="1">
              <a:off x="5165640" y="3468600"/>
              <a:ext cx="546480" cy="177840"/>
            </a:xfrm>
            <a:prstGeom prst="line">
              <a:avLst/>
            </a:prstGeom>
            <a:ln w="2844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 txBox="1"/>
            <p:nvPr/>
          </p:nvSpPr>
          <p:spPr>
            <a:xfrm rot="15120000">
              <a:off x="5438520" y="3269880"/>
              <a:ext cx="360" cy="574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4902840" y="4432680"/>
            <a:ext cx="339120" cy="466920"/>
            <a:chOff x="4902840" y="4432680"/>
            <a:chExt cx="339120" cy="466920"/>
          </a:xfrm>
        </p:grpSpPr>
        <p:sp>
          <p:nvSpPr>
            <p:cNvPr id="296" name="直接连接符 8203"/>
            <p:cNvSpPr/>
            <p:nvPr/>
          </p:nvSpPr>
          <p:spPr>
            <a:xfrm>
              <a:off x="4902840" y="4432680"/>
              <a:ext cx="338760" cy="466200"/>
            </a:xfrm>
            <a:prstGeom prst="line">
              <a:avLst/>
            </a:prstGeom>
            <a:ln w="2844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 txBox="1"/>
            <p:nvPr/>
          </p:nvSpPr>
          <p:spPr>
            <a:xfrm rot="19440000">
              <a:off x="5072040" y="4377960"/>
              <a:ext cx="360" cy="576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3708720" y="4432680"/>
            <a:ext cx="339120" cy="467280"/>
            <a:chOff x="3708720" y="4432680"/>
            <a:chExt cx="339120" cy="467280"/>
          </a:xfrm>
        </p:grpSpPr>
        <p:sp>
          <p:nvSpPr>
            <p:cNvPr id="299" name="直接连接符 8204"/>
            <p:cNvSpPr/>
            <p:nvPr/>
          </p:nvSpPr>
          <p:spPr>
            <a:xfrm flipH="1">
              <a:off x="3708720" y="4432680"/>
              <a:ext cx="338760" cy="466200"/>
            </a:xfrm>
            <a:prstGeom prst="line">
              <a:avLst/>
            </a:prstGeom>
            <a:ln w="2844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 txBox="1"/>
            <p:nvPr/>
          </p:nvSpPr>
          <p:spPr>
            <a:xfrm rot="2160000">
              <a:off x="3877920" y="4378320"/>
              <a:ext cx="360" cy="576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3298680" y="3456000"/>
            <a:ext cx="546480" cy="178200"/>
            <a:chOff x="3298680" y="3456000"/>
            <a:chExt cx="546480" cy="178200"/>
          </a:xfrm>
        </p:grpSpPr>
        <p:sp>
          <p:nvSpPr>
            <p:cNvPr id="302" name="直接连接符 8205"/>
            <p:cNvSpPr/>
            <p:nvPr/>
          </p:nvSpPr>
          <p:spPr>
            <a:xfrm flipH="1" flipV="1">
              <a:off x="3298680" y="3456000"/>
              <a:ext cx="546480" cy="177840"/>
            </a:xfrm>
            <a:prstGeom prst="line">
              <a:avLst/>
            </a:prstGeom>
            <a:ln w="2844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 txBox="1"/>
            <p:nvPr/>
          </p:nvSpPr>
          <p:spPr>
            <a:xfrm rot="6480000">
              <a:off x="3571560" y="3257640"/>
              <a:ext cx="360" cy="574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441360" y="3451320"/>
            <a:ext cx="2855880" cy="360"/>
            <a:chOff x="441360" y="3451320"/>
            <a:chExt cx="2855880" cy="360"/>
          </a:xfrm>
        </p:grpSpPr>
        <p:sp>
          <p:nvSpPr>
            <p:cNvPr id="305" name="直接连接符 8206"/>
            <p:cNvSpPr/>
            <p:nvPr/>
          </p:nvSpPr>
          <p:spPr>
            <a:xfrm>
              <a:off x="441360" y="3451320"/>
              <a:ext cx="2855880" cy="0"/>
            </a:xfrm>
            <a:prstGeom prst="line">
              <a:avLst/>
            </a:prstGeom>
            <a:ln w="2844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 txBox="1"/>
            <p:nvPr/>
          </p:nvSpPr>
          <p:spPr>
            <a:xfrm>
              <a:off x="441360" y="3451320"/>
              <a:ext cx="2855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5716440" y="3465360"/>
            <a:ext cx="2856240" cy="360"/>
            <a:chOff x="5716440" y="3465360"/>
            <a:chExt cx="2856240" cy="360"/>
          </a:xfrm>
        </p:grpSpPr>
        <p:sp>
          <p:nvSpPr>
            <p:cNvPr id="308" name="直接连接符 8207"/>
            <p:cNvSpPr/>
            <p:nvPr/>
          </p:nvSpPr>
          <p:spPr>
            <a:xfrm>
              <a:off x="5716440" y="3465360"/>
              <a:ext cx="2856240" cy="0"/>
            </a:xfrm>
            <a:prstGeom prst="line">
              <a:avLst/>
            </a:prstGeom>
            <a:ln w="2844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 txBox="1"/>
            <p:nvPr/>
          </p:nvSpPr>
          <p:spPr>
            <a:xfrm>
              <a:off x="5716440" y="3465360"/>
              <a:ext cx="28562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863640" y="4900680"/>
            <a:ext cx="2855880" cy="360"/>
            <a:chOff x="863640" y="4900680"/>
            <a:chExt cx="2855880" cy="360"/>
          </a:xfrm>
        </p:grpSpPr>
        <p:sp>
          <p:nvSpPr>
            <p:cNvPr id="311" name="直接连接符 8208"/>
            <p:cNvSpPr/>
            <p:nvPr/>
          </p:nvSpPr>
          <p:spPr>
            <a:xfrm>
              <a:off x="863640" y="4900680"/>
              <a:ext cx="2855880" cy="0"/>
            </a:xfrm>
            <a:prstGeom prst="line">
              <a:avLst/>
            </a:prstGeom>
            <a:ln w="2844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 txBox="1"/>
            <p:nvPr/>
          </p:nvSpPr>
          <p:spPr>
            <a:xfrm>
              <a:off x="863640" y="4900680"/>
              <a:ext cx="2855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5238720" y="4900680"/>
            <a:ext cx="2855880" cy="360"/>
            <a:chOff x="5238720" y="4900680"/>
            <a:chExt cx="2855880" cy="360"/>
          </a:xfrm>
        </p:grpSpPr>
        <p:sp>
          <p:nvSpPr>
            <p:cNvPr id="314" name="直接连接符 8209"/>
            <p:cNvSpPr/>
            <p:nvPr/>
          </p:nvSpPr>
          <p:spPr>
            <a:xfrm>
              <a:off x="5238720" y="4900680"/>
              <a:ext cx="2855880" cy="0"/>
            </a:xfrm>
            <a:prstGeom prst="line">
              <a:avLst/>
            </a:prstGeom>
            <a:ln w="2844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 txBox="1"/>
            <p:nvPr/>
          </p:nvSpPr>
          <p:spPr>
            <a:xfrm>
              <a:off x="5238720" y="4900680"/>
              <a:ext cx="2855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组合 8210"/>
          <p:cNvGrpSpPr/>
          <p:nvPr/>
        </p:nvGrpSpPr>
        <p:grpSpPr>
          <a:xfrm>
            <a:off x="492120" y="2449440"/>
            <a:ext cx="336600" cy="398880"/>
            <a:chOff x="492120" y="2449440"/>
            <a:chExt cx="336600" cy="398880"/>
          </a:xfrm>
        </p:grpSpPr>
        <p:sp>
          <p:nvSpPr>
            <p:cNvPr id="317" name="矩形 8211"/>
            <p:cNvSpPr/>
            <p:nvPr/>
          </p:nvSpPr>
          <p:spPr>
            <a:xfrm>
              <a:off x="509760" y="2492280"/>
              <a:ext cx="318960" cy="31896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文本框 8212"/>
            <p:cNvSpPr/>
            <p:nvPr/>
          </p:nvSpPr>
          <p:spPr>
            <a:xfrm>
              <a:off x="492120" y="244944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文本框 8213"/>
          <p:cNvSpPr/>
          <p:nvPr/>
        </p:nvSpPr>
        <p:spPr>
          <a:xfrm>
            <a:off x="399960" y="2835360"/>
            <a:ext cx="316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is a Design Digital Content &amp;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组合 8214"/>
          <p:cNvGrpSpPr/>
          <p:nvPr/>
        </p:nvGrpSpPr>
        <p:grpSpPr>
          <a:xfrm>
            <a:off x="844560" y="3881520"/>
            <a:ext cx="336600" cy="398880"/>
            <a:chOff x="844560" y="3881520"/>
            <a:chExt cx="336600" cy="398880"/>
          </a:xfrm>
        </p:grpSpPr>
        <p:sp>
          <p:nvSpPr>
            <p:cNvPr id="321" name="矩形 8215"/>
            <p:cNvSpPr/>
            <p:nvPr/>
          </p:nvSpPr>
          <p:spPr>
            <a:xfrm>
              <a:off x="862200" y="3924360"/>
              <a:ext cx="318960" cy="31896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文本框 8216"/>
            <p:cNvSpPr/>
            <p:nvPr/>
          </p:nvSpPr>
          <p:spPr>
            <a:xfrm>
              <a:off x="844560" y="388152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文本框 8217"/>
          <p:cNvSpPr/>
          <p:nvPr/>
        </p:nvSpPr>
        <p:spPr>
          <a:xfrm>
            <a:off x="752400" y="4267080"/>
            <a:ext cx="316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is a Design Digital Content &amp;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组合 8218"/>
          <p:cNvGrpSpPr/>
          <p:nvPr/>
        </p:nvGrpSpPr>
        <p:grpSpPr>
          <a:xfrm>
            <a:off x="8229600" y="2433600"/>
            <a:ext cx="336600" cy="398880"/>
            <a:chOff x="8229600" y="2433600"/>
            <a:chExt cx="336600" cy="398880"/>
          </a:xfrm>
        </p:grpSpPr>
        <p:sp>
          <p:nvSpPr>
            <p:cNvPr id="325" name="矩形 8219"/>
            <p:cNvSpPr/>
            <p:nvPr/>
          </p:nvSpPr>
          <p:spPr>
            <a:xfrm>
              <a:off x="8247240" y="2476440"/>
              <a:ext cx="318960" cy="31896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文本框 8220"/>
            <p:cNvSpPr/>
            <p:nvPr/>
          </p:nvSpPr>
          <p:spPr>
            <a:xfrm>
              <a:off x="8229600" y="243360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文本框 8221"/>
          <p:cNvSpPr/>
          <p:nvPr/>
        </p:nvSpPr>
        <p:spPr>
          <a:xfrm>
            <a:off x="5661000" y="2833560"/>
            <a:ext cx="316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is a Design Digital Content &amp;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组合 8222"/>
          <p:cNvGrpSpPr/>
          <p:nvPr/>
        </p:nvGrpSpPr>
        <p:grpSpPr>
          <a:xfrm>
            <a:off x="7791480" y="3855960"/>
            <a:ext cx="322200" cy="398880"/>
            <a:chOff x="7791480" y="3855960"/>
            <a:chExt cx="322200" cy="398880"/>
          </a:xfrm>
        </p:grpSpPr>
        <p:sp>
          <p:nvSpPr>
            <p:cNvPr id="329" name="矩形 8223"/>
            <p:cNvSpPr/>
            <p:nvPr/>
          </p:nvSpPr>
          <p:spPr>
            <a:xfrm>
              <a:off x="7794720" y="3898800"/>
              <a:ext cx="318960" cy="31896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文本框 8224"/>
            <p:cNvSpPr/>
            <p:nvPr/>
          </p:nvSpPr>
          <p:spPr>
            <a:xfrm>
              <a:off x="7791480" y="385596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文本框 8225"/>
          <p:cNvSpPr/>
          <p:nvPr/>
        </p:nvSpPr>
        <p:spPr>
          <a:xfrm>
            <a:off x="5208480" y="4255920"/>
            <a:ext cx="316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is a Design Digital Content &amp;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03040" y="75960"/>
            <a:ext cx="8229600" cy="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yc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组合 9218"/>
          <p:cNvGrpSpPr/>
          <p:nvPr/>
        </p:nvGrpSpPr>
        <p:grpSpPr>
          <a:xfrm>
            <a:off x="3790800" y="3003480"/>
            <a:ext cx="1735200" cy="1322280"/>
            <a:chOff x="3790800" y="3003480"/>
            <a:chExt cx="1735200" cy="1322280"/>
          </a:xfrm>
        </p:grpSpPr>
        <p:sp>
          <p:nvSpPr>
            <p:cNvPr id="334" name="正五边形 9219"/>
            <p:cNvSpPr/>
            <p:nvPr/>
          </p:nvSpPr>
          <p:spPr>
            <a:xfrm>
              <a:off x="3935160" y="3003480"/>
              <a:ext cx="1390680" cy="1322280"/>
            </a:xfrm>
            <a:prstGeom prst="pentagon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正五边形 9220"/>
            <p:cNvSpPr/>
            <p:nvPr/>
          </p:nvSpPr>
          <p:spPr>
            <a:xfrm>
              <a:off x="4019400" y="3089160"/>
              <a:ext cx="1228680" cy="1168560"/>
            </a:xfrm>
            <a:prstGeom prst="pentagon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矩形 9221"/>
            <p:cNvSpPr/>
            <p:nvPr/>
          </p:nvSpPr>
          <p:spPr>
            <a:xfrm>
              <a:off x="3790800" y="3511440"/>
              <a:ext cx="1735200" cy="42408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99cc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组合 9222"/>
          <p:cNvGrpSpPr/>
          <p:nvPr/>
        </p:nvGrpSpPr>
        <p:grpSpPr>
          <a:xfrm>
            <a:off x="4402080" y="2538360"/>
            <a:ext cx="449280" cy="449280"/>
            <a:chOff x="4402080" y="2538360"/>
            <a:chExt cx="449280" cy="449280"/>
          </a:xfrm>
        </p:grpSpPr>
        <p:sp>
          <p:nvSpPr>
            <p:cNvPr id="338" name="椭圆 9223"/>
            <p:cNvSpPr/>
            <p:nvPr/>
          </p:nvSpPr>
          <p:spPr>
            <a:xfrm>
              <a:off x="4402080" y="2538360"/>
              <a:ext cx="449280" cy="449280"/>
            </a:xfrm>
            <a:prstGeom prst="ellipse">
              <a:avLst/>
            </a:prstGeom>
            <a:gradFill rotWithShape="0">
              <a:gsLst>
                <a:gs pos="0">
                  <a:srgbClr val="ffcc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cap="rnd" w="28440">
              <a:solidFill>
                <a:srgbClr val="ffcc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文本框 9224"/>
            <p:cNvSpPr/>
            <p:nvPr/>
          </p:nvSpPr>
          <p:spPr>
            <a:xfrm>
              <a:off x="4414680" y="2593800"/>
              <a:ext cx="425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66ff"/>
                  </a:solidFill>
                  <a:latin typeface="Arial Black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组合 9225"/>
          <p:cNvGrpSpPr/>
          <p:nvPr/>
        </p:nvGrpSpPr>
        <p:grpSpPr>
          <a:xfrm>
            <a:off x="3473280" y="3284640"/>
            <a:ext cx="449280" cy="449280"/>
            <a:chOff x="3473280" y="3284640"/>
            <a:chExt cx="449280" cy="449280"/>
          </a:xfrm>
        </p:grpSpPr>
        <p:sp>
          <p:nvSpPr>
            <p:cNvPr id="341" name="椭圆 9226"/>
            <p:cNvSpPr/>
            <p:nvPr/>
          </p:nvSpPr>
          <p:spPr>
            <a:xfrm>
              <a:off x="3473280" y="3284640"/>
              <a:ext cx="449280" cy="449280"/>
            </a:xfrm>
            <a:prstGeom prst="ellipse">
              <a:avLst/>
            </a:prstGeom>
            <a:gradFill rotWithShape="0">
              <a:gsLst>
                <a:gs pos="0">
                  <a:srgbClr val="ffcc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cap="rnd" w="28440">
              <a:solidFill>
                <a:srgbClr val="ffcc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文本框 9227"/>
            <p:cNvSpPr/>
            <p:nvPr/>
          </p:nvSpPr>
          <p:spPr>
            <a:xfrm>
              <a:off x="3485880" y="3340080"/>
              <a:ext cx="425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66ff"/>
                  </a:solidFill>
                  <a:latin typeface="Arial Black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组合 9228"/>
          <p:cNvGrpSpPr/>
          <p:nvPr/>
        </p:nvGrpSpPr>
        <p:grpSpPr>
          <a:xfrm>
            <a:off x="3838680" y="4308480"/>
            <a:ext cx="449280" cy="449280"/>
            <a:chOff x="3838680" y="4308480"/>
            <a:chExt cx="449280" cy="449280"/>
          </a:xfrm>
        </p:grpSpPr>
        <p:sp>
          <p:nvSpPr>
            <p:cNvPr id="344" name="椭圆 9229"/>
            <p:cNvSpPr/>
            <p:nvPr/>
          </p:nvSpPr>
          <p:spPr>
            <a:xfrm>
              <a:off x="3838680" y="4308480"/>
              <a:ext cx="449280" cy="449280"/>
            </a:xfrm>
            <a:prstGeom prst="ellipse">
              <a:avLst/>
            </a:prstGeom>
            <a:gradFill rotWithShape="0">
              <a:gsLst>
                <a:gs pos="0">
                  <a:srgbClr val="ffcc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cap="rnd" w="28440">
              <a:solidFill>
                <a:srgbClr val="ffcc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文本框 9230"/>
            <p:cNvSpPr/>
            <p:nvPr/>
          </p:nvSpPr>
          <p:spPr>
            <a:xfrm>
              <a:off x="3851280" y="4363920"/>
              <a:ext cx="425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66ff"/>
                  </a:solidFill>
                  <a:latin typeface="Arial Black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组合 9231"/>
          <p:cNvGrpSpPr/>
          <p:nvPr/>
        </p:nvGrpSpPr>
        <p:grpSpPr>
          <a:xfrm>
            <a:off x="4992840" y="4292640"/>
            <a:ext cx="449280" cy="449280"/>
            <a:chOff x="4992840" y="4292640"/>
            <a:chExt cx="449280" cy="449280"/>
          </a:xfrm>
        </p:grpSpPr>
        <p:sp>
          <p:nvSpPr>
            <p:cNvPr id="347" name="椭圆 9232"/>
            <p:cNvSpPr/>
            <p:nvPr/>
          </p:nvSpPr>
          <p:spPr>
            <a:xfrm>
              <a:off x="4992840" y="4292640"/>
              <a:ext cx="449280" cy="449280"/>
            </a:xfrm>
            <a:prstGeom prst="ellipse">
              <a:avLst/>
            </a:prstGeom>
            <a:gradFill rotWithShape="0">
              <a:gsLst>
                <a:gs pos="0">
                  <a:srgbClr val="ffcc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cap="rnd" w="28440">
              <a:solidFill>
                <a:srgbClr val="ffcc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文本框 9233"/>
            <p:cNvSpPr/>
            <p:nvPr/>
          </p:nvSpPr>
          <p:spPr>
            <a:xfrm>
              <a:off x="5005440" y="4348080"/>
              <a:ext cx="425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66ff"/>
                  </a:solidFill>
                  <a:latin typeface="Arial Black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组合 9234"/>
          <p:cNvGrpSpPr/>
          <p:nvPr/>
        </p:nvGrpSpPr>
        <p:grpSpPr>
          <a:xfrm>
            <a:off x="5330880" y="3279600"/>
            <a:ext cx="449280" cy="449280"/>
            <a:chOff x="5330880" y="3279600"/>
            <a:chExt cx="449280" cy="449280"/>
          </a:xfrm>
        </p:grpSpPr>
        <p:sp>
          <p:nvSpPr>
            <p:cNvPr id="350" name="椭圆 9235"/>
            <p:cNvSpPr/>
            <p:nvPr/>
          </p:nvSpPr>
          <p:spPr>
            <a:xfrm>
              <a:off x="5330880" y="3279600"/>
              <a:ext cx="449280" cy="449280"/>
            </a:xfrm>
            <a:prstGeom prst="ellipse">
              <a:avLst/>
            </a:prstGeom>
            <a:gradFill rotWithShape="0">
              <a:gsLst>
                <a:gs pos="0">
                  <a:srgbClr val="ffcc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cap="rnd" w="28440">
              <a:solidFill>
                <a:srgbClr val="ffcc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文本框 9236"/>
            <p:cNvSpPr/>
            <p:nvPr/>
          </p:nvSpPr>
          <p:spPr>
            <a:xfrm>
              <a:off x="5343480" y="3335040"/>
              <a:ext cx="425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66ff"/>
                  </a:solidFill>
                  <a:latin typeface="Arial Black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4627440" y="824040"/>
            <a:ext cx="360" cy="1672920"/>
            <a:chOff x="4627440" y="824040"/>
            <a:chExt cx="360" cy="1672920"/>
          </a:xfrm>
        </p:grpSpPr>
        <p:sp>
          <p:nvSpPr>
            <p:cNvPr id="353" name="直接连接符 9237"/>
            <p:cNvSpPr/>
            <p:nvPr/>
          </p:nvSpPr>
          <p:spPr>
            <a:xfrm>
              <a:off x="4627440" y="824040"/>
              <a:ext cx="0" cy="1672920"/>
            </a:xfrm>
            <a:prstGeom prst="line">
              <a:avLst/>
            </a:prstGeom>
            <a:ln w="9360">
              <a:solidFill>
                <a:srgbClr val="ff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 txBox="1"/>
            <p:nvPr/>
          </p:nvSpPr>
          <p:spPr>
            <a:xfrm>
              <a:off x="4627440" y="824040"/>
              <a:ext cx="360" cy="1672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5810760" y="2909880"/>
            <a:ext cx="1630440" cy="529920"/>
            <a:chOff x="5810760" y="2909880"/>
            <a:chExt cx="1630440" cy="529920"/>
          </a:xfrm>
        </p:grpSpPr>
        <p:sp>
          <p:nvSpPr>
            <p:cNvPr id="356" name="直接连接符 9238"/>
            <p:cNvSpPr/>
            <p:nvPr/>
          </p:nvSpPr>
          <p:spPr>
            <a:xfrm flipH="1">
              <a:off x="5811120" y="2909880"/>
              <a:ext cx="1630080" cy="529920"/>
            </a:xfrm>
            <a:prstGeom prst="line">
              <a:avLst/>
            </a:prstGeom>
            <a:ln w="9360">
              <a:solidFill>
                <a:srgbClr val="ff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 txBox="1"/>
            <p:nvPr/>
          </p:nvSpPr>
          <p:spPr>
            <a:xfrm rot="4320000">
              <a:off x="6625800" y="2317680"/>
              <a:ext cx="360" cy="171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5351040" y="4757040"/>
            <a:ext cx="876600" cy="1206360"/>
            <a:chOff x="5351040" y="4757040"/>
            <a:chExt cx="876600" cy="1206360"/>
          </a:xfrm>
        </p:grpSpPr>
        <p:sp>
          <p:nvSpPr>
            <p:cNvPr id="359" name="直接连接符 9239"/>
            <p:cNvSpPr/>
            <p:nvPr/>
          </p:nvSpPr>
          <p:spPr>
            <a:xfrm flipH="1" flipV="1">
              <a:off x="5351400" y="4757040"/>
              <a:ext cx="876240" cy="1206000"/>
            </a:xfrm>
            <a:prstGeom prst="line">
              <a:avLst/>
            </a:prstGeom>
            <a:ln w="9360">
              <a:solidFill>
                <a:srgbClr val="ff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 txBox="1"/>
            <p:nvPr/>
          </p:nvSpPr>
          <p:spPr>
            <a:xfrm rot="8640000">
              <a:off x="5789160" y="4614480"/>
              <a:ext cx="360" cy="1490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2973240" y="4757040"/>
            <a:ext cx="927000" cy="1275480"/>
            <a:chOff x="2973240" y="4757040"/>
            <a:chExt cx="927000" cy="1275480"/>
          </a:xfrm>
        </p:grpSpPr>
        <p:sp>
          <p:nvSpPr>
            <p:cNvPr id="362" name="直接连接符 9240"/>
            <p:cNvSpPr/>
            <p:nvPr/>
          </p:nvSpPr>
          <p:spPr>
            <a:xfrm flipV="1">
              <a:off x="2973600" y="4757040"/>
              <a:ext cx="926640" cy="1275480"/>
            </a:xfrm>
            <a:prstGeom prst="line">
              <a:avLst/>
            </a:prstGeom>
            <a:ln w="9360">
              <a:solidFill>
                <a:srgbClr val="ff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 txBox="1"/>
            <p:nvPr/>
          </p:nvSpPr>
          <p:spPr>
            <a:xfrm rot="12960000">
              <a:off x="3436560" y="4606200"/>
              <a:ext cx="360" cy="1576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1766520" y="2815200"/>
            <a:ext cx="1703160" cy="554040"/>
            <a:chOff x="1766520" y="2815200"/>
            <a:chExt cx="1703160" cy="554040"/>
          </a:xfrm>
        </p:grpSpPr>
        <p:sp>
          <p:nvSpPr>
            <p:cNvPr id="365" name="直接连接符 9241"/>
            <p:cNvSpPr/>
            <p:nvPr/>
          </p:nvSpPr>
          <p:spPr>
            <a:xfrm>
              <a:off x="1766520" y="2815560"/>
              <a:ext cx="1702800" cy="553680"/>
            </a:xfrm>
            <a:prstGeom prst="line">
              <a:avLst/>
            </a:prstGeom>
            <a:ln w="9360">
              <a:solidFill>
                <a:srgbClr val="ff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 txBox="1"/>
            <p:nvPr/>
          </p:nvSpPr>
          <p:spPr>
            <a:xfrm rot="17280000">
              <a:off x="2617560" y="2196720"/>
              <a:ext cx="360" cy="1790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椭圆 9242"/>
          <p:cNvSpPr/>
          <p:nvPr/>
        </p:nvSpPr>
        <p:spPr>
          <a:xfrm>
            <a:off x="2131920" y="1165320"/>
            <a:ext cx="4924440" cy="4924440"/>
          </a:xfrm>
          <a:prstGeom prst="ellipse">
            <a:avLst/>
          </a:prstGeom>
          <a:noFill/>
          <a:ln cap="rnd" w="28440">
            <a:solidFill>
              <a:srgbClr val="00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上箭头 9243"/>
          <p:cNvSpPr/>
          <p:nvPr/>
        </p:nvSpPr>
        <p:spPr>
          <a:xfrm>
            <a:off x="4022640" y="5838840"/>
            <a:ext cx="1154160" cy="689040"/>
          </a:xfrm>
          <a:prstGeom prst="upArrow">
            <a:avLst>
              <a:gd name="adj1" fmla="val 66991"/>
              <a:gd name="adj2" fmla="val 51606"/>
            </a:avLst>
          </a:prstGeom>
          <a:gradFill rotWithShape="0">
            <a:gsLst>
              <a:gs pos="0">
                <a:srgbClr val="33cc33">
                  <a:alpha val="70196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上箭头 9244"/>
          <p:cNvSpPr/>
          <p:nvPr/>
        </p:nvSpPr>
        <p:spPr>
          <a:xfrm rot="4320000">
            <a:off x="1599480" y="4149000"/>
            <a:ext cx="1154160" cy="689040"/>
          </a:xfrm>
          <a:prstGeom prst="upArrow">
            <a:avLst>
              <a:gd name="adj1" fmla="val 66991"/>
              <a:gd name="adj2" fmla="val 51606"/>
            </a:avLst>
          </a:prstGeom>
          <a:gradFill rotWithShape="0">
            <a:gsLst>
              <a:gs pos="0">
                <a:srgbClr val="33cc33">
                  <a:alpha val="70196"/>
                </a:srgbClr>
              </a:gs>
              <a:gs pos="100000">
                <a:srgbClr val="ffffff"/>
              </a:gs>
            </a:gsLst>
            <a:lin ang="10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上箭头 9245"/>
          <p:cNvSpPr/>
          <p:nvPr/>
        </p:nvSpPr>
        <p:spPr>
          <a:xfrm rot="17280000">
            <a:off x="6475680" y="4228200"/>
            <a:ext cx="1154160" cy="689040"/>
          </a:xfrm>
          <a:prstGeom prst="upArrow">
            <a:avLst>
              <a:gd name="adj1" fmla="val 66991"/>
              <a:gd name="adj2" fmla="val 51606"/>
            </a:avLst>
          </a:prstGeom>
          <a:gradFill rotWithShape="0">
            <a:gsLst>
              <a:gs pos="0">
                <a:srgbClr val="33cc33">
                  <a:alpha val="70196"/>
                </a:srgbClr>
              </a:gs>
              <a:gs pos="100000">
                <a:srgbClr val="ffffff"/>
              </a:gs>
            </a:gsLst>
            <a:lin ang="97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上箭头 9246"/>
          <p:cNvSpPr/>
          <p:nvPr/>
        </p:nvSpPr>
        <p:spPr>
          <a:xfrm rot="8640000">
            <a:off x="2412720" y="1206000"/>
            <a:ext cx="1154160" cy="689040"/>
          </a:xfrm>
          <a:prstGeom prst="upArrow">
            <a:avLst>
              <a:gd name="adj1" fmla="val 66991"/>
              <a:gd name="adj2" fmla="val 51606"/>
            </a:avLst>
          </a:prstGeom>
          <a:gradFill rotWithShape="0">
            <a:gsLst>
              <a:gs pos="0">
                <a:srgbClr val="33cc33">
                  <a:alpha val="70196"/>
                </a:srgbClr>
              </a:gs>
              <a:gs pos="100000">
                <a:srgbClr val="ffffff"/>
              </a:gs>
            </a:gsLst>
            <a:lin ang="1836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上箭头 9247"/>
          <p:cNvSpPr/>
          <p:nvPr/>
        </p:nvSpPr>
        <p:spPr>
          <a:xfrm rot="12960000">
            <a:off x="5605200" y="1177560"/>
            <a:ext cx="1154160" cy="689040"/>
          </a:xfrm>
          <a:prstGeom prst="upArrow">
            <a:avLst>
              <a:gd name="adj1" fmla="val 66991"/>
              <a:gd name="adj2" fmla="val 51606"/>
            </a:avLst>
          </a:prstGeom>
          <a:gradFill rotWithShape="0">
            <a:gsLst>
              <a:gs pos="0">
                <a:srgbClr val="33cc33">
                  <a:alpha val="70196"/>
                </a:srgbClr>
              </a:gs>
              <a:gs pos="100000">
                <a:srgbClr val="ffffff"/>
              </a:gs>
            </a:gsLst>
            <a:lin ang="140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03040" y="75960"/>
            <a:ext cx="8229600" cy="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组合 10242"/>
          <p:cNvGrpSpPr/>
          <p:nvPr/>
        </p:nvGrpSpPr>
        <p:grpSpPr>
          <a:xfrm>
            <a:off x="689040" y="1278000"/>
            <a:ext cx="7610400" cy="1816200"/>
            <a:chOff x="689040" y="1278000"/>
            <a:chExt cx="7610400" cy="1816200"/>
          </a:xfrm>
        </p:grpSpPr>
        <p:sp>
          <p:nvSpPr>
            <p:cNvPr id="375" name="圆角矩形 10243"/>
            <p:cNvSpPr/>
            <p:nvPr/>
          </p:nvSpPr>
          <p:spPr>
            <a:xfrm>
              <a:off x="689040" y="1884600"/>
              <a:ext cx="7372440" cy="1209600"/>
            </a:xfrm>
            <a:prstGeom prst="roundRect">
              <a:avLst>
                <a:gd name="adj" fmla="val 10593"/>
              </a:avLst>
            </a:prstGeom>
            <a:noFill/>
            <a:ln w="936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矩形 10244"/>
            <p:cNvSpPr/>
            <p:nvPr/>
          </p:nvSpPr>
          <p:spPr>
            <a:xfrm>
              <a:off x="887400" y="1603440"/>
              <a:ext cx="2292480" cy="73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组合 10245"/>
            <p:cNvGrpSpPr/>
            <p:nvPr/>
          </p:nvGrpSpPr>
          <p:grpSpPr>
            <a:xfrm>
              <a:off x="1009800" y="1278000"/>
              <a:ext cx="731880" cy="817920"/>
              <a:chOff x="1009800" y="1278000"/>
              <a:chExt cx="731880" cy="817920"/>
            </a:xfrm>
          </p:grpSpPr>
          <p:pic>
            <p:nvPicPr>
              <p:cNvPr id="378" name="图片 10246" descr="未标题-1"/>
              <p:cNvPicPr/>
              <p:nvPr/>
            </p:nvPicPr>
            <p:blipFill>
              <a:blip r:embed="rId1"/>
              <a:stretch/>
            </p:blipFill>
            <p:spPr>
              <a:xfrm>
                <a:off x="1068480" y="1278000"/>
                <a:ext cx="669960" cy="7700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99cc00">
                    <a:alpha val="50000"/>
                  </a:srgbClr>
                </a:outerShdw>
              </a:effectLst>
            </p:spPr>
          </p:pic>
          <p:grpSp>
            <p:nvGrpSpPr>
              <p:cNvPr id="379" name=""/>
              <p:cNvGrpSpPr/>
              <p:nvPr/>
            </p:nvGrpSpPr>
            <p:grpSpPr>
              <a:xfrm>
                <a:off x="1009800" y="1673280"/>
                <a:ext cx="731880" cy="360"/>
                <a:chOff x="1009800" y="1673280"/>
                <a:chExt cx="731880" cy="360"/>
              </a:xfrm>
            </p:grpSpPr>
            <p:sp>
              <p:nvSpPr>
                <p:cNvPr id="380" name="直接连接符 10247"/>
                <p:cNvSpPr/>
                <p:nvPr/>
              </p:nvSpPr>
              <p:spPr>
                <a:xfrm>
                  <a:off x="1009800" y="1673280"/>
                  <a:ext cx="731880" cy="0"/>
                </a:xfrm>
                <a:prstGeom prst="line">
                  <a:avLst/>
                </a:prstGeom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"/>
                <p:cNvSpPr txBox="1"/>
                <p:nvPr/>
              </p:nvSpPr>
              <p:spPr>
                <a:xfrm>
                  <a:off x="1009800" y="1673280"/>
                  <a:ext cx="731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2" name=""/>
              <p:cNvGrpSpPr/>
              <p:nvPr/>
            </p:nvGrpSpPr>
            <p:grpSpPr>
              <a:xfrm>
                <a:off x="1009800" y="1771560"/>
                <a:ext cx="731880" cy="360"/>
                <a:chOff x="1009800" y="1771560"/>
                <a:chExt cx="731880" cy="360"/>
              </a:xfrm>
            </p:grpSpPr>
            <p:sp>
              <p:nvSpPr>
                <p:cNvPr id="383" name="直接连接符 10248"/>
                <p:cNvSpPr/>
                <p:nvPr/>
              </p:nvSpPr>
              <p:spPr>
                <a:xfrm>
                  <a:off x="1009800" y="1771560"/>
                  <a:ext cx="731880" cy="0"/>
                </a:xfrm>
                <a:prstGeom prst="line">
                  <a:avLst/>
                </a:prstGeom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 txBox="1"/>
                <p:nvPr/>
              </p:nvSpPr>
              <p:spPr>
                <a:xfrm>
                  <a:off x="1009800" y="1771560"/>
                  <a:ext cx="731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5" name=""/>
              <p:cNvGrpSpPr/>
              <p:nvPr/>
            </p:nvGrpSpPr>
            <p:grpSpPr>
              <a:xfrm>
                <a:off x="1009800" y="1884600"/>
                <a:ext cx="731880" cy="360"/>
                <a:chOff x="1009800" y="1884600"/>
                <a:chExt cx="731880" cy="360"/>
              </a:xfrm>
            </p:grpSpPr>
            <p:sp>
              <p:nvSpPr>
                <p:cNvPr id="386" name="直接连接符 10249"/>
                <p:cNvSpPr/>
                <p:nvPr/>
              </p:nvSpPr>
              <p:spPr>
                <a:xfrm>
                  <a:off x="1009800" y="1884600"/>
                  <a:ext cx="731880" cy="0"/>
                </a:xfrm>
                <a:prstGeom prst="line">
                  <a:avLst/>
                </a:prstGeom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 txBox="1"/>
                <p:nvPr/>
              </p:nvSpPr>
              <p:spPr>
                <a:xfrm>
                  <a:off x="1009800" y="1884600"/>
                  <a:ext cx="731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8" name=""/>
              <p:cNvGrpSpPr/>
              <p:nvPr/>
            </p:nvGrpSpPr>
            <p:grpSpPr>
              <a:xfrm>
                <a:off x="1009800" y="1982880"/>
                <a:ext cx="731880" cy="360"/>
                <a:chOff x="1009800" y="1982880"/>
                <a:chExt cx="731880" cy="360"/>
              </a:xfrm>
            </p:grpSpPr>
            <p:sp>
              <p:nvSpPr>
                <p:cNvPr id="389" name="直接连接符 10250"/>
                <p:cNvSpPr/>
                <p:nvPr/>
              </p:nvSpPr>
              <p:spPr>
                <a:xfrm>
                  <a:off x="1009800" y="1982880"/>
                  <a:ext cx="731880" cy="0"/>
                </a:xfrm>
                <a:prstGeom prst="line">
                  <a:avLst/>
                </a:prstGeom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"/>
                <p:cNvSpPr txBox="1"/>
                <p:nvPr/>
              </p:nvSpPr>
              <p:spPr>
                <a:xfrm>
                  <a:off x="1009800" y="1982880"/>
                  <a:ext cx="731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1" name=""/>
              <p:cNvGrpSpPr/>
              <p:nvPr/>
            </p:nvGrpSpPr>
            <p:grpSpPr>
              <a:xfrm>
                <a:off x="1009800" y="2095560"/>
                <a:ext cx="731880" cy="360"/>
                <a:chOff x="1009800" y="2095560"/>
                <a:chExt cx="731880" cy="360"/>
              </a:xfrm>
            </p:grpSpPr>
            <p:sp>
              <p:nvSpPr>
                <p:cNvPr id="392" name="直接连接符 10251"/>
                <p:cNvSpPr/>
                <p:nvPr/>
              </p:nvSpPr>
              <p:spPr>
                <a:xfrm>
                  <a:off x="1009800" y="2095560"/>
                  <a:ext cx="731880" cy="0"/>
                </a:xfrm>
                <a:prstGeom prst="line">
                  <a:avLst/>
                </a:prstGeom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"/>
                <p:cNvSpPr txBox="1"/>
                <p:nvPr/>
              </p:nvSpPr>
              <p:spPr>
                <a:xfrm>
                  <a:off x="1009800" y="2095560"/>
                  <a:ext cx="731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94" name="文本框 10252"/>
            <p:cNvSpPr/>
            <p:nvPr/>
          </p:nvSpPr>
          <p:spPr>
            <a:xfrm>
              <a:off x="1952640" y="1693800"/>
              <a:ext cx="81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  <a:ea typeface="黑体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文本框 10253"/>
            <p:cNvSpPr/>
            <p:nvPr/>
          </p:nvSpPr>
          <p:spPr>
            <a:xfrm>
              <a:off x="824040" y="2214720"/>
              <a:ext cx="7475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组合 10254"/>
          <p:cNvGrpSpPr/>
          <p:nvPr/>
        </p:nvGrpSpPr>
        <p:grpSpPr>
          <a:xfrm>
            <a:off x="717480" y="3081240"/>
            <a:ext cx="7610400" cy="1839960"/>
            <a:chOff x="717480" y="3081240"/>
            <a:chExt cx="7610400" cy="1839960"/>
          </a:xfrm>
        </p:grpSpPr>
        <p:sp>
          <p:nvSpPr>
            <p:cNvPr id="397" name="圆角矩形 10255"/>
            <p:cNvSpPr/>
            <p:nvPr/>
          </p:nvSpPr>
          <p:spPr>
            <a:xfrm>
              <a:off x="717480" y="3711600"/>
              <a:ext cx="7372440" cy="1209600"/>
            </a:xfrm>
            <a:prstGeom prst="roundRect">
              <a:avLst>
                <a:gd name="adj" fmla="val 10593"/>
              </a:avLst>
            </a:prstGeom>
            <a:noFill/>
            <a:ln w="9360">
              <a:solidFill>
                <a:srgbClr val="ff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矩形 10256"/>
            <p:cNvSpPr/>
            <p:nvPr/>
          </p:nvSpPr>
          <p:spPr>
            <a:xfrm>
              <a:off x="915840" y="3430440"/>
              <a:ext cx="2292480" cy="73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"/>
            <p:cNvGrpSpPr/>
            <p:nvPr/>
          </p:nvGrpSpPr>
          <p:grpSpPr>
            <a:xfrm>
              <a:off x="1038240" y="3500280"/>
              <a:ext cx="731880" cy="360"/>
              <a:chOff x="1038240" y="3500280"/>
              <a:chExt cx="731880" cy="360"/>
            </a:xfrm>
          </p:grpSpPr>
          <p:sp>
            <p:nvSpPr>
              <p:cNvPr id="400" name="直接连接符 10257"/>
              <p:cNvSpPr/>
              <p:nvPr/>
            </p:nvSpPr>
            <p:spPr>
              <a:xfrm>
                <a:off x="1038240" y="3500280"/>
                <a:ext cx="731880" cy="0"/>
              </a:xfrm>
              <a:prstGeom prst="line">
                <a:avLst/>
              </a:prstGeom>
              <a:ln w="9360">
                <a:solidFill>
                  <a:srgbClr val="ff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 txBox="1"/>
              <p:nvPr/>
            </p:nvSpPr>
            <p:spPr>
              <a:xfrm>
                <a:off x="1038240" y="3500280"/>
                <a:ext cx="731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1038240" y="3598920"/>
              <a:ext cx="731880" cy="360"/>
              <a:chOff x="1038240" y="3598920"/>
              <a:chExt cx="731880" cy="360"/>
            </a:xfrm>
          </p:grpSpPr>
          <p:sp>
            <p:nvSpPr>
              <p:cNvPr id="403" name="直接连接符 10258"/>
              <p:cNvSpPr/>
              <p:nvPr/>
            </p:nvSpPr>
            <p:spPr>
              <a:xfrm>
                <a:off x="1038240" y="3598920"/>
                <a:ext cx="731880" cy="0"/>
              </a:xfrm>
              <a:prstGeom prst="line">
                <a:avLst/>
              </a:prstGeom>
              <a:ln w="9360">
                <a:solidFill>
                  <a:srgbClr val="ff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 txBox="1"/>
              <p:nvPr/>
            </p:nvSpPr>
            <p:spPr>
              <a:xfrm>
                <a:off x="1038240" y="3598920"/>
                <a:ext cx="731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1038240" y="3711600"/>
              <a:ext cx="731880" cy="360"/>
              <a:chOff x="1038240" y="3711600"/>
              <a:chExt cx="731880" cy="360"/>
            </a:xfrm>
          </p:grpSpPr>
          <p:sp>
            <p:nvSpPr>
              <p:cNvPr id="406" name="直接连接符 10259"/>
              <p:cNvSpPr/>
              <p:nvPr/>
            </p:nvSpPr>
            <p:spPr>
              <a:xfrm>
                <a:off x="1038240" y="3711600"/>
                <a:ext cx="731880" cy="0"/>
              </a:xfrm>
              <a:prstGeom prst="line">
                <a:avLst/>
              </a:prstGeom>
              <a:ln w="9360">
                <a:solidFill>
                  <a:srgbClr val="ff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 txBox="1"/>
              <p:nvPr/>
            </p:nvSpPr>
            <p:spPr>
              <a:xfrm>
                <a:off x="1038240" y="3711600"/>
                <a:ext cx="731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1038240" y="3809880"/>
              <a:ext cx="731880" cy="360"/>
              <a:chOff x="1038240" y="3809880"/>
              <a:chExt cx="731880" cy="360"/>
            </a:xfrm>
          </p:grpSpPr>
          <p:sp>
            <p:nvSpPr>
              <p:cNvPr id="409" name="直接连接符 10260"/>
              <p:cNvSpPr/>
              <p:nvPr/>
            </p:nvSpPr>
            <p:spPr>
              <a:xfrm>
                <a:off x="1038240" y="3809880"/>
                <a:ext cx="731880" cy="0"/>
              </a:xfrm>
              <a:prstGeom prst="line">
                <a:avLst/>
              </a:prstGeom>
              <a:ln w="9360">
                <a:solidFill>
                  <a:srgbClr val="ff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 txBox="1"/>
              <p:nvPr/>
            </p:nvSpPr>
            <p:spPr>
              <a:xfrm>
                <a:off x="1038240" y="3809880"/>
                <a:ext cx="731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1038240" y="3922560"/>
              <a:ext cx="731880" cy="360"/>
              <a:chOff x="1038240" y="3922560"/>
              <a:chExt cx="731880" cy="360"/>
            </a:xfrm>
          </p:grpSpPr>
          <p:sp>
            <p:nvSpPr>
              <p:cNvPr id="412" name="直接连接符 10261"/>
              <p:cNvSpPr/>
              <p:nvPr/>
            </p:nvSpPr>
            <p:spPr>
              <a:xfrm>
                <a:off x="1038240" y="3922560"/>
                <a:ext cx="731880" cy="0"/>
              </a:xfrm>
              <a:prstGeom prst="line">
                <a:avLst/>
              </a:prstGeom>
              <a:ln w="9360">
                <a:solidFill>
                  <a:srgbClr val="ff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 txBox="1"/>
              <p:nvPr/>
            </p:nvSpPr>
            <p:spPr>
              <a:xfrm>
                <a:off x="1038240" y="3922560"/>
                <a:ext cx="731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4" name="文本框 10262"/>
            <p:cNvSpPr/>
            <p:nvPr/>
          </p:nvSpPr>
          <p:spPr>
            <a:xfrm>
              <a:off x="1981080" y="3520800"/>
              <a:ext cx="81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66ff"/>
                  </a:solidFill>
                  <a:latin typeface="Arial"/>
                  <a:ea typeface="黑体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文本框 10263"/>
            <p:cNvSpPr/>
            <p:nvPr/>
          </p:nvSpPr>
          <p:spPr>
            <a:xfrm>
              <a:off x="852480" y="4041720"/>
              <a:ext cx="7475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6" name="图片 10264" descr="未标题-3"/>
            <p:cNvPicPr/>
            <p:nvPr/>
          </p:nvPicPr>
          <p:blipFill>
            <a:blip r:embed="rId2"/>
            <a:stretch/>
          </p:blipFill>
          <p:spPr>
            <a:xfrm>
              <a:off x="1092240" y="3081240"/>
              <a:ext cx="684000" cy="78588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ff66ff"/>
              </a:outerShdw>
            </a:effectLst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03040" y="75960"/>
            <a:ext cx="8229600" cy="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组合 11266"/>
          <p:cNvGrpSpPr/>
          <p:nvPr/>
        </p:nvGrpSpPr>
        <p:grpSpPr>
          <a:xfrm>
            <a:off x="763560" y="1249200"/>
            <a:ext cx="7304040" cy="1090440"/>
            <a:chOff x="763560" y="1249200"/>
            <a:chExt cx="7304040" cy="1090440"/>
          </a:xfrm>
        </p:grpSpPr>
        <p:sp>
          <p:nvSpPr>
            <p:cNvPr id="419" name="圆角矩形 11267"/>
            <p:cNvSpPr/>
            <p:nvPr/>
          </p:nvSpPr>
          <p:spPr>
            <a:xfrm>
              <a:off x="763560" y="1304640"/>
              <a:ext cx="7054920" cy="1028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圆角矩形 11268"/>
            <p:cNvSpPr/>
            <p:nvPr/>
          </p:nvSpPr>
          <p:spPr>
            <a:xfrm>
              <a:off x="1589040" y="1488960"/>
              <a:ext cx="6478560" cy="617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矩形 11269"/>
            <p:cNvSpPr/>
            <p:nvPr/>
          </p:nvSpPr>
          <p:spPr>
            <a:xfrm>
              <a:off x="2249640" y="157320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2" name="图片 11270" descr="4"/>
            <p:cNvPicPr/>
            <p:nvPr/>
          </p:nvPicPr>
          <p:blipFill>
            <a:blip r:embed="rId1"/>
            <a:stretch/>
          </p:blipFill>
          <p:spPr>
            <a:xfrm>
              <a:off x="774720" y="1249200"/>
              <a:ext cx="949320" cy="1090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3" name="组合 11271"/>
          <p:cNvGrpSpPr/>
          <p:nvPr/>
        </p:nvGrpSpPr>
        <p:grpSpPr>
          <a:xfrm>
            <a:off x="763560" y="2444760"/>
            <a:ext cx="7304040" cy="1090440"/>
            <a:chOff x="763560" y="2444760"/>
            <a:chExt cx="7304040" cy="1090440"/>
          </a:xfrm>
        </p:grpSpPr>
        <p:sp>
          <p:nvSpPr>
            <p:cNvPr id="424" name="圆角矩形 11272"/>
            <p:cNvSpPr/>
            <p:nvPr/>
          </p:nvSpPr>
          <p:spPr>
            <a:xfrm>
              <a:off x="763560" y="2500200"/>
              <a:ext cx="7054920" cy="1028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圆角矩形 11273"/>
            <p:cNvSpPr/>
            <p:nvPr/>
          </p:nvSpPr>
          <p:spPr>
            <a:xfrm>
              <a:off x="1589040" y="2684520"/>
              <a:ext cx="6478560" cy="617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ff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矩形 11274"/>
            <p:cNvSpPr/>
            <p:nvPr/>
          </p:nvSpPr>
          <p:spPr>
            <a:xfrm>
              <a:off x="2249640" y="276876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7" name="图片 11275" descr="4"/>
            <p:cNvPicPr/>
            <p:nvPr/>
          </p:nvPicPr>
          <p:blipFill>
            <a:blip r:embed="rId2"/>
            <a:stretch/>
          </p:blipFill>
          <p:spPr>
            <a:xfrm>
              <a:off x="774720" y="2444760"/>
              <a:ext cx="949320" cy="1090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8" name="组合 11276"/>
          <p:cNvGrpSpPr/>
          <p:nvPr/>
        </p:nvGrpSpPr>
        <p:grpSpPr>
          <a:xfrm>
            <a:off x="777960" y="3666960"/>
            <a:ext cx="7304040" cy="1090440"/>
            <a:chOff x="777960" y="3666960"/>
            <a:chExt cx="7304040" cy="1090440"/>
          </a:xfrm>
        </p:grpSpPr>
        <p:sp>
          <p:nvSpPr>
            <p:cNvPr id="429" name="圆角矩形 11277"/>
            <p:cNvSpPr/>
            <p:nvPr/>
          </p:nvSpPr>
          <p:spPr>
            <a:xfrm>
              <a:off x="777960" y="3722400"/>
              <a:ext cx="7054920" cy="1028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圆角矩形 11278"/>
            <p:cNvSpPr/>
            <p:nvPr/>
          </p:nvSpPr>
          <p:spPr>
            <a:xfrm>
              <a:off x="1603440" y="3906720"/>
              <a:ext cx="6478560" cy="617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矩形 11279"/>
            <p:cNvSpPr/>
            <p:nvPr/>
          </p:nvSpPr>
          <p:spPr>
            <a:xfrm>
              <a:off x="2264040" y="399096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2" name="图片 11280" descr="4"/>
            <p:cNvPicPr/>
            <p:nvPr/>
          </p:nvPicPr>
          <p:blipFill>
            <a:blip r:embed="rId3"/>
            <a:stretch/>
          </p:blipFill>
          <p:spPr>
            <a:xfrm>
              <a:off x="789120" y="3666960"/>
              <a:ext cx="949320" cy="1090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3" name="组合 11281"/>
          <p:cNvGrpSpPr/>
          <p:nvPr/>
        </p:nvGrpSpPr>
        <p:grpSpPr>
          <a:xfrm>
            <a:off x="777960" y="4862520"/>
            <a:ext cx="7304040" cy="1090440"/>
            <a:chOff x="777960" y="4862520"/>
            <a:chExt cx="7304040" cy="1090440"/>
          </a:xfrm>
        </p:grpSpPr>
        <p:sp>
          <p:nvSpPr>
            <p:cNvPr id="434" name="圆角矩形 11282"/>
            <p:cNvSpPr/>
            <p:nvPr/>
          </p:nvSpPr>
          <p:spPr>
            <a:xfrm>
              <a:off x="777960" y="4917960"/>
              <a:ext cx="7054920" cy="1028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圆角矩形 11283"/>
            <p:cNvSpPr/>
            <p:nvPr/>
          </p:nvSpPr>
          <p:spPr>
            <a:xfrm>
              <a:off x="1603440" y="5102280"/>
              <a:ext cx="6478560" cy="617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ff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矩形 11284"/>
            <p:cNvSpPr/>
            <p:nvPr/>
          </p:nvSpPr>
          <p:spPr>
            <a:xfrm>
              <a:off x="2264040" y="51865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7" name="图片 11285" descr="4"/>
            <p:cNvPicPr/>
            <p:nvPr/>
          </p:nvPicPr>
          <p:blipFill>
            <a:blip r:embed="rId4"/>
            <a:stretch/>
          </p:blipFill>
          <p:spPr>
            <a:xfrm>
              <a:off x="789120" y="4862520"/>
              <a:ext cx="949320" cy="1090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任意多边形 12289"/>
          <p:cNvSpPr/>
          <p:nvPr/>
        </p:nvSpPr>
        <p:spPr>
          <a:xfrm>
            <a:off x="5654520" y="3054240"/>
            <a:ext cx="760680" cy="1238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1409" y="0"/>
                </a:moveTo>
                <a:lnTo>
                  <a:pt x="11409" y="4403"/>
                </a:lnTo>
                <a:lnTo>
                  <a:pt x="3375" y="4403"/>
                </a:lnTo>
                <a:lnTo>
                  <a:pt x="3375" y="17197"/>
                </a:lnTo>
                <a:lnTo>
                  <a:pt x="11409" y="17197"/>
                </a:lnTo>
                <a:lnTo>
                  <a:pt x="11409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4403"/>
                </a:moveTo>
                <a:lnTo>
                  <a:pt x="1350" y="17197"/>
                </a:lnTo>
                <a:lnTo>
                  <a:pt x="2700" y="17197"/>
                </a:lnTo>
                <a:lnTo>
                  <a:pt x="2700" y="4403"/>
                </a:lnTo>
                <a:close/>
              </a:path>
              <a:path w="21600" h="21600">
                <a:moveTo>
                  <a:pt x="0" y="4403"/>
                </a:moveTo>
                <a:lnTo>
                  <a:pt x="0" y="17197"/>
                </a:lnTo>
                <a:lnTo>
                  <a:pt x="675" y="17197"/>
                </a:lnTo>
                <a:lnTo>
                  <a:pt x="675" y="4403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33cc33">
                  <a:alpha val="51372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任意多边形 12290"/>
          <p:cNvSpPr/>
          <p:nvPr/>
        </p:nvSpPr>
        <p:spPr>
          <a:xfrm>
            <a:off x="2770200" y="3025800"/>
            <a:ext cx="760320" cy="1238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1409" y="0"/>
                </a:moveTo>
                <a:lnTo>
                  <a:pt x="11409" y="4403"/>
                </a:lnTo>
                <a:lnTo>
                  <a:pt x="3375" y="4403"/>
                </a:lnTo>
                <a:lnTo>
                  <a:pt x="3375" y="17197"/>
                </a:lnTo>
                <a:lnTo>
                  <a:pt x="11409" y="17197"/>
                </a:lnTo>
                <a:lnTo>
                  <a:pt x="11409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4403"/>
                </a:moveTo>
                <a:lnTo>
                  <a:pt x="1350" y="17197"/>
                </a:lnTo>
                <a:lnTo>
                  <a:pt x="2700" y="17197"/>
                </a:lnTo>
                <a:lnTo>
                  <a:pt x="2700" y="4403"/>
                </a:lnTo>
                <a:close/>
              </a:path>
              <a:path w="21600" h="21600">
                <a:moveTo>
                  <a:pt x="0" y="4403"/>
                </a:moveTo>
                <a:lnTo>
                  <a:pt x="0" y="17197"/>
                </a:lnTo>
                <a:lnTo>
                  <a:pt x="675" y="17197"/>
                </a:lnTo>
                <a:lnTo>
                  <a:pt x="675" y="4403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33cc33">
                  <a:alpha val="51372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03040" y="75960"/>
            <a:ext cx="8229600" cy="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组合 12292"/>
          <p:cNvGrpSpPr/>
          <p:nvPr/>
        </p:nvGrpSpPr>
        <p:grpSpPr>
          <a:xfrm>
            <a:off x="522360" y="1611360"/>
            <a:ext cx="2254320" cy="3873600"/>
            <a:chOff x="522360" y="1611360"/>
            <a:chExt cx="2254320" cy="3873600"/>
          </a:xfrm>
        </p:grpSpPr>
        <p:sp>
          <p:nvSpPr>
            <p:cNvPr id="442" name="折角形 12293"/>
            <p:cNvSpPr/>
            <p:nvPr/>
          </p:nvSpPr>
          <p:spPr>
            <a:xfrm>
              <a:off x="522360" y="1995480"/>
              <a:ext cx="2181240" cy="34894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9900"/>
              </a:solidFill>
              <a:round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圆角矩形 12294"/>
            <p:cNvSpPr/>
            <p:nvPr/>
          </p:nvSpPr>
          <p:spPr>
            <a:xfrm>
              <a:off x="887400" y="1797120"/>
              <a:ext cx="1505160" cy="366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4" name="图片 12295" descr="00"/>
            <p:cNvPicPr/>
            <p:nvPr/>
          </p:nvPicPr>
          <p:blipFill>
            <a:blip r:embed="rId1"/>
            <a:stretch/>
          </p:blipFill>
          <p:spPr>
            <a:xfrm>
              <a:off x="885960" y="1611360"/>
              <a:ext cx="377640" cy="65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5" name="图片 12296" descr="000"/>
            <p:cNvPicPr/>
            <p:nvPr/>
          </p:nvPicPr>
          <p:blipFill>
            <a:blip r:embed="rId2"/>
            <a:stretch/>
          </p:blipFill>
          <p:spPr>
            <a:xfrm>
              <a:off x="1393920" y="2478240"/>
              <a:ext cx="1308240" cy="24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文本框 12297"/>
            <p:cNvSpPr/>
            <p:nvPr/>
          </p:nvSpPr>
          <p:spPr>
            <a:xfrm>
              <a:off x="1179720" y="1754280"/>
              <a:ext cx="78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66ff"/>
                  </a:solidFill>
                  <a:latin typeface="黑体"/>
                  <a:ea typeface="黑体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文本框 12298"/>
            <p:cNvSpPr/>
            <p:nvPr/>
          </p:nvSpPr>
          <p:spPr>
            <a:xfrm>
              <a:off x="540000" y="2587680"/>
              <a:ext cx="22366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矩形 12299"/>
            <p:cNvSpPr/>
            <p:nvPr/>
          </p:nvSpPr>
          <p:spPr>
            <a:xfrm>
              <a:off x="1197000" y="2500200"/>
              <a:ext cx="1490760" cy="250524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" name="组合 12300"/>
          <p:cNvGrpSpPr/>
          <p:nvPr/>
        </p:nvGrpSpPr>
        <p:grpSpPr>
          <a:xfrm>
            <a:off x="3540240" y="1609560"/>
            <a:ext cx="2253600" cy="3873600"/>
            <a:chOff x="3540240" y="1609560"/>
            <a:chExt cx="2253600" cy="3873600"/>
          </a:xfrm>
        </p:grpSpPr>
        <p:sp>
          <p:nvSpPr>
            <p:cNvPr id="450" name="折角形 12301"/>
            <p:cNvSpPr/>
            <p:nvPr/>
          </p:nvSpPr>
          <p:spPr>
            <a:xfrm>
              <a:off x="3540240" y="1993680"/>
              <a:ext cx="2180880" cy="34894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9900"/>
              </a:solidFill>
              <a:round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圆角矩形 12302"/>
            <p:cNvSpPr/>
            <p:nvPr/>
          </p:nvSpPr>
          <p:spPr>
            <a:xfrm>
              <a:off x="3904920" y="1795320"/>
              <a:ext cx="1504800" cy="366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2" name="图片 12303" descr="00"/>
            <p:cNvPicPr/>
            <p:nvPr/>
          </p:nvPicPr>
          <p:blipFill>
            <a:blip r:embed="rId3"/>
            <a:stretch/>
          </p:blipFill>
          <p:spPr>
            <a:xfrm>
              <a:off x="3903480" y="1609560"/>
              <a:ext cx="377280" cy="65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3" name="图片 12304" descr="000"/>
            <p:cNvPicPr/>
            <p:nvPr/>
          </p:nvPicPr>
          <p:blipFill>
            <a:blip r:embed="rId4"/>
            <a:stretch/>
          </p:blipFill>
          <p:spPr>
            <a:xfrm>
              <a:off x="4411440" y="2476440"/>
              <a:ext cx="1307880" cy="24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文本框 12305"/>
            <p:cNvSpPr/>
            <p:nvPr/>
          </p:nvSpPr>
          <p:spPr>
            <a:xfrm>
              <a:off x="4197240" y="1752480"/>
              <a:ext cx="782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66ff"/>
                  </a:solidFill>
                  <a:latin typeface="黑体"/>
                  <a:ea typeface="黑体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文本框 12306"/>
            <p:cNvSpPr/>
            <p:nvPr/>
          </p:nvSpPr>
          <p:spPr>
            <a:xfrm>
              <a:off x="3557520" y="2585880"/>
              <a:ext cx="223632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矩形 12307"/>
            <p:cNvSpPr/>
            <p:nvPr/>
          </p:nvSpPr>
          <p:spPr>
            <a:xfrm>
              <a:off x="4214520" y="2498400"/>
              <a:ext cx="1490400" cy="250524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组合 12308"/>
          <p:cNvGrpSpPr/>
          <p:nvPr/>
        </p:nvGrpSpPr>
        <p:grpSpPr>
          <a:xfrm>
            <a:off x="6410160" y="1606680"/>
            <a:ext cx="2254320" cy="3872880"/>
            <a:chOff x="6410160" y="1606680"/>
            <a:chExt cx="2254320" cy="3872880"/>
          </a:xfrm>
        </p:grpSpPr>
        <p:sp>
          <p:nvSpPr>
            <p:cNvPr id="458" name="折角形 12309"/>
            <p:cNvSpPr/>
            <p:nvPr/>
          </p:nvSpPr>
          <p:spPr>
            <a:xfrm>
              <a:off x="6410160" y="1990440"/>
              <a:ext cx="2181240" cy="348912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9900"/>
              </a:solidFill>
              <a:round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圆角矩形 12310"/>
            <p:cNvSpPr/>
            <p:nvPr/>
          </p:nvSpPr>
          <p:spPr>
            <a:xfrm>
              <a:off x="6775200" y="1792080"/>
              <a:ext cx="1505160" cy="366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0" name="图片 12311" descr="00"/>
            <p:cNvPicPr/>
            <p:nvPr/>
          </p:nvPicPr>
          <p:blipFill>
            <a:blip r:embed="rId5"/>
            <a:stretch/>
          </p:blipFill>
          <p:spPr>
            <a:xfrm>
              <a:off x="6773760" y="1606680"/>
              <a:ext cx="377640" cy="65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1" name="图片 12312" descr="000"/>
            <p:cNvPicPr/>
            <p:nvPr/>
          </p:nvPicPr>
          <p:blipFill>
            <a:blip r:embed="rId6"/>
            <a:stretch/>
          </p:blipFill>
          <p:spPr>
            <a:xfrm>
              <a:off x="7281720" y="2473200"/>
              <a:ext cx="1308240" cy="248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2" name="文本框 12313"/>
            <p:cNvSpPr/>
            <p:nvPr/>
          </p:nvSpPr>
          <p:spPr>
            <a:xfrm>
              <a:off x="7067520" y="1749240"/>
              <a:ext cx="78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66ff"/>
                  </a:solidFill>
                  <a:latin typeface="黑体"/>
                  <a:ea typeface="黑体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文本框 12314"/>
            <p:cNvSpPr/>
            <p:nvPr/>
          </p:nvSpPr>
          <p:spPr>
            <a:xfrm>
              <a:off x="6427800" y="2582640"/>
              <a:ext cx="22366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矩形 12315"/>
            <p:cNvSpPr/>
            <p:nvPr/>
          </p:nvSpPr>
          <p:spPr>
            <a:xfrm>
              <a:off x="7084800" y="2495160"/>
              <a:ext cx="1490760" cy="250488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03040" y="75960"/>
            <a:ext cx="8229600" cy="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图片 13314" descr="000"/>
          <p:cNvPicPr/>
          <p:nvPr/>
        </p:nvPicPr>
        <p:blipFill>
          <a:blip r:embed="rId1"/>
          <a:stretch/>
        </p:blipFill>
        <p:spPr>
          <a:xfrm>
            <a:off x="0" y="1314360"/>
            <a:ext cx="2454120" cy="4699080"/>
          </a:xfrm>
          <a:prstGeom prst="rect">
            <a:avLst/>
          </a:prstGeom>
          <a:ln w="0">
            <a:noFill/>
          </a:ln>
        </p:spPr>
      </p:pic>
      <p:sp>
        <p:nvSpPr>
          <p:cNvPr id="467" name="矩形 13315"/>
          <p:cNvSpPr/>
          <p:nvPr/>
        </p:nvSpPr>
        <p:spPr>
          <a:xfrm>
            <a:off x="0" y="1168560"/>
            <a:ext cx="2687760" cy="49924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8" name="组合 13316"/>
          <p:cNvGrpSpPr/>
          <p:nvPr/>
        </p:nvGrpSpPr>
        <p:grpSpPr>
          <a:xfrm>
            <a:off x="1269720" y="1399680"/>
            <a:ext cx="7417080" cy="493560"/>
            <a:chOff x="1269720" y="1399680"/>
            <a:chExt cx="7417080" cy="493560"/>
          </a:xfrm>
        </p:grpSpPr>
        <p:grpSp>
          <p:nvGrpSpPr>
            <p:cNvPr id="469" name=""/>
            <p:cNvGrpSpPr/>
            <p:nvPr/>
          </p:nvGrpSpPr>
          <p:grpSpPr>
            <a:xfrm>
              <a:off x="1269720" y="1399680"/>
              <a:ext cx="493920" cy="493560"/>
              <a:chOff x="1269720" y="1399680"/>
              <a:chExt cx="493920" cy="493560"/>
            </a:xfrm>
          </p:grpSpPr>
          <p:sp>
            <p:nvSpPr>
              <p:cNvPr id="470" name="直接连接符 13317"/>
              <p:cNvSpPr/>
              <p:nvPr/>
            </p:nvSpPr>
            <p:spPr>
              <a:xfrm flipV="1">
                <a:off x="1270080" y="1399680"/>
                <a:ext cx="493560" cy="493560"/>
              </a:xfrm>
              <a:prstGeom prst="line">
                <a:avLst/>
              </a:prstGeom>
              <a:ln w="28440">
                <a:solidFill>
                  <a:srgbClr val="ff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 txBox="1"/>
              <p:nvPr/>
            </p:nvSpPr>
            <p:spPr>
              <a:xfrm rot="10800000">
                <a:off x="1269720" y="1399680"/>
                <a:ext cx="493560" cy="493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1749600" y="1400040"/>
              <a:ext cx="6937200" cy="360"/>
              <a:chOff x="1749600" y="1400040"/>
              <a:chExt cx="6937200" cy="360"/>
            </a:xfrm>
          </p:grpSpPr>
          <p:sp>
            <p:nvSpPr>
              <p:cNvPr id="473" name="直接连接符 13318"/>
              <p:cNvSpPr/>
              <p:nvPr/>
            </p:nvSpPr>
            <p:spPr>
              <a:xfrm>
                <a:off x="1749600" y="1400040"/>
                <a:ext cx="6937200" cy="0"/>
              </a:xfrm>
              <a:prstGeom prst="line">
                <a:avLst/>
              </a:prstGeom>
              <a:ln w="28440">
                <a:solidFill>
                  <a:srgbClr val="ff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 txBox="1"/>
              <p:nvPr/>
            </p:nvSpPr>
            <p:spPr>
              <a:xfrm>
                <a:off x="1749600" y="1400040"/>
                <a:ext cx="6937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5" name="组合 13319"/>
          <p:cNvGrpSpPr/>
          <p:nvPr/>
        </p:nvGrpSpPr>
        <p:grpSpPr>
          <a:xfrm>
            <a:off x="1300320" y="5579280"/>
            <a:ext cx="7430400" cy="493920"/>
            <a:chOff x="1300320" y="5579280"/>
            <a:chExt cx="7430400" cy="493920"/>
          </a:xfrm>
        </p:grpSpPr>
        <p:grpSp>
          <p:nvGrpSpPr>
            <p:cNvPr id="476" name=""/>
            <p:cNvGrpSpPr/>
            <p:nvPr/>
          </p:nvGrpSpPr>
          <p:grpSpPr>
            <a:xfrm>
              <a:off x="1300320" y="5579280"/>
              <a:ext cx="493200" cy="493920"/>
              <a:chOff x="1300320" y="5579280"/>
              <a:chExt cx="493200" cy="493920"/>
            </a:xfrm>
          </p:grpSpPr>
          <p:sp>
            <p:nvSpPr>
              <p:cNvPr id="477" name="直接连接符 13320"/>
              <p:cNvSpPr/>
              <p:nvPr/>
            </p:nvSpPr>
            <p:spPr>
              <a:xfrm>
                <a:off x="1300320" y="5579280"/>
                <a:ext cx="493200" cy="493560"/>
              </a:xfrm>
              <a:prstGeom prst="line">
                <a:avLst/>
              </a:prstGeom>
              <a:ln w="28440">
                <a:solidFill>
                  <a:srgbClr val="ff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 txBox="1"/>
              <p:nvPr/>
            </p:nvSpPr>
            <p:spPr>
              <a:xfrm rot="16200000">
                <a:off x="1299960" y="5579640"/>
                <a:ext cx="493560" cy="493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9" name=""/>
            <p:cNvGrpSpPr/>
            <p:nvPr/>
          </p:nvGrpSpPr>
          <p:grpSpPr>
            <a:xfrm>
              <a:off x="1793520" y="6059520"/>
              <a:ext cx="6937200" cy="360"/>
              <a:chOff x="1793520" y="6059520"/>
              <a:chExt cx="6937200" cy="360"/>
            </a:xfrm>
          </p:grpSpPr>
          <p:sp>
            <p:nvSpPr>
              <p:cNvPr id="480" name="直接连接符 13321"/>
              <p:cNvSpPr/>
              <p:nvPr/>
            </p:nvSpPr>
            <p:spPr>
              <a:xfrm>
                <a:off x="1793520" y="6059520"/>
                <a:ext cx="6937200" cy="0"/>
              </a:xfrm>
              <a:prstGeom prst="line">
                <a:avLst/>
              </a:prstGeom>
              <a:ln w="28440">
                <a:solidFill>
                  <a:srgbClr val="ff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 txBox="1"/>
              <p:nvPr/>
            </p:nvSpPr>
            <p:spPr>
              <a:xfrm>
                <a:off x="1793520" y="6059520"/>
                <a:ext cx="6937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2" name="文本框 13322"/>
          <p:cNvSpPr/>
          <p:nvPr/>
        </p:nvSpPr>
        <p:spPr>
          <a:xfrm>
            <a:off x="1895400" y="1623960"/>
            <a:ext cx="66470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矩形 13323"/>
          <p:cNvSpPr/>
          <p:nvPr/>
        </p:nvSpPr>
        <p:spPr>
          <a:xfrm>
            <a:off x="466560" y="2612880"/>
            <a:ext cx="935280" cy="2006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22T03:31:18Z</dcterms:created>
  <dc:creator>幻灯片之家：www.eeppt.com</dc:creator>
  <dc:description/>
  <cp:keywords>幻灯片之家：www.eeppt.com</cp:keywords>
  <dc:language>en-US</dc:language>
  <cp:lastModifiedBy>pc</cp:lastModifiedBy>
  <dcterms:modified xsi:type="dcterms:W3CDTF">2015-11-13T04:32:15Z</dcterms:modified>
  <cp:revision>4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  <property fmtid="{D5CDD505-2E9C-101B-9397-08002B2CF9AE}" pid="3" name="Version">
    <vt:r8>1</vt:r8>
  </property>
</Properties>
</file>