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43FD-C556-4521-9069-D9A05DED1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5345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4147200"/>
            <a:ext cx="85345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7464-E03F-4A44-AD84-9D37BFD3C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164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4160" y="1599840"/>
            <a:ext cx="4164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4147200"/>
            <a:ext cx="4164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4160" y="4147200"/>
            <a:ext cx="4164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B281-4BE1-42BC-8DE4-27FF44489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6280" y="159984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1680" y="159984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414720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6280" y="414720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1680" y="414720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ABE1-D844-455C-B914-B212BFA6D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00B0D-77B6-4C24-886D-8E95AF913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52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3C2DF-F809-47FA-8F9E-44D8A96B8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43A44-B719-4335-8A0D-A010C8739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164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54160" y="1599840"/>
            <a:ext cx="4164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D1EDC-6581-4F6B-92AD-6E6483159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55C4B-F678-4CA2-A846-12BBB650E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534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99C5E-DCAF-4E15-9FC1-30AD5C622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164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54160" y="1599840"/>
            <a:ext cx="4164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520" y="4147200"/>
            <a:ext cx="4164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A2D71-10FE-4891-9D87-61470C8B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FFA7-6732-4DD8-A307-BFD51E343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164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4160" y="1599840"/>
            <a:ext cx="4164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54160" y="4147200"/>
            <a:ext cx="4164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F8B28-E28E-480A-BAC3-10ED41B3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164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4160" y="1599840"/>
            <a:ext cx="4164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4147200"/>
            <a:ext cx="85345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E10E2-BB6C-4F42-8A77-BD8C9ED8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5345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520" y="4147200"/>
            <a:ext cx="85345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38F6D-C18C-49E1-9201-7904B7E2E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164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4160" y="1599840"/>
            <a:ext cx="4164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520" y="4147200"/>
            <a:ext cx="4164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54160" y="4147200"/>
            <a:ext cx="4164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DB8F5-0856-4EB6-B350-8360BE331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6280" y="159984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1680" y="159984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520" y="414720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6280" y="414720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1680" y="414720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5472F-99DF-428D-B1B2-B8ADEC902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D2F57-D027-4B0C-9309-A1A7CB371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8052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1F984-58F7-4E61-BBD4-0821C075A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A7C45-9872-4233-BA40-65586866F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164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4160" y="1599840"/>
            <a:ext cx="4164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2D3DF-0AD9-4272-9055-8D51ED7DB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D1C2C-26A3-42B8-B0DE-8CB425C3B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FE0F-F49F-4212-9A49-D26325003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534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E2BCA-73F6-4AA3-A698-3E848AC4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164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54160" y="1599840"/>
            <a:ext cx="4164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80520" y="4147200"/>
            <a:ext cx="4164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12C94-7CA0-474E-A539-384AC493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164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54160" y="1599840"/>
            <a:ext cx="4164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54160" y="4147200"/>
            <a:ext cx="4164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EA954-8986-4DCF-9ADF-8FB85C97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164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54160" y="1599840"/>
            <a:ext cx="4164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80520" y="4147200"/>
            <a:ext cx="85345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FE4BF-AB40-43AF-8A03-9F9FA733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5345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80520" y="4147200"/>
            <a:ext cx="85345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28799-BCF3-47E8-A5BD-62ADD9CF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164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54160" y="1599840"/>
            <a:ext cx="4164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80520" y="4147200"/>
            <a:ext cx="4164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54160" y="4147200"/>
            <a:ext cx="4164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37B33-16A6-4A0B-A75F-46CF962EF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66280" y="159984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1680" y="159984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80520" y="414720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66280" y="414720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1680" y="4147200"/>
            <a:ext cx="27478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A1637-FBAA-475B-8C28-2AF024688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164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4160" y="1599840"/>
            <a:ext cx="4164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527A-2CFF-43E1-8070-BB134DACD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6026-9ED2-4675-ABCA-56E4F1051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534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E277-999F-422A-8762-AE086558F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164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4160" y="1599840"/>
            <a:ext cx="4164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4147200"/>
            <a:ext cx="4164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8770-C131-40A3-9F60-C83A693D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164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160" y="1599840"/>
            <a:ext cx="4164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4160" y="4147200"/>
            <a:ext cx="4164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A8FB-03A7-457E-B17B-1CA3D1AD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164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4160" y="1599840"/>
            <a:ext cx="4164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4147200"/>
            <a:ext cx="85345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CC2D-7E62-4ECC-B206-222C2784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65413-FD87-4D2E-A34C-C624ADF5A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52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d41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D6200-BFE4-44A2-9BB8-02AEF6C3E54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57027-41FF-4316-8972-01FF2E2C3099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34C0C-C437-4CAC-8813-A1ACA68E4F3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8052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24" name="文本框 4098"/>
          <p:cNvSpPr/>
          <p:nvPr/>
        </p:nvSpPr>
        <p:spPr>
          <a:xfrm>
            <a:off x="76320" y="647712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文本框 4099"/>
          <p:cNvSpPr/>
          <p:nvPr/>
        </p:nvSpPr>
        <p:spPr>
          <a:xfrm>
            <a:off x="2034720" y="304920"/>
            <a:ext cx="567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输血血浆医学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模板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免费下载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D8C0F-C56C-4275-9EFE-36F5D2DAC8E6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520" y="26668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380520" y="3504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32" name="文本框 5123"/>
          <p:cNvSpPr/>
          <p:nvPr/>
        </p:nvSpPr>
        <p:spPr>
          <a:xfrm>
            <a:off x="2209680" y="1295280"/>
            <a:ext cx="50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6600"/>
                </a:solidFill>
                <a:uFillTx/>
                <a:latin typeface="Times New Roman"/>
                <a:ea typeface="Times New Roman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ff6600"/>
                </a:solidFill>
                <a:uFillTx/>
                <a:latin typeface="Times New Roman"/>
                <a:ea typeface="Times New Roman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eeppt.com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1T04:34:3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8:52Z</dcterms:modified>
  <cp:revision>6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  <property fmtid="{D5CDD505-2E9C-101B-9397-08002B2CF9AE}" pid="3" name="_TemplateID">
    <vt:lpwstr>TC011408251033</vt:lpwstr>
  </property>
</Properties>
</file>