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30A-5F04-4B11-A713-91E30F3F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AA7-C870-4D32-975D-8D73C744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DEB41-374E-4EE2-9FC3-1A8C322B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85909-FC8B-40DF-8EA6-0255384B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DD26A-690E-4268-BAA6-09117F78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0A326-239E-46C2-8DAE-7B2F0058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270C4-CD50-4DCC-A4F1-B8A65308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146A4-00B9-4581-9E78-BFF48DA3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E76B-2768-44EB-A4FE-083267F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FAD52-5451-42C9-887C-9870054B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A9487-036F-4762-8ACF-C6D3363F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AD913-8CEA-423F-BD8E-277D88C7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9E2-EF14-4641-BEDD-89ABB22F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982C3-B48E-4076-A4A7-E813D2BF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867C1-3DD8-42FD-8458-0FD57967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849FE-F4EE-4766-9FC2-337FC27E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80035-69C2-4D47-8300-0D36EB6A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D4EA5-622A-49BA-B226-74EFE526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8BF93-3F2F-4562-A2FB-0D70037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259AE-B452-4CB1-A6D5-B8D6162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2DA32-EDD1-4BF6-BC4A-0007A993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5650C-2010-48CB-92A6-C18F31F4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2E8D9-4EEC-4633-A4DB-98E0D722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32D-77E3-48B7-9549-76EC32F6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341B4-3DCC-4EE8-AE41-B721A693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5EFA2-7CC2-40B0-AEED-C0092350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C4B2A-A428-4F0C-82A7-E01A7CA4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9F1F0-8343-4575-8544-9EE7854A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A8C7A-9A43-4BA2-A7F9-527958B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9D7F7-FF7B-413A-94CC-F140F3D7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65D04-7965-47BA-B51B-EA05F79E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52B94-19C8-434E-9257-DF7A4029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E06A3-0916-4F5B-8183-96A5CDC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51184-6420-4E38-9E83-659D9CC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F22F-B91C-43AB-8A64-0B318985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61F90-358C-455F-A69A-F387DC7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F1508-EEC8-4649-B9AC-A801F1AB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45467-A5E0-4935-AF15-2123953A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4AB89-BCC7-4656-85D3-9F54AEE8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7B514-83E1-4A00-8399-AE1CEE00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75D47-AE8D-4E0F-BE1C-E5CD20A7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46D20-8D01-4A73-800A-F015E291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94D45-B706-48C9-8329-8CA996A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FE4EE-2A9A-40F4-BB64-EC5BF055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74BD4-8254-4418-B109-55891F9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D48E-D2A0-4BFF-92BD-FFC4B3C7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C67D3-857B-4DAC-82F2-A07DD21B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3F60A-A08F-4AFA-87CA-AA83669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6886F-8F85-4BCE-8927-C0DB93FE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BF083-A53B-4863-880E-5DD2F242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91252-7968-4D3D-AF07-9D18EBC6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04C1C3-56AD-492F-91EE-9CE64942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ED718-F459-437F-9EE5-B99B2AC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A6E02-E2E6-4607-BA1E-E3BCC892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08E65-52A6-4566-8B2E-D2FFADDF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93660-3A7F-4184-B7A6-4265C202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1E8A-06E7-4803-A198-98DD7220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83782-5D69-4063-A131-A7C6AEED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25747-EAAC-4887-B747-D19A481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E5564-A96D-479E-9565-9165521E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CCA81-26DB-4D58-98B1-56E0EFF3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73B46-4FB9-4C6F-8C2A-983FA8A5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E1C9F-20ED-472F-8E3E-C2D993C0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F5254-61A8-4164-8A02-9DE11548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1A45-ADAF-49AC-B9B8-DC5A408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CFE4-9B35-4F35-BF11-FDB8C2EB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4BA1-F43D-47C9-9E27-B47A0578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680-4948-4A5D-B86C-65E47FA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B1E-C339-4283-9009-0AED9A76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FE7A-A4C7-4AA1-B2D2-2DA12D9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6BB6-F4F4-4CFE-82B0-226B3909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DBC0-3560-4AB7-8133-F43403F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B97B-1993-48D1-AEED-226EA956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5A9-9EF5-4D6D-9D84-789E65DD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9459-5EA0-491E-8A19-4452B915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6853-127A-45F8-A6F4-11ECC99C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83D2-DA32-439D-9A3B-4E2B80F6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617A-5EBC-43FB-8397-BD75FBD9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C1E1-B972-4911-AD2B-664738CE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CFE-E5A9-4E05-A616-B3232BC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2F76-0AF8-4A8B-8BBA-D3AFD2D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614E-570E-4A45-91D0-55B96E1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D29C-4B43-4BA0-8509-9DC53A9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EE1E-ADCF-4919-8455-DCF21C3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098E-C53D-44F0-A7B3-A2F13A1F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80A6B-2BFF-4653-960B-2E3D24C5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02350-DA35-4883-B3EA-EB9F7AC4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E902-9E65-448D-B393-EB3A799F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41829-46A4-439E-B1A0-8E62CB99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8255-02E4-4E71-9619-2898052D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320-7867-420A-AF8E-92698A1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2E28-A67A-47B2-876D-003D583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0D41-039F-4C54-86A9-7E8D2D5C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FA59-9D7E-4498-9E0C-4828728E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958D-FA0B-49E7-90E9-E4F8C23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9096-3497-4126-8D5D-6074AD8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1ECA-D9E0-487A-8DA4-BF67EB0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E232-A579-4227-9D33-F51CD9C4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51E2-94F9-4280-A85E-8BE25F50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034B-9585-4EAD-954D-973CF3D2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180E8-82D7-4ABF-979E-0DDF6E28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75C-C2E6-4D63-B626-9FE856EC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AA9C-0410-4355-B11C-91CDC6BB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7581-3CC1-40C6-BD28-F93DA1B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DCEAE-866A-4966-A47D-B6DCFAEA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51273-478F-41F8-A58B-BE57354F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5F4B8-A398-4C5E-B2D5-E2028D6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FC6F-FF2E-464F-8E25-019C7013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E4C9-200F-41A3-A418-0F5D8822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CAE64-FE7C-4FD4-A08B-71CF117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2548-9316-467C-9F67-E5126B92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BFB32-2CCC-4BDA-A640-AC6837EA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571-FEA5-4FA7-8C40-009B6725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8CA4B-5F0D-4557-AEC0-44FA0721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54D7-9ACD-4D8E-A13B-1DE7ED2B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03974-EE97-4668-83C2-3D9DC8B3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697A3-AA92-4C1E-A767-1038720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E37E-7E1E-4B03-BC2A-72212EB5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05F2-5106-43AB-B51A-7D29108F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DC56A-A6F5-47D4-97F6-6A325BDE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B381D-6134-4B5B-AF2F-149A366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46A8-E727-4ACD-A072-C03CEE5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FF26-A9F1-4113-8459-A3FE810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B36-B0F9-41DD-8F55-41819937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6841-F964-4300-B04E-4033DA8A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A790-E203-4C48-988D-767B8BA6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DD32-7126-4AC6-9986-856C041F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1F07F-B95F-4191-9A4F-E22C64B6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A98AC-AB9D-4F9A-A938-6342F8BB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42D9-C800-4464-AA11-814ED293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E31A7-5BD4-4D9A-A55F-A27AC36B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ED2F-61E4-4036-A606-2FA7DF62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58D0D-79C7-45B2-8351-B24D2E2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A6604-4CAD-41C0-9733-FCE7E3EC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547-EABB-40B7-BF29-8C47137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48F25-CAD6-46B8-8ED4-E4394F54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B5C32-1F31-4CF9-BF63-191D1D3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33A48-0CD1-4CE6-9B40-D03C10FB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DB82E-7E41-4513-BE67-9A24287A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2C838-1BAC-45BD-914C-5D253848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048AE-80DD-4BBC-93F1-B0D2F337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FA870-EC64-4191-BA2F-05C82C69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B8DCC-C906-41BE-A214-B0CF87C4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DA1CA-D65A-4837-80CE-1ED31D9F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672D-9FFD-4E59-A8FD-83A40A9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40C-59F4-4EB0-B58E-9BC4CB9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15F85-B4E8-4180-9D13-DAF900D7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DD6D6-FD70-4E70-9F3A-518C5A3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E2EA8-4D46-427E-A33B-821CE6A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83496-0076-4FCA-857A-721B368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EDA9C-9B5B-4BBA-8F50-31288D7A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88F1-E48C-496E-86D9-9B26D6CF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BFCB5-1E62-4619-9FD8-AE0887E3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EC26B-CD2E-4AB2-8234-E7B4746F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75FEF-9841-49F3-988F-9FFB17F4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94CCA-F67A-4C2E-81F4-BFF8BC24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EA48-C1C0-4FB7-A45F-2B5E1A46E2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136D-B9A7-4023-9DC3-B1DD825BEB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1242-62A0-4E6D-8C1C-1AAEE77FA5E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6871-70F0-4AF0-8481-EE0F008E49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472-1601-4E9C-8043-43E067474E8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A24D-5AE6-4D5C-BB8D-61534A3697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15AD-90F0-4EEF-947E-B8D9AB22169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7EC7-6124-49B1-9640-BDCEBB071F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BE8-9DE6-4427-981A-BEBA5FFDEA6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714C-8109-4448-9AC2-A8F160CA51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2D1E-8FB1-450B-8835-BDDBCAD4C3C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0624-E143-40B4-8E93-C29DB457883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7696-5763-467D-A7BF-EC5C639E9A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9AA4-256B-4D4A-8FCD-687FC9090D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089-FF26-4981-ACC8-EF179CCC874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E439-2286-4F16-B639-9ED11F86B5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9135-282A-44DF-A923-E9F20B1F00C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3DA8-734A-4655-8FF2-7DAF7209280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1F6-23C6-43D8-9551-C31F369331F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9679-1F0B-4E04-9358-A80032A0A9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C3A8-8F97-4977-927F-32FB2D03CF4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DD2-6A5F-4845-AC89-56D10DF6A5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2B45-D501-4DFB-92D7-6D887D2FB90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1C43-B681-4C4B-8D82-FD0F3FF43B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F061-FDAB-490E-A766-87A11818772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92CB-0DF5-4D2F-84B2-F7AFC7BC1C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3286080" y="512460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羊年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143680" y="7128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3357720" y="5624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341"/>
          <p:cNvSpPr/>
          <p:nvPr/>
        </p:nvSpPr>
        <p:spPr>
          <a:xfrm>
            <a:off x="2442600" y="404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羊开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37" descr="1.png"/>
          <p:cNvPicPr/>
          <p:nvPr/>
        </p:nvPicPr>
        <p:blipFill>
          <a:blip r:embed="rId2"/>
          <a:stretch/>
        </p:blipFill>
        <p:spPr>
          <a:xfrm>
            <a:off x="2786040" y="114300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9" descr="2.png"/>
          <p:cNvPicPr/>
          <p:nvPr/>
        </p:nvPicPr>
        <p:blipFill>
          <a:blip r:embed="rId3"/>
          <a:stretch/>
        </p:blipFill>
        <p:spPr>
          <a:xfrm>
            <a:off x="2773440" y="2143080"/>
            <a:ext cx="4013280" cy="11304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40" descr="1.png"/>
          <p:cNvPicPr/>
          <p:nvPr/>
        </p:nvPicPr>
        <p:blipFill>
          <a:blip r:embed="rId4"/>
          <a:stretch/>
        </p:blipFill>
        <p:spPr>
          <a:xfrm>
            <a:off x="2786040" y="3156120"/>
            <a:ext cx="400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41" descr="2.png"/>
          <p:cNvPicPr/>
          <p:nvPr/>
        </p:nvPicPr>
        <p:blipFill>
          <a:blip r:embed="rId5"/>
          <a:stretch/>
        </p:blipFill>
        <p:spPr>
          <a:xfrm>
            <a:off x="2773440" y="4156200"/>
            <a:ext cx="4013280" cy="11300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1"/>
          <p:cNvSpPr/>
          <p:nvPr/>
        </p:nvSpPr>
        <p:spPr>
          <a:xfrm>
            <a:off x="3786120" y="3500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2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39" descr="1.png"/>
          <p:cNvPicPr/>
          <p:nvPr/>
        </p:nvPicPr>
        <p:blipFill>
          <a:blip r:embed="rId2"/>
          <a:stretch/>
        </p:blipFill>
        <p:spPr>
          <a:xfrm>
            <a:off x="4870440" y="895320"/>
            <a:ext cx="2344680" cy="24573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40" descr="2.png"/>
          <p:cNvPicPr/>
          <p:nvPr/>
        </p:nvPicPr>
        <p:blipFill>
          <a:blip r:embed="rId3"/>
          <a:stretch/>
        </p:blipFill>
        <p:spPr>
          <a:xfrm>
            <a:off x="5095800" y="1176480"/>
            <a:ext cx="1886040" cy="20682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1" descr="1.png"/>
          <p:cNvPicPr/>
          <p:nvPr/>
        </p:nvPicPr>
        <p:blipFill>
          <a:blip r:embed="rId4"/>
          <a:stretch/>
        </p:blipFill>
        <p:spPr>
          <a:xfrm>
            <a:off x="4870440" y="3255840"/>
            <a:ext cx="2344680" cy="24591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42" descr="2.png"/>
          <p:cNvPicPr/>
          <p:nvPr/>
        </p:nvPicPr>
        <p:blipFill>
          <a:blip r:embed="rId5"/>
          <a:stretch/>
        </p:blipFill>
        <p:spPr>
          <a:xfrm>
            <a:off x="5043600" y="3324240"/>
            <a:ext cx="1885680" cy="20685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43" descr="1.png"/>
          <p:cNvPicPr/>
          <p:nvPr/>
        </p:nvPicPr>
        <p:blipFill>
          <a:blip r:embed="rId6"/>
          <a:stretch/>
        </p:blipFill>
        <p:spPr>
          <a:xfrm>
            <a:off x="2655720" y="895320"/>
            <a:ext cx="2345040" cy="24573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44" descr="2.png"/>
          <p:cNvPicPr/>
          <p:nvPr/>
        </p:nvPicPr>
        <p:blipFill>
          <a:blip r:embed="rId7"/>
          <a:stretch/>
        </p:blipFill>
        <p:spPr>
          <a:xfrm>
            <a:off x="2900520" y="1176480"/>
            <a:ext cx="1885680" cy="20682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5" descr="1.png"/>
          <p:cNvPicPr/>
          <p:nvPr/>
        </p:nvPicPr>
        <p:blipFill>
          <a:blip r:embed="rId8"/>
          <a:stretch/>
        </p:blipFill>
        <p:spPr>
          <a:xfrm>
            <a:off x="2655720" y="3255840"/>
            <a:ext cx="2345040" cy="245916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6" descr="2.png"/>
          <p:cNvPicPr/>
          <p:nvPr/>
        </p:nvPicPr>
        <p:blipFill>
          <a:blip r:embed="rId9"/>
          <a:stretch/>
        </p:blipFill>
        <p:spPr>
          <a:xfrm>
            <a:off x="2928960" y="3324240"/>
            <a:ext cx="1886040" cy="20685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2"/>
          <p:cNvSpPr/>
          <p:nvPr/>
        </p:nvSpPr>
        <p:spPr>
          <a:xfrm>
            <a:off x="3354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3"/>
          <p:cNvSpPr/>
          <p:nvPr/>
        </p:nvSpPr>
        <p:spPr>
          <a:xfrm>
            <a:off x="5355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4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5"/>
          <p:cNvSpPr/>
          <p:nvPr/>
        </p:nvSpPr>
        <p:spPr>
          <a:xfrm>
            <a:off x="3569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31" descr="1.png"/>
          <p:cNvPicPr/>
          <p:nvPr/>
        </p:nvPicPr>
        <p:blipFill>
          <a:blip r:embed="rId2"/>
          <a:stretch/>
        </p:blipFill>
        <p:spPr>
          <a:xfrm>
            <a:off x="1670040" y="571680"/>
            <a:ext cx="5803920" cy="571500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32" descr="2.png"/>
          <p:cNvPicPr/>
          <p:nvPr/>
        </p:nvPicPr>
        <p:blipFill>
          <a:blip r:embed="rId3"/>
          <a:stretch/>
        </p:blipFill>
        <p:spPr>
          <a:xfrm>
            <a:off x="6072120" y="2451240"/>
            <a:ext cx="1206720" cy="154944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37" descr="2.png"/>
          <p:cNvPicPr/>
          <p:nvPr/>
        </p:nvPicPr>
        <p:blipFill>
          <a:blip r:embed="rId4"/>
          <a:stretch/>
        </p:blipFill>
        <p:spPr>
          <a:xfrm>
            <a:off x="4143240" y="472284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38" descr="2.png"/>
          <p:cNvPicPr/>
          <p:nvPr/>
        </p:nvPicPr>
        <p:blipFill>
          <a:blip r:embed="rId5"/>
          <a:stretch/>
        </p:blipFill>
        <p:spPr>
          <a:xfrm>
            <a:off x="3786120" y="785880"/>
            <a:ext cx="1549440" cy="120636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39" descr="2.png"/>
          <p:cNvPicPr/>
          <p:nvPr/>
        </p:nvPicPr>
        <p:blipFill>
          <a:blip r:embed="rId6"/>
          <a:stretch/>
        </p:blipFill>
        <p:spPr>
          <a:xfrm>
            <a:off x="2143080" y="2808360"/>
            <a:ext cx="1206720" cy="15494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1568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1"/>
          <p:cNvSpPr/>
          <p:nvPr/>
        </p:nvSpPr>
        <p:spPr>
          <a:xfrm>
            <a:off x="521208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5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6"/>
          <p:cNvSpPr/>
          <p:nvPr/>
        </p:nvSpPr>
        <p:spPr>
          <a:xfrm>
            <a:off x="3497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34" descr="1.png"/>
          <p:cNvPicPr/>
          <p:nvPr/>
        </p:nvPicPr>
        <p:blipFill>
          <a:blip r:embed="rId2"/>
          <a:stretch/>
        </p:blipFill>
        <p:spPr>
          <a:xfrm>
            <a:off x="3000240" y="131760"/>
            <a:ext cx="3873600" cy="322596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35" descr="2.png"/>
          <p:cNvPicPr/>
          <p:nvPr/>
        </p:nvPicPr>
        <p:blipFill>
          <a:blip r:embed="rId3"/>
          <a:stretch/>
        </p:blipFill>
        <p:spPr>
          <a:xfrm>
            <a:off x="4643280" y="171468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36" descr="1.png"/>
          <p:cNvPicPr/>
          <p:nvPr/>
        </p:nvPicPr>
        <p:blipFill>
          <a:blip r:embed="rId4"/>
          <a:stretch/>
        </p:blipFill>
        <p:spPr>
          <a:xfrm>
            <a:off x="3000240" y="3071880"/>
            <a:ext cx="3873600" cy="322560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37" descr="2.png"/>
          <p:cNvPicPr/>
          <p:nvPr/>
        </p:nvPicPr>
        <p:blipFill>
          <a:blip r:embed="rId5"/>
          <a:stretch/>
        </p:blipFill>
        <p:spPr>
          <a:xfrm>
            <a:off x="1643040" y="1719360"/>
            <a:ext cx="3276720" cy="3352680"/>
          </a:xfrm>
          <a:prstGeom prst="rect">
            <a:avLst/>
          </a:prstGeom>
          <a:ln w="0">
            <a:noFill/>
          </a:ln>
        </p:spPr>
      </p:pic>
      <p:sp>
        <p:nvSpPr>
          <p:cNvPr id="5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8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6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38"/>
          <p:cNvSpPr/>
          <p:nvPr/>
        </p:nvSpPr>
        <p:spPr>
          <a:xfrm>
            <a:off x="5783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9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32" descr="1.png"/>
          <p:cNvPicPr/>
          <p:nvPr/>
        </p:nvPicPr>
        <p:blipFill>
          <a:blip r:embed="rId2"/>
          <a:stretch/>
        </p:blipFill>
        <p:spPr>
          <a:xfrm>
            <a:off x="4676760" y="108576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33" descr="2.png"/>
          <p:cNvPicPr/>
          <p:nvPr/>
        </p:nvPicPr>
        <p:blipFill>
          <a:blip r:embed="rId3"/>
          <a:stretch/>
        </p:blipFill>
        <p:spPr>
          <a:xfrm>
            <a:off x="4748040" y="3117960"/>
            <a:ext cx="2395800" cy="2485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34" descr="1.png"/>
          <p:cNvPicPr/>
          <p:nvPr/>
        </p:nvPicPr>
        <p:blipFill>
          <a:blip r:embed="rId4"/>
          <a:stretch/>
        </p:blipFill>
        <p:spPr>
          <a:xfrm>
            <a:off x="2454120" y="3300480"/>
            <a:ext cx="2365560" cy="218592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35" descr="2.png"/>
          <p:cNvPicPr/>
          <p:nvPr/>
        </p:nvPicPr>
        <p:blipFill>
          <a:blip r:embed="rId5"/>
          <a:stretch/>
        </p:blipFill>
        <p:spPr>
          <a:xfrm>
            <a:off x="2352600" y="1000080"/>
            <a:ext cx="2395440" cy="2486160"/>
          </a:xfrm>
          <a:prstGeom prst="rect">
            <a:avLst/>
          </a:prstGeom>
          <a:ln w="0">
            <a:noFill/>
          </a:ln>
        </p:spPr>
      </p:pic>
      <p:sp>
        <p:nvSpPr>
          <p:cNvPr id="5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59979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3"/>
          <p:cNvSpPr/>
          <p:nvPr/>
        </p:nvSpPr>
        <p:spPr>
          <a:xfrm>
            <a:off x="5497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4"/>
          <p:cNvSpPr/>
          <p:nvPr/>
        </p:nvSpPr>
        <p:spPr>
          <a:xfrm>
            <a:off x="256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31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CCB6-79F6-4204-B874-A3D34AE959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图片 29" descr="2.png"/>
          <p:cNvPicPr/>
          <p:nvPr/>
        </p:nvPicPr>
        <p:blipFill>
          <a:blip r:embed="rId2"/>
          <a:stretch/>
        </p:blipFill>
        <p:spPr>
          <a:xfrm>
            <a:off x="4357800" y="654120"/>
            <a:ext cx="2759040" cy="3206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1"/>
          <p:cNvSpPr/>
          <p:nvPr/>
        </p:nvSpPr>
        <p:spPr>
          <a:xfrm>
            <a:off x="5212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2"/>
          <p:cNvSpPr/>
          <p:nvPr/>
        </p:nvSpPr>
        <p:spPr>
          <a:xfrm>
            <a:off x="5355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3"/>
          <p:cNvSpPr/>
          <p:nvPr/>
        </p:nvSpPr>
        <p:spPr>
          <a:xfrm>
            <a:off x="2926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7"/>
          <p:cNvSpPr/>
          <p:nvPr/>
        </p:nvSpPr>
        <p:spPr>
          <a:xfrm>
            <a:off x="2926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28" descr="1.png"/>
          <p:cNvPicPr/>
          <p:nvPr/>
        </p:nvPicPr>
        <p:blipFill>
          <a:blip r:embed="rId3"/>
          <a:stretch/>
        </p:blipFill>
        <p:spPr>
          <a:xfrm>
            <a:off x="1992240" y="654120"/>
            <a:ext cx="3652920" cy="25542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1" descr="4.png"/>
          <p:cNvPicPr/>
          <p:nvPr/>
        </p:nvPicPr>
        <p:blipFill>
          <a:blip r:embed="rId4"/>
          <a:stretch/>
        </p:blipFill>
        <p:spPr>
          <a:xfrm>
            <a:off x="2122560" y="2440080"/>
            <a:ext cx="2679480" cy="32749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30" descr="3.png"/>
          <p:cNvPicPr/>
          <p:nvPr/>
        </p:nvPicPr>
        <p:blipFill>
          <a:blip r:embed="rId5"/>
          <a:stretch/>
        </p:blipFill>
        <p:spPr>
          <a:xfrm>
            <a:off x="4097160" y="2766960"/>
            <a:ext cx="3046680" cy="2816280"/>
          </a:xfrm>
          <a:prstGeom prst="rect">
            <a:avLst/>
          </a:prstGeom>
          <a:ln w="0">
            <a:noFill/>
          </a:ln>
        </p:spPr>
      </p:pic>
      <p:sp>
        <p:nvSpPr>
          <p:cNvPr id="625" name="文本框 20494"/>
          <p:cNvSpPr/>
          <p:nvPr/>
        </p:nvSpPr>
        <p:spPr>
          <a:xfrm>
            <a:off x="396720" y="63104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09Z</dcterms:modified>
  <cp:revision>3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