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7CF-13EF-4D0C-B003-968F0C4F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187-FFF9-49BE-BA38-96B754A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10A-56F0-432C-B1BE-CBADFA7A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9EE-1C8A-4DF9-AE35-F7448292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859-F18B-4CA3-A9D3-3872C7B4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824-17C5-4D2C-B926-BACDA293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D0D-4416-4990-8D56-0CB127E8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362-3855-4644-919D-4043FFED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CB2-BAFD-47BB-A469-640B9B7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CE39-4A8F-4EEA-9C96-E4364530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AEB-5FFE-4FB2-8162-9D7494F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55E-B742-454D-AFB2-218DD23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23A-D6D1-4674-A111-DB199B0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933-20E7-4825-9917-8843E9B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06C-53EE-41DF-93F4-0DFAFB4E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B5B-6422-476C-B66E-424A7EBD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2E4-EFCB-438C-9A3D-E6B4D74D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194E-84CA-42CF-819E-1B7DCEC4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A31B-B53E-4270-81A1-2598396A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8EF1-96A9-4999-8AF8-F934C735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43A0-E9B0-4E1C-812B-84504C10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217F-FA68-4632-AFDC-710E0A9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5F0-0777-4682-ABC9-27417745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091C-2A27-4D48-8B49-1667D65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4246-D2F2-4BF3-AD22-5CA1CC0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A602-3D03-4288-B333-BEECC9B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4908-B5BE-4F6B-8DDE-542DB22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76CF-9115-4BDF-9471-1B54B85A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7B2E-0C84-499E-8653-1DB2C16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52C4-08DE-416F-91BC-A57D1575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4077-E04D-4FFA-972C-8B1AF41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58F2-DECF-4B40-9D64-680998E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8996-8CD5-4D3A-AE91-4F3EEDA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FB7-2AFA-44D0-80A9-FF810C3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1A71-1B59-4799-90DF-5560BB0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91D1-B987-40A4-9711-153705E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A78B-5965-4516-936E-6199032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F6E4-D000-4CC4-B68A-06ACD48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2721-9F28-471D-874F-69078B1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7AE7-2A21-431A-A1DB-EE90F32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C4F01-D821-46FD-AE41-AD938BA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261E-2942-40AA-AEDD-D5440A6C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3376-C204-4034-83F3-38E26624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134-01B7-4FDD-A6E9-F405B52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B83-435F-439B-9B12-94439CA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8DF-E7BB-4404-8491-BABC41E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EE8-8806-4018-9A9C-588AE23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3B9-07DF-491C-A1E2-628E717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2CC-E66A-42E3-990C-0C137BC89F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792-CC99-46B0-880A-D65917AA12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792-C489-4E6F-B139-22A724351E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.glzy8.com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海量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.glzy8.com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海量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0DD3-6CD1-45F1-9080-C97CAE0015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BDA-7B1E-40A8-A801-02C8AC67043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0269-1EF5-407A-AFC5-5B6E50EEB4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lidan\Desktop\LOGO.png"/>
          <p:cNvPicPr/>
          <p:nvPr/>
        </p:nvPicPr>
        <p:blipFill>
          <a:blip r:embed="rId1"/>
          <a:stretch/>
        </p:blipFill>
        <p:spPr>
          <a:xfrm>
            <a:off x="6072120" y="4786200"/>
            <a:ext cx="2873520" cy="773280"/>
          </a:xfrm>
          <a:prstGeom prst="rect">
            <a:avLst/>
          </a:prstGeom>
          <a:ln w="0">
            <a:noFill/>
          </a:ln>
        </p:spPr>
      </p:pic>
      <p:sp>
        <p:nvSpPr>
          <p:cNvPr id="165" name="矩形 5122"/>
          <p:cNvSpPr txBox="1"/>
          <p:nvPr/>
        </p:nvSpPr>
        <p:spPr>
          <a:xfrm>
            <a:off x="3200400" y="2597040"/>
            <a:ext cx="2743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团队工作计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5123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2070000" y="336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团队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6146"/>
          <p:cNvGrpSpPr/>
          <p:nvPr/>
        </p:nvGrpSpPr>
        <p:grpSpPr>
          <a:xfrm>
            <a:off x="2195640" y="1450800"/>
            <a:ext cx="4897440" cy="2799000"/>
            <a:chOff x="2195640" y="1450800"/>
            <a:chExt cx="4897440" cy="2799000"/>
          </a:xfrm>
        </p:grpSpPr>
        <p:pic>
          <p:nvPicPr>
            <p:cNvPr id="170" name="Picture 2" descr="C:\Users\lidan\Desktop\linebg.png"/>
            <p:cNvPicPr/>
            <p:nvPr/>
          </p:nvPicPr>
          <p:blipFill>
            <a:blip r:embed="rId1"/>
            <a:stretch/>
          </p:blipFill>
          <p:spPr>
            <a:xfrm>
              <a:off x="2195640" y="145080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4108680" y="1463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Picture 2" descr="C:\Users\lidan\Desktop\linebg.png"/>
            <p:cNvPicPr/>
            <p:nvPr/>
          </p:nvPicPr>
          <p:blipFill>
            <a:blip r:embed="rId2"/>
            <a:stretch/>
          </p:blipFill>
          <p:spPr>
            <a:xfrm>
              <a:off x="2195640" y="220104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6"/>
            <p:cNvSpPr/>
            <p:nvPr/>
          </p:nvSpPr>
          <p:spPr>
            <a:xfrm>
              <a:off x="4108680" y="2213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Picture 2" descr="C:\Users\lidan\Desktop\linebg.png"/>
            <p:cNvPicPr/>
            <p:nvPr/>
          </p:nvPicPr>
          <p:blipFill>
            <a:blip r:embed="rId3"/>
            <a:stretch/>
          </p:blipFill>
          <p:spPr>
            <a:xfrm>
              <a:off x="2195640" y="296028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8"/>
            <p:cNvSpPr/>
            <p:nvPr/>
          </p:nvSpPr>
          <p:spPr>
            <a:xfrm>
              <a:off x="4108680" y="297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2" descr="C:\Users\lidan\Desktop\linebg.png"/>
            <p:cNvPicPr/>
            <p:nvPr/>
          </p:nvPicPr>
          <p:blipFill>
            <a:blip r:embed="rId4"/>
            <a:stretch/>
          </p:blipFill>
          <p:spPr>
            <a:xfrm>
              <a:off x="2195640" y="371052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0"/>
            <p:cNvSpPr/>
            <p:nvPr/>
          </p:nvSpPr>
          <p:spPr>
            <a:xfrm>
              <a:off x="4108680" y="37227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lidan\Desktop\11.png"/>
          <p:cNvPicPr/>
          <p:nvPr/>
        </p:nvPicPr>
        <p:blipFill>
          <a:blip r:embed="rId1"/>
          <a:stretch/>
        </p:blipFill>
        <p:spPr>
          <a:xfrm>
            <a:off x="928800" y="1571760"/>
            <a:ext cx="3332160" cy="3220920"/>
          </a:xfrm>
          <a:prstGeom prst="rect">
            <a:avLst/>
          </a:prstGeom>
          <a:ln w="0">
            <a:noFill/>
          </a:ln>
        </p:spPr>
      </p:pic>
      <p:cxnSp>
        <p:nvCxnSpPr>
          <p:cNvPr id="180" name="肘形连接符 5"/>
          <p:cNvCxnSpPr/>
          <p:nvPr/>
        </p:nvCxnSpPr>
        <p:spPr>
          <a:xfrm flipV="1">
            <a:off x="3070800" y="1142640"/>
            <a:ext cx="7866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TextBox 6"/>
          <p:cNvSpPr/>
          <p:nvPr/>
        </p:nvSpPr>
        <p:spPr>
          <a:xfrm>
            <a:off x="3578040" y="8650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肘形连接符 8"/>
          <p:cNvCxnSpPr/>
          <p:nvPr/>
        </p:nvCxnSpPr>
        <p:spPr>
          <a:xfrm flipH="1">
            <a:off x="2641320" y="3998880"/>
            <a:ext cx="4291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TextBox 9"/>
          <p:cNvSpPr/>
          <p:nvPr/>
        </p:nvSpPr>
        <p:spPr>
          <a:xfrm>
            <a:off x="2363760" y="46674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肘形连接符 12"/>
          <p:cNvCxnSpPr/>
          <p:nvPr/>
        </p:nvCxnSpPr>
        <p:spPr>
          <a:xfrm>
            <a:off x="3571920" y="2928960"/>
            <a:ext cx="1929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TextBox 13"/>
          <p:cNvSpPr/>
          <p:nvPr/>
        </p:nvSpPr>
        <p:spPr>
          <a:xfrm>
            <a:off x="5292000" y="30002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lidan\Desktop\shu1.png"/>
          <p:cNvPicPr/>
          <p:nvPr/>
        </p:nvPicPr>
        <p:blipFill>
          <a:blip r:embed="rId1"/>
          <a:stretch/>
        </p:blipFill>
        <p:spPr>
          <a:xfrm>
            <a:off x="857160" y="1714680"/>
            <a:ext cx="2217960" cy="1928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lidan\Desktop\shu2.png"/>
          <p:cNvPicPr/>
          <p:nvPr/>
        </p:nvPicPr>
        <p:blipFill>
          <a:blip r:embed="rId2"/>
          <a:stretch/>
        </p:blipFill>
        <p:spPr>
          <a:xfrm>
            <a:off x="3603600" y="1643040"/>
            <a:ext cx="2343240" cy="2038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lidan\Desktop\shu3.png"/>
          <p:cNvPicPr/>
          <p:nvPr/>
        </p:nvPicPr>
        <p:blipFill>
          <a:blip r:embed="rId3"/>
          <a:stretch/>
        </p:blipFill>
        <p:spPr>
          <a:xfrm>
            <a:off x="6286680" y="1571760"/>
            <a:ext cx="2342880" cy="2038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1710720" y="192096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2231280" y="222408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47120" y="286704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699560" y="315288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146960" y="286704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119960" y="221472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294080" y="22147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4915080" y="2430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882960" y="30002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48160" y="285768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4865760" y="3049560"/>
            <a:ext cx="38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5136840" y="3170160"/>
            <a:ext cx="3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5438880" y="3071880"/>
            <a:ext cx="38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6897600" y="2152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7543800" y="2152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7559640" y="27241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4"/>
          <p:cNvSpPr/>
          <p:nvPr/>
        </p:nvSpPr>
        <p:spPr>
          <a:xfrm>
            <a:off x="6932520" y="272268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6680" y="5072040"/>
            <a:ext cx="30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pt.glzy8.com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宋体"/>
              </a:rPr>
              <a:t>海量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5EE-754A-4BF5-BD7C-7A51F89908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副标题 4" descr=""/>
          <p:cNvPicPr/>
          <p:nvPr/>
        </p:nvPicPr>
        <p:blipFill>
          <a:blip r:embed="rId1"/>
          <a:stretch/>
        </p:blipFill>
        <p:spPr>
          <a:xfrm>
            <a:off x="4363920" y="1657440"/>
            <a:ext cx="4572000" cy="112860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71280" y="409680"/>
            <a:ext cx="6480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海量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1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6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