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DB09-E9F4-4DD0-8E1D-FE67ABC7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B7A1-DC4C-4E90-BE4C-C58E6E8C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0072-5677-44C4-B8BB-CD92F163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9665-374A-4CB9-A48A-F0A1274C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5C11-F819-4602-9DE6-E2C54FDF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36E9-59A4-4B1B-9A79-E9B9CC10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6CDA-5265-4017-B38D-5D9F8EC1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3031-DA1E-4412-B9BA-46E62D2B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A21A-C48A-49BB-9CF0-BCF0FDFD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E641-7058-417A-8EBD-64B252BD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28B0-CA1F-41DF-98DD-8A6E1C5B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B1D-8D32-4FAE-826C-72DB753B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6BF9-623B-4782-B3D5-5045AD11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2134-EEF3-4D27-BA8D-A091C079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F9CC-B0C3-4B84-AA4B-20D470D3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C3CF-05D5-458A-AEA4-96013756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0B08-4C98-4715-B149-B4662A36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8F4-A221-411F-B5AD-E5BDAE0A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5AA5-75B4-47C3-A4C9-A1EFA585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658-8607-44FA-86FC-3740A036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1FD-4505-43AA-8105-F22143E2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B5C-E8B0-4A25-83C4-BDABEF63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8B8-0A0E-445C-B8A5-00EBE7DD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62CF-4B20-49A2-BF7C-39C09CEA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4A8D-C9B1-43F2-9551-81F535CA61B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96C3-B79F-4C2C-B8DE-F69DDF50DA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1A0A-8766-4747-BD73-5527BD8957F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4820-571C-46B5-8903-AD6C7A16855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3073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074"/>
          <p:cNvSpPr/>
          <p:nvPr/>
        </p:nvSpPr>
        <p:spPr>
          <a:xfrm>
            <a:off x="1838160" y="260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听诊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1FCC-D46D-409D-A256-1F97E719B32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5121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0:15:3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13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