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48B-36EB-4DAD-A300-48FEEF1B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AD8-6A5D-48AC-B38E-F5EF48EC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E5D-2A93-4CF4-BF29-FB228C4C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E6E-40CD-435E-AED2-D4931F18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3836-4AE4-4E6F-9EC1-9B0B6FF0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FAE2-7BDE-440E-A68A-78302A7B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4EDD-C561-4031-8584-5A0A644E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74BF-347C-4564-B47F-70B2D410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4DA1-01FB-4964-AA79-A36FC431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D5D9-77B8-4FCD-9B18-DE7DDABD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8729-C23C-459A-96DF-677CE49E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6C2-69BB-439E-94AD-C5BFE6C0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9E53-B60F-46E7-B3A1-C2F09E78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28FE-6917-4F82-8E02-2950843A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26A4-435A-4AB1-BC03-D35DA4C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AF2E-2954-4EE3-97C6-91F7A850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62F2-0935-42FB-A72F-175960FE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C06-B193-4957-AB66-A2C6AD1F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F27-3A42-4232-A23C-DDF6A162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7E8-5AD9-4A67-AFFE-D51BC2FE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307-9E78-4A20-B9F6-8FF81CA1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48A-26C9-4BDB-95DA-C9DFF47B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458-8AFE-43BF-A86C-64E3D69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5F4-FA59-4DAC-987E-0CD6911C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F135-5918-490E-B18D-319AA59650A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9DBD-154D-41C4-BC2A-9701528484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79E8-9A02-4F34-ADFC-C291456F709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874-633F-4E54-A1A6-C9958E8C79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3" descr="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074" descr="D:\Work\mb\2.png2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5" descr="7"/>
          <p:cNvPicPr/>
          <p:nvPr/>
        </p:nvPicPr>
        <p:blipFill>
          <a:blip r:embed="rId3"/>
          <a:stretch/>
        </p:blipFill>
        <p:spPr>
          <a:xfrm>
            <a:off x="4638600" y="2535120"/>
            <a:ext cx="2914560" cy="6667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76320" y="57754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3921120" y="550800"/>
            <a:ext cx="48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我的工作计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097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098" descr="5"/>
          <p:cNvPicPr/>
          <p:nvPr/>
        </p:nvPicPr>
        <p:blipFill>
          <a:blip r:embed="rId2"/>
          <a:stretch/>
        </p:blipFill>
        <p:spPr>
          <a:xfrm>
            <a:off x="0" y="-20520"/>
            <a:ext cx="12192120" cy="1081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099" descr="10"/>
          <p:cNvPicPr/>
          <p:nvPr/>
        </p:nvPicPr>
        <p:blipFill>
          <a:blip r:embed="rId3"/>
          <a:stretch/>
        </p:blipFill>
        <p:spPr>
          <a:xfrm>
            <a:off x="0" y="-14400"/>
            <a:ext cx="1730520" cy="4716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100" descr="4"/>
          <p:cNvPicPr/>
          <p:nvPr/>
        </p:nvPicPr>
        <p:blipFill>
          <a:blip r:embed="rId4"/>
          <a:stretch/>
        </p:blipFill>
        <p:spPr>
          <a:xfrm>
            <a:off x="0" y="1374840"/>
            <a:ext cx="121921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5121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122" descr="8"/>
          <p:cNvPicPr/>
          <p:nvPr/>
        </p:nvPicPr>
        <p:blipFill>
          <a:blip r:embed="rId2"/>
          <a:stretch/>
        </p:blipFill>
        <p:spPr>
          <a:xfrm>
            <a:off x="5052960" y="2587680"/>
            <a:ext cx="2086200" cy="4284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5123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6145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146" descr="5"/>
          <p:cNvPicPr/>
          <p:nvPr/>
        </p:nvPicPr>
        <p:blipFill>
          <a:blip r:embed="rId2"/>
          <a:stretch/>
        </p:blipFill>
        <p:spPr>
          <a:xfrm>
            <a:off x="0" y="-7920"/>
            <a:ext cx="12192120" cy="1081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147" descr="11"/>
          <p:cNvPicPr/>
          <p:nvPr/>
        </p:nvPicPr>
        <p:blipFill>
          <a:blip r:embed="rId3"/>
          <a:stretch/>
        </p:blipFill>
        <p:spPr>
          <a:xfrm>
            <a:off x="41400" y="15840"/>
            <a:ext cx="173340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148" descr="6"/>
          <p:cNvPicPr/>
          <p:nvPr/>
        </p:nvPicPr>
        <p:blipFill>
          <a:blip r:embed="rId4"/>
          <a:stretch/>
        </p:blipFill>
        <p:spPr>
          <a:xfrm>
            <a:off x="0" y="-190440"/>
            <a:ext cx="121921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AA4-FD92-4F9D-93B2-B82C343124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7169" descr="0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7170" descr="9"/>
          <p:cNvPicPr/>
          <p:nvPr/>
        </p:nvPicPr>
        <p:blipFill>
          <a:blip r:embed="rId2"/>
          <a:stretch/>
        </p:blipFill>
        <p:spPr>
          <a:xfrm>
            <a:off x="5052960" y="2579760"/>
            <a:ext cx="20862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4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