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CA0FE-1771-46C8-9BB2-130CDA53A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B0981-8968-4869-BE1F-8CC6D39BD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C1DAB-ECE4-491A-8D54-F75C14A64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2363D-0F3C-4ED7-A903-EA931A6BF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ADC4B-ECCB-405B-8A9A-DABA27F2F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9D2F8-96DC-47CC-BF11-82893D779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B7EED-BD55-41D1-8B65-344B4508E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D0C2D-A3E7-4C7C-878A-418F70A96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EA58C-FD6D-42EC-AD07-58C564B65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53388-E7F1-441A-98DA-EF31A19F6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2837D-8478-4C45-B757-96AEC7B7C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CFC88-D5C5-48B8-92B8-652AFBCA9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BCF4F-0071-4FE3-AC50-3E1DD6E92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32B5A-48A3-4DF5-8810-87E4646BC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75999-8B36-405B-91BD-D6942FF18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AC1CE-D799-4C3D-9A86-0808B8882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C77F6-3E53-4092-8BE7-971626CA0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B0B92-986D-42FE-82DD-C8BFDD094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ACA4A-C0EE-4E54-BDE7-FC38E65D6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27BA3-9063-43D9-946D-95A34BD62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838D0-AB23-4B3B-8139-96DA658CB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A3E5A-4D0C-49D5-B954-601BA2A17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983FD-D85D-465F-8220-EA708AA8F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C39FD-EDCA-48F8-A69C-948C2A4A3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C1BDB-78CA-4F96-925F-4F246D11DBCD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7697D-3C7F-4D19-97B5-021BA127D017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AD31E-A6B9-4DD2-A392-13ECD88D8CF7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hyperlink" Target="http://www.eeppt.com/moban/jiaoyu/" TargetMode="External"/><Relationship Id="rId22" Type="http://schemas.openxmlformats.org/officeDocument/2006/relationships/hyperlink" Target="http://www.eeppt.com/moban/keji/" TargetMode="External"/><Relationship Id="rId23" Type="http://schemas.openxmlformats.org/officeDocument/2006/relationships/hyperlink" Target="http://www.eeppt.com/moban/lunwen/" TargetMode="External"/><Relationship Id="rId24" Type="http://schemas.openxmlformats.org/officeDocument/2006/relationships/hyperlink" Target="http://www.eeppt.com/moban/tongyong/" TargetMode="External"/><Relationship Id="rId25" Type="http://schemas.openxmlformats.org/officeDocument/2006/relationships/hyperlink" Target="http://www.eeppt.com/moban/yiliao/" TargetMode="External"/><Relationship Id="rId26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矩形 3073"/>
          <p:cNvSpPr/>
          <p:nvPr/>
        </p:nvSpPr>
        <p:spPr>
          <a:xfrm>
            <a:off x="611280" y="90792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3074"/>
          <p:cNvSpPr/>
          <p:nvPr/>
        </p:nvSpPr>
        <p:spPr>
          <a:xfrm>
            <a:off x="1403280" y="2252520"/>
            <a:ext cx="6400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图片 3075" descr=""/>
          <p:cNvPicPr/>
          <p:nvPr/>
        </p:nvPicPr>
        <p:blipFill>
          <a:blip r:embed="rId1"/>
          <a:stretch/>
        </p:blipFill>
        <p:spPr>
          <a:xfrm>
            <a:off x="3708360" y="4508640"/>
            <a:ext cx="2594160" cy="2050920"/>
          </a:xfrm>
          <a:prstGeom prst="rect">
            <a:avLst/>
          </a:prstGeom>
          <a:ln w="0">
            <a:noFill/>
          </a:ln>
        </p:spPr>
      </p:pic>
      <p:sp>
        <p:nvSpPr>
          <p:cNvPr id="85" name="文本框 3076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文本框 3077"/>
          <p:cNvSpPr/>
          <p:nvPr/>
        </p:nvSpPr>
        <p:spPr>
          <a:xfrm>
            <a:off x="1841400" y="1197000"/>
            <a:ext cx="5524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小岛钓鱼卡通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微软雅黑"/>
              </a:rPr>
              <a:t>添加您的标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71640" y="1844640"/>
            <a:ext cx="7727760" cy="38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  <a:ea typeface="微软雅黑"/>
            </a:endParaRPr>
          </a:p>
        </p:txBody>
      </p:sp>
    </p:spTree>
  </p:cSld>
  <p:transition>
    <p:fade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文本框 5121"/>
          <p:cNvSpPr/>
          <p:nvPr/>
        </p:nvSpPr>
        <p:spPr>
          <a:xfrm>
            <a:off x="685800" y="3286080"/>
            <a:ext cx="53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1E185-9F57-4CEC-B76C-6D91F801C909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09120" y="5581440"/>
            <a:ext cx="313236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1-13T04:34:51Z</dcterms:modified>
  <cp:revision>42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46</vt:lpwstr>
  </property>
</Properties>
</file>