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90E-45EE-47DB-8981-FE05F8A0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353-9F08-4B86-9496-9518D269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345-6EA7-47F8-B219-580D7488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64C-0391-4610-8B53-3863315E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B4C2-26BC-4C08-9881-CDF682C1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EDC9-56F7-454F-B6B2-D50DA225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43F8-6775-490B-A198-21AD6156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3627-0E76-4C1C-94B9-2202979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0756-8023-4C51-887D-34C383D0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6098-A4F7-414B-85E4-5A41AE91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3A69-F56D-4907-81D2-5F339745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30A-4125-43EB-80F3-2E8A5F02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CBBF-3903-4E01-9162-3A2105EA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34F9-94BB-42BE-AE14-E1B8E9EC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3D73-AD1E-4A90-8399-AB91817B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B6F9-DC73-4055-99FC-C83B599B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C53A-54CE-4B64-95F0-0493FD2E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900D-F2C8-4CF3-9AA9-5A1D4458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D3C3-6C56-4468-8DB2-21D7EEC8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3CE1-DB85-4A4F-82D8-A23DEE30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C70C-03FD-4EA7-8CF2-94DD38D7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B8EE-3425-4C0D-847F-2C4BFC61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A74-F67D-4DB6-A10B-3583FEC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B4E4-B5C3-4182-9F53-4D66270C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C6C5-2BF0-469A-9C4A-E00D89D7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9563-B5B2-4130-AE8D-F2675C2F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2538F-97B4-4A6C-A914-0920C28F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1235-114B-475A-A65D-52C81FD9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EBBE7-E158-4130-B8D6-E70FF57E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5C471-0EF2-4B6B-880B-1F68677B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E8B-9325-471B-B083-E8EE619A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7BC-D513-4CD8-93EB-346AEFA4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CD2-8BEE-465E-B153-B45B2EE7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A27-3C35-4719-9D94-D0B7E013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0E4-0005-45B2-8BD5-43E9AB96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081-E672-43B5-951B-7AFAA9BB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E100-151D-4994-886A-32D9E6282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E44E-143A-4801-8AD3-35AE13AD38D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63C4-9A6D-4E81-9BDE-528F043B50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FA9C-E504-4E91-BFAB-1773F5EBF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1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90200" y="358092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100"/>
          <p:cNvSpPr/>
          <p:nvPr/>
        </p:nvSpPr>
        <p:spPr>
          <a:xfrm>
            <a:off x="2339640" y="954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熊猫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1281-EF50-44BC-B9E9-D0A39B6A52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5121" descr="D:\Data Files\My Documents\My Webs\soniacoleman\Tutorials\PowerPointTemplates\Templates20\SnowBear\SnowBear_button.jpg"/>
          <p:cNvPicPr/>
          <p:nvPr/>
        </p:nvPicPr>
        <p:blipFill>
          <a:blip r:embed="rId1"/>
          <a:stretch/>
        </p:blipFill>
        <p:spPr>
          <a:xfrm>
            <a:off x="6477120" y="5638680"/>
            <a:ext cx="2158920" cy="8892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5122"/>
          <p:cNvSpPr/>
          <p:nvPr/>
        </p:nvSpPr>
        <p:spPr>
          <a:xfrm>
            <a:off x="755640" y="98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20:49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4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