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458-AF6F-40F6-92AC-88354A37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3CC-95E3-4F6E-9040-99035599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BF1-0C79-43A6-B4AA-1C9DA5A7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AAD-A460-4C2F-A88A-B217EF77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25D1-9006-4DAA-AF58-603F5625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B347-0B4F-4B59-9000-EB30C9AF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F9E9-EB58-4C1D-A011-D55B91D0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DF40-DA95-4170-BD72-45851B96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AD55-E47E-47DB-95EE-5E71F602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7A05-0FD3-4AB3-AD1A-D358D5FC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A64B-04BA-47C1-802C-FCD61405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B15-41EE-45C3-96DC-F860C56D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2B97-5E4A-41A5-8545-E0230AD3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4A84-28EF-421D-8291-EDD83CA3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332D-628B-43AA-BEDC-62D21D0C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7816-5709-4B39-8C87-A1658397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7766-CFE0-43DB-AA87-0C9F9F8F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913-EE67-466E-8331-F92A85E0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1A1-DFB2-428C-B9C7-4BE8A040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BEA-B36D-4197-A92D-A726EB82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430-D8A5-4970-BD97-F0495B39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3F6-72AE-4ABF-AA34-D2E91D6B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1E4-4F1F-423A-BAC7-CFA3BE2C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527-63CC-48FA-A741-9575903C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10DA-4A5C-4A5A-BFDF-C8E2E861F0D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DCE2-5A40-4518-9BAC-2D294240390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E4C4-B32A-46F8-8DFD-9AADEAD097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3"/>
          <p:cNvSpPr/>
          <p:nvPr/>
        </p:nvSpPr>
        <p:spPr>
          <a:xfrm>
            <a:off x="3276720" y="555480"/>
            <a:ext cx="3294000" cy="1689120"/>
          </a:xfrm>
          <a:custGeom>
            <a:avLst/>
            <a:gdLst/>
            <a:ahLst/>
            <a:rect l="l" t="t" r="r" b="b"/>
            <a:pathLst>
              <a:path w="2045951" h="1049213">
                <a:moveTo>
                  <a:pt x="2038136" y="832573"/>
                </a:moveTo>
                <a:cubicBezTo>
                  <a:pt x="2038136" y="687988"/>
                  <a:pt x="2055721" y="693850"/>
                  <a:pt x="2038136" y="633281"/>
                </a:cubicBezTo>
                <a:cubicBezTo>
                  <a:pt x="2020551" y="572712"/>
                  <a:pt x="2008828" y="504326"/>
                  <a:pt x="1932628" y="469157"/>
                </a:cubicBezTo>
                <a:cubicBezTo>
                  <a:pt x="1856428" y="433988"/>
                  <a:pt x="1713798" y="486743"/>
                  <a:pt x="1580936" y="422266"/>
                </a:cubicBezTo>
                <a:cubicBezTo>
                  <a:pt x="1463705" y="357789"/>
                  <a:pt x="1578982" y="10004"/>
                  <a:pt x="1100290" y="235"/>
                </a:cubicBezTo>
                <a:cubicBezTo>
                  <a:pt x="621598" y="-9534"/>
                  <a:pt x="840428" y="287450"/>
                  <a:pt x="607921" y="363650"/>
                </a:cubicBezTo>
                <a:cubicBezTo>
                  <a:pt x="385182" y="394911"/>
                  <a:pt x="445752" y="336297"/>
                  <a:pt x="221059" y="387096"/>
                </a:cubicBezTo>
                <a:cubicBezTo>
                  <a:pt x="-3634" y="437895"/>
                  <a:pt x="-221820" y="1012263"/>
                  <a:pt x="455521" y="1020142"/>
                </a:cubicBezTo>
                <a:cubicBezTo>
                  <a:pt x="724362" y="1023269"/>
                  <a:pt x="1189294" y="1042493"/>
                  <a:pt x="1692069" y="1049213"/>
                </a:cubicBezTo>
              </a:path>
            </a:pathLst>
          </a:custGeom>
          <a:noFill/>
          <a:ln w="190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4"/>
          <p:cNvSpPr/>
          <p:nvPr/>
        </p:nvSpPr>
        <p:spPr>
          <a:xfrm>
            <a:off x="6257880" y="2022480"/>
            <a:ext cx="293760" cy="222120"/>
          </a:xfrm>
          <a:custGeom>
            <a:avLst/>
            <a:gdLst/>
            <a:ahLst/>
            <a:rect l="l" t="t" r="r" b="b"/>
            <a:pathLst>
              <a:path w="480646" h="363416">
                <a:moveTo>
                  <a:pt x="0" y="363416"/>
                </a:moveTo>
                <a:lnTo>
                  <a:pt x="480646" y="363416"/>
                </a:lnTo>
                <a:lnTo>
                  <a:pt x="480646" y="0"/>
                </a:lnTo>
              </a:path>
            </a:pathLst>
          </a:custGeom>
          <a:noFill/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角三角形 5"/>
          <p:cNvSpPr/>
          <p:nvPr/>
        </p:nvSpPr>
        <p:spPr>
          <a:xfrm rot="5400000">
            <a:off x="-356040" y="302760"/>
            <a:ext cx="2832120" cy="2190600"/>
          </a:xfrm>
          <a:prstGeom prst="rtTriangl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6404040" y="4619520"/>
            <a:ext cx="27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 By  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25440" y="2500200"/>
            <a:ext cx="871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云朵创意销售数据分析报告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78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FB91-C309-4118-B68A-28DD525BF4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任意多边形 3"/>
          <p:cNvSpPr/>
          <p:nvPr/>
        </p:nvSpPr>
        <p:spPr>
          <a:xfrm>
            <a:off x="22320" y="4370400"/>
            <a:ext cx="9121680" cy="722160"/>
          </a:xfrm>
          <a:custGeom>
            <a:avLst/>
            <a:gdLst/>
            <a:ahLst/>
            <a:rect l="l" t="t" r="r" b="b"/>
            <a:pathLst>
              <a:path w="5709138" h="721351">
                <a:moveTo>
                  <a:pt x="0" y="434337"/>
                </a:moveTo>
                <a:cubicBezTo>
                  <a:pt x="175846" y="358625"/>
                  <a:pt x="429847" y="24029"/>
                  <a:pt x="715108" y="70921"/>
                </a:cubicBezTo>
                <a:cubicBezTo>
                  <a:pt x="1000369" y="117813"/>
                  <a:pt x="1463431" y="660982"/>
                  <a:pt x="1711569" y="715690"/>
                </a:cubicBezTo>
                <a:cubicBezTo>
                  <a:pt x="1959707" y="770398"/>
                  <a:pt x="2014415" y="410890"/>
                  <a:pt x="2203938" y="399167"/>
                </a:cubicBezTo>
                <a:cubicBezTo>
                  <a:pt x="2393461" y="387444"/>
                  <a:pt x="2608385" y="711783"/>
                  <a:pt x="2848708" y="645352"/>
                </a:cubicBezTo>
                <a:cubicBezTo>
                  <a:pt x="3089031" y="578921"/>
                  <a:pt x="3386016" y="20121"/>
                  <a:pt x="3645877" y="583"/>
                </a:cubicBezTo>
                <a:cubicBezTo>
                  <a:pt x="3905738" y="-18955"/>
                  <a:pt x="4212492" y="457783"/>
                  <a:pt x="4407877" y="528121"/>
                </a:cubicBezTo>
                <a:cubicBezTo>
                  <a:pt x="4603262" y="598459"/>
                  <a:pt x="4681416" y="399168"/>
                  <a:pt x="4818185" y="422614"/>
                </a:cubicBezTo>
                <a:cubicBezTo>
                  <a:pt x="4954954" y="446060"/>
                  <a:pt x="5080000" y="674660"/>
                  <a:pt x="5228492" y="668798"/>
                </a:cubicBezTo>
                <a:cubicBezTo>
                  <a:pt x="5376984" y="662936"/>
                  <a:pt x="5543061" y="525190"/>
                  <a:pt x="5709138" y="387444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1116000" y="1450800"/>
            <a:ext cx="7920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</a:t>
            </a:r>
            <a:r>
              <a:rPr b="1" lang="en-US" sz="11500" spc="-1" strike="noStrike">
                <a:solidFill>
                  <a:srgbClr val="ff0000"/>
                </a:solidFill>
                <a:latin typeface="微软雅黑"/>
                <a:ea typeface="微软雅黑"/>
              </a:rPr>
              <a:t>END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0" y="0"/>
            <a:ext cx="9144000" cy="1347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4098"/>
          <p:cNvGrpSpPr/>
          <p:nvPr/>
        </p:nvGrpSpPr>
        <p:grpSpPr>
          <a:xfrm>
            <a:off x="34920" y="41400"/>
            <a:ext cx="8947080" cy="1247760"/>
            <a:chOff x="34920" y="41400"/>
            <a:chExt cx="8947080" cy="1247760"/>
          </a:xfrm>
        </p:grpSpPr>
        <p:sp>
          <p:nvSpPr>
            <p:cNvPr id="90" name="任意多边形 3"/>
            <p:cNvSpPr/>
            <p:nvPr/>
          </p:nvSpPr>
          <p:spPr>
            <a:xfrm>
              <a:off x="34920" y="41400"/>
              <a:ext cx="8947080" cy="1012680"/>
            </a:xfrm>
            <a:custGeom>
              <a:avLst/>
              <a:gdLst/>
              <a:ahLst/>
              <a:rect l="l" t="t" r="r" b="b"/>
              <a:pathLst>
                <a:path w="8563087" h="2147477">
                  <a:moveTo>
                    <a:pt x="680460" y="1264346"/>
                  </a:moveTo>
                  <a:cubicBezTo>
                    <a:pt x="653429" y="1069736"/>
                    <a:pt x="105302" y="1350190"/>
                    <a:pt x="2147" y="768799"/>
                  </a:cubicBezTo>
                  <a:cubicBezTo>
                    <a:pt x="-22466" y="560802"/>
                    <a:pt x="169996" y="144975"/>
                    <a:pt x="297157" y="41254"/>
                  </a:cubicBezTo>
                  <a:cubicBezTo>
                    <a:pt x="424318" y="-62467"/>
                    <a:pt x="661561" y="50736"/>
                    <a:pt x="765115" y="146474"/>
                  </a:cubicBezTo>
                  <a:cubicBezTo>
                    <a:pt x="868669" y="242212"/>
                    <a:pt x="1040425" y="610524"/>
                    <a:pt x="1154102" y="590792"/>
                  </a:cubicBezTo>
                  <a:cubicBezTo>
                    <a:pt x="1267779" y="571060"/>
                    <a:pt x="1185363" y="-46163"/>
                    <a:pt x="1447179" y="28084"/>
                  </a:cubicBezTo>
                  <a:cubicBezTo>
                    <a:pt x="1708995" y="102331"/>
                    <a:pt x="1533147" y="250824"/>
                    <a:pt x="1634748" y="391500"/>
                  </a:cubicBezTo>
                  <a:cubicBezTo>
                    <a:pt x="1736349" y="532176"/>
                    <a:pt x="1744164" y="563438"/>
                    <a:pt x="1834041" y="567346"/>
                  </a:cubicBezTo>
                  <a:cubicBezTo>
                    <a:pt x="1923918" y="571254"/>
                    <a:pt x="2011840" y="649408"/>
                    <a:pt x="2103671" y="579069"/>
                  </a:cubicBezTo>
                  <a:cubicBezTo>
                    <a:pt x="2195502" y="508730"/>
                    <a:pt x="2228719" y="258638"/>
                    <a:pt x="2385026" y="145315"/>
                  </a:cubicBezTo>
                  <a:cubicBezTo>
                    <a:pt x="2541333" y="31992"/>
                    <a:pt x="2549149" y="215654"/>
                    <a:pt x="2631210" y="250823"/>
                  </a:cubicBezTo>
                  <a:cubicBezTo>
                    <a:pt x="2740625" y="207838"/>
                    <a:pt x="2767980" y="71069"/>
                    <a:pt x="2959456" y="121869"/>
                  </a:cubicBezTo>
                  <a:cubicBezTo>
                    <a:pt x="3150932" y="172669"/>
                    <a:pt x="2846133" y="903408"/>
                    <a:pt x="2959456" y="860423"/>
                  </a:cubicBezTo>
                  <a:lnTo>
                    <a:pt x="3299425" y="731469"/>
                  </a:lnTo>
                  <a:cubicBezTo>
                    <a:pt x="3412748" y="688484"/>
                    <a:pt x="3477226" y="950300"/>
                    <a:pt x="3674564" y="860423"/>
                  </a:cubicBezTo>
                  <a:cubicBezTo>
                    <a:pt x="3944195" y="637684"/>
                    <a:pt x="4260718" y="262545"/>
                    <a:pt x="4483456" y="192207"/>
                  </a:cubicBezTo>
                  <a:cubicBezTo>
                    <a:pt x="4706194" y="121869"/>
                    <a:pt x="4401395" y="1008915"/>
                    <a:pt x="4612410" y="1001100"/>
                  </a:cubicBezTo>
                  <a:cubicBezTo>
                    <a:pt x="4823425" y="993285"/>
                    <a:pt x="4788256" y="774453"/>
                    <a:pt x="4964102" y="766638"/>
                  </a:cubicBezTo>
                  <a:cubicBezTo>
                    <a:pt x="5139948" y="758823"/>
                    <a:pt x="4940656" y="965931"/>
                    <a:pt x="5104779" y="1001100"/>
                  </a:cubicBezTo>
                  <a:lnTo>
                    <a:pt x="5597148" y="1106607"/>
                  </a:lnTo>
                  <a:cubicBezTo>
                    <a:pt x="5728056" y="1092930"/>
                    <a:pt x="5718286" y="770546"/>
                    <a:pt x="5890225" y="919038"/>
                  </a:cubicBezTo>
                  <a:cubicBezTo>
                    <a:pt x="6062164" y="1067530"/>
                    <a:pt x="5999640" y="1122238"/>
                    <a:pt x="6054348" y="1223838"/>
                  </a:cubicBezTo>
                  <a:cubicBezTo>
                    <a:pt x="6226287" y="1145684"/>
                    <a:pt x="6339609" y="1020639"/>
                    <a:pt x="6570164" y="989377"/>
                  </a:cubicBezTo>
                  <a:cubicBezTo>
                    <a:pt x="6800719" y="958115"/>
                    <a:pt x="6820256" y="1264869"/>
                    <a:pt x="6910133" y="1223838"/>
                  </a:cubicBezTo>
                  <a:cubicBezTo>
                    <a:pt x="6976564" y="1063623"/>
                    <a:pt x="6984378" y="786176"/>
                    <a:pt x="7109425" y="743192"/>
                  </a:cubicBezTo>
                  <a:cubicBezTo>
                    <a:pt x="7234472" y="700208"/>
                    <a:pt x="7254010" y="1174992"/>
                    <a:pt x="7496287" y="1305900"/>
                  </a:cubicBezTo>
                  <a:lnTo>
                    <a:pt x="8563087" y="2147477"/>
                  </a:lnTo>
                  <a:lnTo>
                    <a:pt x="2978647" y="2069607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4"/>
            <p:cNvSpPr/>
            <p:nvPr/>
          </p:nvSpPr>
          <p:spPr>
            <a:xfrm>
              <a:off x="379080" y="524880"/>
              <a:ext cx="41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 容 一 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4101"/>
          <p:cNvGrpSpPr/>
          <p:nvPr/>
        </p:nvGrpSpPr>
        <p:grpSpPr>
          <a:xfrm>
            <a:off x="4643280" y="2139840"/>
            <a:ext cx="3600720" cy="571320"/>
            <a:chOff x="4643280" y="2139840"/>
            <a:chExt cx="3600720" cy="571320"/>
          </a:xfrm>
        </p:grpSpPr>
        <p:sp>
          <p:nvSpPr>
            <p:cNvPr id="93" name="任意多边形 8"/>
            <p:cNvSpPr/>
            <p:nvPr/>
          </p:nvSpPr>
          <p:spPr>
            <a:xfrm>
              <a:off x="4643280" y="2139840"/>
              <a:ext cx="936000" cy="55044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723280" y="2690280"/>
              <a:ext cx="2520720" cy="360"/>
              <a:chOff x="5723280" y="2690280"/>
              <a:chExt cx="2520720" cy="360"/>
            </a:xfrm>
          </p:grpSpPr>
          <p:sp>
            <p:nvSpPr>
              <p:cNvPr id="95" name="直接连接符 9"/>
              <p:cNvSpPr/>
              <p:nvPr/>
            </p:nvSpPr>
            <p:spPr>
              <a:xfrm>
                <a:off x="5723280" y="2690280"/>
                <a:ext cx="2520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5723280" y="2690280"/>
                <a:ext cx="252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Box 12"/>
            <p:cNvSpPr/>
            <p:nvPr/>
          </p:nvSpPr>
          <p:spPr>
            <a:xfrm>
              <a:off x="4967280" y="225144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4105"/>
          <p:cNvGrpSpPr/>
          <p:nvPr/>
        </p:nvGrpSpPr>
        <p:grpSpPr>
          <a:xfrm>
            <a:off x="4643280" y="3087720"/>
            <a:ext cx="3600720" cy="571320"/>
            <a:chOff x="4643280" y="3087720"/>
            <a:chExt cx="3600720" cy="571320"/>
          </a:xfrm>
        </p:grpSpPr>
        <p:sp>
          <p:nvSpPr>
            <p:cNvPr id="99" name="任意多边形 14"/>
            <p:cNvSpPr/>
            <p:nvPr/>
          </p:nvSpPr>
          <p:spPr>
            <a:xfrm>
              <a:off x="4643280" y="3087720"/>
              <a:ext cx="936000" cy="55044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723280" y="3638160"/>
              <a:ext cx="2520720" cy="360"/>
              <a:chOff x="5723280" y="3638160"/>
              <a:chExt cx="2520720" cy="360"/>
            </a:xfrm>
          </p:grpSpPr>
          <p:sp>
            <p:nvSpPr>
              <p:cNvPr id="101" name="直接连接符 15"/>
              <p:cNvSpPr/>
              <p:nvPr/>
            </p:nvSpPr>
            <p:spPr>
              <a:xfrm>
                <a:off x="5723280" y="3638160"/>
                <a:ext cx="2520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5723280" y="3638160"/>
                <a:ext cx="252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Box 16"/>
            <p:cNvSpPr/>
            <p:nvPr/>
          </p:nvSpPr>
          <p:spPr>
            <a:xfrm>
              <a:off x="4967280" y="3199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4109"/>
          <p:cNvGrpSpPr/>
          <p:nvPr/>
        </p:nvGrpSpPr>
        <p:grpSpPr>
          <a:xfrm>
            <a:off x="4643280" y="4035600"/>
            <a:ext cx="3600720" cy="571320"/>
            <a:chOff x="4643280" y="4035600"/>
            <a:chExt cx="3600720" cy="571320"/>
          </a:xfrm>
        </p:grpSpPr>
        <p:sp>
          <p:nvSpPr>
            <p:cNvPr id="105" name="任意多边形 17"/>
            <p:cNvSpPr/>
            <p:nvPr/>
          </p:nvSpPr>
          <p:spPr>
            <a:xfrm>
              <a:off x="4643280" y="4035600"/>
              <a:ext cx="936000" cy="55008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723280" y="4585680"/>
              <a:ext cx="2520720" cy="360"/>
              <a:chOff x="5723280" y="4585680"/>
              <a:chExt cx="2520720" cy="360"/>
            </a:xfrm>
          </p:grpSpPr>
          <p:sp>
            <p:nvSpPr>
              <p:cNvPr id="107" name="直接连接符 18"/>
              <p:cNvSpPr/>
              <p:nvPr/>
            </p:nvSpPr>
            <p:spPr>
              <a:xfrm>
                <a:off x="5723280" y="4585680"/>
                <a:ext cx="2520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5723280" y="4585680"/>
                <a:ext cx="252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Box 19"/>
            <p:cNvSpPr/>
            <p:nvPr/>
          </p:nvSpPr>
          <p:spPr>
            <a:xfrm>
              <a:off x="4967280" y="414720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22"/>
          <p:cNvSpPr/>
          <p:nvPr/>
        </p:nvSpPr>
        <p:spPr>
          <a:xfrm>
            <a:off x="1398600" y="2048040"/>
            <a:ext cx="17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3"/>
          <p:cNvSpPr/>
          <p:nvPr/>
        </p:nvSpPr>
        <p:spPr>
          <a:xfrm>
            <a:off x="611280" y="2876400"/>
            <a:ext cx="33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一些总体介绍性的话语比如：本次会议主要内容是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（给人以全局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5121"/>
          <p:cNvGrpSpPr/>
          <p:nvPr/>
        </p:nvGrpSpPr>
        <p:grpSpPr>
          <a:xfrm>
            <a:off x="108000" y="195120"/>
            <a:ext cx="1455840" cy="877320"/>
            <a:chOff x="108000" y="195120"/>
            <a:chExt cx="1455840" cy="877320"/>
          </a:xfrm>
        </p:grpSpPr>
        <p:sp>
          <p:nvSpPr>
            <p:cNvPr id="113" name="任意多边形 4"/>
            <p:cNvSpPr/>
            <p:nvPr/>
          </p:nvSpPr>
          <p:spPr>
            <a:xfrm>
              <a:off x="108000" y="195120"/>
              <a:ext cx="1455840" cy="85788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6"/>
            <p:cNvSpPr/>
            <p:nvPr/>
          </p:nvSpPr>
          <p:spPr>
            <a:xfrm>
              <a:off x="612000" y="369000"/>
              <a:ext cx="50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9"/>
          <p:cNvSpPr/>
          <p:nvPr/>
        </p:nvSpPr>
        <p:spPr>
          <a:xfrm>
            <a:off x="395280" y="1492200"/>
            <a:ext cx="86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5125"/>
          <p:cNvGrpSpPr/>
          <p:nvPr/>
        </p:nvGrpSpPr>
        <p:grpSpPr>
          <a:xfrm>
            <a:off x="2724120" y="194760"/>
            <a:ext cx="6445800" cy="4177440"/>
            <a:chOff x="2724120" y="194760"/>
            <a:chExt cx="6445800" cy="4177440"/>
          </a:xfrm>
        </p:grpSpPr>
        <p:cxnSp>
          <p:nvCxnSpPr>
            <p:cNvPr id="117" name="直接箭头连接符 11"/>
            <p:cNvCxnSpPr/>
            <p:nvPr/>
          </p:nvCxnSpPr>
          <p:spPr>
            <a:xfrm flipV="1">
              <a:off x="2782440" y="194760"/>
              <a:ext cx="1080" cy="4105440"/>
            </a:xfrm>
            <a:prstGeom prst="straightConnector1">
              <a:avLst/>
            </a:prstGeom>
            <a:ln w="1015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8" name="直接箭头连接符 14"/>
            <p:cNvCxnSpPr/>
            <p:nvPr/>
          </p:nvCxnSpPr>
          <p:spPr>
            <a:xfrm>
              <a:off x="2724120" y="4319280"/>
              <a:ext cx="6446160" cy="53280"/>
            </a:xfrm>
            <a:prstGeom prst="straightConnector1">
              <a:avLst/>
            </a:prstGeom>
            <a:ln w="10152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9" name="云形 20"/>
          <p:cNvSpPr/>
          <p:nvPr/>
        </p:nvSpPr>
        <p:spPr>
          <a:xfrm>
            <a:off x="3203640" y="402264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云形 21"/>
          <p:cNvSpPr/>
          <p:nvPr/>
        </p:nvSpPr>
        <p:spPr>
          <a:xfrm>
            <a:off x="3203640" y="3846600"/>
            <a:ext cx="79200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云形 22"/>
          <p:cNvSpPr/>
          <p:nvPr/>
        </p:nvSpPr>
        <p:spPr>
          <a:xfrm>
            <a:off x="3203640" y="367020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云形 23"/>
          <p:cNvSpPr/>
          <p:nvPr/>
        </p:nvSpPr>
        <p:spPr>
          <a:xfrm>
            <a:off x="3203640" y="3494160"/>
            <a:ext cx="79200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云形 24"/>
          <p:cNvSpPr/>
          <p:nvPr/>
        </p:nvSpPr>
        <p:spPr>
          <a:xfrm>
            <a:off x="3203640" y="3317760"/>
            <a:ext cx="79200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云形 25"/>
          <p:cNvSpPr/>
          <p:nvPr/>
        </p:nvSpPr>
        <p:spPr>
          <a:xfrm>
            <a:off x="3203640" y="313992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云形 26"/>
          <p:cNvSpPr/>
          <p:nvPr/>
        </p:nvSpPr>
        <p:spPr>
          <a:xfrm>
            <a:off x="3203640" y="296388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云形 27"/>
          <p:cNvSpPr/>
          <p:nvPr/>
        </p:nvSpPr>
        <p:spPr>
          <a:xfrm>
            <a:off x="3203640" y="278748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云形 28"/>
          <p:cNvSpPr/>
          <p:nvPr/>
        </p:nvSpPr>
        <p:spPr>
          <a:xfrm>
            <a:off x="4572000" y="4044960"/>
            <a:ext cx="79200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云形 29"/>
          <p:cNvSpPr/>
          <p:nvPr/>
        </p:nvSpPr>
        <p:spPr>
          <a:xfrm>
            <a:off x="4572000" y="386712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云形 30"/>
          <p:cNvSpPr/>
          <p:nvPr/>
        </p:nvSpPr>
        <p:spPr>
          <a:xfrm>
            <a:off x="4572000" y="3691080"/>
            <a:ext cx="79200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云形 31"/>
          <p:cNvSpPr/>
          <p:nvPr/>
        </p:nvSpPr>
        <p:spPr>
          <a:xfrm>
            <a:off x="4572000" y="351468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云形 32"/>
          <p:cNvSpPr/>
          <p:nvPr/>
        </p:nvSpPr>
        <p:spPr>
          <a:xfrm>
            <a:off x="4572000" y="3338640"/>
            <a:ext cx="79200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云形 33"/>
          <p:cNvSpPr/>
          <p:nvPr/>
        </p:nvSpPr>
        <p:spPr>
          <a:xfrm>
            <a:off x="4572000" y="3162240"/>
            <a:ext cx="79200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云形 34"/>
          <p:cNvSpPr/>
          <p:nvPr/>
        </p:nvSpPr>
        <p:spPr>
          <a:xfrm>
            <a:off x="4572000" y="298440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云形 35"/>
          <p:cNvSpPr/>
          <p:nvPr/>
        </p:nvSpPr>
        <p:spPr>
          <a:xfrm>
            <a:off x="4572000" y="2808360"/>
            <a:ext cx="79200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云形 36"/>
          <p:cNvSpPr/>
          <p:nvPr/>
        </p:nvSpPr>
        <p:spPr>
          <a:xfrm>
            <a:off x="4572000" y="2630520"/>
            <a:ext cx="79200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云形 37"/>
          <p:cNvSpPr/>
          <p:nvPr/>
        </p:nvSpPr>
        <p:spPr>
          <a:xfrm>
            <a:off x="4572000" y="2454120"/>
            <a:ext cx="792000" cy="28764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云形 38"/>
          <p:cNvSpPr/>
          <p:nvPr/>
        </p:nvSpPr>
        <p:spPr>
          <a:xfrm>
            <a:off x="4572000" y="2276640"/>
            <a:ext cx="79200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云形 39"/>
          <p:cNvSpPr/>
          <p:nvPr/>
        </p:nvSpPr>
        <p:spPr>
          <a:xfrm>
            <a:off x="4572000" y="210024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云形 40"/>
          <p:cNvSpPr/>
          <p:nvPr/>
        </p:nvSpPr>
        <p:spPr>
          <a:xfrm>
            <a:off x="4572000" y="1924200"/>
            <a:ext cx="79200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云形 41"/>
          <p:cNvSpPr/>
          <p:nvPr/>
        </p:nvSpPr>
        <p:spPr>
          <a:xfrm>
            <a:off x="4572000" y="1747800"/>
            <a:ext cx="79200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云形 42"/>
          <p:cNvSpPr/>
          <p:nvPr/>
        </p:nvSpPr>
        <p:spPr>
          <a:xfrm>
            <a:off x="4572000" y="1571760"/>
            <a:ext cx="79200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云形 43"/>
          <p:cNvSpPr/>
          <p:nvPr/>
        </p:nvSpPr>
        <p:spPr>
          <a:xfrm>
            <a:off x="4572000" y="1393920"/>
            <a:ext cx="79200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云形 44"/>
          <p:cNvSpPr/>
          <p:nvPr/>
        </p:nvSpPr>
        <p:spPr>
          <a:xfrm>
            <a:off x="5940360" y="4043520"/>
            <a:ext cx="79236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云形 45"/>
          <p:cNvSpPr/>
          <p:nvPr/>
        </p:nvSpPr>
        <p:spPr>
          <a:xfrm>
            <a:off x="5940360" y="3867120"/>
            <a:ext cx="79236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云形 46"/>
          <p:cNvSpPr/>
          <p:nvPr/>
        </p:nvSpPr>
        <p:spPr>
          <a:xfrm>
            <a:off x="5940360" y="3691080"/>
            <a:ext cx="7923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云形 47"/>
          <p:cNvSpPr/>
          <p:nvPr/>
        </p:nvSpPr>
        <p:spPr>
          <a:xfrm>
            <a:off x="5940360" y="3514680"/>
            <a:ext cx="7923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云形 48"/>
          <p:cNvSpPr/>
          <p:nvPr/>
        </p:nvSpPr>
        <p:spPr>
          <a:xfrm>
            <a:off x="5940360" y="3336840"/>
            <a:ext cx="79236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云形 49"/>
          <p:cNvSpPr/>
          <p:nvPr/>
        </p:nvSpPr>
        <p:spPr>
          <a:xfrm>
            <a:off x="5940360" y="3160800"/>
            <a:ext cx="79236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云形 50"/>
          <p:cNvSpPr/>
          <p:nvPr/>
        </p:nvSpPr>
        <p:spPr>
          <a:xfrm>
            <a:off x="5940360" y="2984400"/>
            <a:ext cx="79236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云形 51"/>
          <p:cNvSpPr/>
          <p:nvPr/>
        </p:nvSpPr>
        <p:spPr>
          <a:xfrm>
            <a:off x="5940360" y="2808360"/>
            <a:ext cx="7923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云形 60"/>
          <p:cNvSpPr/>
          <p:nvPr/>
        </p:nvSpPr>
        <p:spPr>
          <a:xfrm>
            <a:off x="5940360" y="2630520"/>
            <a:ext cx="7923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云形 61"/>
          <p:cNvSpPr/>
          <p:nvPr/>
        </p:nvSpPr>
        <p:spPr>
          <a:xfrm>
            <a:off x="5940360" y="2454120"/>
            <a:ext cx="792360" cy="28764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云形 62"/>
          <p:cNvSpPr/>
          <p:nvPr/>
        </p:nvSpPr>
        <p:spPr>
          <a:xfrm>
            <a:off x="5940360" y="2276640"/>
            <a:ext cx="79236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云形 63"/>
          <p:cNvSpPr/>
          <p:nvPr/>
        </p:nvSpPr>
        <p:spPr>
          <a:xfrm>
            <a:off x="5940360" y="2100240"/>
            <a:ext cx="7923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云形 64"/>
          <p:cNvSpPr/>
          <p:nvPr/>
        </p:nvSpPr>
        <p:spPr>
          <a:xfrm>
            <a:off x="5940360" y="1924200"/>
            <a:ext cx="7923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云形 97"/>
          <p:cNvSpPr/>
          <p:nvPr/>
        </p:nvSpPr>
        <p:spPr>
          <a:xfrm>
            <a:off x="7308720" y="4043520"/>
            <a:ext cx="79056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云形 98"/>
          <p:cNvSpPr/>
          <p:nvPr/>
        </p:nvSpPr>
        <p:spPr>
          <a:xfrm>
            <a:off x="7308720" y="3867120"/>
            <a:ext cx="79056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云形 99"/>
          <p:cNvSpPr/>
          <p:nvPr/>
        </p:nvSpPr>
        <p:spPr>
          <a:xfrm>
            <a:off x="7308720" y="3691080"/>
            <a:ext cx="7905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云形 100"/>
          <p:cNvSpPr/>
          <p:nvPr/>
        </p:nvSpPr>
        <p:spPr>
          <a:xfrm>
            <a:off x="7308720" y="3514680"/>
            <a:ext cx="7905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云形 101"/>
          <p:cNvSpPr/>
          <p:nvPr/>
        </p:nvSpPr>
        <p:spPr>
          <a:xfrm>
            <a:off x="7308720" y="3336840"/>
            <a:ext cx="79056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云形 102"/>
          <p:cNvSpPr/>
          <p:nvPr/>
        </p:nvSpPr>
        <p:spPr>
          <a:xfrm>
            <a:off x="7308720" y="3160800"/>
            <a:ext cx="79056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云形 103"/>
          <p:cNvSpPr/>
          <p:nvPr/>
        </p:nvSpPr>
        <p:spPr>
          <a:xfrm>
            <a:off x="7308720" y="2984400"/>
            <a:ext cx="79056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云形 104"/>
          <p:cNvSpPr/>
          <p:nvPr/>
        </p:nvSpPr>
        <p:spPr>
          <a:xfrm>
            <a:off x="7308720" y="2808360"/>
            <a:ext cx="7905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云形 105"/>
          <p:cNvSpPr/>
          <p:nvPr/>
        </p:nvSpPr>
        <p:spPr>
          <a:xfrm>
            <a:off x="7308720" y="2630520"/>
            <a:ext cx="7905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云形 106"/>
          <p:cNvSpPr/>
          <p:nvPr/>
        </p:nvSpPr>
        <p:spPr>
          <a:xfrm>
            <a:off x="7308720" y="2454120"/>
            <a:ext cx="790560" cy="28764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云形 107"/>
          <p:cNvSpPr/>
          <p:nvPr/>
        </p:nvSpPr>
        <p:spPr>
          <a:xfrm>
            <a:off x="7308720" y="2276640"/>
            <a:ext cx="79056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云形 108"/>
          <p:cNvSpPr/>
          <p:nvPr/>
        </p:nvSpPr>
        <p:spPr>
          <a:xfrm>
            <a:off x="7308720" y="2100240"/>
            <a:ext cx="7905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云形 109"/>
          <p:cNvSpPr/>
          <p:nvPr/>
        </p:nvSpPr>
        <p:spPr>
          <a:xfrm>
            <a:off x="7308720" y="1924200"/>
            <a:ext cx="7905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0"/>
          <p:cNvSpPr/>
          <p:nvPr/>
        </p:nvSpPr>
        <p:spPr>
          <a:xfrm>
            <a:off x="3203640" y="45259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1"/>
          <p:cNvSpPr/>
          <p:nvPr/>
        </p:nvSpPr>
        <p:spPr>
          <a:xfrm>
            <a:off x="4572000" y="45259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2"/>
          <p:cNvSpPr/>
          <p:nvPr/>
        </p:nvSpPr>
        <p:spPr>
          <a:xfrm>
            <a:off x="5940360" y="45259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3"/>
          <p:cNvSpPr/>
          <p:nvPr/>
        </p:nvSpPr>
        <p:spPr>
          <a:xfrm>
            <a:off x="7308720" y="45259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6145"/>
          <p:cNvGrpSpPr/>
          <p:nvPr/>
        </p:nvGrpSpPr>
        <p:grpSpPr>
          <a:xfrm>
            <a:off x="2302920" y="474480"/>
            <a:ext cx="4644720" cy="3896640"/>
            <a:chOff x="2302920" y="474480"/>
            <a:chExt cx="4644720" cy="3896640"/>
          </a:xfrm>
        </p:grpSpPr>
        <p:sp>
          <p:nvSpPr>
            <p:cNvPr id="174" name="任意多边形 3"/>
            <p:cNvSpPr/>
            <p:nvPr/>
          </p:nvSpPr>
          <p:spPr>
            <a:xfrm rot="19615800">
              <a:off x="2651760" y="1835640"/>
              <a:ext cx="2491920" cy="2019240"/>
            </a:xfrm>
            <a:custGeom>
              <a:avLst/>
              <a:gdLst/>
              <a:ahLst/>
              <a:rect l="l" t="t" r="r" b="b"/>
              <a:pathLst>
                <a:path w="1608039" h="1225835">
                  <a:moveTo>
                    <a:pt x="283086" y="1223199"/>
                  </a:moveTo>
                  <a:cubicBezTo>
                    <a:pt x="75978" y="1174353"/>
                    <a:pt x="-13899" y="1000461"/>
                    <a:pt x="1732" y="883230"/>
                  </a:cubicBezTo>
                  <a:cubicBezTo>
                    <a:pt x="17363" y="765999"/>
                    <a:pt x="212747" y="666354"/>
                    <a:pt x="376870" y="519815"/>
                  </a:cubicBezTo>
                  <a:cubicBezTo>
                    <a:pt x="681670" y="203292"/>
                    <a:pt x="542948" y="33307"/>
                    <a:pt x="986470" y="3999"/>
                  </a:cubicBezTo>
                  <a:cubicBezTo>
                    <a:pt x="1429992" y="-25309"/>
                    <a:pt x="1512645" y="110687"/>
                    <a:pt x="1490563" y="273630"/>
                  </a:cubicBezTo>
                  <a:cubicBezTo>
                    <a:pt x="1468481" y="436573"/>
                    <a:pt x="1342071" y="449476"/>
                    <a:pt x="1338163" y="590153"/>
                  </a:cubicBezTo>
                  <a:cubicBezTo>
                    <a:pt x="1334255" y="730830"/>
                    <a:pt x="1617562" y="765560"/>
                    <a:pt x="1607793" y="871507"/>
                  </a:cubicBezTo>
                  <a:cubicBezTo>
                    <a:pt x="1598024" y="977454"/>
                    <a:pt x="1605839" y="1214112"/>
                    <a:pt x="1279547" y="1225835"/>
                  </a:cubicBezTo>
                  <a:lnTo>
                    <a:pt x="283086" y="1223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4"/>
            <p:cNvSpPr/>
            <p:nvPr/>
          </p:nvSpPr>
          <p:spPr>
            <a:xfrm rot="19615800">
              <a:off x="4736520" y="823320"/>
              <a:ext cx="1842480" cy="1897200"/>
            </a:xfrm>
            <a:custGeom>
              <a:avLst/>
              <a:gdLst/>
              <a:ahLst/>
              <a:rect l="l" t="t" r="r" b="b"/>
              <a:pathLst>
                <a:path w="1170650" h="1075392">
                  <a:moveTo>
                    <a:pt x="309295" y="1044281"/>
                  </a:moveTo>
                  <a:cubicBezTo>
                    <a:pt x="200560" y="998191"/>
                    <a:pt x="395632" y="903069"/>
                    <a:pt x="345824" y="793909"/>
                  </a:cubicBezTo>
                  <a:cubicBezTo>
                    <a:pt x="296017" y="684749"/>
                    <a:pt x="-65525" y="561577"/>
                    <a:pt x="10450" y="389321"/>
                  </a:cubicBezTo>
                  <a:cubicBezTo>
                    <a:pt x="86425" y="217065"/>
                    <a:pt x="307148" y="-136151"/>
                    <a:pt x="603732" y="55355"/>
                  </a:cubicBezTo>
                  <a:cubicBezTo>
                    <a:pt x="900316" y="246861"/>
                    <a:pt x="791301" y="350386"/>
                    <a:pt x="885086" y="465663"/>
                  </a:cubicBezTo>
                  <a:cubicBezTo>
                    <a:pt x="978871" y="559448"/>
                    <a:pt x="1147582" y="646219"/>
                    <a:pt x="1166440" y="747017"/>
                  </a:cubicBezTo>
                  <a:cubicBezTo>
                    <a:pt x="1185298" y="847815"/>
                    <a:pt x="1142821" y="1025511"/>
                    <a:pt x="998236" y="1070449"/>
                  </a:cubicBezTo>
                  <a:cubicBezTo>
                    <a:pt x="772044" y="1072089"/>
                    <a:pt x="418030" y="1090371"/>
                    <a:pt x="309295" y="1044281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Box 7"/>
          <p:cNvSpPr/>
          <p:nvPr/>
        </p:nvSpPr>
        <p:spPr>
          <a:xfrm>
            <a:off x="4959360" y="1600200"/>
            <a:ext cx="17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3664080" y="1892160"/>
            <a:ext cx="6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539640" y="339840"/>
            <a:ext cx="208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比型图表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XXXXXX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6804000" y="2355840"/>
            <a:ext cx="208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比型图表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7169"/>
          <p:cNvGrpSpPr/>
          <p:nvPr/>
        </p:nvGrpSpPr>
        <p:grpSpPr>
          <a:xfrm>
            <a:off x="108000" y="195120"/>
            <a:ext cx="1455840" cy="877320"/>
            <a:chOff x="108000" y="195120"/>
            <a:chExt cx="1455840" cy="877320"/>
          </a:xfrm>
        </p:grpSpPr>
        <p:sp>
          <p:nvSpPr>
            <p:cNvPr id="181" name="任意多边形 8"/>
            <p:cNvSpPr/>
            <p:nvPr/>
          </p:nvSpPr>
          <p:spPr>
            <a:xfrm>
              <a:off x="108000" y="195120"/>
              <a:ext cx="1455840" cy="85788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9"/>
            <p:cNvSpPr/>
            <p:nvPr/>
          </p:nvSpPr>
          <p:spPr>
            <a:xfrm>
              <a:off x="612000" y="369000"/>
              <a:ext cx="50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10"/>
          <p:cNvSpPr/>
          <p:nvPr/>
        </p:nvSpPr>
        <p:spPr>
          <a:xfrm>
            <a:off x="395280" y="1492200"/>
            <a:ext cx="86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11"/>
          <p:cNvSpPr/>
          <p:nvPr/>
        </p:nvSpPr>
        <p:spPr>
          <a:xfrm>
            <a:off x="3060720" y="298440"/>
            <a:ext cx="2430360" cy="2346480"/>
          </a:xfrm>
          <a:custGeom>
            <a:avLst/>
            <a:gdLst/>
            <a:ahLst/>
            <a:rect l="l" t="t" r="r" b="b"/>
            <a:pathLst>
              <a:path w="3650252" h="3521676">
                <a:moveTo>
                  <a:pt x="832912" y="2187146"/>
                </a:moveTo>
                <a:cubicBezTo>
                  <a:pt x="664036" y="2174789"/>
                  <a:pt x="624907" y="2187146"/>
                  <a:pt x="326285" y="2150076"/>
                </a:cubicBezTo>
                <a:cubicBezTo>
                  <a:pt x="27663" y="2113006"/>
                  <a:pt x="-17645" y="1779373"/>
                  <a:pt x="5009" y="1594022"/>
                </a:cubicBezTo>
                <a:cubicBezTo>
                  <a:pt x="194479" y="1087396"/>
                  <a:pt x="198598" y="1223319"/>
                  <a:pt x="462209" y="1037968"/>
                </a:cubicBezTo>
                <a:cubicBezTo>
                  <a:pt x="544587" y="877330"/>
                  <a:pt x="528111" y="729048"/>
                  <a:pt x="709344" y="556054"/>
                </a:cubicBezTo>
                <a:cubicBezTo>
                  <a:pt x="841149" y="432486"/>
                  <a:pt x="1071809" y="531340"/>
                  <a:pt x="1141831" y="556054"/>
                </a:cubicBezTo>
                <a:cubicBezTo>
                  <a:pt x="1417798" y="234779"/>
                  <a:pt x="1483701" y="0"/>
                  <a:pt x="2006804" y="0"/>
                </a:cubicBezTo>
                <a:cubicBezTo>
                  <a:pt x="2406339" y="156519"/>
                  <a:pt x="2534026" y="300681"/>
                  <a:pt x="2686425" y="617838"/>
                </a:cubicBezTo>
                <a:cubicBezTo>
                  <a:pt x="2789398" y="659027"/>
                  <a:pt x="2805873" y="613720"/>
                  <a:pt x="2945917" y="716693"/>
                </a:cubicBezTo>
                <a:cubicBezTo>
                  <a:pt x="3028296" y="840260"/>
                  <a:pt x="3011820" y="914400"/>
                  <a:pt x="3020058" y="1000897"/>
                </a:cubicBezTo>
                <a:cubicBezTo>
                  <a:pt x="3316620" y="1149178"/>
                  <a:pt x="3613181" y="1075038"/>
                  <a:pt x="3650252" y="1631092"/>
                </a:cubicBezTo>
                <a:cubicBezTo>
                  <a:pt x="3571992" y="2162432"/>
                  <a:pt x="3469020" y="2199503"/>
                  <a:pt x="3193052" y="2187146"/>
                </a:cubicBezTo>
                <a:lnTo>
                  <a:pt x="1265398" y="2137719"/>
                </a:lnTo>
                <a:cubicBezTo>
                  <a:pt x="841150" y="2253049"/>
                  <a:pt x="661977" y="2475470"/>
                  <a:pt x="647561" y="2879124"/>
                </a:cubicBezTo>
                <a:cubicBezTo>
                  <a:pt x="633145" y="3282778"/>
                  <a:pt x="948242" y="3381632"/>
                  <a:pt x="1178901" y="3521676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4211640" y="215280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16"/>
          <p:cNvSpPr/>
          <p:nvPr/>
        </p:nvSpPr>
        <p:spPr>
          <a:xfrm flipV="1">
            <a:off x="3060720" y="2601360"/>
            <a:ext cx="2430360" cy="2346120"/>
          </a:xfrm>
          <a:custGeom>
            <a:avLst/>
            <a:gdLst/>
            <a:ahLst/>
            <a:rect l="l" t="t" r="r" b="b"/>
            <a:pathLst>
              <a:path w="3650252" h="3521676">
                <a:moveTo>
                  <a:pt x="832912" y="2187146"/>
                </a:moveTo>
                <a:cubicBezTo>
                  <a:pt x="664036" y="2174789"/>
                  <a:pt x="624907" y="2187146"/>
                  <a:pt x="326285" y="2150076"/>
                </a:cubicBezTo>
                <a:cubicBezTo>
                  <a:pt x="27663" y="2113006"/>
                  <a:pt x="-17645" y="1779373"/>
                  <a:pt x="5009" y="1594022"/>
                </a:cubicBezTo>
                <a:cubicBezTo>
                  <a:pt x="194479" y="1087396"/>
                  <a:pt x="198598" y="1223319"/>
                  <a:pt x="462209" y="1037968"/>
                </a:cubicBezTo>
                <a:cubicBezTo>
                  <a:pt x="544587" y="877330"/>
                  <a:pt x="528111" y="729048"/>
                  <a:pt x="709344" y="556054"/>
                </a:cubicBezTo>
                <a:cubicBezTo>
                  <a:pt x="841149" y="432486"/>
                  <a:pt x="1071809" y="531340"/>
                  <a:pt x="1141831" y="556054"/>
                </a:cubicBezTo>
                <a:cubicBezTo>
                  <a:pt x="1417798" y="234779"/>
                  <a:pt x="1483701" y="0"/>
                  <a:pt x="2006804" y="0"/>
                </a:cubicBezTo>
                <a:cubicBezTo>
                  <a:pt x="2406339" y="156519"/>
                  <a:pt x="2534026" y="300681"/>
                  <a:pt x="2686425" y="617838"/>
                </a:cubicBezTo>
                <a:cubicBezTo>
                  <a:pt x="2789398" y="659027"/>
                  <a:pt x="2805873" y="613720"/>
                  <a:pt x="2945917" y="716693"/>
                </a:cubicBezTo>
                <a:cubicBezTo>
                  <a:pt x="3028296" y="840260"/>
                  <a:pt x="3011820" y="914400"/>
                  <a:pt x="3020058" y="1000897"/>
                </a:cubicBezTo>
                <a:cubicBezTo>
                  <a:pt x="3316620" y="1149178"/>
                  <a:pt x="3613181" y="1075038"/>
                  <a:pt x="3650252" y="1631092"/>
                </a:cubicBezTo>
                <a:cubicBezTo>
                  <a:pt x="3571992" y="2162432"/>
                  <a:pt x="3469020" y="2199503"/>
                  <a:pt x="3193052" y="2187146"/>
                </a:cubicBezTo>
                <a:lnTo>
                  <a:pt x="1265398" y="2137719"/>
                </a:lnTo>
                <a:cubicBezTo>
                  <a:pt x="841150" y="2253049"/>
                  <a:pt x="661977" y="2475470"/>
                  <a:pt x="647561" y="2879124"/>
                </a:cubicBezTo>
                <a:cubicBezTo>
                  <a:pt x="633145" y="3282778"/>
                  <a:pt x="948242" y="3381632"/>
                  <a:pt x="1178901" y="3521676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17"/>
          <p:cNvSpPr/>
          <p:nvPr/>
        </p:nvSpPr>
        <p:spPr>
          <a:xfrm flipH="1" flipV="1">
            <a:off x="5707080" y="2601360"/>
            <a:ext cx="2432160" cy="2346120"/>
          </a:xfrm>
          <a:custGeom>
            <a:avLst/>
            <a:gdLst/>
            <a:ahLst/>
            <a:rect l="l" t="t" r="r" b="b"/>
            <a:pathLst>
              <a:path w="3650252" h="3521676">
                <a:moveTo>
                  <a:pt x="832912" y="2187146"/>
                </a:moveTo>
                <a:cubicBezTo>
                  <a:pt x="664036" y="2174789"/>
                  <a:pt x="624907" y="2187146"/>
                  <a:pt x="326285" y="2150076"/>
                </a:cubicBezTo>
                <a:cubicBezTo>
                  <a:pt x="27663" y="2113006"/>
                  <a:pt x="-17645" y="1779373"/>
                  <a:pt x="5009" y="1594022"/>
                </a:cubicBezTo>
                <a:cubicBezTo>
                  <a:pt x="194479" y="1087396"/>
                  <a:pt x="198598" y="1223319"/>
                  <a:pt x="462209" y="1037968"/>
                </a:cubicBezTo>
                <a:cubicBezTo>
                  <a:pt x="544587" y="877330"/>
                  <a:pt x="528111" y="729048"/>
                  <a:pt x="709344" y="556054"/>
                </a:cubicBezTo>
                <a:cubicBezTo>
                  <a:pt x="841149" y="432486"/>
                  <a:pt x="1071809" y="531340"/>
                  <a:pt x="1141831" y="556054"/>
                </a:cubicBezTo>
                <a:cubicBezTo>
                  <a:pt x="1417798" y="234779"/>
                  <a:pt x="1483701" y="0"/>
                  <a:pt x="2006804" y="0"/>
                </a:cubicBezTo>
                <a:cubicBezTo>
                  <a:pt x="2406339" y="156519"/>
                  <a:pt x="2534026" y="300681"/>
                  <a:pt x="2686425" y="617838"/>
                </a:cubicBezTo>
                <a:cubicBezTo>
                  <a:pt x="2789398" y="659027"/>
                  <a:pt x="2805873" y="613720"/>
                  <a:pt x="2945917" y="716693"/>
                </a:cubicBezTo>
                <a:cubicBezTo>
                  <a:pt x="3028296" y="840260"/>
                  <a:pt x="3011820" y="914400"/>
                  <a:pt x="3020058" y="1000897"/>
                </a:cubicBezTo>
                <a:cubicBezTo>
                  <a:pt x="3316620" y="1149178"/>
                  <a:pt x="3613181" y="1075038"/>
                  <a:pt x="3650252" y="1631092"/>
                </a:cubicBezTo>
                <a:cubicBezTo>
                  <a:pt x="3571992" y="2162432"/>
                  <a:pt x="3469020" y="2199503"/>
                  <a:pt x="3193052" y="2187146"/>
                </a:cubicBezTo>
                <a:lnTo>
                  <a:pt x="1265398" y="2137719"/>
                </a:lnTo>
                <a:cubicBezTo>
                  <a:pt x="841150" y="2253049"/>
                  <a:pt x="661977" y="2475470"/>
                  <a:pt x="647561" y="2879124"/>
                </a:cubicBezTo>
                <a:cubicBezTo>
                  <a:pt x="633145" y="3282778"/>
                  <a:pt x="948242" y="3381632"/>
                  <a:pt x="1178901" y="3521676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任意多边形 18"/>
          <p:cNvSpPr/>
          <p:nvPr/>
        </p:nvSpPr>
        <p:spPr>
          <a:xfrm flipH="1">
            <a:off x="5707080" y="298440"/>
            <a:ext cx="2432160" cy="2346480"/>
          </a:xfrm>
          <a:custGeom>
            <a:avLst/>
            <a:gdLst/>
            <a:ahLst/>
            <a:rect l="l" t="t" r="r" b="b"/>
            <a:pathLst>
              <a:path w="3650252" h="3521676">
                <a:moveTo>
                  <a:pt x="832912" y="2187146"/>
                </a:moveTo>
                <a:cubicBezTo>
                  <a:pt x="664036" y="2174789"/>
                  <a:pt x="624907" y="2187146"/>
                  <a:pt x="326285" y="2150076"/>
                </a:cubicBezTo>
                <a:cubicBezTo>
                  <a:pt x="27663" y="2113006"/>
                  <a:pt x="-17645" y="1779373"/>
                  <a:pt x="5009" y="1594022"/>
                </a:cubicBezTo>
                <a:cubicBezTo>
                  <a:pt x="194479" y="1087396"/>
                  <a:pt x="198598" y="1223319"/>
                  <a:pt x="462209" y="1037968"/>
                </a:cubicBezTo>
                <a:cubicBezTo>
                  <a:pt x="544587" y="877330"/>
                  <a:pt x="528111" y="729048"/>
                  <a:pt x="709344" y="556054"/>
                </a:cubicBezTo>
                <a:cubicBezTo>
                  <a:pt x="841149" y="432486"/>
                  <a:pt x="1071809" y="531340"/>
                  <a:pt x="1141831" y="556054"/>
                </a:cubicBezTo>
                <a:cubicBezTo>
                  <a:pt x="1417798" y="234779"/>
                  <a:pt x="1483701" y="0"/>
                  <a:pt x="2006804" y="0"/>
                </a:cubicBezTo>
                <a:cubicBezTo>
                  <a:pt x="2406339" y="156519"/>
                  <a:pt x="2534026" y="300681"/>
                  <a:pt x="2686425" y="617838"/>
                </a:cubicBezTo>
                <a:cubicBezTo>
                  <a:pt x="2789398" y="659027"/>
                  <a:pt x="2805873" y="613720"/>
                  <a:pt x="2945917" y="716693"/>
                </a:cubicBezTo>
                <a:cubicBezTo>
                  <a:pt x="3028296" y="840260"/>
                  <a:pt x="3011820" y="914400"/>
                  <a:pt x="3020058" y="1000897"/>
                </a:cubicBezTo>
                <a:cubicBezTo>
                  <a:pt x="3316620" y="1149178"/>
                  <a:pt x="3613181" y="1075038"/>
                  <a:pt x="3650252" y="1631092"/>
                </a:cubicBezTo>
                <a:cubicBezTo>
                  <a:pt x="3571992" y="2162432"/>
                  <a:pt x="3469020" y="2199503"/>
                  <a:pt x="3193052" y="2187146"/>
                </a:cubicBezTo>
                <a:lnTo>
                  <a:pt x="1265398" y="2137719"/>
                </a:lnTo>
                <a:cubicBezTo>
                  <a:pt x="841150" y="2253049"/>
                  <a:pt x="661977" y="2475470"/>
                  <a:pt x="647561" y="2879124"/>
                </a:cubicBezTo>
                <a:cubicBezTo>
                  <a:pt x="633145" y="3282778"/>
                  <a:pt x="948242" y="3381632"/>
                  <a:pt x="1178901" y="3521676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3252960" y="3651120"/>
            <a:ext cx="206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0"/>
          <p:cNvSpPr/>
          <p:nvPr/>
        </p:nvSpPr>
        <p:spPr>
          <a:xfrm>
            <a:off x="5892840" y="3651120"/>
            <a:ext cx="206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5867280" y="507960"/>
            <a:ext cx="206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2"/>
          <p:cNvSpPr/>
          <p:nvPr/>
        </p:nvSpPr>
        <p:spPr>
          <a:xfrm>
            <a:off x="3244680" y="507960"/>
            <a:ext cx="206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2A0A-3311-4D88-A4DD-AE9C4BFEFBF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8193"/>
          <p:cNvGrpSpPr/>
          <p:nvPr/>
        </p:nvGrpSpPr>
        <p:grpSpPr>
          <a:xfrm>
            <a:off x="0" y="2093760"/>
            <a:ext cx="5011560" cy="2948040"/>
            <a:chOff x="0" y="2093760"/>
            <a:chExt cx="5011560" cy="2948040"/>
          </a:xfrm>
        </p:grpSpPr>
        <p:sp>
          <p:nvSpPr>
            <p:cNvPr id="195" name="任意多边形 8"/>
            <p:cNvSpPr/>
            <p:nvPr/>
          </p:nvSpPr>
          <p:spPr>
            <a:xfrm>
              <a:off x="0" y="2093760"/>
              <a:ext cx="5011560" cy="294804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7"/>
            <p:cNvSpPr/>
            <p:nvPr/>
          </p:nvSpPr>
          <p:spPr>
            <a:xfrm>
              <a:off x="726120" y="2892600"/>
              <a:ext cx="3638880" cy="214056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"/>
            <p:cNvSpPr/>
            <p:nvPr/>
          </p:nvSpPr>
          <p:spPr>
            <a:xfrm>
              <a:off x="1524960" y="3836880"/>
              <a:ext cx="2033640" cy="119628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8197"/>
          <p:cNvGrpSpPr/>
          <p:nvPr/>
        </p:nvGrpSpPr>
        <p:grpSpPr>
          <a:xfrm>
            <a:off x="2689200" y="654120"/>
            <a:ext cx="5915160" cy="1617480"/>
            <a:chOff x="2689200" y="654120"/>
            <a:chExt cx="5915160" cy="1617480"/>
          </a:xfrm>
        </p:grpSpPr>
        <p:sp>
          <p:nvSpPr>
            <p:cNvPr id="199" name="任意多边形 9"/>
            <p:cNvSpPr/>
            <p:nvPr/>
          </p:nvSpPr>
          <p:spPr>
            <a:xfrm>
              <a:off x="2689200" y="1087560"/>
              <a:ext cx="2625840" cy="1184040"/>
            </a:xfrm>
            <a:custGeom>
              <a:avLst/>
              <a:gdLst/>
              <a:ahLst/>
              <a:rect l="l" t="t" r="r" b="b"/>
              <a:pathLst>
                <a:path w="2625969" h="1184030">
                  <a:moveTo>
                    <a:pt x="0" y="1184030"/>
                  </a:moveTo>
                  <a:lnTo>
                    <a:pt x="1371600" y="23446"/>
                  </a:lnTo>
                  <a:lnTo>
                    <a:pt x="2625969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圆角矩形 10"/>
            <p:cNvSpPr/>
            <p:nvPr/>
          </p:nvSpPr>
          <p:spPr>
            <a:xfrm>
              <a:off x="5299920" y="654120"/>
              <a:ext cx="3304440" cy="79200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XXXXXXXXXXXX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8200"/>
          <p:cNvGrpSpPr/>
          <p:nvPr/>
        </p:nvGrpSpPr>
        <p:grpSpPr>
          <a:xfrm>
            <a:off x="2665440" y="1933560"/>
            <a:ext cx="5962680" cy="1576440"/>
            <a:chOff x="2665440" y="1933560"/>
            <a:chExt cx="5962680" cy="1576440"/>
          </a:xfrm>
        </p:grpSpPr>
        <p:sp>
          <p:nvSpPr>
            <p:cNvPr id="202" name="任意多边形 12"/>
            <p:cNvSpPr/>
            <p:nvPr/>
          </p:nvSpPr>
          <p:spPr>
            <a:xfrm>
              <a:off x="2665440" y="2325240"/>
              <a:ext cx="2626200" cy="1184760"/>
            </a:xfrm>
            <a:custGeom>
              <a:avLst/>
              <a:gdLst/>
              <a:ahLst/>
              <a:rect l="l" t="t" r="r" b="b"/>
              <a:pathLst>
                <a:path w="2625969" h="1184030">
                  <a:moveTo>
                    <a:pt x="0" y="1184030"/>
                  </a:moveTo>
                  <a:lnTo>
                    <a:pt x="1371600" y="23446"/>
                  </a:lnTo>
                  <a:lnTo>
                    <a:pt x="2625969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圆角矩形 14"/>
            <p:cNvSpPr/>
            <p:nvPr/>
          </p:nvSpPr>
          <p:spPr>
            <a:xfrm>
              <a:off x="5323320" y="1933560"/>
              <a:ext cx="3304800" cy="79236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XXXXXXXXXXX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8203"/>
          <p:cNvGrpSpPr/>
          <p:nvPr/>
        </p:nvGrpSpPr>
        <p:grpSpPr>
          <a:xfrm>
            <a:off x="2668680" y="3171960"/>
            <a:ext cx="5954760" cy="1579320"/>
            <a:chOff x="2668680" y="3171960"/>
            <a:chExt cx="5954760" cy="1579320"/>
          </a:xfrm>
        </p:grpSpPr>
        <p:sp>
          <p:nvSpPr>
            <p:cNvPr id="205" name="任意多边形 11"/>
            <p:cNvSpPr/>
            <p:nvPr/>
          </p:nvSpPr>
          <p:spPr>
            <a:xfrm>
              <a:off x="2668680" y="3567600"/>
              <a:ext cx="2625840" cy="1183680"/>
            </a:xfrm>
            <a:custGeom>
              <a:avLst/>
              <a:gdLst/>
              <a:ahLst/>
              <a:rect l="l" t="t" r="r" b="b"/>
              <a:pathLst>
                <a:path w="2625969" h="1184030">
                  <a:moveTo>
                    <a:pt x="0" y="1184030"/>
                  </a:moveTo>
                  <a:lnTo>
                    <a:pt x="1371600" y="23446"/>
                  </a:lnTo>
                  <a:lnTo>
                    <a:pt x="2625969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圆角矩形 15"/>
            <p:cNvSpPr/>
            <p:nvPr/>
          </p:nvSpPr>
          <p:spPr>
            <a:xfrm>
              <a:off x="5318640" y="3171960"/>
              <a:ext cx="3304800" cy="79164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XXXXXXXXXXX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文本框 8206"/>
          <p:cNvSpPr/>
          <p:nvPr/>
        </p:nvSpPr>
        <p:spPr>
          <a:xfrm>
            <a:off x="395280" y="268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任意多边形 4"/>
          <p:cNvSpPr/>
          <p:nvPr/>
        </p:nvSpPr>
        <p:spPr>
          <a:xfrm>
            <a:off x="539640" y="1563840"/>
            <a:ext cx="1346400" cy="1298520"/>
          </a:xfrm>
          <a:custGeom>
            <a:avLst/>
            <a:gdLst/>
            <a:ahLst/>
            <a:rect l="l" t="t" r="r" b="b"/>
            <a:pathLst>
              <a:path w="3650252" h="3521676">
                <a:moveTo>
                  <a:pt x="832912" y="2187146"/>
                </a:moveTo>
                <a:cubicBezTo>
                  <a:pt x="664036" y="2174789"/>
                  <a:pt x="624907" y="2187146"/>
                  <a:pt x="326285" y="2150076"/>
                </a:cubicBezTo>
                <a:cubicBezTo>
                  <a:pt x="27663" y="2113006"/>
                  <a:pt x="-17645" y="1779373"/>
                  <a:pt x="5009" y="1594022"/>
                </a:cubicBezTo>
                <a:cubicBezTo>
                  <a:pt x="194479" y="1087396"/>
                  <a:pt x="198598" y="1223319"/>
                  <a:pt x="462209" y="1037968"/>
                </a:cubicBezTo>
                <a:cubicBezTo>
                  <a:pt x="544587" y="877330"/>
                  <a:pt x="528111" y="729048"/>
                  <a:pt x="709344" y="556054"/>
                </a:cubicBezTo>
                <a:cubicBezTo>
                  <a:pt x="841149" y="432486"/>
                  <a:pt x="1071809" y="531340"/>
                  <a:pt x="1141831" y="556054"/>
                </a:cubicBezTo>
                <a:cubicBezTo>
                  <a:pt x="1417798" y="234779"/>
                  <a:pt x="1483701" y="0"/>
                  <a:pt x="2006804" y="0"/>
                </a:cubicBezTo>
                <a:cubicBezTo>
                  <a:pt x="2406339" y="156519"/>
                  <a:pt x="2534026" y="300681"/>
                  <a:pt x="2686425" y="617838"/>
                </a:cubicBezTo>
                <a:cubicBezTo>
                  <a:pt x="2789398" y="659027"/>
                  <a:pt x="2805873" y="613720"/>
                  <a:pt x="2945917" y="716693"/>
                </a:cubicBezTo>
                <a:cubicBezTo>
                  <a:pt x="3028296" y="840260"/>
                  <a:pt x="3011820" y="914400"/>
                  <a:pt x="3020058" y="1000897"/>
                </a:cubicBezTo>
                <a:cubicBezTo>
                  <a:pt x="3316620" y="1149178"/>
                  <a:pt x="3613181" y="1075038"/>
                  <a:pt x="3650252" y="1631092"/>
                </a:cubicBezTo>
                <a:cubicBezTo>
                  <a:pt x="3571992" y="2162432"/>
                  <a:pt x="3469020" y="2199503"/>
                  <a:pt x="3193052" y="2187146"/>
                </a:cubicBezTo>
                <a:lnTo>
                  <a:pt x="1265398" y="2137719"/>
                </a:lnTo>
                <a:cubicBezTo>
                  <a:pt x="841150" y="2253049"/>
                  <a:pt x="661977" y="2475470"/>
                  <a:pt x="647561" y="2879124"/>
                </a:cubicBezTo>
                <a:cubicBezTo>
                  <a:pt x="633145" y="3282778"/>
                  <a:pt x="948242" y="3381632"/>
                  <a:pt x="1178901" y="3521676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7"/>
          <p:cNvSpPr/>
          <p:nvPr/>
        </p:nvSpPr>
        <p:spPr>
          <a:xfrm rot="20453400">
            <a:off x="2479680" y="1304640"/>
            <a:ext cx="1346040" cy="1298520"/>
          </a:xfrm>
          <a:custGeom>
            <a:avLst/>
            <a:gdLst/>
            <a:ahLst/>
            <a:rect l="l" t="t" r="r" b="b"/>
            <a:pathLst>
              <a:path w="3650252" h="3521676">
                <a:moveTo>
                  <a:pt x="832912" y="2187146"/>
                </a:moveTo>
                <a:cubicBezTo>
                  <a:pt x="664036" y="2174789"/>
                  <a:pt x="624907" y="2187146"/>
                  <a:pt x="326285" y="2150076"/>
                </a:cubicBezTo>
                <a:cubicBezTo>
                  <a:pt x="27663" y="2113006"/>
                  <a:pt x="-17645" y="1779373"/>
                  <a:pt x="5009" y="1594022"/>
                </a:cubicBezTo>
                <a:cubicBezTo>
                  <a:pt x="194479" y="1087396"/>
                  <a:pt x="198598" y="1223319"/>
                  <a:pt x="462209" y="1037968"/>
                </a:cubicBezTo>
                <a:cubicBezTo>
                  <a:pt x="544587" y="877330"/>
                  <a:pt x="528111" y="729048"/>
                  <a:pt x="709344" y="556054"/>
                </a:cubicBezTo>
                <a:cubicBezTo>
                  <a:pt x="841149" y="432486"/>
                  <a:pt x="1071809" y="531340"/>
                  <a:pt x="1141831" y="556054"/>
                </a:cubicBezTo>
                <a:cubicBezTo>
                  <a:pt x="1417798" y="234779"/>
                  <a:pt x="1483701" y="0"/>
                  <a:pt x="2006804" y="0"/>
                </a:cubicBezTo>
                <a:cubicBezTo>
                  <a:pt x="2406339" y="156519"/>
                  <a:pt x="2534026" y="300681"/>
                  <a:pt x="2686425" y="617838"/>
                </a:cubicBezTo>
                <a:cubicBezTo>
                  <a:pt x="2789398" y="659027"/>
                  <a:pt x="2805873" y="613720"/>
                  <a:pt x="2945917" y="716693"/>
                </a:cubicBezTo>
                <a:cubicBezTo>
                  <a:pt x="3028296" y="840260"/>
                  <a:pt x="3011820" y="914400"/>
                  <a:pt x="3020058" y="1000897"/>
                </a:cubicBezTo>
                <a:cubicBezTo>
                  <a:pt x="3316620" y="1149178"/>
                  <a:pt x="3613181" y="1075038"/>
                  <a:pt x="3650252" y="1631092"/>
                </a:cubicBezTo>
                <a:cubicBezTo>
                  <a:pt x="3571992" y="2162432"/>
                  <a:pt x="3469020" y="2199503"/>
                  <a:pt x="3193052" y="2187146"/>
                </a:cubicBezTo>
                <a:lnTo>
                  <a:pt x="1265398" y="2137719"/>
                </a:lnTo>
                <a:cubicBezTo>
                  <a:pt x="841150" y="2253049"/>
                  <a:pt x="661977" y="2475470"/>
                  <a:pt x="647561" y="2879124"/>
                </a:cubicBezTo>
                <a:cubicBezTo>
                  <a:pt x="633145" y="3282778"/>
                  <a:pt x="948242" y="3381632"/>
                  <a:pt x="1178901" y="3521676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8"/>
          <p:cNvSpPr/>
          <p:nvPr/>
        </p:nvSpPr>
        <p:spPr>
          <a:xfrm rot="20188800">
            <a:off x="4481640" y="840960"/>
            <a:ext cx="1346040" cy="1300320"/>
          </a:xfrm>
          <a:custGeom>
            <a:avLst/>
            <a:gdLst/>
            <a:ahLst/>
            <a:rect l="l" t="t" r="r" b="b"/>
            <a:pathLst>
              <a:path w="3650252" h="3521676">
                <a:moveTo>
                  <a:pt x="832912" y="2187146"/>
                </a:moveTo>
                <a:cubicBezTo>
                  <a:pt x="664036" y="2174789"/>
                  <a:pt x="624907" y="2187146"/>
                  <a:pt x="326285" y="2150076"/>
                </a:cubicBezTo>
                <a:cubicBezTo>
                  <a:pt x="27663" y="2113006"/>
                  <a:pt x="-17645" y="1779373"/>
                  <a:pt x="5009" y="1594022"/>
                </a:cubicBezTo>
                <a:cubicBezTo>
                  <a:pt x="194479" y="1087396"/>
                  <a:pt x="198598" y="1223319"/>
                  <a:pt x="462209" y="1037968"/>
                </a:cubicBezTo>
                <a:cubicBezTo>
                  <a:pt x="544587" y="877330"/>
                  <a:pt x="528111" y="729048"/>
                  <a:pt x="709344" y="556054"/>
                </a:cubicBezTo>
                <a:cubicBezTo>
                  <a:pt x="841149" y="432486"/>
                  <a:pt x="1071809" y="531340"/>
                  <a:pt x="1141831" y="556054"/>
                </a:cubicBezTo>
                <a:cubicBezTo>
                  <a:pt x="1417798" y="234779"/>
                  <a:pt x="1483701" y="0"/>
                  <a:pt x="2006804" y="0"/>
                </a:cubicBezTo>
                <a:cubicBezTo>
                  <a:pt x="2406339" y="156519"/>
                  <a:pt x="2534026" y="300681"/>
                  <a:pt x="2686425" y="617838"/>
                </a:cubicBezTo>
                <a:cubicBezTo>
                  <a:pt x="2789398" y="659027"/>
                  <a:pt x="2805873" y="613720"/>
                  <a:pt x="2945917" y="716693"/>
                </a:cubicBezTo>
                <a:cubicBezTo>
                  <a:pt x="3028296" y="840260"/>
                  <a:pt x="3011820" y="914400"/>
                  <a:pt x="3020058" y="1000897"/>
                </a:cubicBezTo>
                <a:cubicBezTo>
                  <a:pt x="3316620" y="1149178"/>
                  <a:pt x="3613181" y="1075038"/>
                  <a:pt x="3650252" y="1631092"/>
                </a:cubicBezTo>
                <a:cubicBezTo>
                  <a:pt x="3571992" y="2162432"/>
                  <a:pt x="3469020" y="2199503"/>
                  <a:pt x="3193052" y="2187146"/>
                </a:cubicBezTo>
                <a:lnTo>
                  <a:pt x="1265398" y="2137719"/>
                </a:lnTo>
                <a:cubicBezTo>
                  <a:pt x="841150" y="2253049"/>
                  <a:pt x="661977" y="2475470"/>
                  <a:pt x="647561" y="2879124"/>
                </a:cubicBezTo>
                <a:cubicBezTo>
                  <a:pt x="633145" y="3282778"/>
                  <a:pt x="948242" y="3381632"/>
                  <a:pt x="1178901" y="3521676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9"/>
          <p:cNvSpPr/>
          <p:nvPr/>
        </p:nvSpPr>
        <p:spPr>
          <a:xfrm rot="19811400">
            <a:off x="6359400" y="83880"/>
            <a:ext cx="1346400" cy="1299960"/>
          </a:xfrm>
          <a:custGeom>
            <a:avLst/>
            <a:gdLst/>
            <a:ahLst/>
            <a:rect l="l" t="t" r="r" b="b"/>
            <a:pathLst>
              <a:path w="3650252" h="3521676">
                <a:moveTo>
                  <a:pt x="832912" y="2187146"/>
                </a:moveTo>
                <a:cubicBezTo>
                  <a:pt x="664036" y="2174789"/>
                  <a:pt x="624907" y="2187146"/>
                  <a:pt x="326285" y="2150076"/>
                </a:cubicBezTo>
                <a:cubicBezTo>
                  <a:pt x="27663" y="2113006"/>
                  <a:pt x="-17645" y="1779373"/>
                  <a:pt x="5009" y="1594022"/>
                </a:cubicBezTo>
                <a:cubicBezTo>
                  <a:pt x="194479" y="1087396"/>
                  <a:pt x="198598" y="1223319"/>
                  <a:pt x="462209" y="1037968"/>
                </a:cubicBezTo>
                <a:cubicBezTo>
                  <a:pt x="544587" y="877330"/>
                  <a:pt x="528111" y="729048"/>
                  <a:pt x="709344" y="556054"/>
                </a:cubicBezTo>
                <a:cubicBezTo>
                  <a:pt x="841149" y="432486"/>
                  <a:pt x="1071809" y="531340"/>
                  <a:pt x="1141831" y="556054"/>
                </a:cubicBezTo>
                <a:cubicBezTo>
                  <a:pt x="1417798" y="234779"/>
                  <a:pt x="1483701" y="0"/>
                  <a:pt x="2006804" y="0"/>
                </a:cubicBezTo>
                <a:cubicBezTo>
                  <a:pt x="2406339" y="156519"/>
                  <a:pt x="2534026" y="300681"/>
                  <a:pt x="2686425" y="617838"/>
                </a:cubicBezTo>
                <a:cubicBezTo>
                  <a:pt x="2789398" y="659027"/>
                  <a:pt x="2805873" y="613720"/>
                  <a:pt x="2945917" y="716693"/>
                </a:cubicBezTo>
                <a:cubicBezTo>
                  <a:pt x="3028296" y="840260"/>
                  <a:pt x="3011820" y="914400"/>
                  <a:pt x="3020058" y="1000897"/>
                </a:cubicBezTo>
                <a:cubicBezTo>
                  <a:pt x="3316620" y="1149178"/>
                  <a:pt x="3613181" y="1075038"/>
                  <a:pt x="3650252" y="1631092"/>
                </a:cubicBezTo>
                <a:cubicBezTo>
                  <a:pt x="3571992" y="2162432"/>
                  <a:pt x="3469020" y="2199503"/>
                  <a:pt x="3193052" y="2187146"/>
                </a:cubicBezTo>
                <a:lnTo>
                  <a:pt x="1265398" y="2137719"/>
                </a:lnTo>
                <a:cubicBezTo>
                  <a:pt x="841150" y="2253049"/>
                  <a:pt x="661977" y="2475470"/>
                  <a:pt x="647561" y="2879124"/>
                </a:cubicBezTo>
                <a:cubicBezTo>
                  <a:pt x="633145" y="3282778"/>
                  <a:pt x="948242" y="3381632"/>
                  <a:pt x="1178901" y="3521676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5"/>
          <p:cNvSpPr/>
          <p:nvPr/>
        </p:nvSpPr>
        <p:spPr>
          <a:xfrm>
            <a:off x="0" y="90360"/>
            <a:ext cx="9144000" cy="2802240"/>
          </a:xfrm>
          <a:custGeom>
            <a:avLst/>
            <a:gdLst/>
            <a:ahLst/>
            <a:rect l="l" t="t" r="r" b="b"/>
            <a:pathLst>
              <a:path w="9032789" h="2726136">
                <a:moveTo>
                  <a:pt x="0" y="2726136"/>
                </a:moveTo>
                <a:cubicBezTo>
                  <a:pt x="1267597" y="2688036"/>
                  <a:pt x="2316068" y="2729923"/>
                  <a:pt x="4388978" y="2218542"/>
                </a:cubicBezTo>
                <a:cubicBezTo>
                  <a:pt x="6461888" y="1707161"/>
                  <a:pt x="7511878" y="1267597"/>
                  <a:pt x="9032789" y="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6"/>
          <p:cNvSpPr/>
          <p:nvPr/>
        </p:nvSpPr>
        <p:spPr>
          <a:xfrm>
            <a:off x="466560" y="3292560"/>
            <a:ext cx="1225800" cy="43164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349200" y="3724200"/>
            <a:ext cx="15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13"/>
          <p:cNvSpPr/>
          <p:nvPr/>
        </p:nvSpPr>
        <p:spPr>
          <a:xfrm>
            <a:off x="2422440" y="2987640"/>
            <a:ext cx="1225800" cy="43200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2303640" y="3419640"/>
            <a:ext cx="158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圆角矩形 15"/>
          <p:cNvSpPr/>
          <p:nvPr/>
        </p:nvSpPr>
        <p:spPr>
          <a:xfrm>
            <a:off x="4619520" y="2427120"/>
            <a:ext cx="1224000" cy="43200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4500720" y="2860560"/>
            <a:ext cx="158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 17"/>
          <p:cNvSpPr/>
          <p:nvPr/>
        </p:nvSpPr>
        <p:spPr>
          <a:xfrm>
            <a:off x="6562800" y="1855800"/>
            <a:ext cx="1225440" cy="43164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8"/>
          <p:cNvSpPr/>
          <p:nvPr/>
        </p:nvSpPr>
        <p:spPr>
          <a:xfrm>
            <a:off x="6443640" y="2287440"/>
            <a:ext cx="15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组合 10241"/>
          <p:cNvGrpSpPr/>
          <p:nvPr/>
        </p:nvGrpSpPr>
        <p:grpSpPr>
          <a:xfrm>
            <a:off x="108000" y="195120"/>
            <a:ext cx="1455840" cy="877320"/>
            <a:chOff x="108000" y="195120"/>
            <a:chExt cx="1455840" cy="877320"/>
          </a:xfrm>
        </p:grpSpPr>
        <p:sp>
          <p:nvSpPr>
            <p:cNvPr id="222" name="任意多边形 4"/>
            <p:cNvSpPr/>
            <p:nvPr/>
          </p:nvSpPr>
          <p:spPr>
            <a:xfrm>
              <a:off x="108000" y="195120"/>
              <a:ext cx="1455840" cy="85788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5"/>
            <p:cNvSpPr/>
            <p:nvPr/>
          </p:nvSpPr>
          <p:spPr>
            <a:xfrm>
              <a:off x="612000" y="369000"/>
              <a:ext cx="50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6"/>
          <p:cNvSpPr/>
          <p:nvPr/>
        </p:nvSpPr>
        <p:spPr>
          <a:xfrm>
            <a:off x="395280" y="1492200"/>
            <a:ext cx="86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10"/>
          <p:cNvSpPr/>
          <p:nvPr/>
        </p:nvSpPr>
        <p:spPr>
          <a:xfrm>
            <a:off x="5446800" y="811080"/>
            <a:ext cx="1357200" cy="833400"/>
          </a:xfrm>
          <a:custGeom>
            <a:avLst/>
            <a:gdLst/>
            <a:ahLst/>
            <a:rect l="l" t="t" r="r" b="b"/>
            <a:pathLst>
              <a:path w="2433666" h="1492221">
                <a:moveTo>
                  <a:pt x="241877" y="1432063"/>
                </a:moveTo>
                <a:lnTo>
                  <a:pt x="2154898" y="1492221"/>
                </a:lnTo>
                <a:cubicBezTo>
                  <a:pt x="2347404" y="1460138"/>
                  <a:pt x="2449670" y="1285679"/>
                  <a:pt x="2431623" y="1047053"/>
                </a:cubicBezTo>
                <a:cubicBezTo>
                  <a:pt x="2413576" y="808427"/>
                  <a:pt x="2305292" y="800405"/>
                  <a:pt x="2046613" y="710168"/>
                </a:cubicBezTo>
                <a:cubicBezTo>
                  <a:pt x="1944345" y="595868"/>
                  <a:pt x="2006508" y="579826"/>
                  <a:pt x="1866140" y="409379"/>
                </a:cubicBezTo>
                <a:cubicBezTo>
                  <a:pt x="1725772" y="238932"/>
                  <a:pt x="1493161" y="427427"/>
                  <a:pt x="1493161" y="409379"/>
                </a:cubicBezTo>
                <a:cubicBezTo>
                  <a:pt x="1252529" y="246953"/>
                  <a:pt x="1170314" y="-65869"/>
                  <a:pt x="783298" y="12337"/>
                </a:cubicBezTo>
                <a:cubicBezTo>
                  <a:pt x="396282" y="90543"/>
                  <a:pt x="480502" y="317137"/>
                  <a:pt x="326097" y="662042"/>
                </a:cubicBezTo>
                <a:cubicBezTo>
                  <a:pt x="195755" y="838505"/>
                  <a:pt x="15282" y="942779"/>
                  <a:pt x="1245" y="1071116"/>
                </a:cubicBezTo>
                <a:cubicBezTo>
                  <a:pt x="-12792" y="1199453"/>
                  <a:pt x="93488" y="1408000"/>
                  <a:pt x="241877" y="1432063"/>
                </a:cubicBezTo>
                <a:close/>
              </a:path>
            </a:pathLst>
          </a:custGeom>
          <a:solidFill>
            <a:srgbClr val="ffffff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11"/>
          <p:cNvSpPr/>
          <p:nvPr/>
        </p:nvSpPr>
        <p:spPr>
          <a:xfrm rot="14305800">
            <a:off x="4240800" y="2621520"/>
            <a:ext cx="1357200" cy="831960"/>
          </a:xfrm>
          <a:custGeom>
            <a:avLst/>
            <a:gdLst/>
            <a:ahLst/>
            <a:rect l="l" t="t" r="r" b="b"/>
            <a:pathLst>
              <a:path w="2433666" h="1492221">
                <a:moveTo>
                  <a:pt x="241877" y="1432063"/>
                </a:moveTo>
                <a:lnTo>
                  <a:pt x="2154898" y="1492221"/>
                </a:lnTo>
                <a:cubicBezTo>
                  <a:pt x="2347404" y="1460138"/>
                  <a:pt x="2449670" y="1285679"/>
                  <a:pt x="2431623" y="1047053"/>
                </a:cubicBezTo>
                <a:cubicBezTo>
                  <a:pt x="2413576" y="808427"/>
                  <a:pt x="2305292" y="800405"/>
                  <a:pt x="2046613" y="710168"/>
                </a:cubicBezTo>
                <a:cubicBezTo>
                  <a:pt x="1944345" y="595868"/>
                  <a:pt x="2006508" y="579826"/>
                  <a:pt x="1866140" y="409379"/>
                </a:cubicBezTo>
                <a:cubicBezTo>
                  <a:pt x="1725772" y="238932"/>
                  <a:pt x="1493161" y="427427"/>
                  <a:pt x="1493161" y="409379"/>
                </a:cubicBezTo>
                <a:cubicBezTo>
                  <a:pt x="1252529" y="246953"/>
                  <a:pt x="1170314" y="-65869"/>
                  <a:pt x="783298" y="12337"/>
                </a:cubicBezTo>
                <a:cubicBezTo>
                  <a:pt x="396282" y="90543"/>
                  <a:pt x="480502" y="317137"/>
                  <a:pt x="326097" y="662042"/>
                </a:cubicBezTo>
                <a:cubicBezTo>
                  <a:pt x="195755" y="838505"/>
                  <a:pt x="15282" y="942779"/>
                  <a:pt x="1245" y="1071116"/>
                </a:cubicBezTo>
                <a:cubicBezTo>
                  <a:pt x="-12792" y="1199453"/>
                  <a:pt x="93488" y="1408000"/>
                  <a:pt x="241877" y="1432063"/>
                </a:cubicBezTo>
                <a:close/>
              </a:path>
            </a:pathLst>
          </a:custGeom>
          <a:solidFill>
            <a:srgbClr val="ffffff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2"/>
          <p:cNvSpPr/>
          <p:nvPr/>
        </p:nvSpPr>
        <p:spPr>
          <a:xfrm rot="7588800">
            <a:off x="6478560" y="2698200"/>
            <a:ext cx="1358640" cy="831960"/>
          </a:xfrm>
          <a:custGeom>
            <a:avLst/>
            <a:gdLst/>
            <a:ahLst/>
            <a:rect l="l" t="t" r="r" b="b"/>
            <a:pathLst>
              <a:path w="2433666" h="1492221">
                <a:moveTo>
                  <a:pt x="241877" y="1432063"/>
                </a:moveTo>
                <a:lnTo>
                  <a:pt x="2154898" y="1492221"/>
                </a:lnTo>
                <a:cubicBezTo>
                  <a:pt x="2347404" y="1460138"/>
                  <a:pt x="2449670" y="1285679"/>
                  <a:pt x="2431623" y="1047053"/>
                </a:cubicBezTo>
                <a:cubicBezTo>
                  <a:pt x="2413576" y="808427"/>
                  <a:pt x="2305292" y="800405"/>
                  <a:pt x="2046613" y="710168"/>
                </a:cubicBezTo>
                <a:cubicBezTo>
                  <a:pt x="1944345" y="595868"/>
                  <a:pt x="2006508" y="579826"/>
                  <a:pt x="1866140" y="409379"/>
                </a:cubicBezTo>
                <a:cubicBezTo>
                  <a:pt x="1725772" y="238932"/>
                  <a:pt x="1493161" y="427427"/>
                  <a:pt x="1493161" y="409379"/>
                </a:cubicBezTo>
                <a:cubicBezTo>
                  <a:pt x="1252529" y="246953"/>
                  <a:pt x="1170314" y="-65869"/>
                  <a:pt x="783298" y="12337"/>
                </a:cubicBezTo>
                <a:cubicBezTo>
                  <a:pt x="396282" y="90543"/>
                  <a:pt x="480502" y="317137"/>
                  <a:pt x="326097" y="662042"/>
                </a:cubicBezTo>
                <a:cubicBezTo>
                  <a:pt x="195755" y="838505"/>
                  <a:pt x="15282" y="942779"/>
                  <a:pt x="1245" y="1071116"/>
                </a:cubicBezTo>
                <a:cubicBezTo>
                  <a:pt x="-12792" y="1199453"/>
                  <a:pt x="93488" y="1408000"/>
                  <a:pt x="241877" y="1432063"/>
                </a:cubicBezTo>
                <a:close/>
              </a:path>
            </a:pathLst>
          </a:custGeom>
          <a:solidFill>
            <a:srgbClr val="ffffff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直接箭头连接符 17"/>
          <p:cNvCxnSpPr/>
          <p:nvPr/>
        </p:nvCxnSpPr>
        <p:spPr>
          <a:xfrm flipV="1">
            <a:off x="4861080" y="1606320"/>
            <a:ext cx="459360" cy="5119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直接箭头连接符 30"/>
          <p:cNvCxnSpPr/>
          <p:nvPr/>
        </p:nvCxnSpPr>
        <p:spPr>
          <a:xfrm>
            <a:off x="6803640" y="1738440"/>
            <a:ext cx="354600" cy="5068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直接箭头连接符 32"/>
          <p:cNvCxnSpPr/>
          <p:nvPr/>
        </p:nvCxnSpPr>
        <p:spPr>
          <a:xfrm flipH="1">
            <a:off x="5651280" y="3510000"/>
            <a:ext cx="67320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TextBox 34"/>
          <p:cNvSpPr/>
          <p:nvPr/>
        </p:nvSpPr>
        <p:spPr>
          <a:xfrm>
            <a:off x="5657760" y="10825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5"/>
          <p:cNvSpPr/>
          <p:nvPr/>
        </p:nvSpPr>
        <p:spPr>
          <a:xfrm rot="14381400">
            <a:off x="4493160" y="2691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6"/>
          <p:cNvSpPr/>
          <p:nvPr/>
        </p:nvSpPr>
        <p:spPr>
          <a:xfrm rot="7630800">
            <a:off x="6599160" y="28098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7"/>
          <p:cNvSpPr/>
          <p:nvPr/>
        </p:nvSpPr>
        <p:spPr>
          <a:xfrm>
            <a:off x="7559640" y="3544920"/>
            <a:ext cx="15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8"/>
          <p:cNvSpPr/>
          <p:nvPr/>
        </p:nvSpPr>
        <p:spPr>
          <a:xfrm>
            <a:off x="7308720" y="214200"/>
            <a:ext cx="15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9"/>
          <p:cNvSpPr/>
          <p:nvPr/>
        </p:nvSpPr>
        <p:spPr>
          <a:xfrm>
            <a:off x="2556000" y="2482920"/>
            <a:ext cx="15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0257"/>
          <p:cNvSpPr/>
          <p:nvPr/>
        </p:nvSpPr>
        <p:spPr>
          <a:xfrm>
            <a:off x="17928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组合 11265"/>
          <p:cNvGrpSpPr/>
          <p:nvPr/>
        </p:nvGrpSpPr>
        <p:grpSpPr>
          <a:xfrm>
            <a:off x="2706840" y="771480"/>
            <a:ext cx="3470040" cy="3168720"/>
            <a:chOff x="2706840" y="771480"/>
            <a:chExt cx="3470040" cy="3168720"/>
          </a:xfrm>
        </p:grpSpPr>
        <p:grpSp>
          <p:nvGrpSpPr>
            <p:cNvPr id="239" name=""/>
            <p:cNvGrpSpPr/>
            <p:nvPr/>
          </p:nvGrpSpPr>
          <p:grpSpPr>
            <a:xfrm>
              <a:off x="2847600" y="2772720"/>
              <a:ext cx="662400" cy="501480"/>
              <a:chOff x="2847600" y="2772720"/>
              <a:chExt cx="662400" cy="501480"/>
            </a:xfrm>
          </p:grpSpPr>
          <p:sp>
            <p:nvSpPr>
              <p:cNvPr id="240" name="直接连接符 8"/>
              <p:cNvSpPr/>
              <p:nvPr/>
            </p:nvSpPr>
            <p:spPr>
              <a:xfrm flipH="1">
                <a:off x="2847600" y="2772720"/>
                <a:ext cx="662040" cy="5014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2847960" y="2772720"/>
                <a:ext cx="662040" cy="50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947680" y="771480"/>
              <a:ext cx="1479600" cy="1082160"/>
              <a:chOff x="2947680" y="771480"/>
              <a:chExt cx="1479600" cy="1082160"/>
            </a:xfrm>
          </p:grpSpPr>
          <p:sp>
            <p:nvSpPr>
              <p:cNvPr id="243" name="直接连接符 14"/>
              <p:cNvSpPr/>
              <p:nvPr/>
            </p:nvSpPr>
            <p:spPr>
              <a:xfrm>
                <a:off x="2947680" y="771480"/>
                <a:ext cx="1479600" cy="10821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2947680" y="771480"/>
                <a:ext cx="1479600" cy="108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464800" y="1598400"/>
              <a:ext cx="712080" cy="534960"/>
              <a:chOff x="5464800" y="1598400"/>
              <a:chExt cx="712080" cy="534960"/>
            </a:xfrm>
          </p:grpSpPr>
          <p:sp>
            <p:nvSpPr>
              <p:cNvPr id="246" name="直接连接符 9"/>
              <p:cNvSpPr/>
              <p:nvPr/>
            </p:nvSpPr>
            <p:spPr>
              <a:xfrm flipH="1">
                <a:off x="5464800" y="1598400"/>
                <a:ext cx="711720" cy="5349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5465160" y="1598400"/>
                <a:ext cx="711720" cy="53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754520" y="2939400"/>
              <a:ext cx="994320" cy="1000800"/>
              <a:chOff x="4754520" y="2939400"/>
              <a:chExt cx="994320" cy="1000800"/>
            </a:xfrm>
          </p:grpSpPr>
          <p:sp>
            <p:nvSpPr>
              <p:cNvPr id="249" name="直接连接符 12"/>
              <p:cNvSpPr/>
              <p:nvPr/>
            </p:nvSpPr>
            <p:spPr>
              <a:xfrm>
                <a:off x="4754520" y="2939400"/>
                <a:ext cx="994320" cy="1000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4754520" y="2939400"/>
                <a:ext cx="994320" cy="1000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心形 6"/>
            <p:cNvSpPr/>
            <p:nvPr/>
          </p:nvSpPr>
          <p:spPr>
            <a:xfrm rot="3340200">
              <a:off x="4455000" y="1710720"/>
              <a:ext cx="1544760" cy="11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心形 3"/>
            <p:cNvSpPr/>
            <p:nvPr/>
          </p:nvSpPr>
          <p:spPr>
            <a:xfrm>
              <a:off x="3457080" y="1470960"/>
              <a:ext cx="1544400" cy="11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心形 4"/>
            <p:cNvSpPr/>
            <p:nvPr/>
          </p:nvSpPr>
          <p:spPr>
            <a:xfrm rot="13022400">
              <a:off x="2907360" y="1943640"/>
              <a:ext cx="1544400" cy="11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b81616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心形 5"/>
            <p:cNvSpPr/>
            <p:nvPr/>
          </p:nvSpPr>
          <p:spPr>
            <a:xfrm rot="10270200">
              <a:off x="4001760" y="2062440"/>
              <a:ext cx="1544400" cy="11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a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Box 18"/>
          <p:cNvSpPr/>
          <p:nvPr/>
        </p:nvSpPr>
        <p:spPr>
          <a:xfrm>
            <a:off x="249120" y="468360"/>
            <a:ext cx="230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XXXXXXXXXX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9"/>
          <p:cNvSpPr/>
          <p:nvPr/>
        </p:nvSpPr>
        <p:spPr>
          <a:xfrm>
            <a:off x="5873760" y="3579840"/>
            <a:ext cx="230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XXXXXXXXXX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6372360" y="452520"/>
            <a:ext cx="230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XXXXXXXXXX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1"/>
          <p:cNvSpPr/>
          <p:nvPr/>
        </p:nvSpPr>
        <p:spPr>
          <a:xfrm>
            <a:off x="401760" y="3147840"/>
            <a:ext cx="230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XXXXXXXXXX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 16"/>
          <p:cNvSpPr/>
          <p:nvPr/>
        </p:nvSpPr>
        <p:spPr>
          <a:xfrm>
            <a:off x="352440" y="2927520"/>
            <a:ext cx="2406600" cy="16048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圆角矩形 17"/>
          <p:cNvSpPr/>
          <p:nvPr/>
        </p:nvSpPr>
        <p:spPr>
          <a:xfrm>
            <a:off x="5775480" y="3413160"/>
            <a:ext cx="2406600" cy="16066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圆角矩形 22"/>
          <p:cNvSpPr/>
          <p:nvPr/>
        </p:nvSpPr>
        <p:spPr>
          <a:xfrm>
            <a:off x="6265800" y="260280"/>
            <a:ext cx="2405160" cy="16066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圆角矩形 23"/>
          <p:cNvSpPr/>
          <p:nvPr/>
        </p:nvSpPr>
        <p:spPr>
          <a:xfrm>
            <a:off x="150840" y="358920"/>
            <a:ext cx="2405160" cy="16048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05:54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0:23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