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27EAD-ADCB-4858-91E9-D3A8E14B7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142640"/>
            <a:ext cx="822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172680"/>
            <a:ext cx="822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30ECA-3AD3-4527-9AE8-C9237F8C5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8E7DE-F9C1-4174-8210-40DEC686F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4264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14264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14264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17268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17268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17268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4199F-31AE-4F21-8130-5739E3400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4E734-3690-4318-99FF-147C40EA3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142640"/>
            <a:ext cx="8229600" cy="38862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1C7C4-AA6D-4A02-A48D-449B122CA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142640"/>
            <a:ext cx="82296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EEFD9-F871-411A-9615-5E20A8CDC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6EAED-B60D-4D6E-9A85-7AA32C09F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1310F-B946-4219-9A3C-5EFE2BB26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00CD3-8730-4B27-AA3F-07BC40A98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CE829-4A6D-46E8-8A33-9836A3DE7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142640"/>
            <a:ext cx="8229600" cy="38862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7B84E-660A-469F-90C8-52CBD35A8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82B9D-6503-4374-A7D6-93C026D73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172680"/>
            <a:ext cx="822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01F1B-E56F-4737-961C-810B0544E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42640"/>
            <a:ext cx="822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172680"/>
            <a:ext cx="822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D92C2-46D5-4604-B9C1-1A25994D7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FF28F-0A0B-4158-8AD2-418EB47666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4264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14264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14264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17268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17268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17268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00C213-422B-4011-BFC6-4ADD43181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135573-2193-4E03-BC04-16720879FF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142640"/>
            <a:ext cx="8229600" cy="38862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D1F447-FDE4-4216-8C2A-EFD74E20D0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142640"/>
            <a:ext cx="82296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E312D8-3FC5-4904-B991-8EADB686A4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7424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E31806-DDE6-44DF-968B-4639A9A228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5F6CB4-90ED-41AA-AB12-5A9A99B0E3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142640"/>
            <a:ext cx="82296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C8EF9-A22A-4B2E-B943-71C860ABE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84AF06-51B3-4CEF-9175-92B099B5A9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424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5720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64A3A1-0568-41B7-AB9B-7A2970B9C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7424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467424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2E12F-B4BD-4BDB-B1DB-E9C2B47F5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67424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457200" y="3172680"/>
            <a:ext cx="822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758162-05E6-4494-8F4D-AEB98B9EF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142640"/>
            <a:ext cx="822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57200" y="3172680"/>
            <a:ext cx="822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010FDA-52E7-4FD0-AC79-1E1DD2FD4C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67424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5720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5"/>
          <p:cNvSpPr>
            <a:spLocks noGrp="1"/>
          </p:cNvSpPr>
          <p:nvPr>
            <p:ph/>
          </p:nvPr>
        </p:nvSpPr>
        <p:spPr>
          <a:xfrm>
            <a:off x="467424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727EFD-BFD3-415A-86FB-01E7C70E79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14264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3239640" y="114264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6022080" y="114264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57200" y="317268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6"/>
          <p:cNvSpPr>
            <a:spLocks noGrp="1"/>
          </p:cNvSpPr>
          <p:nvPr>
            <p:ph/>
          </p:nvPr>
        </p:nvSpPr>
        <p:spPr>
          <a:xfrm>
            <a:off x="3239640" y="317268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7"/>
          <p:cNvSpPr>
            <a:spLocks noGrp="1"/>
          </p:cNvSpPr>
          <p:nvPr>
            <p:ph/>
          </p:nvPr>
        </p:nvSpPr>
        <p:spPr>
          <a:xfrm>
            <a:off x="6022080" y="317268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2A3684-3830-4BB2-84EA-7756761EB9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8656E-9C52-44B0-990F-818E3E299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139F1-D753-4771-AF21-865F8BC08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3B8FD-56BE-44E3-B085-A55355005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EFFE8-9C2F-4B22-9715-7CED10812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9ED24-5E14-4962-B14E-D79EC9AE6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172680"/>
            <a:ext cx="822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8FF66-D4F1-42D7-85FC-FC19803D1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42640"/>
            <a:ext cx="8229600" cy="3886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FD21-CE8C-43AD-924A-C468C6145A11}"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360A-5460-44B9-A478-674D08D25B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142640"/>
            <a:ext cx="8229600" cy="3886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1D9F-E20A-480A-8892-ED1A67038E03}" type="datetime">
              <a:rPr b="0" lang="en-US" sz="1200" spc="-1" strike="noStrike">
                <a:solidFill>
                  <a:srgbClr val="898989"/>
                </a:solidFill>
                <a:latin typeface="Arial"/>
                <a:ea typeface="宋体"/>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6810-DE37-4694-B574-48E7F92451A2}"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68B4-FEC5-4DD8-8D6D-E35760D158EA}"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D40D-E1FE-4A85-9C46-A6F4DAA5FCA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tle 1"/>
          <p:cNvSpPr/>
          <p:nvPr/>
        </p:nvSpPr>
        <p:spPr>
          <a:xfrm>
            <a:off x="4343400" y="685800"/>
            <a:ext cx="4572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文本框 4098"/>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125" name="文本框 4099"/>
          <p:cNvSpPr/>
          <p:nvPr/>
        </p:nvSpPr>
        <p:spPr>
          <a:xfrm>
            <a:off x="3423600" y="324000"/>
            <a:ext cx="3954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医疗</a:t>
            </a:r>
            <a:r>
              <a:rPr b="0" lang="zh-CN" sz="4000" spc="-1" strike="noStrike">
                <a:solidFill>
                  <a:srgbClr val="000000"/>
                </a:solidFill>
                <a:latin typeface="Arial"/>
                <a:ea typeface="Calibri"/>
              </a:rPr>
              <a:t>胶囊金锁</a:t>
            </a:r>
            <a:r>
              <a:rPr b="0" lang="zh-CN" sz="4000" spc="-1" strike="noStrike">
                <a:solidFill>
                  <a:srgbClr val="000000"/>
                </a:solidFill>
                <a:latin typeface="Arial"/>
                <a:ea typeface="宋体"/>
              </a:rPr>
              <a:t>幻灯片免费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371600"/>
            <a:ext cx="8382240" cy="3733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r Text here</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rem ipsum dolor sit amet, consectetuer adip iscing elit, sed diam no nu mmy nibh euismod tincidunt ut laoreet do lore magna aliquam er at volut pat. Ut wisi enim ad mi ni m venia m, quis nostrud exerci tatio n ullamco rper susc ip it lobor tis nisl ut aliquip ex ea commodo cons equat.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1"/>
          <p:cNvSpPr>
            <a:spLocks noGrp="1"/>
          </p:cNvSpPr>
          <p:nvPr>
            <p:ph type="title"/>
          </p:nvPr>
        </p:nvSpPr>
        <p:spPr>
          <a:xfrm>
            <a:off x="380880" y="274680"/>
            <a:ext cx="83822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28" name="文本框 5123"/>
          <p:cNvSpPr/>
          <p:nvPr/>
        </p:nvSpPr>
        <p:spPr>
          <a:xfrm>
            <a:off x="701640" y="1719360"/>
            <a:ext cx="504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ea typeface="Calibri"/>
                <a:hlinkClick r:id="rId1"/>
              </a:rPr>
              <a:t>ppt</a:t>
            </a:r>
            <a:r>
              <a:rPr b="0" lang="zh-CN" sz="1600" spc="-1" strike="noStrike" u="sng">
                <a:solidFill>
                  <a:srgbClr val="0000ff"/>
                </a:solidFill>
                <a:uFillTx/>
                <a:latin typeface="Calibri"/>
                <a:ea typeface="Calibri"/>
                <a:hlinkClick r:id="rId2"/>
              </a:rPr>
              <a:t>模板网站</a:t>
            </a:r>
            <a:r>
              <a:rPr b="0" lang="en-US" sz="1600" spc="-1" strike="noStrike">
                <a:solidFill>
                  <a:srgbClr val="000000"/>
                </a:solidFill>
                <a:latin typeface="Calibri"/>
                <a:ea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132"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DC60-37D6-4174-A977-D58EA144281D}"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txBox="1"/>
          <p:nvPr/>
        </p:nvSpPr>
        <p:spPr>
          <a:xfrm>
            <a:off x="1981080" y="1934640"/>
            <a:ext cx="6858000" cy="454212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r Text her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rem ipsum dolor sit amet, consectetuer adip iscing elit, sed diam no nu mmy nibh euismod tincidunt ut laoreet do lore m agna aliquam er at volut pat. Ut wisi enim ad mi ni m venia m , quis nostrud exerci tatio n ullamco rper susc ip it lobor tis ni sl ut aliquip ex ea commodo cons equat.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uis autem vel eum iriure dolor in hendrerit in vulputate ve 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1"/>
          <p:cNvSpPr>
            <a:spLocks noGrp="1"/>
          </p:cNvSpPr>
          <p:nvPr>
            <p:ph type="title"/>
          </p:nvPr>
        </p:nvSpPr>
        <p:spPr>
          <a:xfrm>
            <a:off x="1978200" y="380880"/>
            <a:ext cx="6860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17:41Z</dcterms:created>
  <dc:creator>幻灯片之家：www.eeppt.com</dc:creator>
  <dc:description>幻灯片之家：www.eeppt.com</dc:description>
  <cp:keywords>幻灯片之家：www.eeppt.com</cp:keywords>
  <dc:language>en-US</dc:language>
  <cp:lastModifiedBy>pc</cp:lastModifiedBy>
  <dcterms:modified xsi:type="dcterms:W3CDTF">2015-11-13T04:31:34Z</dcterms:modified>
  <cp:revision>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