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91D-D53E-48C8-AD0B-4908BB86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D70-01F3-48DD-B6AE-58A1BFD7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52B-49E3-4C12-BE42-E9475551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74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5840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74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5840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9A1-3E8E-469F-924A-DB0CC571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8CF2-D9E3-4BDC-8653-6E523EB0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1C89-44CB-44FB-A181-6A3D0ADA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20A7-4CFD-4243-84A4-414049EB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9AF4-052B-4BB6-829D-27154C07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B38C-4268-49B6-9D02-5DE9B2C9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CDF8-CFAC-491D-963E-4FECB10F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1167-D834-4D7D-A9B1-AE6240A3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AB3-F01E-4A02-8ACF-48D11376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3210-A6AB-4128-BE90-94DC3B52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B2D4-EA09-4471-B60B-62AFA458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9E03-EAD8-47B4-A9FA-42807FBC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631-37D0-4704-82D0-B8D54693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74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5840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74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5840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CE07-1758-4A28-8CEF-09B6D43C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7433-6F89-4A65-B41B-25EECBBD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E078-C4B0-4012-90C7-67B80134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FFD6-FF99-44B6-A1E8-A4929721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7779-9597-420B-A3CB-CFC55AE2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EB51-70B3-4752-8E3D-AE2B9DAC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A78-758F-4B5E-929A-F09EA9C5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7382-0B56-436D-A8DB-B939FA1B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C3C8-BFBC-4BE2-8338-3F15801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EBF7-19CA-4275-946D-139309E4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5EA25-0E7D-4FC2-86C1-C0053A8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4392-6D37-4D70-967F-B90BC08E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6023-F8ED-4200-BABD-2338FB38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074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5840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074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5840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BEEA-8E08-402A-A602-C75A3FF8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F11-551F-4E4E-83DE-66529D2D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D8C-805A-4167-A0FF-DAB442EA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EBB-DCE1-497C-9578-7628D72D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A9E-DC5D-4264-8848-77E45FD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5F6-1282-41B2-B199-EB173ECE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BAE-6E79-4D3B-9DEF-0F6764D4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CD5D-7F5B-4E59-A16E-BF7716A02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5BDA-A141-4EF9-BC2D-E966FEBF926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5CD9-0AA7-45BC-9DAD-5C89856291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E7CA-B718-473F-BF1B-4FF673B65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7432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Times New Roman"/>
              </a:rPr>
              <a:t>98.6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320" y="434340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647440" y="83808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针筒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762120" y="281952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C534-6B05-49D7-AB62-B44BF13243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2666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Times New Roman"/>
              </a:rPr>
              <a:t>Transitional Page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22:13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3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