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819-C510-4334-9CF7-84EB5545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FF5-AD09-4588-AC20-A032E40A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329-D089-4ADD-988E-F48DFCD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C7E-AE3E-42C7-B7F2-CA598E37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749-A614-45A9-B517-19A2AD97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BA5-B4E3-4C1C-AAF0-5B81AB8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AAB5-2EB1-4043-9F59-B86E60A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4499-9ABB-4AD1-B851-A778EA1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DA1-5225-4EAB-8DB3-90B96B9E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BA1-34CA-4EFE-BAF4-D7BD6125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1B04-EA13-4576-9A33-7F813ED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C4F-E4AD-4406-918F-C50AAC0C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C38-610E-47E1-8097-CBD0589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D227-837F-4227-81C0-F1224B3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3793-9080-4C5F-BC2F-15B05C3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5B3-3407-4943-8F22-EB289CF8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6ADF-EE08-47A1-9C36-D834EBC8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E01-1C0E-4FFC-92AF-37844DAF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3B6-C907-447E-9585-D712794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C84-7545-4E9E-A024-E91427E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7EF-261A-4B35-B8A3-FD63C2A1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DFD-C37E-49FF-B078-F8B4D82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7EC-D436-4598-8440-0E81EA3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4A4-D84E-4A2C-9DD4-9DA6B61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3D4E-D204-4A11-A1F7-0CB8BD73A2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14A-952C-4B3C-8BA1-3691A17606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08F-981D-48A9-BF74-0F23C1F52E4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1A3D-766B-443E-967B-08BEA6EB70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643280" y="25002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572000" y="31212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998360" y="501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卡通绘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5121"/>
          <p:cNvSpPr/>
          <p:nvPr/>
        </p:nvSpPr>
        <p:spPr>
          <a:xfrm>
            <a:off x="421164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2072-D5E1-4720-B8BC-7D36FEB4CB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1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