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22CED-C88C-4641-BE2E-03BF96547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C71E8-6DA5-44C4-B29B-D30E9A524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5B41B-A416-4E61-BA0E-D55629C7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CD891-F4CB-4ED0-AA81-C241BFAB9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8A9D0-8088-44CB-AB65-2A33E75A9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B249A-7280-4AFF-94F7-6303921BC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CF651-8905-4C5D-8E0A-4258FD86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5366F-86EC-40A5-A5E6-943E4D4A7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3A7A0-1494-42AF-BC58-DD7CB8E79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DE7EF-F1F7-4F77-A1A2-877CA9054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6A59B-90B0-43C6-9596-C8EDD6096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1205-971D-435B-89F6-32D9C787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D943-9DDB-4A12-8288-5E8736CE0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0B883-17A1-42D9-9CF5-A0CEEC6B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D47EC-6D28-4F1D-B216-F648F59F9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84EF0-ED48-4AA1-9317-FE11B89C0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1A99A7-B02E-4EDC-A9E2-FC4EFE499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09694-D2F9-4916-9895-6F81B70AD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457200" y="1599840"/>
            <a:ext cx="8229600" cy="38098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4CE55-49D6-41EF-8F68-4B8A334C2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64E97-EDD0-422D-8539-524D1E630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C1ADA-F0E8-4961-91A1-2C749E8BA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6705C-9CCD-459B-8A7A-79FE7DC63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8A0D-D3E2-48AF-A9CC-9D8FC7FD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C3F62-3E64-4DD4-ABA8-BA03E822A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AB240-74FC-4170-8241-02BBC2259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E8A51-5D48-46A5-B416-A6A0BF2A9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26F3A-2A2E-4FA9-B9D3-D414AC398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59984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39DAA-452F-41FB-9902-0674EB416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DBA08-DB9E-4FEF-9C72-88142DC3B8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59984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590280"/>
            <a:ext cx="264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84993-AD12-4F4B-8B48-1D7AABB22E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DDC75-6E32-4C4F-A141-206B991E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2D32-A4A8-4DF0-B41A-D5AFD67F4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CEB6-92C9-4B8E-9041-D080BCE3F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CD36-5DC4-44D3-9131-7ACAE2D9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59028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C42E-682D-43B2-854A-65EAD6E77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599840"/>
            <a:ext cx="40158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590280"/>
            <a:ext cx="822960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A15A-4022-461F-AB09-15578FB05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C874-89ED-457D-BCAE-F87C161CDBE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0D69-635B-4366-8C31-3F6C4ACBE9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599840"/>
            <a:ext cx="8229600" cy="3809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CC71-73F2-4C63-A389-F9F21309984C}" type="datetime">
              <a:rPr b="0" lang="en-US" sz="1200" spc="-1" strike="noStrike">
                <a:solidFill>
                  <a:srgbClr val="898989"/>
                </a:solidFill>
                <a:latin typeface="Arial"/>
                <a:ea typeface="宋体"/>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27C7-36E0-4CFD-8FA5-92C819059291}"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E0B2-6017-40F3-A265-C9A29C435565}"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93CB-35AB-4361-9B5F-1E06E87B2B4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2000" y="458640"/>
            <a:ext cx="6429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医院</a:t>
            </a:r>
            <a:r>
              <a:rPr b="1" lang="zh-CN" sz="4000" spc="-1" strike="noStrike">
                <a:solidFill>
                  <a:srgbClr val="ffffff"/>
                </a:solidFill>
                <a:latin typeface="Arial"/>
                <a:ea typeface="宋体"/>
              </a:rPr>
              <a:t>B</a:t>
            </a:r>
            <a:r>
              <a:rPr b="1" lang="zh-CN" sz="4000" spc="-1" strike="noStrike">
                <a:solidFill>
                  <a:srgbClr val="ffffff"/>
                </a:solidFill>
                <a:latin typeface="Arial"/>
                <a:ea typeface="宋体"/>
              </a:rPr>
              <a:t>超幻灯片在线下载</a:t>
            </a:r>
            <a:endParaRPr b="0" lang="en-US" sz="4000" spc="-1" strike="noStrike">
              <a:solidFill>
                <a:srgbClr val="ffffff"/>
              </a:solidFill>
              <a:latin typeface="Arial"/>
            </a:endParaRPr>
          </a:p>
        </p:txBody>
      </p:sp>
      <p:sp>
        <p:nvSpPr>
          <p:cNvPr id="124"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457200" y="1599840"/>
            <a:ext cx="8229600" cy="380988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文本框 5123"/>
          <p:cNvSpPr/>
          <p:nvPr/>
        </p:nvSpPr>
        <p:spPr>
          <a:xfrm>
            <a:off x="1108080" y="536400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ea typeface="Calibri"/>
                <a:hlinkClick r:id="rId1"/>
              </a:rPr>
              <a:t>ppt</a:t>
            </a:r>
            <a:r>
              <a:rPr b="0" lang="zh-CN" sz="1600" spc="-1" strike="noStrike" u="sng">
                <a:solidFill>
                  <a:srgbClr val="0000ff"/>
                </a:solidFill>
                <a:uFillTx/>
                <a:latin typeface="Calibri"/>
                <a:ea typeface="Calibri"/>
                <a:hlinkClick r:id="rId2"/>
              </a:rPr>
              <a:t>模板网站</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A7AD-839E-429D-8A7D-36A5EB32CBE2}"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1080" y="4568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a typeface="宋体"/>
            </a:endParaRPr>
          </a:p>
        </p:txBody>
      </p:sp>
      <p:sp>
        <p:nvSpPr>
          <p:cNvPr id="133" name=""/>
          <p:cNvSpPr txBox="1"/>
          <p:nvPr/>
        </p:nvSpPr>
        <p:spPr>
          <a:xfrm>
            <a:off x="1981080" y="1935000"/>
            <a:ext cx="6858000" cy="4694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Lorem ipsum dolor sit amet, consectetuer adip iscing elit, sed diam no nu mmy nibh euismod tincidunt ut laoreet do lore magna aliquam er at volut pat. Ut wisi enim ad mi ni m venia m, quis nostrud exerci tatio n ulla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uis autem vel eum iriure dolor in hendrerit in vulputate vel 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0:46:57Z</dcterms:created>
  <dc:creator>幻灯片之家：www.eeppt.com</dc:creator>
  <dc:description>幻灯片之家：www.eeppt.com</dc:description>
  <cp:keywords>幻灯片之家：www.eeppt.com</cp:keywords>
  <dc:language>en-US</dc:language>
  <cp:lastModifiedBy>pc</cp:lastModifiedBy>
  <dcterms:modified xsi:type="dcterms:W3CDTF">2015-11-13T04:31:42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