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83D8-CD39-4336-BEBA-884C96B3B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0C0C-1C32-42F7-A6D1-B92441388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1B05-3CE4-4CEA-AE71-81E7A1DAA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3352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596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9840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09B3-1E39-4678-9EE5-81A3EDF8B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37D6E-2C3A-4178-98B8-B2527D74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B2777-EEEA-4F10-A800-572157D3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2590B-0F84-4679-ACCF-EE95BE79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19718-4108-4AD3-A638-455CBAB4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402A6-3C50-46C5-ABC3-1238C02F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EEE18-67F1-4939-BF36-2B867D0B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909AC-97F8-4CC6-9DB1-87D8AF3F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A4D4-5B4A-426B-B182-A50BD20EF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10FD7-94E6-446A-8443-6DDFD53C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8573C-CA46-4795-BC40-428B9FB5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72A82-1B3F-4A02-B0B1-861CFE6D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3FE0C-6EF3-46C7-9A06-7E2C8034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352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596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840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741BA-7A38-4EC7-93EA-84EEF457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CB82-41D9-492F-AEAF-BFF280018B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3352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596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9840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CAF5-5CA9-459C-AC43-38E64D027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9F32-A766-46E6-98BA-D1365C552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C3DE-E384-4ECD-B8EC-8E0B3B257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EA68-B085-463A-AEF9-7D8D3CBC2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A0F8-1D1A-448B-9129-55EDAD716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1AEA-4A2C-4C7E-9E8E-F8E9C531B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对象 1025" descr=""/>
          <p:cNvPicPr/>
          <p:nvPr/>
        </p:nvPicPr>
        <p:blipFill>
          <a:blip r:embed="rId2"/>
          <a:stretch/>
        </p:blipFill>
        <p:spPr>
          <a:xfrm>
            <a:off x="3419640" y="3125880"/>
            <a:ext cx="5724360" cy="3732120"/>
          </a:xfrm>
          <a:prstGeom prst="rect">
            <a:avLst/>
          </a:prstGeom>
          <a:ln w="0">
            <a:noFill/>
          </a:ln>
        </p:spPr>
      </p:pic>
      <p:sp>
        <p:nvSpPr>
          <p:cNvPr id="1" name="矩形 1026"/>
          <p:cNvSpPr/>
          <p:nvPr/>
        </p:nvSpPr>
        <p:spPr>
          <a:xfrm>
            <a:off x="60480" y="0"/>
            <a:ext cx="9083520" cy="11127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矩形 1027"/>
          <p:cNvSpPr/>
          <p:nvPr/>
        </p:nvSpPr>
        <p:spPr>
          <a:xfrm>
            <a:off x="0" y="1125360"/>
            <a:ext cx="288432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矩形 1028"/>
          <p:cNvSpPr/>
          <p:nvPr/>
        </p:nvSpPr>
        <p:spPr>
          <a:xfrm>
            <a:off x="0" y="1095480"/>
            <a:ext cx="914400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" name="组合 1029"/>
          <p:cNvGrpSpPr/>
          <p:nvPr/>
        </p:nvGrpSpPr>
        <p:grpSpPr>
          <a:xfrm>
            <a:off x="0" y="907920"/>
            <a:ext cx="9143640" cy="144720"/>
            <a:chOff x="0" y="907920"/>
            <a:chExt cx="9143640" cy="144720"/>
          </a:xfrm>
        </p:grpSpPr>
        <p:grpSp>
          <p:nvGrpSpPr>
            <p:cNvPr id="5" name=""/>
            <p:cNvGrpSpPr/>
            <p:nvPr/>
          </p:nvGrpSpPr>
          <p:grpSpPr>
            <a:xfrm>
              <a:off x="0" y="907920"/>
              <a:ext cx="9143640" cy="360"/>
              <a:chOff x="0" y="907920"/>
              <a:chExt cx="9143640" cy="360"/>
            </a:xfrm>
          </p:grpSpPr>
          <p:sp>
            <p:nvSpPr>
              <p:cNvPr id="6" name="直接连接符 1030"/>
              <p:cNvSpPr/>
              <p:nvPr/>
            </p:nvSpPr>
            <p:spPr>
              <a:xfrm>
                <a:off x="0" y="907920"/>
                <a:ext cx="914364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 txBox="1"/>
              <p:nvPr/>
            </p:nvSpPr>
            <p:spPr>
              <a:xfrm>
                <a:off x="0" y="907920"/>
                <a:ext cx="914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0" y="979200"/>
              <a:ext cx="9143640" cy="360"/>
              <a:chOff x="0" y="979200"/>
              <a:chExt cx="9143640" cy="360"/>
            </a:xfrm>
          </p:grpSpPr>
          <p:sp>
            <p:nvSpPr>
              <p:cNvPr id="9" name="直接连接符 1031"/>
              <p:cNvSpPr/>
              <p:nvPr/>
            </p:nvSpPr>
            <p:spPr>
              <a:xfrm>
                <a:off x="0" y="979200"/>
                <a:ext cx="914364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 txBox="1"/>
              <p:nvPr/>
            </p:nvSpPr>
            <p:spPr>
              <a:xfrm>
                <a:off x="0" y="979200"/>
                <a:ext cx="914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0" y="1052280"/>
              <a:ext cx="9143640" cy="360"/>
              <a:chOff x="0" y="1052280"/>
              <a:chExt cx="9143640" cy="360"/>
            </a:xfrm>
          </p:grpSpPr>
          <p:sp>
            <p:nvSpPr>
              <p:cNvPr id="12" name="直接连接符 1032"/>
              <p:cNvSpPr/>
              <p:nvPr/>
            </p:nvSpPr>
            <p:spPr>
              <a:xfrm>
                <a:off x="0" y="1052280"/>
                <a:ext cx="914364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 txBox="1"/>
              <p:nvPr/>
            </p:nvSpPr>
            <p:spPr>
              <a:xfrm>
                <a:off x="0" y="1052280"/>
                <a:ext cx="914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图片 1033" descr="m_10_page"/>
          <p:cNvPicPr/>
          <p:nvPr/>
        </p:nvPicPr>
        <p:blipFill>
          <a:blip r:embed="rId3"/>
          <a:stretch/>
        </p:blipFill>
        <p:spPr>
          <a:xfrm>
            <a:off x="-11160" y="-11160"/>
            <a:ext cx="2841840" cy="109080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1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c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790E-8D36-4E7F-B58A-7C93FFD2F1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5867280" y="648288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A1E8-BE0A-48FE-AD10-294E6027CB4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AFDD-6501-4AEF-8DF0-64C17E2F83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049"/>
          <p:cNvSpPr/>
          <p:nvPr/>
        </p:nvSpPr>
        <p:spPr>
          <a:xfrm>
            <a:off x="2886120" y="2732040"/>
            <a:ext cx="625788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矩形 2050"/>
          <p:cNvSpPr/>
          <p:nvPr/>
        </p:nvSpPr>
        <p:spPr>
          <a:xfrm>
            <a:off x="0" y="2660760"/>
            <a:ext cx="914400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文本框 2053"/>
          <p:cNvSpPr/>
          <p:nvPr/>
        </p:nvSpPr>
        <p:spPr>
          <a:xfrm>
            <a:off x="457200" y="6019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宋体"/>
              </a:rPr>
              <a:t>L o g 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c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4097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d528d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1d528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文本框 4098"/>
          <p:cNvSpPr/>
          <p:nvPr/>
        </p:nvSpPr>
        <p:spPr>
          <a:xfrm>
            <a:off x="1326600" y="3352680"/>
            <a:ext cx="582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528d"/>
                </a:solidFill>
                <a:latin typeface="Arial"/>
                <a:ea typeface="Arial"/>
              </a:rPr>
              <a:t>医药模板白色商务</a:t>
            </a:r>
            <a:r>
              <a:rPr b="0" lang="zh-CN" sz="4000" spc="-1" strike="noStrike">
                <a:solidFill>
                  <a:srgbClr val="1d528d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1d528d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1d528d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组合 13314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14" name="圆角矩形 13315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5" name="圆角矩形 13316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6" name="圆角矩形 13317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7" name="燕尾形 13318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8" name="燕尾形 13319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9" name="椭圆 13320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7c8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0" name="椭圆 13321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7c8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1" name="椭圆 13322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a4345"/>
                </a:gs>
                <a:gs pos="50000">
                  <a:srgbClr val="ff7c80"/>
                </a:gs>
                <a:gs pos="100000">
                  <a:srgbClr val="8a43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2" name="椭圆 13323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a24f51"/>
                </a:gs>
                <a:gs pos="100000">
                  <a:srgbClr val="ff7c8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3" name="椭圆 13324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4" name="椭圆 13325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5" name="椭圆 13326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6" name="椭圆 13327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7" name="椭圆 13328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8" name="椭圆 13329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9" name="组合 13330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30" name="椭圆 13331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1" name="椭圆 13332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2" name="椭圆 13333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椭圆 13334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34" name="椭圆 13335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2b14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椭圆 13336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72b143">
                    <a:alpha val="32156"/>
                  </a:srgbClr>
                </a:gs>
                <a:gs pos="100000">
                  <a:srgbClr val="3552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6" name="椭圆 13337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3e6024"/>
                </a:gs>
                <a:gs pos="50000">
                  <a:srgbClr val="72b143"/>
                </a:gs>
                <a:gs pos="100000">
                  <a:srgbClr val="3e602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椭圆 13338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8702b"/>
                </a:gs>
                <a:gs pos="100000">
                  <a:srgbClr val="72b14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椭圆 13339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组合 13340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340" name="椭圆 13341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椭圆 13342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2" name="椭圆 13343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3" name="椭圆 13344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44" name="组合 13345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45" name="椭圆 13346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椭圆 13347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椭圆 13348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椭圆 13349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9" name="文本框 13350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文本框 13351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文本框 13352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组合 14337"/>
          <p:cNvGrpSpPr/>
          <p:nvPr/>
        </p:nvGrpSpPr>
        <p:grpSpPr>
          <a:xfrm>
            <a:off x="1371600" y="1371600"/>
            <a:ext cx="5715000" cy="5330880"/>
            <a:chOff x="1371600" y="1371600"/>
            <a:chExt cx="5715000" cy="5330880"/>
          </a:xfrm>
        </p:grpSpPr>
        <p:sp>
          <p:nvSpPr>
            <p:cNvPr id="354" name="矩形 14338"/>
            <p:cNvSpPr/>
            <p:nvPr/>
          </p:nvSpPr>
          <p:spPr>
            <a:xfrm rot="13770000">
              <a:off x="4707000" y="39589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矩形 14339"/>
            <p:cNvSpPr/>
            <p:nvPr/>
          </p:nvSpPr>
          <p:spPr>
            <a:xfrm rot="20856000">
              <a:off x="2679480" y="34761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6" name="矩形 14340"/>
            <p:cNvSpPr/>
            <p:nvPr/>
          </p:nvSpPr>
          <p:spPr>
            <a:xfrm rot="18394200">
              <a:off x="4842000" y="23205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组合 14341"/>
            <p:cNvGrpSpPr/>
            <p:nvPr/>
          </p:nvGrpSpPr>
          <p:grpSpPr>
            <a:xfrm>
              <a:off x="3643200" y="2354400"/>
              <a:ext cx="1652760" cy="1684080"/>
              <a:chOff x="3643200" y="2354400"/>
              <a:chExt cx="1652760" cy="1684080"/>
            </a:xfrm>
          </p:grpSpPr>
          <p:grpSp>
            <p:nvGrpSpPr>
              <p:cNvPr id="358" name="组合 14342"/>
              <p:cNvGrpSpPr/>
              <p:nvPr/>
            </p:nvGrpSpPr>
            <p:grpSpPr>
              <a:xfrm>
                <a:off x="3643200" y="2354400"/>
                <a:ext cx="1652760" cy="1684080"/>
                <a:chOff x="3643200" y="2354400"/>
                <a:chExt cx="1652760" cy="1684080"/>
              </a:xfrm>
            </p:grpSpPr>
            <p:sp>
              <p:nvSpPr>
                <p:cNvPr id="359" name="椭圆 14343"/>
                <p:cNvSpPr/>
                <p:nvPr/>
              </p:nvSpPr>
              <p:spPr>
                <a:xfrm>
                  <a:off x="3643200" y="23544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60" name="未知"/>
                <p:cNvSpPr/>
                <p:nvPr/>
              </p:nvSpPr>
              <p:spPr>
                <a:xfrm>
                  <a:off x="3831840" y="23821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文本框 14345"/>
              <p:cNvSpPr/>
              <p:nvPr/>
            </p:nvSpPr>
            <p:spPr>
              <a:xfrm>
                <a:off x="3750120" y="30866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2" name="组合 14346"/>
            <p:cNvGrpSpPr/>
            <p:nvPr/>
          </p:nvGrpSpPr>
          <p:grpSpPr>
            <a:xfrm>
              <a:off x="5089680" y="1371600"/>
              <a:ext cx="925200" cy="912960"/>
              <a:chOff x="5089680" y="1371600"/>
              <a:chExt cx="925200" cy="912960"/>
            </a:xfrm>
          </p:grpSpPr>
          <p:grpSp>
            <p:nvGrpSpPr>
              <p:cNvPr id="363" name="组合 14347"/>
              <p:cNvGrpSpPr/>
              <p:nvPr/>
            </p:nvGrpSpPr>
            <p:grpSpPr>
              <a:xfrm>
                <a:off x="5089680" y="1371600"/>
                <a:ext cx="894600" cy="912960"/>
                <a:chOff x="5089680" y="1371600"/>
                <a:chExt cx="894600" cy="912960"/>
              </a:xfrm>
            </p:grpSpPr>
            <p:sp>
              <p:nvSpPr>
                <p:cNvPr id="364" name="椭圆 14348"/>
                <p:cNvSpPr/>
                <p:nvPr/>
              </p:nvSpPr>
              <p:spPr>
                <a:xfrm>
                  <a:off x="5089680" y="13716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143"/>
                    </a:gs>
                    <a:gs pos="100000">
                      <a:srgbClr val="1c2b1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65" name="未知"/>
                <p:cNvSpPr/>
                <p:nvPr/>
              </p:nvSpPr>
              <p:spPr>
                <a:xfrm>
                  <a:off x="5191920" y="13867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2b1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文本框 14350"/>
              <p:cNvSpPr/>
              <p:nvPr/>
            </p:nvSpPr>
            <p:spPr>
              <a:xfrm>
                <a:off x="5105520" y="17222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7" name="组合 14351"/>
            <p:cNvGrpSpPr/>
            <p:nvPr/>
          </p:nvGrpSpPr>
          <p:grpSpPr>
            <a:xfrm>
              <a:off x="1371600" y="2705040"/>
              <a:ext cx="1790640" cy="1895400"/>
              <a:chOff x="1371600" y="2705040"/>
              <a:chExt cx="1790640" cy="1895400"/>
            </a:xfrm>
          </p:grpSpPr>
          <p:grpSp>
            <p:nvGrpSpPr>
              <p:cNvPr id="368" name="组合 14352"/>
              <p:cNvGrpSpPr/>
              <p:nvPr/>
            </p:nvGrpSpPr>
            <p:grpSpPr>
              <a:xfrm>
                <a:off x="1371600" y="2705040"/>
                <a:ext cx="1790640" cy="1895400"/>
                <a:chOff x="1371600" y="2705040"/>
                <a:chExt cx="1790640" cy="1895400"/>
              </a:xfrm>
            </p:grpSpPr>
            <p:sp>
              <p:nvSpPr>
                <p:cNvPr id="369" name="椭圆 14353"/>
                <p:cNvSpPr/>
                <p:nvPr/>
              </p:nvSpPr>
              <p:spPr>
                <a:xfrm>
                  <a:off x="1371600" y="27050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70" name="未知"/>
                <p:cNvSpPr/>
                <p:nvPr/>
              </p:nvSpPr>
              <p:spPr>
                <a:xfrm>
                  <a:off x="1576080" y="27363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文本框 14355"/>
              <p:cNvSpPr/>
              <p:nvPr/>
            </p:nvSpPr>
            <p:spPr>
              <a:xfrm>
                <a:off x="1487880" y="354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72" name="组合 14356"/>
            <p:cNvGrpSpPr/>
            <p:nvPr/>
          </p:nvGrpSpPr>
          <p:grpSpPr>
            <a:xfrm>
              <a:off x="5021280" y="4108320"/>
              <a:ext cx="2065320" cy="2105280"/>
              <a:chOff x="5021280" y="4108320"/>
              <a:chExt cx="2065320" cy="2105280"/>
            </a:xfrm>
          </p:grpSpPr>
          <p:grpSp>
            <p:nvGrpSpPr>
              <p:cNvPr id="373" name="组合 14357"/>
              <p:cNvGrpSpPr/>
              <p:nvPr/>
            </p:nvGrpSpPr>
            <p:grpSpPr>
              <a:xfrm>
                <a:off x="5021280" y="4108320"/>
                <a:ext cx="2065320" cy="2105280"/>
                <a:chOff x="5021280" y="4108320"/>
                <a:chExt cx="2065320" cy="2105280"/>
              </a:xfrm>
            </p:grpSpPr>
            <p:sp>
              <p:nvSpPr>
                <p:cNvPr id="374" name="椭圆 14358"/>
                <p:cNvSpPr/>
                <p:nvPr/>
              </p:nvSpPr>
              <p:spPr>
                <a:xfrm>
                  <a:off x="5021280" y="41083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340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75" name="未知"/>
                <p:cNvSpPr/>
                <p:nvPr/>
              </p:nvSpPr>
              <p:spPr>
                <a:xfrm>
                  <a:off x="5257080" y="41432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7c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文本框 14360"/>
              <p:cNvSpPr/>
              <p:nvPr/>
            </p:nvSpPr>
            <p:spPr>
              <a:xfrm>
                <a:off x="5336280" y="50205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7" name="椭圆 14361"/>
            <p:cNvSpPr/>
            <p:nvPr/>
          </p:nvSpPr>
          <p:spPr>
            <a:xfrm>
              <a:off x="1577880" y="46702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8" name="椭圆 14362"/>
            <p:cNvSpPr/>
            <p:nvPr/>
          </p:nvSpPr>
          <p:spPr>
            <a:xfrm>
              <a:off x="3781440" y="40417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椭圆 14363"/>
            <p:cNvSpPr/>
            <p:nvPr/>
          </p:nvSpPr>
          <p:spPr>
            <a:xfrm>
              <a:off x="5365800" y="62136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椭圆 14364"/>
            <p:cNvSpPr/>
            <p:nvPr/>
          </p:nvSpPr>
          <p:spPr>
            <a:xfrm>
              <a:off x="5227560" y="23544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组合 15362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85" name="右箭头 15363"/>
            <p:cNvSpPr/>
            <p:nvPr/>
          </p:nvSpPr>
          <p:spPr>
            <a:xfrm rot="17973000">
              <a:off x="4559760" y="253260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右箭头 15364"/>
            <p:cNvSpPr/>
            <p:nvPr/>
          </p:nvSpPr>
          <p:spPr>
            <a:xfrm rot="3465600">
              <a:off x="4610520" y="464256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右箭头 15365"/>
            <p:cNvSpPr/>
            <p:nvPr/>
          </p:nvSpPr>
          <p:spPr>
            <a:xfrm rot="14368800">
              <a:off x="3391200" y="2554920"/>
              <a:ext cx="792000" cy="288720"/>
            </a:xfrm>
            <a:prstGeom prst="rightArrow">
              <a:avLst>
                <a:gd name="adj1" fmla="val 35167"/>
                <a:gd name="adj2" fmla="val 111072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右箭头 15366"/>
            <p:cNvSpPr/>
            <p:nvPr/>
          </p:nvSpPr>
          <p:spPr>
            <a:xfrm rot="7534800">
              <a:off x="3353040" y="460908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右箭头 1536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84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0" name="右箭头 1536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68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1" name="椭圆 1536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文本框 1537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文本框 1537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文本框 1537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文本框 1537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文本框 1537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文本框 1537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8" name="椭圆 1537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9" name="椭圆 1537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椭圆 1537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椭圆 1537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椭圆 1538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椭圆 1538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椭圆 1538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7c8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椭圆 15383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ff7c8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椭圆 1538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a4345"/>
                </a:gs>
                <a:gs pos="50000">
                  <a:srgbClr val="ff7c80"/>
                </a:gs>
                <a:gs pos="100000">
                  <a:srgbClr val="8a43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椭圆 15385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a24f51"/>
                </a:gs>
                <a:gs pos="100000">
                  <a:srgbClr val="ff7c8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椭圆 1538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组合 1538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10" name="椭圆 1538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椭圆 1538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椭圆 1539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3" name="椭圆 1539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4" name="文本框 1539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组合 16386"/>
          <p:cNvGrpSpPr/>
          <p:nvPr/>
        </p:nvGrpSpPr>
        <p:grpSpPr>
          <a:xfrm>
            <a:off x="1219320" y="1832040"/>
            <a:ext cx="2163600" cy="3165480"/>
            <a:chOff x="1219320" y="1832040"/>
            <a:chExt cx="2163600" cy="3165480"/>
          </a:xfrm>
        </p:grpSpPr>
        <p:sp>
          <p:nvSpPr>
            <p:cNvPr id="418" name="圆角矩形 16387"/>
            <p:cNvSpPr/>
            <p:nvPr/>
          </p:nvSpPr>
          <p:spPr>
            <a:xfrm>
              <a:off x="121932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圆角矩形 16388"/>
            <p:cNvSpPr/>
            <p:nvPr/>
          </p:nvSpPr>
          <p:spPr>
            <a:xfrm>
              <a:off x="125280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圆角矩形 16389"/>
            <p:cNvSpPr/>
            <p:nvPr/>
          </p:nvSpPr>
          <p:spPr>
            <a:xfrm>
              <a:off x="127008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圆角矩形 16390"/>
            <p:cNvSpPr/>
            <p:nvPr/>
          </p:nvSpPr>
          <p:spPr>
            <a:xfrm>
              <a:off x="127008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2" name="组合 16391"/>
            <p:cNvGrpSpPr/>
            <p:nvPr/>
          </p:nvGrpSpPr>
          <p:grpSpPr>
            <a:xfrm>
              <a:off x="1963800" y="1832040"/>
              <a:ext cx="642960" cy="642960"/>
              <a:chOff x="1963800" y="1832040"/>
              <a:chExt cx="642960" cy="642960"/>
            </a:xfrm>
          </p:grpSpPr>
          <p:sp>
            <p:nvSpPr>
              <p:cNvPr id="423" name="椭圆 16392"/>
              <p:cNvSpPr/>
              <p:nvPr/>
            </p:nvSpPr>
            <p:spPr>
              <a:xfrm>
                <a:off x="196380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4" name="椭圆 16393"/>
              <p:cNvSpPr/>
              <p:nvPr/>
            </p:nvSpPr>
            <p:spPr>
              <a:xfrm>
                <a:off x="197028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5" name="椭圆 16394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椭圆 16395"/>
              <p:cNvSpPr/>
              <p:nvPr/>
            </p:nvSpPr>
            <p:spPr>
              <a:xfrm>
                <a:off x="198468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椭圆 16396"/>
              <p:cNvSpPr/>
              <p:nvPr/>
            </p:nvSpPr>
            <p:spPr>
              <a:xfrm>
                <a:off x="201852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8" name="文本框 16397"/>
            <p:cNvSpPr/>
            <p:nvPr/>
          </p:nvSpPr>
          <p:spPr>
            <a:xfrm>
              <a:off x="210384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文本框 16398"/>
            <p:cNvSpPr/>
            <p:nvPr/>
          </p:nvSpPr>
          <p:spPr>
            <a:xfrm>
              <a:off x="129564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30" name="组合 16399"/>
          <p:cNvGrpSpPr/>
          <p:nvPr/>
        </p:nvGrpSpPr>
        <p:grpSpPr>
          <a:xfrm>
            <a:off x="3581280" y="1832040"/>
            <a:ext cx="2163600" cy="3165480"/>
            <a:chOff x="3581280" y="1832040"/>
            <a:chExt cx="2163600" cy="3165480"/>
          </a:xfrm>
        </p:grpSpPr>
        <p:sp>
          <p:nvSpPr>
            <p:cNvPr id="431" name="圆角矩形 16400"/>
            <p:cNvSpPr/>
            <p:nvPr/>
          </p:nvSpPr>
          <p:spPr>
            <a:xfrm>
              <a:off x="358128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圆角矩形 16401"/>
            <p:cNvSpPr/>
            <p:nvPr/>
          </p:nvSpPr>
          <p:spPr>
            <a:xfrm>
              <a:off x="361476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圆角矩形 16402"/>
            <p:cNvSpPr/>
            <p:nvPr/>
          </p:nvSpPr>
          <p:spPr>
            <a:xfrm>
              <a:off x="363204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圆角矩形 16403"/>
            <p:cNvSpPr/>
            <p:nvPr/>
          </p:nvSpPr>
          <p:spPr>
            <a:xfrm>
              <a:off x="363204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椭圆 16404"/>
            <p:cNvSpPr/>
            <p:nvPr/>
          </p:nvSpPr>
          <p:spPr>
            <a:xfrm>
              <a:off x="432576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椭圆 16405"/>
            <p:cNvSpPr/>
            <p:nvPr/>
          </p:nvSpPr>
          <p:spPr>
            <a:xfrm>
              <a:off x="4332240" y="18367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椭圆 16406"/>
            <p:cNvSpPr/>
            <p:nvPr/>
          </p:nvSpPr>
          <p:spPr>
            <a:xfrm>
              <a:off x="4340160" y="18399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椭圆 16407"/>
            <p:cNvSpPr/>
            <p:nvPr/>
          </p:nvSpPr>
          <p:spPr>
            <a:xfrm>
              <a:off x="4346280" y="18464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椭圆 16408"/>
            <p:cNvSpPr/>
            <p:nvPr/>
          </p:nvSpPr>
          <p:spPr>
            <a:xfrm>
              <a:off x="4381560" y="18622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文本框 16409"/>
            <p:cNvSpPr/>
            <p:nvPr/>
          </p:nvSpPr>
          <p:spPr>
            <a:xfrm>
              <a:off x="446580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文本框 16410"/>
            <p:cNvSpPr/>
            <p:nvPr/>
          </p:nvSpPr>
          <p:spPr>
            <a:xfrm>
              <a:off x="365760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2" name="组合 16411"/>
          <p:cNvGrpSpPr/>
          <p:nvPr/>
        </p:nvGrpSpPr>
        <p:grpSpPr>
          <a:xfrm>
            <a:off x="5943600" y="1832040"/>
            <a:ext cx="2163600" cy="3165480"/>
            <a:chOff x="5943600" y="1832040"/>
            <a:chExt cx="2163600" cy="3165480"/>
          </a:xfrm>
        </p:grpSpPr>
        <p:sp>
          <p:nvSpPr>
            <p:cNvPr id="443" name="圆角矩形 16412"/>
            <p:cNvSpPr/>
            <p:nvPr/>
          </p:nvSpPr>
          <p:spPr>
            <a:xfrm>
              <a:off x="594360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圆角矩形 16413"/>
            <p:cNvSpPr/>
            <p:nvPr/>
          </p:nvSpPr>
          <p:spPr>
            <a:xfrm>
              <a:off x="597708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圆角矩形 16414"/>
            <p:cNvSpPr/>
            <p:nvPr/>
          </p:nvSpPr>
          <p:spPr>
            <a:xfrm>
              <a:off x="599436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圆角矩形 16415"/>
            <p:cNvSpPr/>
            <p:nvPr/>
          </p:nvSpPr>
          <p:spPr>
            <a:xfrm>
              <a:off x="599436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组合 16416"/>
            <p:cNvGrpSpPr/>
            <p:nvPr/>
          </p:nvGrpSpPr>
          <p:grpSpPr>
            <a:xfrm>
              <a:off x="6688080" y="1832040"/>
              <a:ext cx="642960" cy="642960"/>
              <a:chOff x="6688080" y="1832040"/>
              <a:chExt cx="642960" cy="642960"/>
            </a:xfrm>
          </p:grpSpPr>
          <p:sp>
            <p:nvSpPr>
              <p:cNvPr id="448" name="椭圆 16417"/>
              <p:cNvSpPr/>
              <p:nvPr/>
            </p:nvSpPr>
            <p:spPr>
              <a:xfrm>
                <a:off x="668808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椭圆 16418"/>
              <p:cNvSpPr/>
              <p:nvPr/>
            </p:nvSpPr>
            <p:spPr>
              <a:xfrm>
                <a:off x="669456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0" name="椭圆 16419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椭圆 16420"/>
              <p:cNvSpPr/>
              <p:nvPr/>
            </p:nvSpPr>
            <p:spPr>
              <a:xfrm>
                <a:off x="670896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椭圆 16421"/>
              <p:cNvSpPr/>
              <p:nvPr/>
            </p:nvSpPr>
            <p:spPr>
              <a:xfrm>
                <a:off x="674280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文本框 16422"/>
            <p:cNvSpPr/>
            <p:nvPr/>
          </p:nvSpPr>
          <p:spPr>
            <a:xfrm>
              <a:off x="682812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文本框 16423"/>
            <p:cNvSpPr/>
            <p:nvPr/>
          </p:nvSpPr>
          <p:spPr>
            <a:xfrm>
              <a:off x="601992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5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组合 17410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58" name="组合 17411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59" name="矩形 17412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矩形 17413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1" name="组合 17414"/>
            <p:cNvGrpSpPr/>
            <p:nvPr/>
          </p:nvGrpSpPr>
          <p:grpSpPr>
            <a:xfrm>
              <a:off x="762120" y="2685960"/>
              <a:ext cx="1932120" cy="3265200"/>
              <a:chOff x="762120" y="2685960"/>
              <a:chExt cx="1932120" cy="3265200"/>
            </a:xfrm>
          </p:grpSpPr>
          <p:grpSp>
            <p:nvGrpSpPr>
              <p:cNvPr id="462" name="组合 17415"/>
              <p:cNvGrpSpPr/>
              <p:nvPr/>
            </p:nvGrpSpPr>
            <p:grpSpPr>
              <a:xfrm>
                <a:off x="1167480" y="3525480"/>
                <a:ext cx="1526760" cy="2425680"/>
                <a:chOff x="1167480" y="3525480"/>
                <a:chExt cx="1526760" cy="2425680"/>
              </a:xfrm>
            </p:grpSpPr>
            <p:grpSp>
              <p:nvGrpSpPr>
                <p:cNvPr id="463" name="组合 17416"/>
                <p:cNvGrpSpPr/>
                <p:nvPr/>
              </p:nvGrpSpPr>
              <p:grpSpPr>
                <a:xfrm>
                  <a:off x="1167480" y="3683520"/>
                  <a:ext cx="1420920" cy="2267640"/>
                  <a:chOff x="1167480" y="3683520"/>
                  <a:chExt cx="1420920" cy="2267640"/>
                </a:xfrm>
              </p:grpSpPr>
              <p:sp>
                <p:nvSpPr>
                  <p:cNvPr id="464" name="未知"/>
                  <p:cNvSpPr/>
                  <p:nvPr/>
                </p:nvSpPr>
                <p:spPr>
                  <a:xfrm rot="3876600">
                    <a:off x="739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未知"/>
                  <p:cNvSpPr/>
                  <p:nvPr/>
                </p:nvSpPr>
                <p:spPr>
                  <a:xfrm rot="3876600">
                    <a:off x="2107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组合 17419"/>
                <p:cNvGrpSpPr/>
                <p:nvPr/>
              </p:nvGrpSpPr>
              <p:grpSpPr>
                <a:xfrm>
                  <a:off x="1603800" y="3525480"/>
                  <a:ext cx="1090440" cy="1740240"/>
                  <a:chOff x="1603800" y="3525480"/>
                  <a:chExt cx="1090440" cy="1740240"/>
                </a:xfrm>
              </p:grpSpPr>
              <p:sp>
                <p:nvSpPr>
                  <p:cNvPr id="467" name="未知"/>
                  <p:cNvSpPr/>
                  <p:nvPr/>
                </p:nvSpPr>
                <p:spPr>
                  <a:xfrm flipV="1" rot="3876600">
                    <a:off x="127548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未知"/>
                  <p:cNvSpPr/>
                  <p:nvPr/>
                </p:nvSpPr>
                <p:spPr>
                  <a:xfrm flipV="1" rot="3876600">
                    <a:off x="230904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9" name="组合 17422"/>
              <p:cNvGrpSpPr/>
              <p:nvPr/>
            </p:nvGrpSpPr>
            <p:grpSpPr>
              <a:xfrm>
                <a:off x="762120" y="2685960"/>
                <a:ext cx="1271520" cy="1310040"/>
                <a:chOff x="762120" y="2685960"/>
                <a:chExt cx="1271520" cy="1310040"/>
              </a:xfrm>
            </p:grpSpPr>
            <p:sp>
              <p:nvSpPr>
                <p:cNvPr id="470" name="椭圆 17423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椭圆 17424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椭圆 17425"/>
                <p:cNvSpPr/>
                <p:nvPr/>
              </p:nvSpPr>
              <p:spPr>
                <a:xfrm>
                  <a:off x="8463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3" name="椭圆 17426"/>
                <p:cNvSpPr/>
                <p:nvPr/>
              </p:nvSpPr>
              <p:spPr>
                <a:xfrm>
                  <a:off x="8463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4" name="椭圆 17427"/>
                <p:cNvSpPr/>
                <p:nvPr/>
              </p:nvSpPr>
              <p:spPr>
                <a:xfrm>
                  <a:off x="9007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组合 17428"/>
                <p:cNvGrpSpPr/>
                <p:nvPr/>
              </p:nvGrpSpPr>
              <p:grpSpPr>
                <a:xfrm>
                  <a:off x="916200" y="2844720"/>
                  <a:ext cx="963000" cy="993600"/>
                  <a:chOff x="916200" y="2844720"/>
                  <a:chExt cx="963000" cy="993600"/>
                </a:xfrm>
              </p:grpSpPr>
              <p:sp>
                <p:nvSpPr>
                  <p:cNvPr id="476" name="椭圆 17429"/>
                  <p:cNvSpPr/>
                  <p:nvPr/>
                </p:nvSpPr>
                <p:spPr>
                  <a:xfrm>
                    <a:off x="9162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椭圆 17430"/>
                  <p:cNvSpPr/>
                  <p:nvPr/>
                </p:nvSpPr>
                <p:spPr>
                  <a:xfrm>
                    <a:off x="9284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椭圆 17431"/>
                  <p:cNvSpPr/>
                  <p:nvPr/>
                </p:nvSpPr>
                <p:spPr>
                  <a:xfrm>
                    <a:off x="9385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椭圆 17432"/>
                  <p:cNvSpPr/>
                  <p:nvPr/>
                </p:nvSpPr>
                <p:spPr>
                  <a:xfrm>
                    <a:off x="9907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0" name="文本框 17433"/>
              <p:cNvSpPr/>
              <p:nvPr/>
            </p:nvSpPr>
            <p:spPr>
              <a:xfrm rot="3925800">
                <a:off x="112968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文本框 17434"/>
              <p:cNvSpPr/>
              <p:nvPr/>
            </p:nvSpPr>
            <p:spPr>
              <a:xfrm rot="3925800">
                <a:off x="158976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组合 17435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83" name="组合 17436"/>
              <p:cNvGrpSpPr/>
              <p:nvPr/>
            </p:nvGrpSpPr>
            <p:grpSpPr>
              <a:xfrm>
                <a:off x="2913480" y="3525840"/>
                <a:ext cx="1526760" cy="2425320"/>
                <a:chOff x="2913480" y="3525840"/>
                <a:chExt cx="1526760" cy="2425320"/>
              </a:xfrm>
            </p:grpSpPr>
            <p:grpSp>
              <p:nvGrpSpPr>
                <p:cNvPr id="484" name="组合 17437"/>
                <p:cNvGrpSpPr/>
                <p:nvPr/>
              </p:nvGrpSpPr>
              <p:grpSpPr>
                <a:xfrm>
                  <a:off x="2913480" y="3683520"/>
                  <a:ext cx="1420920" cy="2267640"/>
                  <a:chOff x="2913480" y="3683520"/>
                  <a:chExt cx="1420920" cy="2267640"/>
                </a:xfrm>
              </p:grpSpPr>
              <p:sp>
                <p:nvSpPr>
                  <p:cNvPr id="485" name="未知"/>
                  <p:cNvSpPr/>
                  <p:nvPr/>
                </p:nvSpPr>
                <p:spPr>
                  <a:xfrm rot="3876600">
                    <a:off x="2485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未知"/>
                  <p:cNvSpPr/>
                  <p:nvPr/>
                </p:nvSpPr>
                <p:spPr>
                  <a:xfrm rot="3876600">
                    <a:off x="3853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组合 17440"/>
                <p:cNvGrpSpPr/>
                <p:nvPr/>
              </p:nvGrpSpPr>
              <p:grpSpPr>
                <a:xfrm>
                  <a:off x="3350160" y="3525840"/>
                  <a:ext cx="1090080" cy="1739880"/>
                  <a:chOff x="3350160" y="3525840"/>
                  <a:chExt cx="1090080" cy="1739880"/>
                </a:xfrm>
              </p:grpSpPr>
              <p:sp>
                <p:nvSpPr>
                  <p:cNvPr id="488" name="未知"/>
                  <p:cNvSpPr/>
                  <p:nvPr/>
                </p:nvSpPr>
                <p:spPr>
                  <a:xfrm flipV="1" rot="3876600">
                    <a:off x="3021840" y="42062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未知"/>
                  <p:cNvSpPr/>
                  <p:nvPr/>
                </p:nvSpPr>
                <p:spPr>
                  <a:xfrm flipV="1" rot="3876600">
                    <a:off x="4055400" y="48877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0" name="组合 17443"/>
              <p:cNvGrpSpPr/>
              <p:nvPr/>
            </p:nvGrpSpPr>
            <p:grpSpPr>
              <a:xfrm>
                <a:off x="2509920" y="2685960"/>
                <a:ext cx="1271520" cy="1310040"/>
                <a:chOff x="2509920" y="2685960"/>
                <a:chExt cx="1271520" cy="1310040"/>
              </a:xfrm>
            </p:grpSpPr>
            <p:sp>
              <p:nvSpPr>
                <p:cNvPr id="491" name="椭圆 17444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2" name="椭圆 17445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3" name="椭圆 17446"/>
                <p:cNvSpPr/>
                <p:nvPr/>
              </p:nvSpPr>
              <p:spPr>
                <a:xfrm>
                  <a:off x="25941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4" name="椭圆 17447"/>
                <p:cNvSpPr/>
                <p:nvPr/>
              </p:nvSpPr>
              <p:spPr>
                <a:xfrm>
                  <a:off x="25941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5" name="椭圆 17448"/>
                <p:cNvSpPr/>
                <p:nvPr/>
              </p:nvSpPr>
              <p:spPr>
                <a:xfrm>
                  <a:off x="26485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组合 17449"/>
                <p:cNvGrpSpPr/>
                <p:nvPr/>
              </p:nvGrpSpPr>
              <p:grpSpPr>
                <a:xfrm>
                  <a:off x="2664000" y="2844720"/>
                  <a:ext cx="963000" cy="993600"/>
                  <a:chOff x="2664000" y="2844720"/>
                  <a:chExt cx="963000" cy="993600"/>
                </a:xfrm>
              </p:grpSpPr>
              <p:sp>
                <p:nvSpPr>
                  <p:cNvPr id="497" name="椭圆 17450"/>
                  <p:cNvSpPr/>
                  <p:nvPr/>
                </p:nvSpPr>
                <p:spPr>
                  <a:xfrm>
                    <a:off x="26640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椭圆 17451"/>
                  <p:cNvSpPr/>
                  <p:nvPr/>
                </p:nvSpPr>
                <p:spPr>
                  <a:xfrm>
                    <a:off x="26762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椭圆 17452"/>
                  <p:cNvSpPr/>
                  <p:nvPr/>
                </p:nvSpPr>
                <p:spPr>
                  <a:xfrm>
                    <a:off x="26863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椭圆 17453"/>
                  <p:cNvSpPr/>
                  <p:nvPr/>
                </p:nvSpPr>
                <p:spPr>
                  <a:xfrm>
                    <a:off x="27385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文本框 17454"/>
              <p:cNvSpPr/>
              <p:nvPr/>
            </p:nvSpPr>
            <p:spPr>
              <a:xfrm rot="3925800">
                <a:off x="287172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文本框 17455"/>
              <p:cNvSpPr/>
              <p:nvPr/>
            </p:nvSpPr>
            <p:spPr>
              <a:xfrm rot="3925800">
                <a:off x="33314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组合 17456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504" name="组合 17457"/>
              <p:cNvGrpSpPr/>
              <p:nvPr/>
            </p:nvGrpSpPr>
            <p:grpSpPr>
              <a:xfrm>
                <a:off x="4718520" y="3525480"/>
                <a:ext cx="1526760" cy="2425680"/>
                <a:chOff x="4718520" y="3525480"/>
                <a:chExt cx="1526760" cy="2425680"/>
              </a:xfrm>
            </p:grpSpPr>
            <p:grpSp>
              <p:nvGrpSpPr>
                <p:cNvPr id="505" name="组合 17458"/>
                <p:cNvGrpSpPr/>
                <p:nvPr/>
              </p:nvGrpSpPr>
              <p:grpSpPr>
                <a:xfrm>
                  <a:off x="4718520" y="3683520"/>
                  <a:ext cx="1420920" cy="2267640"/>
                  <a:chOff x="4718520" y="3683520"/>
                  <a:chExt cx="1420920" cy="2267640"/>
                </a:xfrm>
              </p:grpSpPr>
              <p:sp>
                <p:nvSpPr>
                  <p:cNvPr id="506" name="未知"/>
                  <p:cNvSpPr/>
                  <p:nvPr/>
                </p:nvSpPr>
                <p:spPr>
                  <a:xfrm rot="3876600">
                    <a:off x="429084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未知"/>
                  <p:cNvSpPr/>
                  <p:nvPr/>
                </p:nvSpPr>
                <p:spPr>
                  <a:xfrm rot="3876600">
                    <a:off x="565848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组合 17461"/>
                <p:cNvGrpSpPr/>
                <p:nvPr/>
              </p:nvGrpSpPr>
              <p:grpSpPr>
                <a:xfrm>
                  <a:off x="5154840" y="3525480"/>
                  <a:ext cx="1090440" cy="1740240"/>
                  <a:chOff x="5154840" y="3525480"/>
                  <a:chExt cx="1090440" cy="1740240"/>
                </a:xfrm>
              </p:grpSpPr>
              <p:sp>
                <p:nvSpPr>
                  <p:cNvPr id="509" name="未知"/>
                  <p:cNvSpPr/>
                  <p:nvPr/>
                </p:nvSpPr>
                <p:spPr>
                  <a:xfrm flipV="1" rot="3876600">
                    <a:off x="482652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未知"/>
                  <p:cNvSpPr/>
                  <p:nvPr/>
                </p:nvSpPr>
                <p:spPr>
                  <a:xfrm flipV="1" rot="3876600">
                    <a:off x="586008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1" name="组合 17464"/>
              <p:cNvGrpSpPr/>
              <p:nvPr/>
            </p:nvGrpSpPr>
            <p:grpSpPr>
              <a:xfrm>
                <a:off x="4313160" y="2685960"/>
                <a:ext cx="1273320" cy="1310040"/>
                <a:chOff x="4313160" y="2685960"/>
                <a:chExt cx="1273320" cy="1310040"/>
              </a:xfrm>
            </p:grpSpPr>
            <p:sp>
              <p:nvSpPr>
                <p:cNvPr id="512" name="椭圆 17465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17466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14" name="椭圆 17467"/>
                <p:cNvSpPr/>
                <p:nvPr/>
              </p:nvSpPr>
              <p:spPr>
                <a:xfrm>
                  <a:off x="4397400" y="277092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15" name="椭圆 17468"/>
                <p:cNvSpPr/>
                <p:nvPr/>
              </p:nvSpPr>
              <p:spPr>
                <a:xfrm>
                  <a:off x="4397400" y="277380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16" name="椭圆 17469"/>
                <p:cNvSpPr/>
                <p:nvPr/>
              </p:nvSpPr>
              <p:spPr>
                <a:xfrm>
                  <a:off x="4452120" y="2828880"/>
                  <a:ext cx="99504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517" name="组合 17470"/>
                <p:cNvGrpSpPr/>
                <p:nvPr/>
              </p:nvGrpSpPr>
              <p:grpSpPr>
                <a:xfrm>
                  <a:off x="4467240" y="2844720"/>
                  <a:ext cx="964440" cy="993600"/>
                  <a:chOff x="4467240" y="2844720"/>
                  <a:chExt cx="964440" cy="993600"/>
                </a:xfrm>
              </p:grpSpPr>
              <p:sp>
                <p:nvSpPr>
                  <p:cNvPr id="518" name="椭圆 17471"/>
                  <p:cNvSpPr/>
                  <p:nvPr/>
                </p:nvSpPr>
                <p:spPr>
                  <a:xfrm>
                    <a:off x="4467240" y="2844720"/>
                    <a:ext cx="96444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椭圆 17472"/>
                  <p:cNvSpPr/>
                  <p:nvPr/>
                </p:nvSpPr>
                <p:spPr>
                  <a:xfrm>
                    <a:off x="4479480" y="2850120"/>
                    <a:ext cx="9410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椭圆 17473"/>
                  <p:cNvSpPr/>
                  <p:nvPr/>
                </p:nvSpPr>
                <p:spPr>
                  <a:xfrm>
                    <a:off x="4489560" y="2859840"/>
                    <a:ext cx="8949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椭圆 17474"/>
                  <p:cNvSpPr/>
                  <p:nvPr/>
                </p:nvSpPr>
                <p:spPr>
                  <a:xfrm>
                    <a:off x="4541760" y="2885040"/>
                    <a:ext cx="7956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2" name="文本框 17475"/>
              <p:cNvSpPr/>
              <p:nvPr/>
            </p:nvSpPr>
            <p:spPr>
              <a:xfrm rot="3925800">
                <a:off x="468396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3" name="文本框 17476"/>
              <p:cNvSpPr/>
              <p:nvPr/>
            </p:nvSpPr>
            <p:spPr>
              <a:xfrm rot="3925800">
                <a:off x="51440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24" name="组合 17477"/>
            <p:cNvGrpSpPr/>
            <p:nvPr/>
          </p:nvGrpSpPr>
          <p:grpSpPr>
            <a:xfrm>
              <a:off x="6089760" y="2541600"/>
              <a:ext cx="2122560" cy="3476160"/>
              <a:chOff x="6089760" y="2541600"/>
              <a:chExt cx="2122560" cy="3476160"/>
            </a:xfrm>
          </p:grpSpPr>
          <p:grpSp>
            <p:nvGrpSpPr>
              <p:cNvPr id="525" name="组合 17478"/>
              <p:cNvGrpSpPr/>
              <p:nvPr/>
            </p:nvGrpSpPr>
            <p:grpSpPr>
              <a:xfrm>
                <a:off x="6685560" y="3592440"/>
                <a:ext cx="1526760" cy="2425320"/>
                <a:chOff x="6685560" y="3592440"/>
                <a:chExt cx="1526760" cy="2425320"/>
              </a:xfrm>
            </p:grpSpPr>
            <p:grpSp>
              <p:nvGrpSpPr>
                <p:cNvPr id="526" name="组合 17479"/>
                <p:cNvGrpSpPr/>
                <p:nvPr/>
              </p:nvGrpSpPr>
              <p:grpSpPr>
                <a:xfrm>
                  <a:off x="6685560" y="3750120"/>
                  <a:ext cx="1420920" cy="2267640"/>
                  <a:chOff x="6685560" y="3750120"/>
                  <a:chExt cx="1420920" cy="2267640"/>
                </a:xfrm>
              </p:grpSpPr>
              <p:sp>
                <p:nvSpPr>
                  <p:cNvPr id="527" name="未知"/>
                  <p:cNvSpPr/>
                  <p:nvPr/>
                </p:nvSpPr>
                <p:spPr>
                  <a:xfrm rot="3876600">
                    <a:off x="6257880" y="46375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未知"/>
                  <p:cNvSpPr/>
                  <p:nvPr/>
                </p:nvSpPr>
                <p:spPr>
                  <a:xfrm rot="3876600">
                    <a:off x="7625520" y="55166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组合 17482"/>
                <p:cNvGrpSpPr/>
                <p:nvPr/>
              </p:nvGrpSpPr>
              <p:grpSpPr>
                <a:xfrm>
                  <a:off x="7122240" y="3592440"/>
                  <a:ext cx="1090080" cy="1739880"/>
                  <a:chOff x="7122240" y="3592440"/>
                  <a:chExt cx="1090080" cy="1739880"/>
                </a:xfrm>
              </p:grpSpPr>
              <p:sp>
                <p:nvSpPr>
                  <p:cNvPr id="530" name="未知"/>
                  <p:cNvSpPr/>
                  <p:nvPr/>
                </p:nvSpPr>
                <p:spPr>
                  <a:xfrm flipV="1" rot="3876600">
                    <a:off x="6793920" y="42728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未知"/>
                  <p:cNvSpPr/>
                  <p:nvPr/>
                </p:nvSpPr>
                <p:spPr>
                  <a:xfrm flipV="1" rot="3876600">
                    <a:off x="7827480" y="49543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椭圆 17485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椭圆 17486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4" name="椭圆 17487"/>
              <p:cNvSpPr/>
              <p:nvPr/>
            </p:nvSpPr>
            <p:spPr>
              <a:xfrm>
                <a:off x="6191280" y="2644920"/>
                <a:ext cx="1327320" cy="136368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5" name="椭圆 17488"/>
              <p:cNvSpPr/>
              <p:nvPr/>
            </p:nvSpPr>
            <p:spPr>
              <a:xfrm>
                <a:off x="6193080" y="2647800"/>
                <a:ext cx="1326960" cy="136404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6" name="椭圆 17489"/>
              <p:cNvSpPr/>
              <p:nvPr/>
            </p:nvSpPr>
            <p:spPr>
              <a:xfrm>
                <a:off x="6256800" y="2712960"/>
                <a:ext cx="1195200" cy="122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37" name="组合 17490"/>
              <p:cNvGrpSpPr/>
              <p:nvPr/>
            </p:nvGrpSpPr>
            <p:grpSpPr>
              <a:xfrm>
                <a:off x="6275880" y="2732040"/>
                <a:ext cx="1158120" cy="1190520"/>
                <a:chOff x="6275880" y="2732040"/>
                <a:chExt cx="1158120" cy="1190520"/>
              </a:xfrm>
            </p:grpSpPr>
            <p:sp>
              <p:nvSpPr>
                <p:cNvPr id="538" name="椭圆 17491"/>
                <p:cNvSpPr/>
                <p:nvPr/>
              </p:nvSpPr>
              <p:spPr>
                <a:xfrm>
                  <a:off x="6275880" y="2732040"/>
                  <a:ext cx="115812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17492"/>
                <p:cNvSpPr/>
                <p:nvPr/>
              </p:nvSpPr>
              <p:spPr>
                <a:xfrm>
                  <a:off x="6290640" y="2738520"/>
                  <a:ext cx="1130040" cy="116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40" name="椭圆 17493"/>
                <p:cNvSpPr/>
                <p:nvPr/>
              </p:nvSpPr>
              <p:spPr>
                <a:xfrm>
                  <a:off x="6302520" y="2750040"/>
                  <a:ext cx="1074960" cy="108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41" name="椭圆 17494"/>
                <p:cNvSpPr/>
                <p:nvPr/>
              </p:nvSpPr>
              <p:spPr>
                <a:xfrm>
                  <a:off x="6365520" y="2780280"/>
                  <a:ext cx="95544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文本框 17495"/>
              <p:cNvSpPr/>
              <p:nvPr/>
            </p:nvSpPr>
            <p:spPr>
              <a:xfrm rot="3925800">
                <a:off x="6636960" y="4647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文本框 17496"/>
              <p:cNvSpPr/>
              <p:nvPr/>
            </p:nvSpPr>
            <p:spPr>
              <a:xfrm rot="3925800">
                <a:off x="7095960" y="4366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4" name="组合 17497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45" name="文本框 17498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文本框 17499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文本框 17500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文本框 17501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cxnSp>
            <p:nvCxnSpPr>
              <p:cNvPr id="549" name="直接箭头连接符 17502"/>
              <p:cNvCxnSpPr>
                <a:stCxn id="545" idx="3"/>
                <a:endCxn id="546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550" name="直接箭头连接符 17503"/>
              <p:cNvCxnSpPr>
                <a:stCxn id="546" idx="3"/>
                <a:endCxn id="547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551" name="直接箭头连接符 17504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552" name="文本框 17505"/>
          <p:cNvSpPr/>
          <p:nvPr/>
        </p:nvSpPr>
        <p:spPr>
          <a:xfrm>
            <a:off x="685800" y="586728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7c80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7c80"/>
                </a:solidFill>
                <a:uFillTx/>
                <a:latin typeface="Arial"/>
                <a:ea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组合 18434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56" name="圆角矩形 18435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7" name="组合 18436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58" name="圆角矩形 18437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2b143"/>
                  </a:gs>
                  <a:gs pos="100000">
                    <a:srgbClr val="507c2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9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d499"/>
                  </a:gs>
                  <a:gs pos="50000">
                    <a:srgbClr val="72b143">
                      <a:alpha val="0"/>
                    </a:srgbClr>
                  </a:gs>
                  <a:gs pos="100000">
                    <a:srgbClr val="b2d4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文本框 18439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1" name="文本框 18440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62" name="组合 18441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63" name="圆角矩形 18442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4" name="组合 18443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65" name="圆角矩形 18444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a0a3"/>
                  </a:gs>
                  <a:gs pos="100000">
                    <a:srgbClr val="ff7c8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8c9"/>
                  </a:gs>
                  <a:gs pos="100000">
                    <a:srgbClr val="ff7c8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文本框 18446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8" name="文本框 18447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69" name="组合 18448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70" name="圆角矩形 18449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1" name="组合 18450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72" name="圆角矩形 18451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cbcbc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3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969696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4" name="文本框 18453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5" name="文本框 18454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6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圆角矩形 19458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圆角矩形 19459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0" name="圆角矩形 19460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圆角矩形 19461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2" name="组合 19462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83" name="矩形 19463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6393b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4" name="组合 19464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85" name="椭圆 19465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6" name="矩形 19466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7" name="椭圆 19467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8" name="椭圆 19468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9" name="矩形 19469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0" name="组合 19470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91" name="椭圆 19471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2" name="矩形 19472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椭圆 19473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椭圆 19474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5" name="矩形 19475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6393b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6" name="组合 19476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97" name="椭圆 19477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矩形 19478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9" name="椭圆 19479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椭圆 19480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1" name="矩形 19481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矩形 19482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矩形 19483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4" name="矩形 19484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5" name="矩形 19485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矩形 19486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矩形 19487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8" name="矩形 19488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矩形 19489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914400" y="2498760"/>
          <a:ext cx="7467480" cy="319860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3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5" name="组合 21506"/>
          <p:cNvGrpSpPr/>
          <p:nvPr/>
        </p:nvGrpSpPr>
        <p:grpSpPr>
          <a:xfrm>
            <a:off x="1128600" y="1280880"/>
            <a:ext cx="6329520" cy="4665960"/>
            <a:chOff x="1128600" y="1280880"/>
            <a:chExt cx="6329520" cy="4665960"/>
          </a:xfrm>
        </p:grpSpPr>
        <p:sp>
          <p:nvSpPr>
            <p:cNvPr id="616" name="椭圆 21507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7" name="组合 21508"/>
            <p:cNvGrpSpPr/>
            <p:nvPr/>
          </p:nvGrpSpPr>
          <p:grpSpPr>
            <a:xfrm>
              <a:off x="1128600" y="1428840"/>
              <a:ext cx="6329520" cy="4518000"/>
              <a:chOff x="1128600" y="1428840"/>
              <a:chExt cx="6329520" cy="4518000"/>
            </a:xfrm>
          </p:grpSpPr>
          <p:sp>
            <p:nvSpPr>
              <p:cNvPr id="618" name="椭圆 21509"/>
              <p:cNvSpPr/>
              <p:nvPr/>
            </p:nvSpPr>
            <p:spPr>
              <a:xfrm rot="20601600">
                <a:off x="1452240" y="2179440"/>
                <a:ext cx="5686560" cy="3016080"/>
              </a:xfrm>
              <a:prstGeom prst="ellipse">
                <a:avLst/>
              </a:prstGeom>
              <a:gradFill rotWithShape="0">
                <a:gsLst>
                  <a:gs pos="0">
                    <a:srgbClr val="575757"/>
                  </a:gs>
                  <a:gs pos="50000">
                    <a:srgbClr val="dddddd"/>
                  </a:gs>
                  <a:gs pos="100000">
                    <a:srgbClr val="5757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任意多边形 21510"/>
              <p:cNvSpPr/>
              <p:nvPr/>
            </p:nvSpPr>
            <p:spPr>
              <a:xfrm rot="20601600">
                <a:off x="4128840" y="1905120"/>
                <a:ext cx="2849400" cy="1967040"/>
              </a:xfrm>
              <a:custGeom>
                <a:avLst/>
                <a:gdLst/>
                <a:ahLst/>
                <a:rect l="l" t="t" r="r" b="b"/>
                <a:pathLst>
                  <a:path fill="none" w="21600" h="29046">
                    <a:moveTo>
                      <a:pt x="13190" y="0"/>
                    </a:moveTo>
                    <a:cubicBezTo>
                      <a:pt x="18306" y="3949"/>
                      <a:pt x="21600" y="10143"/>
                      <a:pt x="21600" y="17105"/>
                    </a:cubicBezTo>
                    <a:cubicBezTo>
                      <a:pt x="21600" y="21521"/>
                      <a:pt x="20275" y="25628"/>
                      <a:pt x="18001" y="29048"/>
                    </a:cubicBezTo>
                  </a:path>
                  <a:path stroke="0" w="21600" h="29046">
                    <a:moveTo>
                      <a:pt x="17998" y="29046"/>
                    </a:moveTo>
                    <a:cubicBezTo>
                      <a:pt x="18365" y="28558"/>
                      <a:pt x="18753" y="28299"/>
                      <a:pt x="19155" y="28299"/>
                    </a:cubicBezTo>
                    <a:cubicBezTo>
                      <a:pt x="21477" y="28299"/>
                      <a:pt x="23360" y="36963"/>
                      <a:pt x="23360" y="47651"/>
                    </a:cubicBezTo>
                    <a:cubicBezTo>
                      <a:pt x="23360" y="48518"/>
                      <a:pt x="23348" y="49372"/>
                      <a:pt x="23324" y="50203"/>
                    </a:cubicBezTo>
                    <a:lnTo>
                      <a:pt x="1319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7c80"/>
                  </a:gs>
                  <a:gs pos="100000">
                    <a:srgbClr val="ffa8aa"/>
                  </a:gs>
                </a:gsLst>
                <a:lin ang="36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0" name="任意多边形 21511"/>
              <p:cNvSpPr/>
              <p:nvPr/>
            </p:nvSpPr>
            <p:spPr>
              <a:xfrm flipH="1" rot="20602200">
                <a:off x="1716480" y="3780000"/>
                <a:ext cx="3281400" cy="1476360"/>
              </a:xfrm>
              <a:custGeom>
                <a:avLst/>
                <a:gdLst/>
                <a:ahLst/>
                <a:rect l="l" t="t" r="r" b="b"/>
                <a:pathLst>
                  <a:path fill="none" w="25114" h="21600">
                    <a:moveTo>
                      <a:pt x="25114" y="2496"/>
                    </a:moveTo>
                    <a:cubicBezTo>
                      <a:pt x="23874" y="13254"/>
                      <a:pt x="14741" y="21600"/>
                      <a:pt x="3659" y="21600"/>
                    </a:cubicBezTo>
                    <a:cubicBezTo>
                      <a:pt x="2408" y="21600"/>
                      <a:pt x="1182" y="21494"/>
                      <a:pt x="-4" y="21291"/>
                    </a:cubicBezTo>
                  </a:path>
                  <a:path stroke="0" w="25114" h="21600">
                    <a:moveTo>
                      <a:pt x="0" y="21287"/>
                    </a:moveTo>
                    <a:cubicBezTo>
                      <a:pt x="0" y="21295"/>
                      <a:pt x="0" y="21304"/>
                      <a:pt x="0" y="21313"/>
                    </a:cubicBezTo>
                    <a:cubicBezTo>
                      <a:pt x="0" y="21332"/>
                      <a:pt x="0" y="21351"/>
                      <a:pt x="0" y="21369"/>
                    </a:cubicBezTo>
                    <a:lnTo>
                      <a:pt x="25114" y="24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b143"/>
                  </a:gs>
                  <a:gs pos="100000">
                    <a:srgbClr val="456c29"/>
                  </a:gs>
                </a:gsLst>
                <a:lin ang="17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1" name="任意多边形 21512"/>
              <p:cNvSpPr/>
              <p:nvPr/>
            </p:nvSpPr>
            <p:spPr>
              <a:xfrm rot="20601600">
                <a:off x="2653920" y="1987560"/>
                <a:ext cx="3133800" cy="1417680"/>
              </a:xfrm>
              <a:custGeom>
                <a:avLst/>
                <a:gdLst/>
                <a:ahLst/>
                <a:rect l="l" t="t" r="r" b="b"/>
                <a:pathLst>
                  <a:path fill="none" w="23826" h="21600">
                    <a:moveTo>
                      <a:pt x="0" y="2683"/>
                    </a:moveTo>
                    <a:cubicBezTo>
                      <a:pt x="3089" y="972"/>
                      <a:pt x="6645" y="0"/>
                      <a:pt x="10427" y="0"/>
                    </a:cubicBezTo>
                    <a:cubicBezTo>
                      <a:pt x="15489" y="0"/>
                      <a:pt x="20144" y="1741"/>
                      <a:pt x="23826" y="4657"/>
                    </a:cubicBezTo>
                  </a:path>
                  <a:path stroke="0" w="23826" h="21600">
                    <a:moveTo>
                      <a:pt x="23825" y="4658"/>
                    </a:moveTo>
                    <a:cubicBezTo>
                      <a:pt x="18822" y="1233"/>
                      <a:pt x="15427" y="-5464"/>
                      <a:pt x="15427" y="-13163"/>
                    </a:cubicBezTo>
                    <a:cubicBezTo>
                      <a:pt x="15427" y="-24351"/>
                      <a:pt x="22596" y="-33421"/>
                      <a:pt x="31440" y="-33421"/>
                    </a:cubicBezTo>
                    <a:cubicBezTo>
                      <a:pt x="40284" y="-33421"/>
                      <a:pt x="47453" y="-24351"/>
                      <a:pt x="47453" y="-13163"/>
                    </a:cubicBezTo>
                    <a:cubicBezTo>
                      <a:pt x="47453" y="-9003"/>
                      <a:pt x="46462" y="-5136"/>
                      <a:pt x="44763" y="-1920"/>
                    </a:cubicBezTo>
                    <a:lnTo>
                      <a:pt x="0" y="26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b8ca"/>
                  </a:gs>
                  <a:gs pos="100000">
                    <a:srgbClr val="30616a"/>
                  </a:gs>
                </a:gsLst>
                <a:lin ang="36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2" name="任意多边形 21513"/>
              <p:cNvSpPr/>
              <p:nvPr/>
            </p:nvSpPr>
            <p:spPr>
              <a:xfrm flipH="1" rot="20602200">
                <a:off x="1370880" y="2514240"/>
                <a:ext cx="2849400" cy="2111400"/>
              </a:xfrm>
              <a:custGeom>
                <a:avLst/>
                <a:gdLst/>
                <a:ahLst/>
                <a:rect l="l" t="t" r="r" b="b"/>
                <a:pathLst>
                  <a:path fill="none" w="21600" h="30685">
                    <a:moveTo>
                      <a:pt x="7748" y="0"/>
                    </a:moveTo>
                    <a:cubicBezTo>
                      <a:pt x="15854" y="3113"/>
                      <a:pt x="21600" y="10967"/>
                      <a:pt x="21600" y="20162"/>
                    </a:cubicBezTo>
                    <a:cubicBezTo>
                      <a:pt x="21600" y="23984"/>
                      <a:pt x="20607" y="27575"/>
                      <a:pt x="18866" y="30688"/>
                    </a:cubicBezTo>
                  </a:path>
                  <a:path stroke="0" w="21600" h="30685">
                    <a:moveTo>
                      <a:pt x="18863" y="30685"/>
                    </a:moveTo>
                    <a:cubicBezTo>
                      <a:pt x="20130" y="25770"/>
                      <a:pt x="22110" y="22608"/>
                      <a:pt x="24334" y="22608"/>
                    </a:cubicBezTo>
                    <a:cubicBezTo>
                      <a:pt x="28159" y="22608"/>
                      <a:pt x="31260" y="31957"/>
                      <a:pt x="31260" y="43489"/>
                    </a:cubicBezTo>
                    <a:cubicBezTo>
                      <a:pt x="31260" y="44923"/>
                      <a:pt x="31212" y="46322"/>
                      <a:pt x="31121" y="47669"/>
                    </a:cubicBezTo>
                    <a:lnTo>
                      <a:pt x="77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cc"/>
                  </a:gs>
                  <a:gs pos="100000">
                    <a:srgbClr val="00536f"/>
                  </a:gs>
                </a:gsLst>
                <a:lin ang="17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3" name="椭圆 21514"/>
              <p:cNvSpPr/>
              <p:nvPr/>
            </p:nvSpPr>
            <p:spPr>
              <a:xfrm rot="20601600">
                <a:off x="2933640" y="2730240"/>
                <a:ext cx="2695680" cy="13399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7f7f7"/>
                  </a:gs>
                  <a:gs pos="100000">
                    <a:srgbClr val="ddddd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4" name="文本框 21515"/>
              <p:cNvSpPr/>
              <p:nvPr/>
            </p:nvSpPr>
            <p:spPr>
              <a:xfrm>
                <a:off x="1924560" y="340992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5" name="文本框 21516"/>
              <p:cNvSpPr/>
              <p:nvPr/>
            </p:nvSpPr>
            <p:spPr>
              <a:xfrm>
                <a:off x="3829680" y="219096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文本框 21517"/>
              <p:cNvSpPr/>
              <p:nvPr/>
            </p:nvSpPr>
            <p:spPr>
              <a:xfrm>
                <a:off x="5658480" y="249552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27" name="组合 21518"/>
              <p:cNvGrpSpPr/>
              <p:nvPr/>
            </p:nvGrpSpPr>
            <p:grpSpPr>
              <a:xfrm>
                <a:off x="4293720" y="2466720"/>
                <a:ext cx="3164400" cy="2769120"/>
                <a:chOff x="4293720" y="2466720"/>
                <a:chExt cx="3164400" cy="2769120"/>
              </a:xfrm>
            </p:grpSpPr>
            <p:sp>
              <p:nvSpPr>
                <p:cNvPr id="628" name="未知"/>
                <p:cNvSpPr/>
                <p:nvPr/>
              </p:nvSpPr>
              <p:spPr>
                <a:xfrm>
                  <a:off x="5448240" y="3448440"/>
                  <a:ext cx="1773000" cy="1776240"/>
                </a:xfrm>
                <a:custGeom>
                  <a:avLst/>
                  <a:gdLst/>
                  <a:ahLst/>
                  <a:rect l="l" t="t" r="r" b="b"/>
                  <a:pathLst>
                    <a:path w="1117" h="1119">
                      <a:moveTo>
                        <a:pt x="21" y="888"/>
                      </a:moveTo>
                      <a:lnTo>
                        <a:pt x="1117" y="0"/>
                      </a:lnTo>
                      <a:lnTo>
                        <a:pt x="1093" y="256"/>
                      </a:lnTo>
                      <a:cubicBezTo>
                        <a:pt x="1026" y="373"/>
                        <a:pt x="896" y="560"/>
                        <a:pt x="717" y="704"/>
                      </a:cubicBezTo>
                      <a:cubicBezTo>
                        <a:pt x="538" y="848"/>
                        <a:pt x="133" y="1088"/>
                        <a:pt x="17" y="1119"/>
                      </a:cubicBezTo>
                      <a:cubicBezTo>
                        <a:pt x="0" y="1037"/>
                        <a:pt x="21" y="888"/>
                        <a:pt x="21" y="88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b5b5b"/>
                    </a:gs>
                    <a:gs pos="100000">
                      <a:srgbClr val="96969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29" name="任意多边形 21520"/>
                <p:cNvSpPr/>
                <p:nvPr/>
              </p:nvSpPr>
              <p:spPr>
                <a:xfrm rot="20539200">
                  <a:off x="4511520" y="2837160"/>
                  <a:ext cx="2728800" cy="1859040"/>
                </a:xfrm>
                <a:custGeom>
                  <a:avLst/>
                  <a:gdLst/>
                  <a:ahLst/>
                  <a:rect l="l" t="t" r="r" b="b"/>
                  <a:pathLst>
                    <a:path fill="none" w="18016" h="21282">
                      <a:moveTo>
                        <a:pt x="18016" y="11915"/>
                      </a:moveTo>
                      <a:cubicBezTo>
                        <a:pt x="14798" y="16775"/>
                        <a:pt x="9667" y="20255"/>
                        <a:pt x="3705" y="21284"/>
                      </a:cubicBezTo>
                    </a:path>
                    <a:path stroke="0" w="18016" h="21282">
                      <a:moveTo>
                        <a:pt x="3694" y="21281"/>
                      </a:moveTo>
                      <a:cubicBezTo>
                        <a:pt x="3701" y="21445"/>
                        <a:pt x="3704" y="21612"/>
                        <a:pt x="3704" y="21781"/>
                      </a:cubicBezTo>
                      <a:cubicBezTo>
                        <a:pt x="3704" y="22331"/>
                        <a:pt x="3670" y="22860"/>
                        <a:pt x="3608" y="23352"/>
                      </a:cubicBezTo>
                      <a:lnTo>
                        <a:pt x="18016" y="119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454545"/>
                    </a:gs>
                  </a:gsLst>
                  <a:lin ang="106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30" name="未知"/>
                <p:cNvSpPr/>
                <p:nvPr/>
              </p:nvSpPr>
              <p:spPr>
                <a:xfrm>
                  <a:off x="4582800" y="3924720"/>
                  <a:ext cx="924120" cy="1311120"/>
                </a:xfrm>
                <a:custGeom>
                  <a:avLst/>
                  <a:gdLst/>
                  <a:ahLst/>
                  <a:rect l="l" t="t" r="r" b="b"/>
                  <a:pathLst>
                    <a:path w="582" h="826">
                      <a:moveTo>
                        <a:pt x="582" y="572"/>
                      </a:moveTo>
                      <a:lnTo>
                        <a:pt x="562" y="826"/>
                      </a:lnTo>
                      <a:lnTo>
                        <a:pt x="0" y="42"/>
                      </a:lnTo>
                      <a:lnTo>
                        <a:pt x="90" y="0"/>
                      </a:lnTo>
                      <a:lnTo>
                        <a:pt x="582" y="5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454545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31" name="文本框 21522"/>
                <p:cNvSpPr/>
                <p:nvPr/>
              </p:nvSpPr>
              <p:spPr>
                <a:xfrm>
                  <a:off x="5353200" y="3715200"/>
                  <a:ext cx="811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Verdana"/>
                      <a:ea typeface="宋体"/>
                    </a:rPr>
                    <a:t>Text4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文本框 21523"/>
              <p:cNvSpPr/>
              <p:nvPr/>
            </p:nvSpPr>
            <p:spPr>
              <a:xfrm>
                <a:off x="3143880" y="44006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5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未知"/>
              <p:cNvSpPr/>
              <p:nvPr/>
            </p:nvSpPr>
            <p:spPr>
              <a:xfrm>
                <a:off x="4427640" y="3990960"/>
                <a:ext cx="838080" cy="1108080"/>
              </a:xfrm>
              <a:custGeom>
                <a:avLst/>
                <a:gdLst/>
                <a:ahLst/>
                <a:rect l="l" t="t" r="r" b="b"/>
                <a:pathLst>
                  <a:path w="528" h="698">
                    <a:moveTo>
                      <a:pt x="0" y="34"/>
                    </a:moveTo>
                    <a:lnTo>
                      <a:pt x="248" y="546"/>
                    </a:lnTo>
                    <a:lnTo>
                      <a:pt x="256" y="698"/>
                    </a:lnTo>
                    <a:lnTo>
                      <a:pt x="435" y="642"/>
                    </a:lnTo>
                    <a:lnTo>
                      <a:pt x="528" y="594"/>
                    </a:lnTo>
                    <a:lnTo>
                      <a:pt x="119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d528d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4" name="椭圆 21525"/>
              <p:cNvSpPr/>
              <p:nvPr/>
            </p:nvSpPr>
            <p:spPr>
              <a:xfrm rot="20601600">
                <a:off x="3036960" y="2981520"/>
                <a:ext cx="2587680" cy="1112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7" name="组合 22530"/>
          <p:cNvGrpSpPr/>
          <p:nvPr/>
        </p:nvGrpSpPr>
        <p:grpSpPr>
          <a:xfrm>
            <a:off x="914400" y="1711440"/>
            <a:ext cx="7391520" cy="4155480"/>
            <a:chOff x="914400" y="1711440"/>
            <a:chExt cx="7391520" cy="4155480"/>
          </a:xfrm>
        </p:grpSpPr>
        <p:sp>
          <p:nvSpPr>
            <p:cNvPr id="638" name="上箭头 22531"/>
            <p:cNvSpPr/>
            <p:nvPr/>
          </p:nvSpPr>
          <p:spPr>
            <a:xfrm>
              <a:off x="1905120" y="2473200"/>
              <a:ext cx="5530680" cy="2742840"/>
            </a:xfrm>
            <a:prstGeom prst="upArrow">
              <a:avLst>
                <a:gd name="adj1" fmla="val 57824"/>
                <a:gd name="adj2" fmla="val 54394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圆角矩形 22532"/>
            <p:cNvSpPr/>
            <p:nvPr/>
          </p:nvSpPr>
          <p:spPr>
            <a:xfrm>
              <a:off x="2438280" y="1711440"/>
              <a:ext cx="4419720" cy="57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b1e33"/>
                </a:gs>
                <a:gs pos="50000">
                  <a:srgbClr val="1d528d"/>
                </a:gs>
                <a:gs pos="100000">
                  <a:srgbClr val="0b1e33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0" name="文本框 22533"/>
            <p:cNvSpPr/>
            <p:nvPr/>
          </p:nvSpPr>
          <p:spPr>
            <a:xfrm>
              <a:off x="3733920" y="30826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1" name="组合 22534"/>
            <p:cNvGrpSpPr/>
            <p:nvPr/>
          </p:nvGrpSpPr>
          <p:grpSpPr>
            <a:xfrm>
              <a:off x="914400" y="4346280"/>
              <a:ext cx="1486080" cy="1514160"/>
              <a:chOff x="914400" y="4346280"/>
              <a:chExt cx="1486080" cy="1514160"/>
            </a:xfrm>
          </p:grpSpPr>
          <p:grpSp>
            <p:nvGrpSpPr>
              <p:cNvPr id="642" name="组合 22535"/>
              <p:cNvGrpSpPr/>
              <p:nvPr/>
            </p:nvGrpSpPr>
            <p:grpSpPr>
              <a:xfrm>
                <a:off x="914400" y="4346280"/>
                <a:ext cx="1486080" cy="1514160"/>
                <a:chOff x="914400" y="4346280"/>
                <a:chExt cx="1486080" cy="1514160"/>
              </a:xfrm>
            </p:grpSpPr>
            <p:sp>
              <p:nvSpPr>
                <p:cNvPr id="643" name="椭圆 22536"/>
                <p:cNvSpPr/>
                <p:nvPr/>
              </p:nvSpPr>
              <p:spPr>
                <a:xfrm>
                  <a:off x="914400" y="43462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4" name="未知"/>
                <p:cNvSpPr/>
                <p:nvPr/>
              </p:nvSpPr>
              <p:spPr>
                <a:xfrm>
                  <a:off x="1084320" y="43711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文本框 22538"/>
              <p:cNvSpPr/>
              <p:nvPr/>
            </p:nvSpPr>
            <p:spPr>
              <a:xfrm>
                <a:off x="1072440" y="51170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46" name="组合 22539"/>
            <p:cNvGrpSpPr/>
            <p:nvPr/>
          </p:nvGrpSpPr>
          <p:grpSpPr>
            <a:xfrm>
              <a:off x="6781680" y="4302000"/>
              <a:ext cx="1524240" cy="1531440"/>
              <a:chOff x="6781680" y="4302000"/>
              <a:chExt cx="1524240" cy="1531440"/>
            </a:xfrm>
          </p:grpSpPr>
          <p:grpSp>
            <p:nvGrpSpPr>
              <p:cNvPr id="647" name="组合 22540"/>
              <p:cNvGrpSpPr/>
              <p:nvPr/>
            </p:nvGrpSpPr>
            <p:grpSpPr>
              <a:xfrm>
                <a:off x="6781680" y="4302000"/>
                <a:ext cx="1524240" cy="1531440"/>
                <a:chOff x="6781680" y="4302000"/>
                <a:chExt cx="1524240" cy="1531440"/>
              </a:xfrm>
            </p:grpSpPr>
            <p:sp>
              <p:nvSpPr>
                <p:cNvPr id="648" name="椭圆 22541"/>
                <p:cNvSpPr/>
                <p:nvPr/>
              </p:nvSpPr>
              <p:spPr>
                <a:xfrm>
                  <a:off x="6781680" y="430200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9" name="未知"/>
                <p:cNvSpPr/>
                <p:nvPr/>
              </p:nvSpPr>
              <p:spPr>
                <a:xfrm>
                  <a:off x="6955920" y="432720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0" name="文本框 22543"/>
              <p:cNvSpPr/>
              <p:nvPr/>
            </p:nvSpPr>
            <p:spPr>
              <a:xfrm>
                <a:off x="6924600" y="50158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1" name="组合 22544"/>
            <p:cNvGrpSpPr/>
            <p:nvPr/>
          </p:nvGrpSpPr>
          <p:grpSpPr>
            <a:xfrm>
              <a:off x="2819520" y="4346280"/>
              <a:ext cx="1523880" cy="1520640"/>
              <a:chOff x="2819520" y="4346280"/>
              <a:chExt cx="1523880" cy="1520640"/>
            </a:xfrm>
          </p:grpSpPr>
          <p:grpSp>
            <p:nvGrpSpPr>
              <p:cNvPr id="652" name="组合 22545"/>
              <p:cNvGrpSpPr/>
              <p:nvPr/>
            </p:nvGrpSpPr>
            <p:grpSpPr>
              <a:xfrm>
                <a:off x="2819520" y="4346280"/>
                <a:ext cx="1523880" cy="1520640"/>
                <a:chOff x="2819520" y="4346280"/>
                <a:chExt cx="1523880" cy="1520640"/>
              </a:xfrm>
            </p:grpSpPr>
            <p:sp>
              <p:nvSpPr>
                <p:cNvPr id="653" name="椭圆 22546"/>
                <p:cNvSpPr/>
                <p:nvPr/>
              </p:nvSpPr>
              <p:spPr>
                <a:xfrm>
                  <a:off x="2819520" y="434628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340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4" name="未知"/>
                <p:cNvSpPr/>
                <p:nvPr/>
              </p:nvSpPr>
              <p:spPr>
                <a:xfrm>
                  <a:off x="2993760" y="43714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7c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5" name="文本框 22548"/>
              <p:cNvSpPr/>
              <p:nvPr/>
            </p:nvSpPr>
            <p:spPr>
              <a:xfrm>
                <a:off x="2895840" y="50760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6" name="组合 22549"/>
            <p:cNvGrpSpPr/>
            <p:nvPr/>
          </p:nvGrpSpPr>
          <p:grpSpPr>
            <a:xfrm>
              <a:off x="4876920" y="4302000"/>
              <a:ext cx="1523880" cy="1520280"/>
              <a:chOff x="4876920" y="4302000"/>
              <a:chExt cx="1523880" cy="1520280"/>
            </a:xfrm>
          </p:grpSpPr>
          <p:grpSp>
            <p:nvGrpSpPr>
              <p:cNvPr id="657" name="组合 22550"/>
              <p:cNvGrpSpPr/>
              <p:nvPr/>
            </p:nvGrpSpPr>
            <p:grpSpPr>
              <a:xfrm>
                <a:off x="4876920" y="4302000"/>
                <a:ext cx="1523880" cy="1520280"/>
                <a:chOff x="4876920" y="4302000"/>
                <a:chExt cx="1523880" cy="1520280"/>
              </a:xfrm>
            </p:grpSpPr>
            <p:sp>
              <p:nvSpPr>
                <p:cNvPr id="658" name="椭圆 22551"/>
                <p:cNvSpPr/>
                <p:nvPr/>
              </p:nvSpPr>
              <p:spPr>
                <a:xfrm>
                  <a:off x="4876920" y="4302000"/>
                  <a:ext cx="1523880" cy="152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143"/>
                    </a:gs>
                    <a:gs pos="100000">
                      <a:srgbClr val="3b5b2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9" name="未知"/>
                <p:cNvSpPr/>
                <p:nvPr/>
              </p:nvSpPr>
              <p:spPr>
                <a:xfrm>
                  <a:off x="5051160" y="432720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2b1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0" name="文本框 22553"/>
              <p:cNvSpPr/>
              <p:nvPr/>
            </p:nvSpPr>
            <p:spPr>
              <a:xfrm>
                <a:off x="4953240" y="50317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61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圆角矩形 5122"/>
          <p:cNvSpPr/>
          <p:nvPr/>
        </p:nvSpPr>
        <p:spPr>
          <a:xfrm>
            <a:off x="2057400" y="1981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552e"/>
              </a:gs>
              <a:gs pos="50000">
                <a:srgbClr val="eab764"/>
              </a:gs>
              <a:gs pos="100000">
                <a:srgbClr val="6c552e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圆角矩形 5123"/>
          <p:cNvSpPr/>
          <p:nvPr/>
        </p:nvSpPr>
        <p:spPr>
          <a:xfrm>
            <a:off x="2057400" y="2743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圆角矩形 5124"/>
          <p:cNvSpPr/>
          <p:nvPr/>
        </p:nvSpPr>
        <p:spPr>
          <a:xfrm>
            <a:off x="2057400" y="35053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圆角矩形 5125"/>
          <p:cNvSpPr/>
          <p:nvPr/>
        </p:nvSpPr>
        <p:spPr>
          <a:xfrm>
            <a:off x="2057400" y="4267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3068"/>
              </a:gs>
              <a:gs pos="50000">
                <a:srgbClr val="8d67e1"/>
              </a:gs>
              <a:gs pos="100000">
                <a:srgbClr val="413068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圆角矩形 5126"/>
          <p:cNvSpPr/>
          <p:nvPr/>
        </p:nvSpPr>
        <p:spPr>
          <a:xfrm>
            <a:off x="2057400" y="5029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528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1DE0-5E9C-400E-BAAE-F740EC3DCA7C}" type="slidenum">
              <a:rPr b="0" lang="zh-CN" sz="14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矩形 23553"/>
          <p:cNvSpPr txBox="1"/>
          <p:nvPr/>
        </p:nvSpPr>
        <p:spPr>
          <a:xfrm>
            <a:off x="3124080" y="2743200"/>
            <a:ext cx="41277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99cc"/>
                    </a:gs>
                    <a:gs pos="100000">
                      <a:srgbClr val="72b14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99cc"/>
                  </a:gs>
                  <a:gs pos="100000">
                    <a:srgbClr val="72b143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7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733040"/>
            <a:ext cx="7925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72b143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72b143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72b143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72b143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7170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52" name="圆角矩形 7171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文本框 7172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5d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矩形 7174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6" name="组合 7175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57" name="组合 7176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58" name="组合 7177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59" name="椭圆 7178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7c3c3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0" name="椭圆 7179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5c7"/>
                    </a:gs>
                    <a:gs pos="100000">
                      <a:srgbClr val="ff7c8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椭圆 7180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35521f"/>
                  </a:gs>
                  <a:gs pos="100000">
                    <a:srgbClr val="72b14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2" name="椭圆 7181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72b143">
                      <a:alpha val="0"/>
                    </a:srgbClr>
                  </a:gs>
                  <a:gs pos="100000">
                    <a:srgbClr val="cee4b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3" name="椭圆 7182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5a8c35"/>
                  </a:gs>
                  <a:gs pos="100000">
                    <a:srgbClr val="72b143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4" name="椭圆 7183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2b143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65" name="文本框 7184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66" name="组合 7185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67" name="圆角矩形 7186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文本框 7187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9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d5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组合 8194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73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4" name="椭圆 8196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582b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5" name="椭圆 8197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72b143"/>
                </a:gs>
                <a:gs pos="100000">
                  <a:srgbClr val="2438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6" name="椭圆 8198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7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7" name="椭圆 8199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8" name="椭圆 8200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9" name="文本框 8201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0" name="文本框 8202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1" name="文本框 8203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2" name="文本框 8204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3" name="文本框 8205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4" name="文本框 8206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186" name="直接连接符 8207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cxnSp>
          <p:nvCxnSpPr>
            <p:cNvPr id="188" name="直接箭头连接符 8208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round/>
            </a:ln>
          </p:spPr>
        </p:cxnSp>
        <p:sp>
          <p:nvSpPr>
            <p:cNvPr id="189" name="文本框 8209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组合 9218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93" name="圆柱形 9219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圆柱形 9220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圆柱形 9221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文本框 9222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文本框 9223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8" name="文本框 9224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左箭头 9225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6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圆角矩形 9226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文本框 9227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圆角矩形 9228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文本框 9229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右箭头 9230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2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圆柱形 9231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上箭头 9232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2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文本框 9233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圆柱形 9234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76393b"/>
                </a:gs>
                <a:gs pos="50000">
                  <a:srgbClr val="ff7c80"/>
                </a:gs>
                <a:gs pos="100000">
                  <a:srgbClr val="7639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文本框 9235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下箭头 9236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46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1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组合 10242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14" name="组合 10243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15" name="上箭头 10244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6" name="上箭头 10245"/>
              <p:cNvSpPr/>
              <p:nvPr/>
            </p:nvSpPr>
            <p:spPr>
              <a:xfrm flipH="1" rot="5400000">
                <a:off x="553140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7" name="上箭头 10246"/>
              <p:cNvSpPr/>
              <p:nvPr/>
            </p:nvSpPr>
            <p:spPr>
              <a:xfrm flipH="1" rot="10800000">
                <a:off x="42393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8" name="椭圆 10247"/>
              <p:cNvSpPr/>
              <p:nvPr/>
            </p:nvSpPr>
            <p:spPr>
              <a:xfrm>
                <a:off x="330588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9" name="椭圆 10248"/>
              <p:cNvSpPr/>
              <p:nvPr/>
            </p:nvSpPr>
            <p:spPr>
              <a:xfrm>
                <a:off x="343872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0" name="椭圆 10249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7c8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1" name="椭圆 10250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2" name="椭圆 10251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8a4345"/>
                  </a:gs>
                  <a:gs pos="50000">
                    <a:srgbClr val="ff7c80"/>
                  </a:gs>
                  <a:gs pos="100000">
                    <a:srgbClr val="8a4345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3" name="椭圆 10252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24" name="圆柱形 10253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圆柱形 10254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6" name="圆柱形 10255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7" name="圆柱形 10256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8" name="圆柱形 10257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9" name="圆柱形 10258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0" name="文本框 10259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圆角矩形 10260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2" name="文本框 10261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3" name="文本框 10262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4" name="文本框 10263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文本框 10264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文本框 10265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文本框 10266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8" name="文本框 10267"/>
          <p:cNvSpPr/>
          <p:nvPr/>
        </p:nvSpPr>
        <p:spPr>
          <a:xfrm>
            <a:off x="1066680" y="5715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7c80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7c80"/>
                </a:solidFill>
                <a:uFillTx/>
                <a:latin typeface="Arial"/>
                <a:ea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组合 11266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grpSp>
          <p:nvGrpSpPr>
            <p:cNvPr id="242" name=""/>
            <p:cNvGrpSpPr/>
            <p:nvPr/>
          </p:nvGrpSpPr>
          <p:grpSpPr>
            <a:xfrm>
              <a:off x="873000" y="5621400"/>
              <a:ext cx="1657440" cy="1800"/>
              <a:chOff x="873000" y="5621400"/>
              <a:chExt cx="1657440" cy="1800"/>
            </a:xfrm>
          </p:grpSpPr>
          <p:sp>
            <p:nvSpPr>
              <p:cNvPr id="243" name="直接连接符 11267"/>
              <p:cNvSpPr/>
              <p:nvPr/>
            </p:nvSpPr>
            <p:spPr>
              <a:xfrm flipH="1">
                <a:off x="873000" y="5621400"/>
                <a:ext cx="1657440" cy="180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>
                <a:off x="873000" y="5621400"/>
                <a:ext cx="1657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872640" y="4783320"/>
              <a:ext cx="2438640" cy="360"/>
              <a:chOff x="872640" y="4783320"/>
              <a:chExt cx="2438640" cy="360"/>
            </a:xfrm>
          </p:grpSpPr>
          <p:sp>
            <p:nvSpPr>
              <p:cNvPr id="246" name="直接连接符 11268"/>
              <p:cNvSpPr/>
              <p:nvPr/>
            </p:nvSpPr>
            <p:spPr>
              <a:xfrm flipH="1">
                <a:off x="872640" y="4783320"/>
                <a:ext cx="243828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 txBox="1"/>
              <p:nvPr/>
            </p:nvSpPr>
            <p:spPr>
              <a:xfrm>
                <a:off x="873000" y="478332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872640" y="3953160"/>
              <a:ext cx="3353040" cy="360"/>
              <a:chOff x="872640" y="3953160"/>
              <a:chExt cx="3353040" cy="360"/>
            </a:xfrm>
          </p:grpSpPr>
          <p:sp>
            <p:nvSpPr>
              <p:cNvPr id="249" name="直接连接符 11269"/>
              <p:cNvSpPr/>
              <p:nvPr/>
            </p:nvSpPr>
            <p:spPr>
              <a:xfrm flipH="1">
                <a:off x="872640" y="3953160"/>
                <a:ext cx="335268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873000" y="3953160"/>
                <a:ext cx="3352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872640" y="3124440"/>
              <a:ext cx="4165920" cy="360"/>
              <a:chOff x="872640" y="3124440"/>
              <a:chExt cx="4165920" cy="360"/>
            </a:xfrm>
          </p:grpSpPr>
          <p:sp>
            <p:nvSpPr>
              <p:cNvPr id="252" name="直接连接符 11270"/>
              <p:cNvSpPr/>
              <p:nvPr/>
            </p:nvSpPr>
            <p:spPr>
              <a:xfrm flipH="1">
                <a:off x="872640" y="3124440"/>
                <a:ext cx="416556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>
                <a:off x="873000" y="312444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872640" y="2282760"/>
              <a:ext cx="5033880" cy="360"/>
              <a:chOff x="872640" y="2282760"/>
              <a:chExt cx="5033880" cy="360"/>
            </a:xfrm>
          </p:grpSpPr>
          <p:sp>
            <p:nvSpPr>
              <p:cNvPr id="255" name="直接连接符 11271"/>
              <p:cNvSpPr/>
              <p:nvPr/>
            </p:nvSpPr>
            <p:spPr>
              <a:xfrm flipH="1">
                <a:off x="872640" y="2283120"/>
                <a:ext cx="503388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 rot="10800000">
                <a:off x="872640" y="2282400"/>
                <a:ext cx="503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025280" y="2276640"/>
              <a:ext cx="360" cy="871560"/>
              <a:chOff x="1025280" y="2276640"/>
              <a:chExt cx="360" cy="871560"/>
            </a:xfrm>
          </p:grpSpPr>
          <p:sp>
            <p:nvSpPr>
              <p:cNvPr id="258" name="直接连接符 11272"/>
              <p:cNvSpPr/>
              <p:nvPr/>
            </p:nvSpPr>
            <p:spPr>
              <a:xfrm>
                <a:off x="1025280" y="2276640"/>
                <a:ext cx="0" cy="87156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 txBox="1"/>
              <p:nvPr/>
            </p:nvSpPr>
            <p:spPr>
              <a:xfrm>
                <a:off x="1025280" y="2276640"/>
                <a:ext cx="360" cy="87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1025280" y="3148200"/>
              <a:ext cx="360" cy="817560"/>
              <a:chOff x="1025280" y="3148200"/>
              <a:chExt cx="360" cy="817560"/>
            </a:xfrm>
          </p:grpSpPr>
          <p:sp>
            <p:nvSpPr>
              <p:cNvPr id="261" name="直接连接符 11273"/>
              <p:cNvSpPr/>
              <p:nvPr/>
            </p:nvSpPr>
            <p:spPr>
              <a:xfrm>
                <a:off x="1025280" y="3148200"/>
                <a:ext cx="0" cy="81756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 txBox="1"/>
              <p:nvPr/>
            </p:nvSpPr>
            <p:spPr>
              <a:xfrm>
                <a:off x="1025280" y="314820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1025280" y="3965760"/>
              <a:ext cx="360" cy="816120"/>
              <a:chOff x="1025280" y="3965760"/>
              <a:chExt cx="360" cy="816120"/>
            </a:xfrm>
          </p:grpSpPr>
          <p:sp>
            <p:nvSpPr>
              <p:cNvPr id="264" name="直接连接符 11274"/>
              <p:cNvSpPr/>
              <p:nvPr/>
            </p:nvSpPr>
            <p:spPr>
              <a:xfrm>
                <a:off x="1025280" y="3965760"/>
                <a:ext cx="0" cy="81612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>
                <a:off x="1025280" y="39657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025280" y="4783320"/>
              <a:ext cx="360" cy="816120"/>
              <a:chOff x="1025280" y="4783320"/>
              <a:chExt cx="360" cy="816120"/>
            </a:xfrm>
          </p:grpSpPr>
          <p:sp>
            <p:nvSpPr>
              <p:cNvPr id="267" name="直接连接符 11275"/>
              <p:cNvSpPr/>
              <p:nvPr/>
            </p:nvSpPr>
            <p:spPr>
              <a:xfrm>
                <a:off x="1025280" y="4783320"/>
                <a:ext cx="0" cy="81612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1025280" y="478332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69" name="文本框 11276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文本框 11277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1" name="文本框 11278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2" name="文本框 11279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73" name="组合 11280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74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75e"/>
                  </a:gs>
                  <a:gs pos="50000">
                    <a:srgbClr val="0099cc"/>
                  </a:gs>
                  <a:gs pos="100000">
                    <a:srgbClr val="0047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393b"/>
                  </a:gs>
                  <a:gs pos="50000">
                    <a:srgbClr val="ff7c80"/>
                  </a:gs>
                  <a:gs pos="100000">
                    <a:srgbClr val="76393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521f"/>
                  </a:gs>
                  <a:gs pos="50000">
                    <a:srgbClr val="72b143"/>
                  </a:gs>
                  <a:gs pos="100000">
                    <a:srgbClr val="3552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72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2" name="矩形 11289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006f94"/>
                  </a:gs>
                  <a:gs pos="50000">
                    <a:srgbClr val="0099cc"/>
                  </a:gs>
                  <a:gs pos="100000">
                    <a:srgbClr val="006f9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3" name="矩形 11290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b95a5d"/>
                  </a:gs>
                  <a:gs pos="50000">
                    <a:srgbClr val="ff7c80"/>
                  </a:gs>
                  <a:gs pos="100000">
                    <a:srgbClr val="b95a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5" name="矩形 11292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d6d6d"/>
                  </a:gs>
                  <a:gs pos="50000">
                    <a:srgbClr val="969696"/>
                  </a:gs>
                  <a:gs pos="100000">
                    <a:srgbClr val="6d6d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6" name="矩形 11293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538031"/>
                  </a:gs>
                  <a:gs pos="50000">
                    <a:srgbClr val="72b143"/>
                  </a:gs>
                  <a:gs pos="100000">
                    <a:srgbClr val="53803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组合 12290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90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ff888b">
                    <a:alpha val="32156"/>
                  </a:srgbClr>
                </a:gs>
                <a:gs pos="100000">
                  <a:srgbClr val="ff7c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1" name="圆角矩形 12292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2" name="圆角矩形 12293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3" name="八边形 12294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八边形 12295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圆角矩形 12296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6" name="圆角矩形 12297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393b"/>
                </a:gs>
                <a:gs pos="50000">
                  <a:srgbClr val="ff7c80"/>
                </a:gs>
                <a:gs pos="100000">
                  <a:srgbClr val="7639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7" name="八边形 12298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八边形 12299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c2c2c2">
                    <a:alpha val="3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文本框 12301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文本框 12302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2" name="组合 12303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303" name="圆角矩形 12304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4" name="圆角矩形 12305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5" name="八边形 12306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6" name="八边形 12307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文本框 12308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8" name="文本框 12309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9" name="文本框 12310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0" name="文本框 12311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1" name="页脚占位符 1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38Z</dcterms:modified>
  <cp:revision>7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