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748-3494-47C8-852E-CF8E7E9B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20C-7059-4687-8D0F-49A86F2E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988-A732-4760-9D8B-3C85AFF6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BC3-4269-475B-B22E-C9A75382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9DA7-6650-4243-BB79-AA7627C9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D383-73BE-4495-A2FE-84AA80EB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070C-8C59-41E4-A150-A843313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DE9-0ACE-4632-816C-FF5AC46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81D5-CFAB-4004-BF11-BDE726EC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1FF4-114A-4F6E-ADB3-869F837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377-770C-4454-82D8-8846DA9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845-C3CD-4A02-B167-841C69F1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5873-69E1-40E9-A7B6-00D968F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33D1-707F-4C4B-A319-9DD3691E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DAD-1379-4538-98BA-F4294C3B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8954-576F-4D1B-9D1D-22011C6E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637C-7EE2-424C-B36A-7AC73AA5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E5A-F474-46BE-927E-5ED820DF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BBB-CC77-4CA2-81B4-8CDA3203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6E2-1254-44B1-8D01-C2CB518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609-F89A-4F92-A7F1-C997786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7B8-5A69-4999-8100-6A501582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C1E-9F54-4B5A-A58A-D07B7AA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FFA-895B-4976-B060-A8EF3572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B578-59B4-451D-B48B-42103AA19C1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04D-F920-416A-AB5C-079E4372FC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A557-05E7-46FB-A027-E3AFB11AA6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1"/>
          <a:srcRect l="0" t="25918" r="0" b="48942"/>
          <a:stretch/>
        </p:blipFill>
        <p:spPr>
          <a:xfrm>
            <a:off x="2193840" y="2567160"/>
            <a:ext cx="4757760" cy="172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276720" y="2705040"/>
            <a:ext cx="32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主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762600" y="57340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By D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6" descr=""/>
          <p:cNvPicPr/>
          <p:nvPr/>
        </p:nvPicPr>
        <p:blipFill>
          <a:blip r:embed="rId2"/>
          <a:stretch/>
        </p:blipFill>
        <p:spPr>
          <a:xfrm>
            <a:off x="-2960640" y="493560"/>
            <a:ext cx="6910200" cy="4821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"/>
          <p:cNvPicPr/>
          <p:nvPr/>
        </p:nvPicPr>
        <p:blipFill>
          <a:blip r:embed="rId3"/>
          <a:stretch/>
        </p:blipFill>
        <p:spPr>
          <a:xfrm flipH="1">
            <a:off x="5140440" y="801720"/>
            <a:ext cx="6030720" cy="4205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"/>
          <p:cNvPicPr/>
          <p:nvPr/>
        </p:nvPicPr>
        <p:blipFill>
          <a:blip r:embed="rId4"/>
          <a:stretch/>
        </p:blipFill>
        <p:spPr>
          <a:xfrm>
            <a:off x="219240" y="1596960"/>
            <a:ext cx="4352760" cy="30355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0800000">
            <a:off x="8156160" y="585576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" descr="未命名-3.jpg"/>
          <p:cNvPicPr/>
          <p:nvPr/>
        </p:nvPicPr>
        <p:blipFill>
          <a:blip r:embed="rId6"/>
          <a:srcRect l="20645" t="17839" r="68554" b="67328"/>
          <a:stretch/>
        </p:blipFill>
        <p:spPr>
          <a:xfrm rot="5400000">
            <a:off x="8169120" y="-14040"/>
            <a:ext cx="98892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未命名-3.jpg"/>
          <p:cNvPicPr/>
          <p:nvPr/>
        </p:nvPicPr>
        <p:blipFill>
          <a:blip r:embed="rId7"/>
          <a:srcRect l="20645" t="17839" r="68554" b="67328"/>
          <a:stretch/>
        </p:blipFill>
        <p:spPr>
          <a:xfrm>
            <a:off x="0" y="-12600"/>
            <a:ext cx="987480" cy="10159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" descr="未命名-3.jpg"/>
          <p:cNvPicPr/>
          <p:nvPr/>
        </p:nvPicPr>
        <p:blipFill>
          <a:blip r:embed="rId8"/>
          <a:srcRect l="20645" t="17839" r="68554" b="67328"/>
          <a:stretch/>
        </p:blipFill>
        <p:spPr>
          <a:xfrm rot="16200000">
            <a:off x="-12600" y="5871600"/>
            <a:ext cx="987480" cy="1015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083"/>
          <p:cNvSpPr/>
          <p:nvPr/>
        </p:nvSpPr>
        <p:spPr>
          <a:xfrm>
            <a:off x="46836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084"/>
          <p:cNvSpPr/>
          <p:nvPr/>
        </p:nvSpPr>
        <p:spPr>
          <a:xfrm>
            <a:off x="1625400" y="1341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国风的团队工作汇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C54-237B-440C-A7FB-3AF3953649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3286080" y="0"/>
            <a:ext cx="25718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95640" y="1197000"/>
            <a:ext cx="115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"/>
          <p:cNvPicPr/>
          <p:nvPr/>
        </p:nvPicPr>
        <p:blipFill>
          <a:blip r:embed="rId1"/>
          <a:srcRect l="13231" t="0" r="15694" b="0"/>
          <a:stretch/>
        </p:blipFill>
        <p:spPr>
          <a:xfrm>
            <a:off x="1547640" y="836640"/>
            <a:ext cx="6499440" cy="5479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2124000" y="1486080"/>
            <a:ext cx="3878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组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7" descr="未命名-3.jpg"/>
          <p:cNvPicPr/>
          <p:nvPr/>
        </p:nvPicPr>
        <p:blipFill>
          <a:blip r:embed="rId2"/>
          <a:srcRect l="20645" t="17839" r="68554" b="67328"/>
          <a:stretch/>
        </p:blipFill>
        <p:spPr>
          <a:xfrm rot="10800000">
            <a:off x="8156160" y="585576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5400000">
            <a:off x="8169120" y="-14040"/>
            <a:ext cx="988920" cy="1017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>
            <a:off x="0" y="-12600"/>
            <a:ext cx="987480" cy="1015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0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6200000">
            <a:off x="-12600" y="5871600"/>
            <a:ext cx="987480" cy="10159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103"/>
          <p:cNvSpPr/>
          <p:nvPr/>
        </p:nvSpPr>
        <p:spPr>
          <a:xfrm>
            <a:off x="2343240" y="494820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.downh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6989760" y="1197000"/>
            <a:ext cx="3127320" cy="4471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7236000" y="1197000"/>
            <a:ext cx="1908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目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0160" y="-66600"/>
            <a:ext cx="15112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壹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547640" y="728640"/>
            <a:ext cx="115128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987640" y="1581120"/>
            <a:ext cx="115272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叁</a:t>
            </a: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861080" y="117360"/>
            <a:ext cx="11509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肆</a:t>
            </a: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00200" y="1536840"/>
            <a:ext cx="360" cy="3960720"/>
            <a:chOff x="1600200" y="1536840"/>
            <a:chExt cx="360" cy="3960720"/>
          </a:xfrm>
        </p:grpSpPr>
        <p:sp>
          <p:nvSpPr>
            <p:cNvPr id="108" name="直接连接符 2"/>
            <p:cNvSpPr/>
            <p:nvPr/>
          </p:nvSpPr>
          <p:spPr>
            <a:xfrm>
              <a:off x="1600200" y="1536840"/>
              <a:ext cx="0" cy="39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600200" y="1536840"/>
              <a:ext cx="36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87640" y="2300400"/>
            <a:ext cx="360" cy="3960720"/>
            <a:chOff x="2987640" y="2300400"/>
            <a:chExt cx="360" cy="3960720"/>
          </a:xfrm>
        </p:grpSpPr>
        <p:sp>
          <p:nvSpPr>
            <p:cNvPr id="111" name="直接连接符 11"/>
            <p:cNvSpPr/>
            <p:nvPr/>
          </p:nvSpPr>
          <p:spPr>
            <a:xfrm>
              <a:off x="2987640" y="2300400"/>
              <a:ext cx="0" cy="39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987640" y="2300400"/>
              <a:ext cx="36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08360" y="911160"/>
            <a:ext cx="360" cy="5280120"/>
            <a:chOff x="4608360" y="911160"/>
            <a:chExt cx="360" cy="5280120"/>
          </a:xfrm>
        </p:grpSpPr>
        <p:sp>
          <p:nvSpPr>
            <p:cNvPr id="114" name="直接连接符 12"/>
            <p:cNvSpPr/>
            <p:nvPr/>
          </p:nvSpPr>
          <p:spPr>
            <a:xfrm>
              <a:off x="4608360" y="911160"/>
              <a:ext cx="0" cy="528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608360" y="911160"/>
              <a:ext cx="360" cy="528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5130"/>
          <p:cNvSpPr/>
          <p:nvPr/>
        </p:nvSpPr>
        <p:spPr>
          <a:xfrm>
            <a:off x="1908000" y="6381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6989760" y="1197000"/>
            <a:ext cx="3127320" cy="4471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7221600" y="1197000"/>
            <a:ext cx="1908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目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82560" y="-1440"/>
            <a:ext cx="15130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伍</a:t>
            </a: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"/>
          <p:cNvSpPr/>
          <p:nvPr/>
        </p:nvSpPr>
        <p:spPr>
          <a:xfrm>
            <a:off x="2195640" y="768240"/>
            <a:ext cx="4608360" cy="5327640"/>
          </a:xfrm>
          <a:custGeom>
            <a:avLst/>
            <a:gdLst>
              <a:gd name="textAreaLeft" fmla="*/ 224640 w 4608360"/>
              <a:gd name="textAreaRight" fmla="*/ 4383720 w 4608360"/>
              <a:gd name="textAreaTop" fmla="*/ 224640 h 5327640"/>
              <a:gd name="textAreaBottom" fmla="*/ 5103000 h 5327640"/>
            </a:gdLst>
            <a:ahLst/>
            <a:rect l="textAreaLeft" t="textAreaTop" r="textAreaRight" b="textAreaBottom"/>
            <a:pathLst>
              <a:path w="21600" h="24971">
                <a:moveTo>
                  <a:pt x="3600" y="0"/>
                </a:moveTo>
                <a:arcTo wR="3600" hR="3600" stAng="16200000" swAng="-5400000"/>
                <a:lnTo>
                  <a:pt x="0" y="21371"/>
                </a:lnTo>
                <a:arcTo wR="3600" hR="3600" stAng="10800000" swAng="-5400000"/>
                <a:lnTo>
                  <a:pt x="18000" y="24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931 2.22222E-006 L -4.44444E-006 2.22222E-006 E">
                                      <p:cBhvr>
                                        <p:cTn id="7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24000" y="1339920"/>
            <a:ext cx="11509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6" descr="未命名-3.jpg"/>
          <p:cNvPicPr/>
          <p:nvPr/>
        </p:nvPicPr>
        <p:blipFill>
          <a:blip r:embed="rId2"/>
          <a:srcRect l="20645" t="17839" r="68554" b="67328"/>
          <a:stretch/>
        </p:blipFill>
        <p:spPr>
          <a:xfrm rot="10800000">
            <a:off x="7889400" y="528444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5400000">
            <a:off x="7889400" y="526680"/>
            <a:ext cx="987480" cy="10191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>
            <a:off x="2411280" y="501480"/>
            <a:ext cx="989280" cy="10177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6200000">
            <a:off x="2425320" y="5298840"/>
            <a:ext cx="989280" cy="1017720"/>
          </a:xfrm>
          <a:prstGeom prst="rect">
            <a:avLst/>
          </a:prstGeom>
          <a:ln w="0">
            <a:noFill/>
          </a:ln>
        </p:spPr>
      </p:pic>
      <p:sp>
        <p:nvSpPr>
          <p:cNvPr id="127" name="矩形 10"/>
          <p:cNvSpPr/>
          <p:nvPr/>
        </p:nvSpPr>
        <p:spPr>
          <a:xfrm>
            <a:off x="2411280" y="531720"/>
            <a:ext cx="6481800" cy="5761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"/>
                            </p:stCondLst>
                            <p:childTnLst>
                              <p:par>
                                <p:cTn id="89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0.35301 L 1.66667E-006 -7.40741E-007 E">
                                      <p:cBhvr>
                                        <p:cTn id="9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4 0.34884 L -2.77778E-007 2.59259E-006 E">
                                      <p:cBhvr>
                                        <p:cTn id="9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4 -0.34468 L -2.77778E-007 4.07407E-006 E">
                                      <p:cBhvr>
                                        <p:cTn id="9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-0.34676 L -4.44444E-006 7.40741E-007 E">
                                      <p:cBhvr>
                                        <p:cTn id="9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表 1" descr=""/>
          <p:cNvPicPr/>
          <p:nvPr/>
        </p:nvPicPr>
        <p:blipFill>
          <a:blip r:embed="rId1"/>
          <a:stretch/>
        </p:blipFill>
        <p:spPr>
          <a:xfrm>
            <a:off x="406728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2411280" y="4076640"/>
            <a:ext cx="6481800" cy="221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7" descr="未命名-3.jpg"/>
          <p:cNvPicPr/>
          <p:nvPr/>
        </p:nvPicPr>
        <p:blipFill>
          <a:blip r:embed="rId2"/>
          <a:srcRect l="20645" t="17839" r="68554" b="67328"/>
          <a:stretch/>
        </p:blipFill>
        <p:spPr>
          <a:xfrm rot="10800000">
            <a:off x="7889400" y="528444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5400000">
            <a:off x="7903800" y="4059360"/>
            <a:ext cx="987480" cy="1019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>
            <a:off x="2411280" y="4076640"/>
            <a:ext cx="989280" cy="10191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 rot="16200000">
            <a:off x="2425320" y="5298840"/>
            <a:ext cx="989280" cy="1017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" descr=""/>
          <p:cNvPicPr/>
          <p:nvPr/>
        </p:nvPicPr>
        <p:blipFill>
          <a:blip r:embed="rId6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95280" y="1052640"/>
            <a:ext cx="115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400560" y="4861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1"/>
                            </p:stCondLst>
                            <p:childTnLst>
                              <p:par>
                                <p:cTn id="117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111 0.07285 L 1.66667E-006 -9.25069E-008 E">
                                      <p:cBhvr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177 0.07493 L -2.77778E-006 1.3136E-006 E">
                                      <p:cBhvr>
                                        <p:cTn id="12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21 -0.10314 L -2.77778E-007 -4.54209E-006 E">
                                      <p:cBhvr>
                                        <p:cTn id="12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10523 L -4.44444E-006 4.0518E-006 E">
                                      <p:cBhvr>
                                        <p:cTn id="1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1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5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250920" y="1166760"/>
            <a:ext cx="115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表 1" descr=""/>
          <p:cNvPicPr/>
          <p:nvPr/>
        </p:nvPicPr>
        <p:blipFill>
          <a:blip r:embed="rId2"/>
          <a:stretch/>
        </p:blipFill>
        <p:spPr>
          <a:xfrm>
            <a:off x="2771640" y="1440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"/>
          <p:cNvSpPr/>
          <p:nvPr/>
        </p:nvSpPr>
        <p:spPr>
          <a:xfrm>
            <a:off x="2411280" y="4076640"/>
            <a:ext cx="6481800" cy="2216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未命名-3.jpg"/>
          <p:cNvPicPr/>
          <p:nvPr/>
        </p:nvPicPr>
        <p:blipFill>
          <a:blip r:embed="rId3"/>
          <a:srcRect l="20645" t="17839" r="68554" b="67328"/>
          <a:stretch/>
        </p:blipFill>
        <p:spPr>
          <a:xfrm rot="10800000">
            <a:off x="7889400" y="5284440"/>
            <a:ext cx="987480" cy="10177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4" descr="未命名-3.jpg"/>
          <p:cNvPicPr/>
          <p:nvPr/>
        </p:nvPicPr>
        <p:blipFill>
          <a:blip r:embed="rId4"/>
          <a:srcRect l="20645" t="17839" r="68554" b="67328"/>
          <a:stretch/>
        </p:blipFill>
        <p:spPr>
          <a:xfrm rot="5400000">
            <a:off x="7903800" y="4059360"/>
            <a:ext cx="987480" cy="10191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5" descr="未命名-3.jpg"/>
          <p:cNvPicPr/>
          <p:nvPr/>
        </p:nvPicPr>
        <p:blipFill>
          <a:blip r:embed="rId5"/>
          <a:srcRect l="20645" t="17839" r="68554" b="67328"/>
          <a:stretch/>
        </p:blipFill>
        <p:spPr>
          <a:xfrm>
            <a:off x="2411280" y="4076640"/>
            <a:ext cx="989280" cy="10191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6" descr="未命名-3.jpg"/>
          <p:cNvPicPr/>
          <p:nvPr/>
        </p:nvPicPr>
        <p:blipFill>
          <a:blip r:embed="rId6"/>
          <a:srcRect l="20645" t="17839" r="68554" b="67328"/>
          <a:stretch/>
        </p:blipFill>
        <p:spPr>
          <a:xfrm rot="16200000">
            <a:off x="2425320" y="5298840"/>
            <a:ext cx="989280" cy="1017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7"/>
          <p:cNvSpPr/>
          <p:nvPr/>
        </p:nvSpPr>
        <p:spPr>
          <a:xfrm>
            <a:off x="3400560" y="4861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"/>
                            </p:stCondLst>
                            <p:childTnLst>
                              <p:par>
                                <p:cTn id="150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111 0.07285 L 1.66667E-006 -9.25069E-008 E">
                                      <p:cBhvr>
                                        <p:cTn id="15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177 0.07493 L -2.77778E-006 1.3136E-006 E">
                                      <p:cBhvr>
                                        <p:cTn id="15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21 -0.10314 L -2.77778E-007 -4.54209E-006 E">
                                      <p:cBhvr>
                                        <p:cTn id="15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10523 L -4.44444E-006 4.0518E-006 E">
                                      <p:cBhvr>
                                        <p:cTn id="15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1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3"/>
          <p:cNvSpPr/>
          <p:nvPr/>
        </p:nvSpPr>
        <p:spPr>
          <a:xfrm>
            <a:off x="2381400" y="1413000"/>
            <a:ext cx="6489720" cy="4035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5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95280" y="114156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未命名-5.jpg"/>
          <p:cNvPicPr/>
          <p:nvPr/>
        </p:nvPicPr>
        <p:blipFill>
          <a:blip r:embed="rId2"/>
          <a:srcRect l="-39" t="0" r="0" b="86443"/>
          <a:stretch/>
        </p:blipFill>
        <p:spPr>
          <a:xfrm>
            <a:off x="2332080" y="1298520"/>
            <a:ext cx="6588000" cy="930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未命名-5.jpg"/>
          <p:cNvPicPr/>
          <p:nvPr/>
        </p:nvPicPr>
        <p:blipFill>
          <a:blip r:embed="rId3"/>
          <a:srcRect l="1691" t="98620" r="26284" b="716"/>
          <a:stretch/>
        </p:blipFill>
        <p:spPr>
          <a:xfrm>
            <a:off x="2332080" y="5232240"/>
            <a:ext cx="6584760" cy="432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4932360" y="32446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频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28149 L 4.44444E-006 -4.81481E-006 E">
                                      <p:cBhvr>
                                        <p:cTn id="17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20995 L 4.44444E-006 0 E">
                                      <p:cBhvr>
                                        <p:cTn id="17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5" descr=""/>
          <p:cNvPicPr/>
          <p:nvPr/>
        </p:nvPicPr>
        <p:blipFill>
          <a:blip r:embed="rId1"/>
          <a:srcRect l="0" t="0" r="0" b="38152"/>
          <a:stretch/>
        </p:blipFill>
        <p:spPr>
          <a:xfrm>
            <a:off x="-1022400" y="1192320"/>
            <a:ext cx="3125880" cy="4471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611280" y="116676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2"/>
          <a:stretch/>
        </p:blipFill>
        <p:spPr>
          <a:xfrm rot="502800">
            <a:off x="3209760" y="685800"/>
            <a:ext cx="3038760" cy="228600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</p:spPr>
      </p:pic>
      <p:pic>
        <p:nvPicPr>
          <p:cNvPr id="155" name="图片 2" descr=""/>
          <p:cNvPicPr/>
          <p:nvPr/>
        </p:nvPicPr>
        <p:blipFill>
          <a:blip r:embed="rId3"/>
          <a:stretch/>
        </p:blipFill>
        <p:spPr>
          <a:xfrm rot="20819400">
            <a:off x="3649680" y="1561680"/>
            <a:ext cx="4857840" cy="323856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</p:spPr>
      </p:pic>
      <p:pic>
        <p:nvPicPr>
          <p:cNvPr id="156" name="图片 3" descr=""/>
          <p:cNvPicPr/>
          <p:nvPr/>
        </p:nvPicPr>
        <p:blipFill>
          <a:blip r:embed="rId4"/>
          <a:stretch/>
        </p:blipFill>
        <p:spPr>
          <a:xfrm rot="334200">
            <a:off x="3292200" y="2869920"/>
            <a:ext cx="3476520" cy="348912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4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8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