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F7A-A429-4428-B69E-1DD11B57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C44-6BA5-4B1D-89D3-0A1383AE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AA2-85A7-4C72-8DCC-1EA79C4C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CB9-5940-4C89-AC6A-80F2BBF3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00720" y="115920"/>
            <a:ext cx="34668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28F-0848-4492-AF05-037F8B87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7847E-28CA-4D99-A2C5-820CE715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4016A-5320-43AB-A993-1E5B5E29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B8EF0-875B-48B2-B89B-FDC2739D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CD4CE-F86F-4FFE-BFB7-4C14658C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9BCCC-E0A4-42FE-9104-E0C5C114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546-9C83-447E-A499-FCF38513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00720" y="115920"/>
            <a:ext cx="34668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CDFFC-93A3-445C-8418-B75F7B94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27D320-D3BA-4F9A-804B-A6FDB85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809BA7-2FF9-4152-89B8-CB9CAB6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512E5-3992-4EEF-9D97-901587B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9F475-CE0C-4783-94EF-31D77F4F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18319-3F3F-4ABA-9239-A8CA8DCA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FBF8C-C06D-4C8D-8B02-8A363D41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31E-CD70-46A8-BBEA-D5DC5BC2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5B2-32FA-494B-9E6C-CA5313EB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00720" y="115920"/>
            <a:ext cx="34668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A68-73B6-47F5-8F1A-AF2445C7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E5E-112A-4614-8AF9-6A9E2E2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FCE-6F2E-4607-A492-309588E3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BC4-85B9-4EA9-8C1C-6F3AB70A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その他"/>
          <p:cNvSpPr/>
          <p:nvPr/>
        </p:nvSpPr>
        <p:spPr>
          <a:xfrm rot="10800000">
            <a:off x="3240" y="0"/>
            <a:ext cx="9137520" cy="82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3410"/>
                </a:lnTo>
                <a:lnTo>
                  <a:pt x="20833" y="2533"/>
                </a:lnTo>
                <a:lnTo>
                  <a:pt x="20103" y="1799"/>
                </a:lnTo>
                <a:lnTo>
                  <a:pt x="19391" y="1183"/>
                </a:lnTo>
                <a:lnTo>
                  <a:pt x="18715" y="733"/>
                </a:lnTo>
                <a:lnTo>
                  <a:pt x="18056" y="378"/>
                </a:lnTo>
                <a:lnTo>
                  <a:pt x="17425" y="165"/>
                </a:lnTo>
                <a:lnTo>
                  <a:pt x="16803" y="23"/>
                </a:lnTo>
                <a:lnTo>
                  <a:pt x="16208" y="0"/>
                </a:lnTo>
                <a:lnTo>
                  <a:pt x="15622" y="47"/>
                </a:lnTo>
                <a:lnTo>
                  <a:pt x="15045" y="165"/>
                </a:lnTo>
                <a:lnTo>
                  <a:pt x="14477" y="331"/>
                </a:lnTo>
                <a:lnTo>
                  <a:pt x="13918" y="591"/>
                </a:lnTo>
                <a:lnTo>
                  <a:pt x="13360" y="852"/>
                </a:lnTo>
                <a:lnTo>
                  <a:pt x="12801" y="1160"/>
                </a:lnTo>
                <a:lnTo>
                  <a:pt x="12242" y="1492"/>
                </a:lnTo>
                <a:lnTo>
                  <a:pt x="11674" y="1847"/>
                </a:lnTo>
                <a:lnTo>
                  <a:pt x="11106" y="2226"/>
                </a:lnTo>
                <a:lnTo>
                  <a:pt x="10520" y="2581"/>
                </a:lnTo>
                <a:lnTo>
                  <a:pt x="9934" y="2936"/>
                </a:lnTo>
                <a:lnTo>
                  <a:pt x="9321" y="3244"/>
                </a:lnTo>
                <a:lnTo>
                  <a:pt x="8699" y="3505"/>
                </a:lnTo>
                <a:lnTo>
                  <a:pt x="8050" y="3765"/>
                </a:lnTo>
                <a:lnTo>
                  <a:pt x="7383" y="3955"/>
                </a:lnTo>
                <a:lnTo>
                  <a:pt x="6697" y="4073"/>
                </a:lnTo>
                <a:lnTo>
                  <a:pt x="5985" y="4144"/>
                </a:lnTo>
                <a:lnTo>
                  <a:pt x="5237" y="4097"/>
                </a:lnTo>
                <a:lnTo>
                  <a:pt x="4462" y="3978"/>
                </a:lnTo>
                <a:lnTo>
                  <a:pt x="3641" y="3765"/>
                </a:lnTo>
                <a:lnTo>
                  <a:pt x="2794" y="3410"/>
                </a:lnTo>
                <a:lnTo>
                  <a:pt x="1902" y="2984"/>
                </a:lnTo>
                <a:lnTo>
                  <a:pt x="973" y="2391"/>
                </a:lnTo>
                <a:lnTo>
                  <a:pt x="0" y="1681"/>
                </a:lnTo>
                <a:lnTo>
                  <a:pt x="0" y="2160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その他"/>
          <p:cNvSpPr/>
          <p:nvPr/>
        </p:nvSpPr>
        <p:spPr>
          <a:xfrm rot="10800000">
            <a:off x="2880" y="143640"/>
            <a:ext cx="914076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973" y="645"/>
                </a:lnTo>
                <a:lnTo>
                  <a:pt x="1902" y="1210"/>
                </a:lnTo>
                <a:lnTo>
                  <a:pt x="2794" y="1667"/>
                </a:lnTo>
                <a:lnTo>
                  <a:pt x="3641" y="2044"/>
                </a:lnTo>
                <a:lnTo>
                  <a:pt x="4462" y="2313"/>
                </a:lnTo>
                <a:lnTo>
                  <a:pt x="5237" y="2501"/>
                </a:lnTo>
                <a:lnTo>
                  <a:pt x="5985" y="2636"/>
                </a:lnTo>
                <a:lnTo>
                  <a:pt x="6697" y="2716"/>
                </a:lnTo>
                <a:lnTo>
                  <a:pt x="7383" y="2743"/>
                </a:lnTo>
                <a:lnTo>
                  <a:pt x="8050" y="2689"/>
                </a:lnTo>
                <a:lnTo>
                  <a:pt x="8699" y="2609"/>
                </a:lnTo>
                <a:lnTo>
                  <a:pt x="9321" y="2474"/>
                </a:lnTo>
                <a:lnTo>
                  <a:pt x="9934" y="2340"/>
                </a:lnTo>
                <a:lnTo>
                  <a:pt x="10520" y="2205"/>
                </a:lnTo>
                <a:lnTo>
                  <a:pt x="11106" y="2017"/>
                </a:lnTo>
                <a:lnTo>
                  <a:pt x="11674" y="1855"/>
                </a:lnTo>
                <a:lnTo>
                  <a:pt x="12242" y="1694"/>
                </a:lnTo>
                <a:lnTo>
                  <a:pt x="12801" y="1532"/>
                </a:lnTo>
                <a:lnTo>
                  <a:pt x="13360" y="1398"/>
                </a:lnTo>
                <a:lnTo>
                  <a:pt x="13918" y="1291"/>
                </a:lnTo>
                <a:lnTo>
                  <a:pt x="14477" y="1237"/>
                </a:lnTo>
                <a:lnTo>
                  <a:pt x="15045" y="1210"/>
                </a:lnTo>
                <a:lnTo>
                  <a:pt x="15622" y="1237"/>
                </a:lnTo>
                <a:lnTo>
                  <a:pt x="16208" y="1318"/>
                </a:lnTo>
                <a:lnTo>
                  <a:pt x="16803" y="1452"/>
                </a:lnTo>
                <a:lnTo>
                  <a:pt x="17425" y="1667"/>
                </a:lnTo>
                <a:lnTo>
                  <a:pt x="18056" y="1963"/>
                </a:lnTo>
                <a:lnTo>
                  <a:pt x="18715" y="2367"/>
                </a:lnTo>
                <a:lnTo>
                  <a:pt x="19391" y="2851"/>
                </a:lnTo>
                <a:lnTo>
                  <a:pt x="20103" y="3442"/>
                </a:lnTo>
                <a:lnTo>
                  <a:pt x="20833" y="4142"/>
                </a:lnTo>
                <a:lnTo>
                  <a:pt x="21600" y="4976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その他"/>
          <p:cNvSpPr/>
          <p:nvPr/>
        </p:nvSpPr>
        <p:spPr>
          <a:xfrm>
            <a:off x="7956720" y="333360"/>
            <a:ext cx="519120" cy="51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58" y="0"/>
                </a:moveTo>
                <a:lnTo>
                  <a:pt x="13227" y="8163"/>
                </a:lnTo>
                <a:lnTo>
                  <a:pt x="21600" y="10374"/>
                </a:lnTo>
                <a:lnTo>
                  <a:pt x="13730" y="13265"/>
                </a:lnTo>
                <a:lnTo>
                  <a:pt x="14232" y="21600"/>
                </a:lnTo>
                <a:lnTo>
                  <a:pt x="8706" y="15136"/>
                </a:lnTo>
                <a:lnTo>
                  <a:pt x="1004" y="18198"/>
                </a:lnTo>
                <a:lnTo>
                  <a:pt x="5525" y="11055"/>
                </a:lnTo>
                <a:lnTo>
                  <a:pt x="0" y="4761"/>
                </a:lnTo>
                <a:lnTo>
                  <a:pt x="8204" y="6973"/>
                </a:lnTo>
                <a:lnTo>
                  <a:pt x="12558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その他"/>
          <p:cNvSpPr/>
          <p:nvPr/>
        </p:nvSpPr>
        <p:spPr>
          <a:xfrm>
            <a:off x="8388360" y="549360"/>
            <a:ext cx="285840" cy="26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43" y="0"/>
                </a:moveTo>
                <a:lnTo>
                  <a:pt x="13081" y="7975"/>
                </a:lnTo>
                <a:lnTo>
                  <a:pt x="21600" y="7642"/>
                </a:lnTo>
                <a:lnTo>
                  <a:pt x="14907" y="12959"/>
                </a:lnTo>
                <a:lnTo>
                  <a:pt x="17644" y="20935"/>
                </a:lnTo>
                <a:lnTo>
                  <a:pt x="10951" y="16283"/>
                </a:lnTo>
                <a:lnTo>
                  <a:pt x="4563" y="21600"/>
                </a:lnTo>
                <a:lnTo>
                  <a:pt x="6388" y="13292"/>
                </a:lnTo>
                <a:lnTo>
                  <a:pt x="0" y="8639"/>
                </a:lnTo>
                <a:lnTo>
                  <a:pt x="7909" y="8307"/>
                </a:lnTo>
                <a:lnTo>
                  <a:pt x="10343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その他"/>
          <p:cNvSpPr/>
          <p:nvPr/>
        </p:nvSpPr>
        <p:spPr>
          <a:xfrm rot="10800000">
            <a:off x="8388360" y="259920"/>
            <a:ext cx="17136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60" y="0"/>
                </a:moveTo>
                <a:lnTo>
                  <a:pt x="13060" y="7902"/>
                </a:lnTo>
                <a:lnTo>
                  <a:pt x="21600" y="11063"/>
                </a:lnTo>
                <a:lnTo>
                  <a:pt x="13562" y="13697"/>
                </a:lnTo>
                <a:lnTo>
                  <a:pt x="13562" y="21600"/>
                </a:lnTo>
                <a:lnTo>
                  <a:pt x="8037" y="15277"/>
                </a:lnTo>
                <a:lnTo>
                  <a:pt x="0" y="17385"/>
                </a:lnTo>
                <a:lnTo>
                  <a:pt x="5022" y="10536"/>
                </a:lnTo>
                <a:lnTo>
                  <a:pt x="0" y="4214"/>
                </a:lnTo>
                <a:lnTo>
                  <a:pt x="8037" y="6321"/>
                </a:lnTo>
                <a:lnTo>
                  <a:pt x="13060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その他"/>
          <p:cNvSpPr/>
          <p:nvPr/>
        </p:nvSpPr>
        <p:spPr>
          <a:xfrm>
            <a:off x="8604360" y="404640"/>
            <a:ext cx="342720" cy="30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418" y="0"/>
                </a:moveTo>
                <a:lnTo>
                  <a:pt x="13213" y="7775"/>
                </a:lnTo>
                <a:lnTo>
                  <a:pt x="21600" y="7487"/>
                </a:lnTo>
                <a:lnTo>
                  <a:pt x="15246" y="12959"/>
                </a:lnTo>
                <a:lnTo>
                  <a:pt x="18042" y="21023"/>
                </a:lnTo>
                <a:lnTo>
                  <a:pt x="10926" y="16127"/>
                </a:lnTo>
                <a:lnTo>
                  <a:pt x="4574" y="21600"/>
                </a:lnTo>
                <a:lnTo>
                  <a:pt x="6606" y="13535"/>
                </a:lnTo>
                <a:lnTo>
                  <a:pt x="0" y="8639"/>
                </a:lnTo>
                <a:lnTo>
                  <a:pt x="8131" y="8063"/>
                </a:lnTo>
                <a:lnTo>
                  <a:pt x="10418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その他"/>
          <p:cNvSpPr/>
          <p:nvPr/>
        </p:nvSpPr>
        <p:spPr>
          <a:xfrm>
            <a:off x="8675640" y="260280"/>
            <a:ext cx="225360" cy="2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028" y="0"/>
                </a:moveTo>
                <a:lnTo>
                  <a:pt x="13114" y="7775"/>
                </a:lnTo>
                <a:lnTo>
                  <a:pt x="21600" y="7343"/>
                </a:lnTo>
                <a:lnTo>
                  <a:pt x="15042" y="12527"/>
                </a:lnTo>
                <a:lnTo>
                  <a:pt x="17742" y="20735"/>
                </a:lnTo>
                <a:lnTo>
                  <a:pt x="10800" y="15983"/>
                </a:lnTo>
                <a:lnTo>
                  <a:pt x="4242" y="21600"/>
                </a:lnTo>
                <a:lnTo>
                  <a:pt x="6556" y="12959"/>
                </a:lnTo>
                <a:lnTo>
                  <a:pt x="0" y="8639"/>
                </a:lnTo>
                <a:lnTo>
                  <a:pt x="7714" y="8207"/>
                </a:lnTo>
                <a:lnTo>
                  <a:pt x="10028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その他"/>
          <p:cNvSpPr/>
          <p:nvPr/>
        </p:nvSpPr>
        <p:spPr>
          <a:xfrm>
            <a:off x="9010800" y="476280"/>
            <a:ext cx="1332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90" y="0"/>
                </a:moveTo>
                <a:lnTo>
                  <a:pt x="13090" y="7664"/>
                </a:lnTo>
                <a:lnTo>
                  <a:pt x="21600" y="11148"/>
                </a:lnTo>
                <a:lnTo>
                  <a:pt x="13090" y="13935"/>
                </a:lnTo>
                <a:lnTo>
                  <a:pt x="13745" y="21600"/>
                </a:lnTo>
                <a:lnTo>
                  <a:pt x="7854" y="15328"/>
                </a:lnTo>
                <a:lnTo>
                  <a:pt x="0" y="17419"/>
                </a:lnTo>
                <a:lnTo>
                  <a:pt x="4581" y="10451"/>
                </a:lnTo>
                <a:lnTo>
                  <a:pt x="0" y="4180"/>
                </a:lnTo>
                <a:lnTo>
                  <a:pt x="7854" y="6967"/>
                </a:lnTo>
                <a:lnTo>
                  <a:pt x="13090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その他"/>
          <p:cNvSpPr/>
          <p:nvPr/>
        </p:nvSpPr>
        <p:spPr>
          <a:xfrm>
            <a:off x="3240" y="3186000"/>
            <a:ext cx="8626320" cy="328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81"/>
                </a:moveTo>
                <a:lnTo>
                  <a:pt x="973" y="2391"/>
                </a:lnTo>
                <a:lnTo>
                  <a:pt x="1902" y="2984"/>
                </a:lnTo>
                <a:lnTo>
                  <a:pt x="2794" y="3410"/>
                </a:lnTo>
                <a:lnTo>
                  <a:pt x="3641" y="3765"/>
                </a:lnTo>
                <a:lnTo>
                  <a:pt x="4462" y="3978"/>
                </a:lnTo>
                <a:lnTo>
                  <a:pt x="5237" y="4097"/>
                </a:lnTo>
                <a:lnTo>
                  <a:pt x="5985" y="4144"/>
                </a:lnTo>
                <a:lnTo>
                  <a:pt x="6697" y="4073"/>
                </a:lnTo>
                <a:lnTo>
                  <a:pt x="7383" y="3955"/>
                </a:lnTo>
                <a:lnTo>
                  <a:pt x="8050" y="3765"/>
                </a:lnTo>
                <a:lnTo>
                  <a:pt x="8699" y="3505"/>
                </a:lnTo>
                <a:lnTo>
                  <a:pt x="9321" y="3244"/>
                </a:lnTo>
                <a:lnTo>
                  <a:pt x="9934" y="2936"/>
                </a:lnTo>
                <a:lnTo>
                  <a:pt x="10520" y="2581"/>
                </a:lnTo>
                <a:lnTo>
                  <a:pt x="11106" y="2226"/>
                </a:lnTo>
                <a:lnTo>
                  <a:pt x="11674" y="1847"/>
                </a:lnTo>
                <a:lnTo>
                  <a:pt x="12242" y="1492"/>
                </a:lnTo>
                <a:lnTo>
                  <a:pt x="12801" y="1160"/>
                </a:lnTo>
                <a:lnTo>
                  <a:pt x="13360" y="852"/>
                </a:lnTo>
                <a:lnTo>
                  <a:pt x="13918" y="591"/>
                </a:lnTo>
                <a:lnTo>
                  <a:pt x="14477" y="331"/>
                </a:lnTo>
                <a:lnTo>
                  <a:pt x="15045" y="165"/>
                </a:lnTo>
                <a:lnTo>
                  <a:pt x="15622" y="47"/>
                </a:lnTo>
                <a:lnTo>
                  <a:pt x="16208" y="0"/>
                </a:lnTo>
                <a:lnTo>
                  <a:pt x="16803" y="23"/>
                </a:lnTo>
                <a:lnTo>
                  <a:pt x="17425" y="165"/>
                </a:lnTo>
                <a:lnTo>
                  <a:pt x="18056" y="378"/>
                </a:lnTo>
                <a:lnTo>
                  <a:pt x="18715" y="733"/>
                </a:lnTo>
                <a:lnTo>
                  <a:pt x="19391" y="1183"/>
                </a:lnTo>
                <a:lnTo>
                  <a:pt x="20103" y="1799"/>
                </a:lnTo>
                <a:lnTo>
                  <a:pt x="20833" y="2533"/>
                </a:lnTo>
                <a:lnTo>
                  <a:pt x="21600" y="341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681"/>
                </a:lnTo>
              </a:path>
            </a:pathLst>
          </a:custGeom>
          <a:solidFill>
            <a:srgbClr val="e7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240" y="3444840"/>
            <a:ext cx="4680" cy="3024360"/>
            <a:chOff x="3240" y="3444840"/>
            <a:chExt cx="4680" cy="3024360"/>
          </a:xfrm>
        </p:grpSpPr>
        <p:sp>
          <p:nvSpPr>
            <p:cNvPr id="51" name="Line 3"/>
            <p:cNvSpPr/>
            <p:nvPr/>
          </p:nvSpPr>
          <p:spPr>
            <a:xfrm>
              <a:off x="3240" y="3444840"/>
              <a:ext cx="4680" cy="3024360"/>
            </a:xfrm>
            <a:prstGeom prst="line">
              <a:avLst/>
            </a:prstGeom>
            <a:ln w="7200">
              <a:solidFill>
                <a:srgbClr val="7e57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240" y="3444840"/>
              <a:ext cx="4680" cy="30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その他"/>
          <p:cNvSpPr/>
          <p:nvPr/>
        </p:nvSpPr>
        <p:spPr>
          <a:xfrm>
            <a:off x="0" y="2708280"/>
            <a:ext cx="9137520" cy="37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3410"/>
                </a:lnTo>
                <a:lnTo>
                  <a:pt x="20833" y="2533"/>
                </a:lnTo>
                <a:lnTo>
                  <a:pt x="20103" y="1799"/>
                </a:lnTo>
                <a:lnTo>
                  <a:pt x="19391" y="1183"/>
                </a:lnTo>
                <a:lnTo>
                  <a:pt x="18715" y="733"/>
                </a:lnTo>
                <a:lnTo>
                  <a:pt x="18056" y="378"/>
                </a:lnTo>
                <a:lnTo>
                  <a:pt x="17425" y="165"/>
                </a:lnTo>
                <a:lnTo>
                  <a:pt x="16803" y="23"/>
                </a:lnTo>
                <a:lnTo>
                  <a:pt x="16208" y="0"/>
                </a:lnTo>
                <a:lnTo>
                  <a:pt x="15622" y="47"/>
                </a:lnTo>
                <a:lnTo>
                  <a:pt x="15045" y="165"/>
                </a:lnTo>
                <a:lnTo>
                  <a:pt x="14477" y="331"/>
                </a:lnTo>
                <a:lnTo>
                  <a:pt x="13918" y="591"/>
                </a:lnTo>
                <a:lnTo>
                  <a:pt x="13360" y="852"/>
                </a:lnTo>
                <a:lnTo>
                  <a:pt x="12801" y="1160"/>
                </a:lnTo>
                <a:lnTo>
                  <a:pt x="12242" y="1492"/>
                </a:lnTo>
                <a:lnTo>
                  <a:pt x="11674" y="1847"/>
                </a:lnTo>
                <a:lnTo>
                  <a:pt x="11106" y="2226"/>
                </a:lnTo>
                <a:lnTo>
                  <a:pt x="10520" y="2581"/>
                </a:lnTo>
                <a:lnTo>
                  <a:pt x="9934" y="2936"/>
                </a:lnTo>
                <a:lnTo>
                  <a:pt x="9321" y="3244"/>
                </a:lnTo>
                <a:lnTo>
                  <a:pt x="8699" y="3505"/>
                </a:lnTo>
                <a:lnTo>
                  <a:pt x="8050" y="3765"/>
                </a:lnTo>
                <a:lnTo>
                  <a:pt x="7383" y="3955"/>
                </a:lnTo>
                <a:lnTo>
                  <a:pt x="6697" y="4073"/>
                </a:lnTo>
                <a:lnTo>
                  <a:pt x="5985" y="4144"/>
                </a:lnTo>
                <a:lnTo>
                  <a:pt x="5237" y="4097"/>
                </a:lnTo>
                <a:lnTo>
                  <a:pt x="4462" y="3978"/>
                </a:lnTo>
                <a:lnTo>
                  <a:pt x="3641" y="3765"/>
                </a:lnTo>
                <a:lnTo>
                  <a:pt x="2794" y="3410"/>
                </a:lnTo>
                <a:lnTo>
                  <a:pt x="1902" y="2984"/>
                </a:lnTo>
                <a:lnTo>
                  <a:pt x="973" y="2391"/>
                </a:lnTo>
                <a:lnTo>
                  <a:pt x="0" y="1681"/>
                </a:lnTo>
                <a:lnTo>
                  <a:pt x="0" y="2160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その他"/>
          <p:cNvSpPr/>
          <p:nvPr/>
        </p:nvSpPr>
        <p:spPr>
          <a:xfrm>
            <a:off x="3240" y="3284640"/>
            <a:ext cx="9140760" cy="35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973" y="645"/>
                </a:lnTo>
                <a:lnTo>
                  <a:pt x="1902" y="1210"/>
                </a:lnTo>
                <a:lnTo>
                  <a:pt x="2794" y="1667"/>
                </a:lnTo>
                <a:lnTo>
                  <a:pt x="3641" y="2044"/>
                </a:lnTo>
                <a:lnTo>
                  <a:pt x="4462" y="2313"/>
                </a:lnTo>
                <a:lnTo>
                  <a:pt x="5237" y="2501"/>
                </a:lnTo>
                <a:lnTo>
                  <a:pt x="5985" y="2636"/>
                </a:lnTo>
                <a:lnTo>
                  <a:pt x="6697" y="2716"/>
                </a:lnTo>
                <a:lnTo>
                  <a:pt x="7383" y="2743"/>
                </a:lnTo>
                <a:lnTo>
                  <a:pt x="8050" y="2689"/>
                </a:lnTo>
                <a:lnTo>
                  <a:pt x="8699" y="2609"/>
                </a:lnTo>
                <a:lnTo>
                  <a:pt x="9321" y="2474"/>
                </a:lnTo>
                <a:lnTo>
                  <a:pt x="9934" y="2340"/>
                </a:lnTo>
                <a:lnTo>
                  <a:pt x="10520" y="2205"/>
                </a:lnTo>
                <a:lnTo>
                  <a:pt x="11106" y="2017"/>
                </a:lnTo>
                <a:lnTo>
                  <a:pt x="11674" y="1855"/>
                </a:lnTo>
                <a:lnTo>
                  <a:pt x="12242" y="1694"/>
                </a:lnTo>
                <a:lnTo>
                  <a:pt x="12801" y="1532"/>
                </a:lnTo>
                <a:lnTo>
                  <a:pt x="13360" y="1398"/>
                </a:lnTo>
                <a:lnTo>
                  <a:pt x="13918" y="1291"/>
                </a:lnTo>
                <a:lnTo>
                  <a:pt x="14477" y="1237"/>
                </a:lnTo>
                <a:lnTo>
                  <a:pt x="15045" y="1210"/>
                </a:lnTo>
                <a:lnTo>
                  <a:pt x="15622" y="1237"/>
                </a:lnTo>
                <a:lnTo>
                  <a:pt x="16208" y="1318"/>
                </a:lnTo>
                <a:lnTo>
                  <a:pt x="16803" y="1452"/>
                </a:lnTo>
                <a:lnTo>
                  <a:pt x="17425" y="1667"/>
                </a:lnTo>
                <a:lnTo>
                  <a:pt x="18056" y="1963"/>
                </a:lnTo>
                <a:lnTo>
                  <a:pt x="18715" y="2367"/>
                </a:lnTo>
                <a:lnTo>
                  <a:pt x="19391" y="2851"/>
                </a:lnTo>
                <a:lnTo>
                  <a:pt x="20103" y="3442"/>
                </a:lnTo>
                <a:lnTo>
                  <a:pt x="20833" y="4142"/>
                </a:lnTo>
                <a:lnTo>
                  <a:pt x="21600" y="4976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その他"/>
          <p:cNvSpPr/>
          <p:nvPr/>
        </p:nvSpPr>
        <p:spPr>
          <a:xfrm>
            <a:off x="749160" y="2340000"/>
            <a:ext cx="650880" cy="64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49" y="0"/>
                </a:moveTo>
                <a:lnTo>
                  <a:pt x="13365" y="8205"/>
                </a:lnTo>
                <a:lnTo>
                  <a:pt x="21600" y="10256"/>
                </a:lnTo>
                <a:lnTo>
                  <a:pt x="13723" y="13273"/>
                </a:lnTo>
                <a:lnTo>
                  <a:pt x="14439" y="21600"/>
                </a:lnTo>
                <a:lnTo>
                  <a:pt x="8950" y="15083"/>
                </a:lnTo>
                <a:lnTo>
                  <a:pt x="1193" y="18221"/>
                </a:lnTo>
                <a:lnTo>
                  <a:pt x="5608" y="11222"/>
                </a:lnTo>
                <a:lnTo>
                  <a:pt x="0" y="4826"/>
                </a:lnTo>
                <a:lnTo>
                  <a:pt x="8234" y="6878"/>
                </a:lnTo>
                <a:lnTo>
                  <a:pt x="12649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その他"/>
          <p:cNvSpPr/>
          <p:nvPr/>
        </p:nvSpPr>
        <p:spPr>
          <a:xfrm>
            <a:off x="1584360" y="3532320"/>
            <a:ext cx="4921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770" y="0"/>
                </a:moveTo>
                <a:lnTo>
                  <a:pt x="13243" y="8258"/>
                </a:lnTo>
                <a:lnTo>
                  <a:pt x="21600" y="10482"/>
                </a:lnTo>
                <a:lnTo>
                  <a:pt x="13558" y="13182"/>
                </a:lnTo>
                <a:lnTo>
                  <a:pt x="13874" y="21600"/>
                </a:lnTo>
                <a:lnTo>
                  <a:pt x="8513" y="14929"/>
                </a:lnTo>
                <a:lnTo>
                  <a:pt x="630" y="17787"/>
                </a:lnTo>
                <a:lnTo>
                  <a:pt x="5360" y="10958"/>
                </a:lnTo>
                <a:lnTo>
                  <a:pt x="0" y="4446"/>
                </a:lnTo>
                <a:lnTo>
                  <a:pt x="8198" y="6670"/>
                </a:lnTo>
                <a:lnTo>
                  <a:pt x="12770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その他"/>
          <p:cNvSpPr/>
          <p:nvPr/>
        </p:nvSpPr>
        <p:spPr>
          <a:xfrm>
            <a:off x="488880" y="3300480"/>
            <a:ext cx="263520" cy="27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202" y="0"/>
                </a:moveTo>
                <a:lnTo>
                  <a:pt x="13610" y="8351"/>
                </a:lnTo>
                <a:lnTo>
                  <a:pt x="21600" y="11231"/>
                </a:lnTo>
                <a:lnTo>
                  <a:pt x="13019" y="13247"/>
                </a:lnTo>
                <a:lnTo>
                  <a:pt x="12131" y="21600"/>
                </a:lnTo>
                <a:lnTo>
                  <a:pt x="8284" y="14687"/>
                </a:lnTo>
                <a:lnTo>
                  <a:pt x="0" y="16703"/>
                </a:lnTo>
                <a:lnTo>
                  <a:pt x="5325" y="10079"/>
                </a:lnTo>
                <a:lnTo>
                  <a:pt x="1479" y="3743"/>
                </a:lnTo>
                <a:lnTo>
                  <a:pt x="8876" y="6335"/>
                </a:lnTo>
                <a:lnTo>
                  <a:pt x="14202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その他"/>
          <p:cNvSpPr/>
          <p:nvPr/>
        </p:nvSpPr>
        <p:spPr>
          <a:xfrm>
            <a:off x="723960" y="4052880"/>
            <a:ext cx="360360" cy="33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67" y="0"/>
                </a:moveTo>
                <a:lnTo>
                  <a:pt x="13391" y="7747"/>
                </a:lnTo>
                <a:lnTo>
                  <a:pt x="21600" y="7513"/>
                </a:lnTo>
                <a:lnTo>
                  <a:pt x="15119" y="12678"/>
                </a:lnTo>
                <a:lnTo>
                  <a:pt x="17927" y="20660"/>
                </a:lnTo>
                <a:lnTo>
                  <a:pt x="11015" y="15965"/>
                </a:lnTo>
                <a:lnTo>
                  <a:pt x="4535" y="21600"/>
                </a:lnTo>
                <a:lnTo>
                  <a:pt x="6695" y="13147"/>
                </a:lnTo>
                <a:lnTo>
                  <a:pt x="0" y="8686"/>
                </a:lnTo>
                <a:lnTo>
                  <a:pt x="8207" y="8217"/>
                </a:lnTo>
                <a:lnTo>
                  <a:pt x="10367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その他"/>
          <p:cNvSpPr/>
          <p:nvPr/>
        </p:nvSpPr>
        <p:spPr>
          <a:xfrm>
            <a:off x="536400" y="1274760"/>
            <a:ext cx="979560" cy="9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85" y="0"/>
                </a:moveTo>
                <a:lnTo>
                  <a:pt x="12785" y="6159"/>
                </a:lnTo>
                <a:lnTo>
                  <a:pt x="20726" y="2959"/>
                </a:lnTo>
                <a:lnTo>
                  <a:pt x="16120" y="9999"/>
                </a:lnTo>
                <a:lnTo>
                  <a:pt x="21600" y="16319"/>
                </a:lnTo>
                <a:lnTo>
                  <a:pt x="13261" y="14399"/>
                </a:lnTo>
                <a:lnTo>
                  <a:pt x="8655" y="21600"/>
                </a:lnTo>
                <a:lnTo>
                  <a:pt x="8100" y="13279"/>
                </a:lnTo>
                <a:lnTo>
                  <a:pt x="0" y="11439"/>
                </a:lnTo>
                <a:lnTo>
                  <a:pt x="7861" y="8239"/>
                </a:lnTo>
                <a:lnTo>
                  <a:pt x="7385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その他"/>
          <p:cNvSpPr/>
          <p:nvPr/>
        </p:nvSpPr>
        <p:spPr>
          <a:xfrm>
            <a:off x="1698480" y="1814400"/>
            <a:ext cx="547920" cy="49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13357" y="8138"/>
                </a:lnTo>
                <a:lnTo>
                  <a:pt x="21600" y="8138"/>
                </a:lnTo>
                <a:lnTo>
                  <a:pt x="14920" y="13304"/>
                </a:lnTo>
                <a:lnTo>
                  <a:pt x="17478" y="21600"/>
                </a:lnTo>
                <a:lnTo>
                  <a:pt x="10800" y="16434"/>
                </a:lnTo>
                <a:lnTo>
                  <a:pt x="4120" y="21600"/>
                </a:lnTo>
                <a:lnTo>
                  <a:pt x="6678" y="13304"/>
                </a:lnTo>
                <a:lnTo>
                  <a:pt x="0" y="8138"/>
                </a:lnTo>
                <a:lnTo>
                  <a:pt x="8242" y="8138"/>
                </a:lnTo>
                <a:lnTo>
                  <a:pt x="1080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その他"/>
          <p:cNvSpPr/>
          <p:nvPr/>
        </p:nvSpPr>
        <p:spPr>
          <a:xfrm>
            <a:off x="1192320" y="3135240"/>
            <a:ext cx="452160" cy="4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28" y="0"/>
                </a:moveTo>
                <a:lnTo>
                  <a:pt x="13371" y="8264"/>
                </a:lnTo>
                <a:lnTo>
                  <a:pt x="21600" y="8264"/>
                </a:lnTo>
                <a:lnTo>
                  <a:pt x="14742" y="13335"/>
                </a:lnTo>
                <a:lnTo>
                  <a:pt x="17314" y="21600"/>
                </a:lnTo>
                <a:lnTo>
                  <a:pt x="10628" y="16528"/>
                </a:lnTo>
                <a:lnTo>
                  <a:pt x="4114" y="21600"/>
                </a:lnTo>
                <a:lnTo>
                  <a:pt x="6514" y="13335"/>
                </a:lnTo>
                <a:lnTo>
                  <a:pt x="0" y="8264"/>
                </a:lnTo>
                <a:lnTo>
                  <a:pt x="8056" y="8264"/>
                </a:lnTo>
                <a:lnTo>
                  <a:pt x="10628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その他"/>
          <p:cNvSpPr/>
          <p:nvPr/>
        </p:nvSpPr>
        <p:spPr>
          <a:xfrm>
            <a:off x="1382760" y="2544840"/>
            <a:ext cx="457200" cy="40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14" y="0"/>
                </a:moveTo>
                <a:lnTo>
                  <a:pt x="13265" y="8028"/>
                </a:lnTo>
                <a:lnTo>
                  <a:pt x="21600" y="8028"/>
                </a:lnTo>
                <a:lnTo>
                  <a:pt x="14796" y="13189"/>
                </a:lnTo>
                <a:lnTo>
                  <a:pt x="17347" y="21600"/>
                </a:lnTo>
                <a:lnTo>
                  <a:pt x="10714" y="16247"/>
                </a:lnTo>
                <a:lnTo>
                  <a:pt x="3911" y="21600"/>
                </a:lnTo>
                <a:lnTo>
                  <a:pt x="6632" y="13189"/>
                </a:lnTo>
                <a:lnTo>
                  <a:pt x="0" y="8028"/>
                </a:lnTo>
                <a:lnTo>
                  <a:pt x="8163" y="8028"/>
                </a:lnTo>
                <a:lnTo>
                  <a:pt x="10714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その他"/>
          <p:cNvSpPr/>
          <p:nvPr/>
        </p:nvSpPr>
        <p:spPr>
          <a:xfrm>
            <a:off x="784080" y="3481560"/>
            <a:ext cx="22068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22" y="0"/>
                </a:moveTo>
                <a:lnTo>
                  <a:pt x="13455" y="8246"/>
                </a:lnTo>
                <a:lnTo>
                  <a:pt x="21600" y="8246"/>
                </a:lnTo>
                <a:lnTo>
                  <a:pt x="14517" y="13352"/>
                </a:lnTo>
                <a:lnTo>
                  <a:pt x="17350" y="21600"/>
                </a:lnTo>
                <a:lnTo>
                  <a:pt x="10622" y="16494"/>
                </a:lnTo>
                <a:lnTo>
                  <a:pt x="3894" y="21600"/>
                </a:lnTo>
                <a:lnTo>
                  <a:pt x="6727" y="13352"/>
                </a:lnTo>
                <a:lnTo>
                  <a:pt x="0" y="8246"/>
                </a:lnTo>
                <a:lnTo>
                  <a:pt x="8144" y="8246"/>
                </a:lnTo>
                <a:lnTo>
                  <a:pt x="10622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その他"/>
          <p:cNvSpPr/>
          <p:nvPr/>
        </p:nvSpPr>
        <p:spPr>
          <a:xfrm>
            <a:off x="690480" y="212760"/>
            <a:ext cx="10018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91" y="0"/>
                </a:moveTo>
                <a:lnTo>
                  <a:pt x="13053" y="6293"/>
                </a:lnTo>
                <a:lnTo>
                  <a:pt x="21133" y="3107"/>
                </a:lnTo>
                <a:lnTo>
                  <a:pt x="16394" y="10178"/>
                </a:lnTo>
                <a:lnTo>
                  <a:pt x="21600" y="16471"/>
                </a:lnTo>
                <a:lnTo>
                  <a:pt x="13363" y="14451"/>
                </a:lnTo>
                <a:lnTo>
                  <a:pt x="8624" y="21600"/>
                </a:lnTo>
                <a:lnTo>
                  <a:pt x="8313" y="13286"/>
                </a:lnTo>
                <a:lnTo>
                  <a:pt x="0" y="11343"/>
                </a:lnTo>
                <a:lnTo>
                  <a:pt x="8080" y="8158"/>
                </a:lnTo>
                <a:lnTo>
                  <a:pt x="7691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その他"/>
          <p:cNvSpPr/>
          <p:nvPr/>
        </p:nvSpPr>
        <p:spPr>
          <a:xfrm>
            <a:off x="266760" y="4518000"/>
            <a:ext cx="2080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61" y="0"/>
                </a:moveTo>
                <a:lnTo>
                  <a:pt x="13034" y="8565"/>
                </a:lnTo>
                <a:lnTo>
                  <a:pt x="21600" y="10800"/>
                </a:lnTo>
                <a:lnTo>
                  <a:pt x="13034" y="13406"/>
                </a:lnTo>
                <a:lnTo>
                  <a:pt x="13406" y="21600"/>
                </a:lnTo>
                <a:lnTo>
                  <a:pt x="8192" y="15268"/>
                </a:lnTo>
                <a:lnTo>
                  <a:pt x="372" y="17503"/>
                </a:lnTo>
                <a:lnTo>
                  <a:pt x="5213" y="10800"/>
                </a:lnTo>
                <a:lnTo>
                  <a:pt x="0" y="4468"/>
                </a:lnTo>
                <a:lnTo>
                  <a:pt x="7820" y="6703"/>
                </a:lnTo>
                <a:lnTo>
                  <a:pt x="12661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2FA1-CE4B-4F1D-BBDD-90D29A21E4A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53C-8757-4094-A545-A03238FD57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40000" y="907920"/>
            <a:ext cx="6619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图片2"/>
          <p:cNvPicPr/>
          <p:nvPr/>
        </p:nvPicPr>
        <p:blipFill>
          <a:blip r:embed="rId1"/>
          <a:stretch/>
        </p:blipFill>
        <p:spPr>
          <a:xfrm>
            <a:off x="3851280" y="2492280"/>
            <a:ext cx="1403280" cy="15130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4100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101"/>
          <p:cNvSpPr/>
          <p:nvPr/>
        </p:nvSpPr>
        <p:spPr>
          <a:xfrm>
            <a:off x="1510920" y="1173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国红政府工作汇报大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466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5F5E-3EAF-48B5-AD9D-ED706EDFF2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WordArt 2" descr=""/>
          <p:cNvPicPr/>
          <p:nvPr/>
        </p:nvPicPr>
        <p:blipFill>
          <a:blip r:embed="rId1"/>
          <a:stretch/>
        </p:blipFill>
        <p:spPr>
          <a:xfrm>
            <a:off x="2766960" y="3882960"/>
            <a:ext cx="3853080" cy="8715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3059280" y="4903920"/>
            <a:ext cx="309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图片2"/>
          <p:cNvPicPr/>
          <p:nvPr/>
        </p:nvPicPr>
        <p:blipFill>
          <a:blip r:embed="rId2"/>
          <a:stretch/>
        </p:blipFill>
        <p:spPr>
          <a:xfrm>
            <a:off x="3708360" y="1341360"/>
            <a:ext cx="1403280" cy="151308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6148"/>
          <p:cNvSpPr/>
          <p:nvPr/>
        </p:nvSpPr>
        <p:spPr>
          <a:xfrm>
            <a:off x="1908000" y="76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0ce80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e0ce8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30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1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