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304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304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480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F9F-910D-4B9D-A43C-818F4A08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CDA-445E-4083-A54F-1F3E4193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BF7-F905-447D-A53B-45FCACA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AB1-BFA9-4CFE-8815-8A75CEE8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D9A-9457-4050-AB80-E87A38B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27432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F26-8115-4761-AA3A-749B6A23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550-BBCF-4216-9443-7441F812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FBA-AB9D-4A2E-86C6-30729DE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D4A-06CC-4926-A0A3-D29711A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914-48C1-41C0-AF49-4E764468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FBF-3E85-4FB9-BCE1-7D77178F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304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304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9480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E50-A9EC-4334-ABC7-0BC4E2DB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0920" y="27432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EC94-709F-45EE-8A20-45A7BE6DFD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3214-6088-4477-AF8A-A175564421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498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8920" y="5518080"/>
            <a:ext cx="47530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Franklin Gothic Book"/>
                <a:ea typeface="隶书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076"/>
          <p:cNvSpPr/>
          <p:nvPr/>
        </p:nvSpPr>
        <p:spPr>
          <a:xfrm>
            <a:off x="2217600" y="1809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紫色工作商务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13A6-59CB-410D-947D-628FFEEDF0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文本框 4099"/>
          <p:cNvSpPr/>
          <p:nvPr/>
        </p:nvSpPr>
        <p:spPr>
          <a:xfrm>
            <a:off x="1305000" y="28274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2:4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3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