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0CDC-1AEA-4D5C-AB1B-6720A7A2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327-AD40-4E15-ACB9-278CD146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CA90-92CA-432F-81B7-F8ED4DC3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7949-DF51-4B2E-B011-FA2B7728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82C4-A27C-418C-96AF-0D6022D5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B419-E222-4EFC-983E-31DA7EB4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6F52-A5E6-48E6-815C-5E80F3F8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CCE6-7BC3-4DA5-95EE-5171C23E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C0B9-A805-455B-AEE7-60C403D3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486D-D00D-45FA-905E-815F8C1B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0A63-F431-4A79-8B1B-B40F679A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CC6A-8951-4711-8F4A-A583D9C5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69DF-D550-4FD8-9CF8-EC9713FF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1568-5203-4495-91C6-73F00A23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1DC4-B957-4080-B6B8-A1DA32FC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0CB9-3F66-4A53-84C0-E394FA71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2526-9147-4F51-9E77-8D0E1E8E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CBE-D49E-44CC-852C-43150D9C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419-9A66-438E-A00C-54F4AFDC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C910-3FC8-430B-840B-57DE8A9E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34A2-CEE6-46A5-8AEC-77E61025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D070-2ABD-4333-B9CE-1D225125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C65-98FB-4D48-B648-9757B790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ACDE-19E9-44E2-B34F-DA1A0623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E898-44E3-4F35-ADC6-15937A22289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5A3A-CFAC-4CEA-A4B0-5D69B7DE477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584F-185C-442C-B31C-0E3A9935049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hyperlink" Target="http://baike.baidu.com/view/1143821.htm" TargetMode="External"/><Relationship Id="rId4" Type="http://schemas.openxmlformats.org/officeDocument/2006/relationships/hyperlink" Target="http://baike.baidu.com/view/280235.htm" TargetMode="External"/><Relationship Id="rId5" Type="http://schemas.openxmlformats.org/officeDocument/2006/relationships/hyperlink" Target="http://baike.baidu.com/view/33350.htm" TargetMode="External"/><Relationship Id="rId6" Type="http://schemas.openxmlformats.org/officeDocument/2006/relationships/hyperlink" Target="http://baike.baidu.com/view/1244336.htm" TargetMode="External"/><Relationship Id="rId7" Type="http://schemas.openxmlformats.org/officeDocument/2006/relationships/hyperlink" Target="http://baike.baidu.com/view/239629.htm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25518.htm" TargetMode="External"/><Relationship Id="rId3" Type="http://schemas.openxmlformats.org/officeDocument/2006/relationships/hyperlink" Target="http://baike.baidu.com/view/48440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8418472.htm" TargetMode="External"/><Relationship Id="rId3" Type="http://schemas.openxmlformats.org/officeDocument/2006/relationships/hyperlink" Target="http://baike.baidu.com/view/14718.htm" TargetMode="External"/><Relationship Id="rId4" Type="http://schemas.openxmlformats.org/officeDocument/2006/relationships/hyperlink" Target="http://baike.baidu.com/view/62956.htm" TargetMode="External"/><Relationship Id="rId5" Type="http://schemas.openxmlformats.org/officeDocument/2006/relationships/hyperlink" Target="http://baike.baidu.com/view/43241.htm" TargetMode="External"/><Relationship Id="rId6" Type="http://schemas.openxmlformats.org/officeDocument/2006/relationships/hyperlink" Target="http://baike.baidu.com/view/13079181.htm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247126.ht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hyperlink" Target="http://baike.baidu.com/view/46802.htm" TargetMode="External"/><Relationship Id="rId4" Type="http://schemas.openxmlformats.org/officeDocument/2006/relationships/hyperlink" Target="http://baike.baidu.com/view/417973.htm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14718.htm" TargetMode="External"/><Relationship Id="rId3" Type="http://schemas.openxmlformats.org/officeDocument/2006/relationships/hyperlink" Target="http://baike.baidu.com/view/1485863.htm" TargetMode="External"/><Relationship Id="rId4" Type="http://schemas.openxmlformats.org/officeDocument/2006/relationships/hyperlink" Target="http://baike.baidu.com/view/4399510.htm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42775.htm" TargetMode="External"/><Relationship Id="rId3" Type="http://schemas.openxmlformats.org/officeDocument/2006/relationships/hyperlink" Target="http://baike.baidu.com/view/332038.htm" TargetMode="External"/><Relationship Id="rId4" Type="http://schemas.openxmlformats.org/officeDocument/2006/relationships/hyperlink" Target="http://baike.baidu.com/view/127227.ht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2475178.htm" TargetMode="External"/><Relationship Id="rId3" Type="http://schemas.openxmlformats.org/officeDocument/2006/relationships/hyperlink" Target="http://baike.baidu.com/view/185070.htm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3429000" y="4695840"/>
            <a:ext cx="48578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医疗设备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500280" y="5195880"/>
            <a:ext cx="3000600" cy="1440"/>
            <a:chOff x="3500280" y="5195880"/>
            <a:chExt cx="3000600" cy="1440"/>
          </a:xfrm>
        </p:grpSpPr>
        <p:sp>
          <p:nvSpPr>
            <p:cNvPr id="85" name="直接连接符 9"/>
            <p:cNvSpPr/>
            <p:nvPr/>
          </p:nvSpPr>
          <p:spPr>
            <a:xfrm>
              <a:off x="3500280" y="5195880"/>
              <a:ext cx="3000600" cy="14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500280" y="5195880"/>
              <a:ext cx="3000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文本框 3076"/>
          <p:cNvSpPr/>
          <p:nvPr/>
        </p:nvSpPr>
        <p:spPr>
          <a:xfrm>
            <a:off x="108000" y="6093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077"/>
          <p:cNvSpPr/>
          <p:nvPr/>
        </p:nvSpPr>
        <p:spPr>
          <a:xfrm>
            <a:off x="2378880" y="117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注射医疗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4A85-C9EB-4D61-8787-D43DB92D50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2" descr="Img389476972.jpg"/>
          <p:cNvPicPr/>
          <p:nvPr/>
        </p:nvPicPr>
        <p:blipFill>
          <a:blip r:embed="rId2"/>
          <a:stretch/>
        </p:blipFill>
        <p:spPr>
          <a:xfrm>
            <a:off x="6054840" y="3786120"/>
            <a:ext cx="3089160" cy="3089520"/>
          </a:xfrm>
          <a:prstGeom prst="rect">
            <a:avLst/>
          </a:prstGeom>
          <a:ln w="0">
            <a:noFill/>
          </a:ln>
        </p:spPr>
      </p:pic>
      <p:sp>
        <p:nvSpPr>
          <p:cNvPr id="160" name="燕尾形箭头 11"/>
          <p:cNvSpPr/>
          <p:nvPr/>
        </p:nvSpPr>
        <p:spPr>
          <a:xfrm>
            <a:off x="714240" y="2143080"/>
            <a:ext cx="7429680" cy="2071800"/>
          </a:xfrm>
          <a:custGeom>
            <a:avLst/>
            <a:gdLst>
              <a:gd name="textAreaLeft" fmla="*/ 517680 w 7429680"/>
              <a:gd name="textAreaRight" fmla="*/ 6912000 w 7429680"/>
              <a:gd name="textAreaTop" fmla="*/ 518040 h 2071800"/>
              <a:gd name="textAreaBottom" fmla="*/ 155412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589" y="5400"/>
                </a:lnTo>
                <a:lnTo>
                  <a:pt x="18589" y="0"/>
                </a:lnTo>
                <a:lnTo>
                  <a:pt x="21600" y="10800"/>
                </a:lnTo>
                <a:lnTo>
                  <a:pt x="18589" y="21600"/>
                </a:lnTo>
                <a:lnTo>
                  <a:pt x="18589" y="16200"/>
                </a:lnTo>
                <a:lnTo>
                  <a:pt x="0" y="16200"/>
                </a:lnTo>
                <a:lnTo>
                  <a:pt x="150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a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"/>
          <p:cNvSpPr/>
          <p:nvPr/>
        </p:nvSpPr>
        <p:spPr>
          <a:xfrm>
            <a:off x="721800" y="78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内注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1214280" y="2714760"/>
            <a:ext cx="650088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⑦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内注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心内注射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向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心室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腔内注入使心搏恢复的药物。常与心脏按摩同时应用。有胸外和胸内（开胸后应用）两种注入法。常用药物有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肾上腺素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普鲁卡因酰胺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利多卡因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阿托品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波形 11"/>
          <p:cNvSpPr/>
          <p:nvPr/>
        </p:nvSpPr>
        <p:spPr>
          <a:xfrm>
            <a:off x="1214280" y="2500200"/>
            <a:ext cx="6572520" cy="1428840"/>
          </a:xfrm>
          <a:custGeom>
            <a:avLst/>
            <a:gdLst>
              <a:gd name="textAreaLeft" fmla="*/ 0 w 6572520"/>
              <a:gd name="textAreaRight" fmla="*/ 6572880 w 6572520"/>
              <a:gd name="textAreaTop" fmla="*/ 371520 h 1428840"/>
              <a:gd name="textAreaBottom" fmla="*/ 105732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49a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714240" y="785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1428840" y="2786040"/>
            <a:ext cx="64292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射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[zhù shè]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借助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注射器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类的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医疗器械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液体或气体注入人体，以达到诊断、治疗、预防疾病的目的。与吃药不一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饼形 11"/>
          <p:cNvSpPr/>
          <p:nvPr/>
        </p:nvSpPr>
        <p:spPr>
          <a:xfrm>
            <a:off x="2997360" y="1492200"/>
            <a:ext cx="3789360" cy="3789360"/>
          </a:xfrm>
          <a:custGeom>
            <a:avLst/>
            <a:gdLst/>
            <a:ahLst/>
            <a:rect l="l" t="t" r="r" b="b"/>
            <a:pathLst>
              <a:path w="5968" h="5968">
                <a:moveTo>
                  <a:pt x="5968" y="2984"/>
                </a:moveTo>
                <a:cubicBezTo>
                  <a:pt x="5968" y="4632"/>
                  <a:pt x="4632" y="5968"/>
                  <a:pt x="2984" y="5968"/>
                </a:cubicBezTo>
                <a:cubicBezTo>
                  <a:pt x="2975" y="5968"/>
                  <a:pt x="2966" y="5968"/>
                  <a:pt x="2957" y="5968"/>
                </a:cubicBezTo>
                <a:lnTo>
                  <a:pt x="2984" y="2984"/>
                </a:lnTo>
                <a:close/>
              </a:path>
            </a:pathLst>
          </a:custGeom>
          <a:solidFill>
            <a:srgbClr val="49a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饼形 12"/>
          <p:cNvSpPr/>
          <p:nvPr/>
        </p:nvSpPr>
        <p:spPr>
          <a:xfrm flipH="1">
            <a:off x="2925720" y="1492200"/>
            <a:ext cx="3789360" cy="3789360"/>
          </a:xfrm>
          <a:custGeom>
            <a:avLst/>
            <a:gdLst/>
            <a:ahLst/>
            <a:rect l="l" t="t" r="r" b="b"/>
            <a:pathLst>
              <a:path w="5967" h="5968">
                <a:moveTo>
                  <a:pt x="5967" y="2984"/>
                </a:moveTo>
                <a:cubicBezTo>
                  <a:pt x="5967" y="4632"/>
                  <a:pt x="4631" y="5968"/>
                  <a:pt x="2984" y="5968"/>
                </a:cubicBezTo>
                <a:cubicBezTo>
                  <a:pt x="2975" y="5968"/>
                  <a:pt x="2966" y="5968"/>
                  <a:pt x="2957" y="5968"/>
                </a:cubicBezTo>
                <a:lnTo>
                  <a:pt x="2983" y="2984"/>
                </a:lnTo>
                <a:close/>
              </a:path>
            </a:pathLst>
          </a:custGeom>
          <a:solidFill>
            <a:srgbClr val="49a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饼形 13"/>
          <p:cNvSpPr/>
          <p:nvPr/>
        </p:nvSpPr>
        <p:spPr>
          <a:xfrm flipV="1">
            <a:off x="2997360" y="1428480"/>
            <a:ext cx="3789360" cy="3789360"/>
          </a:xfrm>
          <a:custGeom>
            <a:avLst/>
            <a:gdLst/>
            <a:ahLst/>
            <a:rect l="l" t="t" r="r" b="b"/>
            <a:pathLst>
              <a:path w="5968" h="5968">
                <a:moveTo>
                  <a:pt x="5968" y="2984"/>
                </a:moveTo>
                <a:cubicBezTo>
                  <a:pt x="5968" y="4632"/>
                  <a:pt x="4632" y="5968"/>
                  <a:pt x="2984" y="5968"/>
                </a:cubicBezTo>
                <a:cubicBezTo>
                  <a:pt x="2975" y="5968"/>
                  <a:pt x="2966" y="5968"/>
                  <a:pt x="2957" y="5968"/>
                </a:cubicBezTo>
                <a:lnTo>
                  <a:pt x="2984" y="2984"/>
                </a:lnTo>
                <a:close/>
              </a:path>
            </a:pathLst>
          </a:custGeom>
          <a:solidFill>
            <a:srgbClr val="49a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饼形 14"/>
          <p:cNvSpPr/>
          <p:nvPr/>
        </p:nvSpPr>
        <p:spPr>
          <a:xfrm flipH="1" flipV="1">
            <a:off x="2925360" y="1428840"/>
            <a:ext cx="3789360" cy="3789360"/>
          </a:xfrm>
          <a:custGeom>
            <a:avLst/>
            <a:gdLst/>
            <a:ahLst/>
            <a:rect l="l" t="t" r="r" b="b"/>
            <a:pathLst>
              <a:path w="5967" h="5968">
                <a:moveTo>
                  <a:pt x="5967" y="2984"/>
                </a:moveTo>
                <a:cubicBezTo>
                  <a:pt x="5967" y="4632"/>
                  <a:pt x="4631" y="5968"/>
                  <a:pt x="2984" y="5968"/>
                </a:cubicBezTo>
                <a:cubicBezTo>
                  <a:pt x="2975" y="5968"/>
                  <a:pt x="2966" y="5968"/>
                  <a:pt x="2957" y="5968"/>
                </a:cubicBezTo>
                <a:lnTo>
                  <a:pt x="2983" y="2984"/>
                </a:lnTo>
                <a:close/>
              </a:path>
            </a:pathLst>
          </a:custGeom>
          <a:solidFill>
            <a:srgbClr val="49a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721800" y="78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解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3357720" y="2214720"/>
            <a:ext cx="135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[inject]∶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注射器将药液注入体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4929120" y="1928880"/>
            <a:ext cx="14288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[injection]∶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注射器将药液注入人体内方法的统称。常用有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内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皮下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肌肉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肌底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静脉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动脉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鞘内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射六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3357720" y="3429000"/>
            <a:ext cx="1500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[fix the gaze upon;give attention to]∶[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光或意念等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]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中于一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他的炯炯双目注射至基础理论上来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8"/>
          <p:cNvSpPr/>
          <p:nvPr/>
        </p:nvSpPr>
        <p:spPr>
          <a:xfrm>
            <a:off x="5000760" y="3571920"/>
            <a:ext cx="135720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[jet;spurt;come down in torrents]∶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喷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倾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7" descr="4499633_190154430000_2.jpg"/>
          <p:cNvPicPr/>
          <p:nvPr/>
        </p:nvPicPr>
        <p:blipFill>
          <a:blip r:embed="rId1"/>
          <a:stretch/>
        </p:blipFill>
        <p:spPr>
          <a:xfrm>
            <a:off x="3286080" y="1174680"/>
            <a:ext cx="5843520" cy="5683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1572120" y="157176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  射  途  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6151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流程图: 可选过程 12"/>
          <p:cNvSpPr/>
          <p:nvPr/>
        </p:nvSpPr>
        <p:spPr>
          <a:xfrm>
            <a:off x="642960" y="2643120"/>
            <a:ext cx="7643880" cy="1357560"/>
          </a:xfrm>
          <a:prstGeom prst="flowChartAlternateProcess">
            <a:avLst/>
          </a:prstGeom>
          <a:solidFill>
            <a:srgbClr val="49a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721800" y="78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内注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1000080" y="2779560"/>
            <a:ext cx="700092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①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内注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内注射用量小，多为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01ml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用于各种过敏试验（包括破伤风类毒素、抗生素等药物、血清等的过敏试验）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预防接种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如卡介苗等）以及局部麻醉，因真皮组织较密，神经末梢多，麻醉药吸收慢，故局麻起始的先作皮内注射局部呈现桔皮样血疹后，再皮下注射，以减少疼痛。一般皮内试验选择前臂掌侧，但卡介苗接种于左上臂三角肌中部皮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5" descr="图片1.png"/>
          <p:cNvPicPr/>
          <p:nvPr/>
        </p:nvPicPr>
        <p:blipFill>
          <a:blip r:embed="rId2"/>
          <a:stretch/>
        </p:blipFill>
        <p:spPr>
          <a:xfrm>
            <a:off x="2214720" y="960480"/>
            <a:ext cx="5400360" cy="5040360"/>
          </a:xfrm>
          <a:prstGeom prst="rect">
            <a:avLst/>
          </a:prstGeom>
          <a:ln w="0">
            <a:noFill/>
          </a:ln>
        </p:spPr>
      </p:pic>
      <p:sp>
        <p:nvSpPr>
          <p:cNvPr id="124" name="弦形 13"/>
          <p:cNvSpPr/>
          <p:nvPr/>
        </p:nvSpPr>
        <p:spPr>
          <a:xfrm>
            <a:off x="2286000" y="1071720"/>
            <a:ext cx="4857840" cy="4857480"/>
          </a:xfrm>
          <a:custGeom>
            <a:avLst/>
            <a:gdLst/>
            <a:ahLst/>
            <a:rect l="l" t="t" r="r" b="b"/>
            <a:pathLst>
              <a:path w="7650" h="7650">
                <a:moveTo>
                  <a:pt x="6529" y="6529"/>
                </a:moveTo>
                <a:cubicBezTo>
                  <a:pt x="5836" y="7221"/>
                  <a:pt x="4880" y="7649"/>
                  <a:pt x="3824" y="7649"/>
                </a:cubicBezTo>
                <a:cubicBezTo>
                  <a:pt x="1712" y="7649"/>
                  <a:pt x="-1" y="5936"/>
                  <a:pt x="-1" y="3824"/>
                </a:cubicBezTo>
                <a:cubicBezTo>
                  <a:pt x="-1" y="1712"/>
                  <a:pt x="1712" y="-1"/>
                  <a:pt x="3824" y="-1"/>
                </a:cubicBezTo>
                <a:cubicBezTo>
                  <a:pt x="4163" y="-1"/>
                  <a:pt x="4492" y="43"/>
                  <a:pt x="4804" y="126"/>
                </a:cubicBezTo>
                <a:close/>
              </a:path>
            </a:pathLst>
          </a:custGeom>
          <a:solidFill>
            <a:srgbClr val="49a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721800" y="78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下注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2714760" y="2260440"/>
            <a:ext cx="30002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下注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下注射为将药液注入皮下组织，由于皮下组织疏松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神经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血管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淋巴液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丰富，药物易吸收，但注射时有疼痛感。故常用于疫苗和菌苗预防接种、局部麻醉以及某些药物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肾上腺素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通常选择上臂外侧三角肌下缘、肩胛下缘或腹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狂犬病疫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大腿外侧等。一般针头刺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cm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抽无回血即可将药液推入。有刺激性的药物如去甲肾肾腺素等，不宜皮下注射。对少数心功能不全或重度脱水的病人，也可采用皮下输液，以长针头刺入大腿内侧皮下，连接输液器将液体缓缓滴入，吸收也比较满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流程图: 文档 12"/>
          <p:cNvSpPr/>
          <p:nvPr/>
        </p:nvSpPr>
        <p:spPr>
          <a:xfrm>
            <a:off x="500040" y="2071800"/>
            <a:ext cx="4071960" cy="4643280"/>
          </a:xfrm>
          <a:prstGeom prst="flowChartDocument">
            <a:avLst/>
          </a:prstGeom>
          <a:solidFill>
            <a:srgbClr val="49a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/>
          <p:cNvSpPr/>
          <p:nvPr/>
        </p:nvSpPr>
        <p:spPr>
          <a:xfrm>
            <a:off x="721800" y="78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肌肉注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857160" y="2357280"/>
            <a:ext cx="328608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肌肉注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肌肉注射又称肌内注射。使用十分广泛，可用以推入各种有刺激性的药物（如青霉素、磺胺、维生素、酶制剂、生物碱制剂、血液、破伤风抗毒素等）。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肌肉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管尤其丰富，药物注入可迅速吸收，一般用量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ml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射部位多用三角肌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臀大肌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臀中肌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臀小肌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股外侧肌等。一般进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cm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臀大肌使用最多，十字法，从臀裂顶点向左或右一侧划一水平线，然后从髂嵴最高点上作一垂直平分线，在外上方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/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处为注射部位。联线法，取髂前上棘和尾骨联线的外上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/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处为注射部位。若肌肉放松，进针、拔针迅速，推药缓慢，则一般药物肌肉注射均无痛苦。若注射部位远离神经、血管，推药前回抽无回血，则肌肉注射比较安全。或静脉点滴时，不能进行皮下时，偶可采用肌内点滴，但肌肉组织紧密，药液不能快速注入且肌肉血管多，不安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4" descr="图片2.png"/>
          <p:cNvPicPr/>
          <p:nvPr/>
        </p:nvPicPr>
        <p:blipFill>
          <a:blip r:embed="rId5"/>
          <a:stretch/>
        </p:blipFill>
        <p:spPr>
          <a:xfrm>
            <a:off x="4572000" y="2048040"/>
            <a:ext cx="40845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对角圆角矩形 11"/>
          <p:cNvSpPr/>
          <p:nvPr/>
        </p:nvSpPr>
        <p:spPr>
          <a:xfrm>
            <a:off x="785880" y="2428920"/>
            <a:ext cx="7643880" cy="2857320"/>
          </a:xfrm>
          <a:custGeom>
            <a:avLst/>
            <a:gdLst/>
            <a:ahLst/>
            <a:rect l="l" t="t" r="r" b="b"/>
            <a:pathLst>
              <a:path w="12037" h="4500">
                <a:moveTo>
                  <a:pt x="750" y="0"/>
                </a:moveTo>
                <a:lnTo>
                  <a:pt x="12037" y="0"/>
                </a:lnTo>
                <a:lnTo>
                  <a:pt x="12037" y="0"/>
                </a:lnTo>
                <a:lnTo>
                  <a:pt x="12037" y="3749"/>
                </a:lnTo>
                <a:cubicBezTo>
                  <a:pt x="12037" y="4163"/>
                  <a:pt x="11701" y="4499"/>
                  <a:pt x="11287" y="4499"/>
                </a:cubicBezTo>
                <a:lnTo>
                  <a:pt x="0" y="4500"/>
                </a:lnTo>
                <a:lnTo>
                  <a:pt x="0" y="4500"/>
                </a:lnTo>
                <a:lnTo>
                  <a:pt x="0" y="750"/>
                </a:lnTo>
                <a:cubicBezTo>
                  <a:pt x="0" y="336"/>
                  <a:pt x="336" y="0"/>
                  <a:pt x="750" y="0"/>
                </a:cubicBezTo>
                <a:close/>
              </a:path>
            </a:pathLst>
          </a:custGeom>
          <a:solidFill>
            <a:srgbClr val="49a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721800" y="78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静脉注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1214280" y="2743200"/>
            <a:ext cx="6929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④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静脉注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静脉注射为用注射器将药液于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内缓慢注入静脉。常用于急重病人，以求迅速发挥疗效。一般剂量超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ml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刺激性，要求迅速起作用的药物，动物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血清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品（如破伤风抗毒素）可作静脉注射，注射部位多为正中静脉（肘部），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大隐静脉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大腿内侧），颈静脉及头皮静脉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用于儿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（图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。宜选用较直较粗、不滑动、易固定的静脉，需长期静脉注射者应选用小血管（手背、足背、浅静脉）。又可往静脉内注入造影剂，如泛影葡胺、优维显等以进行胆囊造影、肾盂造影、脊髓静脉造影，脑数字成影等。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超声心动图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查中可通过静脉注入声学造影剂（如过氧化氢－碳酸氢钠－醋酸混合液），使血内含微小气泡，以产生对比效果。静脉注射对无菌技术要求较严格。注射用的溶液必须为透明的水溶液，不会致热原，渗透后不能低于血液。静脉注射常见的意外有针头刺入角度太直、或用力过猛而将血管刺穿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针尖刺入血管部分过少，止血带松开时，针尖脱出，药液注入皮下；则局部疼痛膨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0248"/>
          <p:cNvSpPr/>
          <p:nvPr/>
        </p:nvSpPr>
        <p:spPr>
          <a:xfrm>
            <a:off x="1403280" y="1917720"/>
            <a:ext cx="504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平行四边形 11"/>
          <p:cNvSpPr/>
          <p:nvPr/>
        </p:nvSpPr>
        <p:spPr>
          <a:xfrm>
            <a:off x="1000080" y="1614600"/>
            <a:ext cx="4121280" cy="4255920"/>
          </a:xfrm>
          <a:prstGeom prst="parallelogram">
            <a:avLst>
              <a:gd name="adj" fmla="val 25000"/>
            </a:avLst>
          </a:prstGeom>
          <a:solidFill>
            <a:srgbClr val="49a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21800" y="78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脉注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1903320" y="1938240"/>
            <a:ext cx="243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⑥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脉注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脉注射将某种较浓厚的药液和血液快速注入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动脉血管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以达到快速补充血容量、抗休克、提高冠状动脉灌流量和抗肿瘤的目的。通常穿刺肢动脉、颈内动脉、锁骨下动脉等。置入导管如通过股动脉，将导管引入髂动脉，用人工加压或用泵加压作动脉灌注。可注入抗肿瘤药，使药物迅速完全到达肿瘤。可注入透析液、吸附剂以治疗肾功能衰竭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肝昏迷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高血脂症。也常将造影剂快速注入动脉做脑血管造影、脊髓动脉造影、肾动脉造影，左心或冠状动脉造影。其优点是药物直接注入动脉血管，迅速到达病变部位，又避开门脉系统，药物不受肝脏破坏。但动脉注射和动脉注入造影剂，需要一定技术和设备条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13" descr="图片3.png"/>
          <p:cNvPicPr/>
          <p:nvPr/>
        </p:nvPicPr>
        <p:blipFill>
          <a:blip r:embed="rId4"/>
          <a:stretch/>
        </p:blipFill>
        <p:spPr>
          <a:xfrm>
            <a:off x="4154400" y="1590840"/>
            <a:ext cx="4132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26Z</dcterms:modified>
  <cp:revision>29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