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0C41-8F9D-42AF-A27B-C6A9B1006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632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895920"/>
            <a:ext cx="632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7B1F-A746-46E6-950E-FE88E0AD3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0862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41080" y="990360"/>
            <a:ext cx="30862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0862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241080" y="3895920"/>
            <a:ext cx="30862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7A16-71C1-42E3-904E-B9ACC92BE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203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138400" y="990360"/>
            <a:ext cx="203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6800" y="990360"/>
            <a:ext cx="203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895920"/>
            <a:ext cx="203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138400" y="3895920"/>
            <a:ext cx="203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6800" y="3895920"/>
            <a:ext cx="203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E222-A69D-45B0-9B6F-F6E7039DB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AB72C-F15A-4F72-92C5-591DBA7F4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632448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45AFA-FA31-4727-94E4-73289BC21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6324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9531C-04F0-4216-8B3E-D4ACDF11C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0862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41080" y="990360"/>
            <a:ext cx="30862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CB92D-5C9F-411A-9372-542A52C32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D90D8-8BA5-49E4-9293-8AC0CFCAB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2CF4D-10B9-474A-A311-797C13A8C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0862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41080" y="990360"/>
            <a:ext cx="30862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0862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A59B6-DEA1-4F0D-BE11-85DA52B1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632448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6004-CF7D-4C0F-A6AC-2EBC88185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0862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41080" y="990360"/>
            <a:ext cx="30862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241080" y="3895920"/>
            <a:ext cx="30862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210E5-857B-4B3D-9ABF-19E4248B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0862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241080" y="990360"/>
            <a:ext cx="30862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632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028D3-2DF5-4511-B435-C586FB73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632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3895920"/>
            <a:ext cx="632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359C8-A829-4428-AFE1-7E5E40CAB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0862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41080" y="990360"/>
            <a:ext cx="30862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0862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241080" y="3895920"/>
            <a:ext cx="30862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C80A9-156E-49AA-834F-5FD5EBDF6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203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38400" y="990360"/>
            <a:ext cx="203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276800" y="990360"/>
            <a:ext cx="203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3895920"/>
            <a:ext cx="203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38400" y="3895920"/>
            <a:ext cx="203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276800" y="3895920"/>
            <a:ext cx="203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AC155-FB1B-485D-A3EF-C3F21095F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93742-1DC9-4484-B3E3-4D31AAA81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632448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A8CA7-BEB8-4C7B-B659-340A74987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6324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56C14-C1E4-417B-96AC-FADB3044B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0862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41080" y="990360"/>
            <a:ext cx="30862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71663-3BB0-4BEC-B758-449130707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458F4-B28F-4316-909A-0FB961918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6324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E1AC-8E42-4A2F-997D-001DC6A38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E2402-A008-4690-95CD-6969E17F2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0862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41080" y="990360"/>
            <a:ext cx="30862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0862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256BD-9461-4140-9606-BC4DBC6F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0862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41080" y="990360"/>
            <a:ext cx="30862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241080" y="3895920"/>
            <a:ext cx="30862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63ACC-2895-465A-8697-B4507BAE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0862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41080" y="990360"/>
            <a:ext cx="30862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632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50B88-D732-46E5-858B-46250FD5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632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0" y="3895920"/>
            <a:ext cx="632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6C7B8-AF44-41E1-AA37-3F6C6710D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0862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41080" y="990360"/>
            <a:ext cx="30862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0862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241080" y="3895920"/>
            <a:ext cx="30862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DF24A-D0D4-426D-A948-2535CE1E4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203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138400" y="990360"/>
            <a:ext cx="203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276800" y="990360"/>
            <a:ext cx="203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0" y="3895920"/>
            <a:ext cx="203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2138400" y="3895920"/>
            <a:ext cx="203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4276800" y="3895920"/>
            <a:ext cx="203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E887C-60C6-41F3-B000-9EAA8B412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0862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241080" y="990360"/>
            <a:ext cx="30862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8A78-761D-424B-8453-4834DB9C2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3871-9160-4FC0-97D6-C08E74610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E848-0DF6-4935-9560-74FD1AEA2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0862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241080" y="990360"/>
            <a:ext cx="30862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0862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2DB3-49EA-478D-8898-E96D6DC3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0862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241080" y="990360"/>
            <a:ext cx="30862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1080" y="3895920"/>
            <a:ext cx="30862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2B7C-7103-40E5-809F-ACFC219E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0862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241080" y="990360"/>
            <a:ext cx="30862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632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8D72-FC5E-41F7-A0B4-5F436A85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990360"/>
            <a:ext cx="6324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cc99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cc99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cc99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cc99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cc99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cc99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128E7-0A13-4D4D-BEA8-36F4773DF7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B9355-2442-4728-99B6-015CFBE2128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1A354-5BEB-40EE-AA49-AF07D07FA66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0" y="990360"/>
            <a:ext cx="6324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cc99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cc99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cc99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cc99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cc99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cc99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1A05F-FB45-4E10-8858-7D0AD05D33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4097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e0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Franklin Gothic Heavy"/>
              </a:rPr>
              <a:t>Pharmaceutical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Franklin Gothic Demi"/>
              </a:rPr>
              <a:t>Your Subtitle Goes Here</a:t>
            </a:r>
            <a:endParaRPr b="1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26" name="文本框 4100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文本框 4101"/>
          <p:cNvSpPr/>
          <p:nvPr/>
        </p:nvSpPr>
        <p:spPr>
          <a:xfrm>
            <a:off x="2452680" y="1628640"/>
            <a:ext cx="499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中西药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医疗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模板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our Topic Goes He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6324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Arial"/>
              </a:rPr>
              <a:t>Your subtopics go here</a:t>
            </a:r>
            <a:endParaRPr b="1" lang="en-US" sz="3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Franklin Gothic Heavy"/>
              </a:rPr>
              <a:t>Transitional Pag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9900"/>
              </a:solidFill>
              <a:latin typeface="Franklin Gothic Demi"/>
            </a:endParaRPr>
          </a:p>
        </p:txBody>
      </p:sp>
      <p:sp>
        <p:nvSpPr>
          <p:cNvPr id="132" name="文本框 6147"/>
          <p:cNvSpPr/>
          <p:nvPr/>
        </p:nvSpPr>
        <p:spPr>
          <a:xfrm>
            <a:off x="792000" y="2933640"/>
            <a:ext cx="50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our Topic Goes He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6324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Arial"/>
              </a:rPr>
              <a:t>Your subtopics go here</a:t>
            </a:r>
            <a:endParaRPr b="1" lang="en-US" sz="3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3892C-C615-49E5-B427-0F946C1F41C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Franklin Gothic Heavy"/>
              </a:rPr>
              <a:t>Element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图片 8194" descr="Z:\newtek\_backgrounds_1.02\Tim\powerpoint templates\41-60\pharmaceuticals\pharmaceuticals_prt.jpg"/>
          <p:cNvPicPr/>
          <p:nvPr/>
        </p:nvPicPr>
        <p:blipFill>
          <a:blip r:embed="rId1"/>
          <a:stretch/>
        </p:blipFill>
        <p:spPr>
          <a:xfrm>
            <a:off x="6986520" y="1905120"/>
            <a:ext cx="2005200" cy="152388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8195" descr="Z:\newtek\_backgrounds_1.02\Tim\powerpoint templates\41-60\pharmaceuticals\pharmaceuticals_qx.jpg"/>
          <p:cNvPicPr/>
          <p:nvPr/>
        </p:nvPicPr>
        <p:blipFill>
          <a:blip r:embed="rId2"/>
          <a:stretch/>
        </p:blipFill>
        <p:spPr>
          <a:xfrm>
            <a:off x="152280" y="1905120"/>
            <a:ext cx="2005200" cy="152388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8196" descr="Z:\newtek\_backgrounds_1.02\Tim\powerpoint templates\41-60\pharmaceuticals\pharmaceuticals_sld.jpg"/>
          <p:cNvPicPr/>
          <p:nvPr/>
        </p:nvPicPr>
        <p:blipFill>
          <a:blip r:embed="rId3"/>
          <a:stretch/>
        </p:blipFill>
        <p:spPr>
          <a:xfrm>
            <a:off x="4708440" y="1905120"/>
            <a:ext cx="2005200" cy="152388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8197" descr="Z:\newtek\_backgrounds_1.02\Tim\powerpoint templates\41-60\pharmaceuticals\pharmaceuticals_trs.jpg"/>
          <p:cNvPicPr/>
          <p:nvPr/>
        </p:nvPicPr>
        <p:blipFill>
          <a:blip r:embed="rId4"/>
          <a:stretch/>
        </p:blipFill>
        <p:spPr>
          <a:xfrm>
            <a:off x="2430360" y="1905120"/>
            <a:ext cx="20052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31T19:48:2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0:21Z</dcterms:modified>
  <cp:revision>2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