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2D8-ACB5-421B-989F-8D75682E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C29-0F2B-426D-9D75-A063AA8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5BA-FC2E-4D52-AC4E-706D5470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079-0E85-4903-81A7-DDE836B9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74AD-2486-4F3F-8B71-107282D1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7E6A-900A-4160-80A6-787E4888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C7AD-9382-4D10-8C63-B7B7366D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4C8E-7E66-4D27-ADDE-230EC1C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6E6A-2DF1-460C-844E-E918476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C30-0A23-40F1-AE8B-BA9C7AB7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7B7F-EC0E-4B0E-9F80-FA396F9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CA2-F79A-4DDD-96CB-B7B0A8A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B63B-B6D0-44DF-8291-69FCAC8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3016-EB30-4EEB-B062-94046AE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638C-F51D-4DD6-82F0-CB8C8ABD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152D-28D2-45FC-90FD-7C965F3C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38AD-6955-4D56-9905-CBD2EAD9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243-96AC-4FC3-B71D-3BF15074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2C5-70D9-470C-88CC-B23E9B8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7EA-AEB2-4269-B05F-709EE012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7AF-BF43-45F7-8D07-5E4E3146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9D0-26E8-4656-B157-1478E088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846-01AA-423D-AD52-9141D5F0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E92-4275-4D15-BED4-DA8E7AC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8C4B-5C62-4BEB-9589-6A3BE9E7B4F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5782-0219-4BFB-A9CA-A4D34268F7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005-3471-4949-B930-118E284C71F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AA60-3F33-4CB0-9A37-73033DF52D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PowerPoint_Bugs_Background_by_Luai_lashire"/>
          <p:cNvPicPr/>
          <p:nvPr/>
        </p:nvPicPr>
        <p:blipFill>
          <a:blip r:embed="rId1"/>
          <a:stretch/>
        </p:blipFill>
        <p:spPr>
          <a:xfrm>
            <a:off x="-14400" y="-22320"/>
            <a:ext cx="9156960" cy="13733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994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国外设计师经典作品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Sermon_Powerpoin_15_by_jedskie"/>
          <p:cNvPicPr/>
          <p:nvPr/>
        </p:nvPicPr>
        <p:blipFill>
          <a:blip r:embed="rId1"/>
          <a:stretch/>
        </p:blipFill>
        <p:spPr>
          <a:xfrm>
            <a:off x="-3240" y="-1440"/>
            <a:ext cx="9145800" cy="136522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193B-8650-4140-8A96-F22B820864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Sermon_Powerpoin_17_by_jedskie"/>
          <p:cNvPicPr/>
          <p:nvPr/>
        </p:nvPicPr>
        <p:blipFill>
          <a:blip r:embed="rId1"/>
          <a:stretch/>
        </p:blipFill>
        <p:spPr>
          <a:xfrm>
            <a:off x="0" y="-1440"/>
            <a:ext cx="9142560" cy="136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3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4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