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1E7-7477-4393-9F46-9C600D38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6CD-AD03-4006-9429-10DC8CD3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CC7-37A5-431E-BE7B-9EEBA325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490-BE57-40DC-9982-7454CBB6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F76B-2039-4CB2-B58F-E79D819D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B93E-ABC7-4E13-AA6E-8E79ABC5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7F4A-7A0E-467E-AFD1-A53909C9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D2D5-D8C8-4F85-9041-1E08782E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5254-1EA3-4755-BF92-2F360138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A572-47DA-44F2-B846-E0CEFB57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5C07-1988-4AE0-AC14-4490FEB1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730-F9E5-4D9F-BEA4-3E351119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75F3-30EF-4CB3-B7EA-1A9416CD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9992-8FE7-4865-8827-B791A86A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23E6-2B27-458F-BF8B-7339A82B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7BF6-35B7-4120-AD15-CE9409D3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A898-F088-4B4E-A5D3-CBEF5F20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EFB7A-3220-4C34-AC4E-0994228D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56BC4-0989-44F1-A757-EBE4E6B0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EEB3-E2D2-4001-9125-94A27A7D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275D2-95A3-41FF-8B12-16CE2A72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7CB5-E501-4F08-AC17-4651958E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0CD-8C78-4929-997D-90AA0772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1D6F1-4ED3-4A7F-9DD0-79C95570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1DB63-B66D-478D-BD52-95361051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DA68B-0FB2-49A2-8A57-FDB52274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42132-2CF6-4B85-97CC-64B45395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A67CE-32E5-4410-8D05-AB340873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72660-A478-4A06-9907-0EE8BC2F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5AD7B-488D-4F4A-A99C-C2489215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281-0ACC-420C-87DA-C2ED8E59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71C-2814-4C5C-AAA4-A5980DF0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D5F-DB0C-4859-99F9-69143D43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77D-E48E-478D-82CD-658A28EE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7D3-AB30-4D99-9F0E-5C38C2AB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887-3795-4B15-BCCD-371F36BE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0C65-8049-417B-B29A-EA96AB29280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6C96-4B1D-45BB-98B1-DF2435BC930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A6BD-C1BD-4B7C-ADA1-D7EA13F88F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078"/>
          <p:cNvSpPr/>
          <p:nvPr/>
        </p:nvSpPr>
        <p:spPr>
          <a:xfrm>
            <a:off x="685800" y="1447920"/>
            <a:ext cx="7772400" cy="4190760"/>
          </a:xfrm>
          <a:prstGeom prst="rect">
            <a:avLst/>
          </a:prstGeom>
          <a:solidFill>
            <a:srgbClr val="cc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66F5-5225-4A53-A038-2617D256C26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subtitl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1823400" y="774720"/>
            <a:ext cx="52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外实用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7712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组合 4105"/>
          <p:cNvGrpSpPr/>
          <p:nvPr/>
        </p:nvGrpSpPr>
        <p:grpSpPr>
          <a:xfrm>
            <a:off x="7315200" y="609480"/>
            <a:ext cx="1143000" cy="1143000"/>
            <a:chOff x="7315200" y="609480"/>
            <a:chExt cx="1143000" cy="1143000"/>
          </a:xfrm>
        </p:grpSpPr>
        <p:pic>
          <p:nvPicPr>
            <p:cNvPr id="131" name="图片 4103" descr="Z:\newtek\_backgrounds_1.02\Greg\PowerPoint Templates\Maps\Elements\globe_anim.gif"/>
            <p:cNvPicPr/>
            <p:nvPr/>
          </p:nvPicPr>
          <p:blipFill>
            <a:blip r:embed="rId1"/>
            <a:stretch/>
          </p:blipFill>
          <p:spPr>
            <a:xfrm>
              <a:off x="7315200" y="609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矩形 4104"/>
            <p:cNvSpPr/>
            <p:nvPr/>
          </p:nvSpPr>
          <p:spPr>
            <a:xfrm>
              <a:off x="7315200" y="609480"/>
              <a:ext cx="114300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文本框 8199"/>
          <p:cNvSpPr/>
          <p:nvPr/>
        </p:nvSpPr>
        <p:spPr>
          <a:xfrm>
            <a:off x="1285920" y="5454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ab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ion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82BB-2AAE-4CC9-9682-A06C9C79BE4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3314" descr="Z:\newtek\_backgrounds_1.02\Greg\PowerPoint Templates\Maps\Elements\maps_title.jpg"/>
          <p:cNvPicPr/>
          <p:nvPr/>
        </p:nvPicPr>
        <p:blipFill>
          <a:blip r:embed="rId1"/>
          <a:stretch/>
        </p:blipFill>
        <p:spPr>
          <a:xfrm>
            <a:off x="304920" y="1143000"/>
            <a:ext cx="3274920" cy="26208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3315" descr="Z:\newtek\_backgrounds_1.02\Greg\PowerPoint Templates\Maps\Elements\maps_slide.jpg"/>
          <p:cNvPicPr/>
          <p:nvPr/>
        </p:nvPicPr>
        <p:blipFill>
          <a:blip r:embed="rId2"/>
          <a:stretch/>
        </p:blipFill>
        <p:spPr>
          <a:xfrm flipH="1" rot="10800000">
            <a:off x="5562720" y="1142640"/>
            <a:ext cx="3274920" cy="26208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3316" descr="Z:\newtek\_backgrounds_1.02\Greg\PowerPoint Templates\Maps\Elements\maps_print.jpg"/>
          <p:cNvPicPr/>
          <p:nvPr/>
        </p:nvPicPr>
        <p:blipFill>
          <a:blip r:embed="rId3"/>
          <a:stretch/>
        </p:blipFill>
        <p:spPr>
          <a:xfrm>
            <a:off x="5562720" y="4008600"/>
            <a:ext cx="3276360" cy="2620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3317" descr="Z:\newtek\_backgrounds_1.02\Greg\PowerPoint Templates\Maps\Elements\maps_trans.jpg"/>
          <p:cNvPicPr/>
          <p:nvPr/>
        </p:nvPicPr>
        <p:blipFill>
          <a:blip r:embed="rId4"/>
          <a:stretch/>
        </p:blipFill>
        <p:spPr>
          <a:xfrm>
            <a:off x="304920" y="4008600"/>
            <a:ext cx="3274920" cy="2620800"/>
          </a:xfrm>
          <a:prstGeom prst="rect">
            <a:avLst/>
          </a:prstGeom>
          <a:ln w="0">
            <a:noFill/>
          </a:ln>
        </p:spPr>
      </p:pic>
      <p:grpSp>
        <p:nvGrpSpPr>
          <p:cNvPr id="147" name="组合 13320"/>
          <p:cNvGrpSpPr/>
          <p:nvPr/>
        </p:nvGrpSpPr>
        <p:grpSpPr>
          <a:xfrm>
            <a:off x="3809880" y="4572000"/>
            <a:ext cx="1447920" cy="1447920"/>
            <a:chOff x="3809880" y="4572000"/>
            <a:chExt cx="1447920" cy="1447920"/>
          </a:xfrm>
        </p:grpSpPr>
        <p:pic>
          <p:nvPicPr>
            <p:cNvPr id="148" name="图片 13318" descr="Z:\newtek\_backgrounds_1.02\Greg\PowerPoint Templates\Maps\Elements\globe_anim.gif"/>
            <p:cNvPicPr/>
            <p:nvPr/>
          </p:nvPicPr>
          <p:blipFill>
            <a:blip r:embed="rId5"/>
            <a:stretch/>
          </p:blipFill>
          <p:spPr>
            <a:xfrm>
              <a:off x="3809880" y="4572000"/>
              <a:ext cx="14479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矩形 13319"/>
            <p:cNvSpPr/>
            <p:nvPr/>
          </p:nvSpPr>
          <p:spPr>
            <a:xfrm>
              <a:off x="3809880" y="4572000"/>
              <a:ext cx="1447920" cy="1447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文本框 13321"/>
          <p:cNvSpPr/>
          <p:nvPr/>
        </p:nvSpPr>
        <p:spPr>
          <a:xfrm>
            <a:off x="3733920" y="12952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文本框 13322"/>
          <p:cNvSpPr/>
          <p:nvPr/>
        </p:nvSpPr>
        <p:spPr>
          <a:xfrm>
            <a:off x="3581280" y="19810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this page when template is fin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21:49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11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