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8B4-A5E7-41CA-865E-7E3876E0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D7A-D8C7-4501-8ABD-F09B5F37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AC1-7575-43BE-9D3D-50EE4F3B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9B9-5410-4AF6-8392-3A24EBF4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CE1C-4324-4AC5-8845-172640DC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FF6C-781C-42B8-8988-40A28EB3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E0C1-6062-4D26-9BA2-C1A999A6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385D-B80E-4F70-BEAA-20593C7D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8CF4-D082-490B-B7C1-69244D31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63244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862D-F096-4200-A6B5-EB42DED5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84C2-BC5C-474F-A5AA-3A119C3B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96A-BB4C-4A8F-8CDC-E6F951A8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C46F-FF8C-4522-B9D3-2B83AE0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E656-7DAC-4EF4-8A73-B71B417F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4C46-3AAD-42F9-895D-B0D1341F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7378-5E08-4B3B-88CA-C94B3013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3A0A-478B-4AFC-8171-461E130E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B9C24-1AE6-4490-B19F-4625AF7F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1E48-E517-434D-9F9D-A8B64281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56433-E949-42A8-8846-53EEBFA4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AE3D-BBA4-4FDC-9F22-B8002A49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3EEF-D74F-489E-B545-F0C12773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83E-52A4-462D-9714-0D162EBE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63244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1D6E-FB26-4F1A-A0C8-C9191AB4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F6F5F-EE9E-40C7-B68C-E9C6D0FA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9987-F206-4477-9B36-1844960F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32AE-C345-481E-BEF6-CC7C202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4788-5F4E-4C1D-A066-08621B2B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D975-EB5C-497D-90ED-5D92FDD8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115E-1D4C-43B1-93D3-3906AAE7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724-5708-4854-BE32-AC62B12E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52F-AF1B-4473-A5C8-5AA43593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63244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E00-C07D-4712-B5F8-B8EBA103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BAF-1386-49C2-A54F-382CE01E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B75-B20C-4DE2-A6E2-3E3AAF33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D29-6F76-4CA4-9065-7F273BB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A92C-1ADC-43B6-BEE1-903B80E1E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5BF8-0BBC-4FAC-8905-40FB9C2C271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28AD-FDE4-4ACA-A3EC-5599141F91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11F3-03B3-4649-8715-A240BD579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95480" y="2895480"/>
            <a:ext cx="6096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rescendo in Min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895480" y="4572000"/>
            <a:ext cx="6096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152280" y="5410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990720" y="2057400"/>
            <a:ext cx="725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艺术背景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8D40-9E67-48C1-9CA0-6E666D59F4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2438280"/>
            <a:ext cx="8991720" cy="19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Transitional P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17:24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38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