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EF7-1D0C-48CF-8A57-AAEDE42B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0C3-07D4-4380-9678-0ACE6791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6F3-C9CD-4345-9E03-DDD30AC2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B29-6F74-4202-959E-D067CD32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1A38-2BAC-40CF-B09E-7607FF72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0A47-244D-485C-B276-C66B68F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E293-B364-4DAD-AB4D-B702B785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AA35-6EFD-47E7-8CC0-565151FC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F7E-0BE5-44A7-BA36-F4A7360F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FE03-C471-4546-9128-E17C026D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5BED-AD52-4532-BD0B-BB5E17F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882-2026-47F8-A8D8-900496BE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D24B-5C31-4743-B361-6496CBB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48DB-83A8-4433-8B87-EE107A9A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88A9-F258-4038-9EFB-2848E897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5A7F-A3A0-4661-A812-C4B95EED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88A2-ADB5-40D8-89AC-66C4DBCA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CDA-DD9A-4C9C-8FED-9594350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BD6-E2DC-499C-A93B-BF0B1F04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F44-FC36-48F8-95A0-3FC849C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140-3261-4751-B70C-1912B709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63E-8D60-4D71-AE0E-281D6D11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9ED-A5E5-4B9C-8C8C-81EBCA92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E37-6001-43CB-9301-B4327E2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F645-7E7A-4074-8CF0-D3134683F1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9864-B2E0-4781-8B72-A7DBDE6C89C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AC0D-3B6A-46C6-A5C5-54386ACB59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hyperlink" Target="http://www.eeppt.com" TargetMode="External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019160" y="4781520"/>
            <a:ext cx="2786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작성자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   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작성년월일</a:t>
            </a:r>
            <a:r>
              <a:rPr b="1" lang="en-US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201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宋体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. 00. 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제목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97164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개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683400" y="6453360"/>
            <a:ext cx="2281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.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969840" y="3068640"/>
            <a:ext cx="74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韩国工作日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89B2-69B0-4E9A-99B5-CFCC800E1B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감사합니다</a:t>
            </a:r>
            <a:r>
              <a:rPr b="1" lang="en-US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6683400" y="6453360"/>
            <a:ext cx="2281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.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5973-E15A-4D58-A31D-4C3BFCB37A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1019160" y="47973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작성자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이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소속팀   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소속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작성년월일</a:t>
            </a:r>
            <a:r>
              <a:rPr b="1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201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宋体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. 00.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제목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97164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개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6683400" y="6453360"/>
            <a:ext cx="2281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.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778A-8DC4-4727-A864-A503C856BAE5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8160-FB3F-493F-A8FB-FFBABF6E7F07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160640" y="2044800"/>
            <a:ext cx="664200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을 여기에 작성하세요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나눔손글씨 펜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,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6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글자 간격은 좁게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0.2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줄간격은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1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 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510E-80EF-4AF7-8E11-FF097B07EBB6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411280" y="3040200"/>
            <a:ext cx="936720" cy="288720"/>
            <a:chOff x="2411280" y="3040200"/>
            <a:chExt cx="936720" cy="288720"/>
          </a:xfrm>
        </p:grpSpPr>
        <p:sp>
          <p:nvSpPr>
            <p:cNvPr id="118" name="직선 연결선 17"/>
            <p:cNvSpPr/>
            <p:nvPr/>
          </p:nvSpPr>
          <p:spPr>
            <a:xfrm flipV="1">
              <a:off x="2411280" y="3040200"/>
              <a:ext cx="936720" cy="288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10800000">
              <a:off x="2411280" y="3040200"/>
              <a:ext cx="93672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11280" y="3794040"/>
            <a:ext cx="1224000" cy="1800"/>
            <a:chOff x="2411280" y="3794040"/>
            <a:chExt cx="1224000" cy="1800"/>
          </a:xfrm>
        </p:grpSpPr>
        <p:sp>
          <p:nvSpPr>
            <p:cNvPr id="121" name="직선 연결선 20"/>
            <p:cNvSpPr/>
            <p:nvPr/>
          </p:nvSpPr>
          <p:spPr>
            <a:xfrm>
              <a:off x="2411280" y="3794040"/>
              <a:ext cx="12240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411280" y="3794040"/>
              <a:ext cx="122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40360" y="2320560"/>
            <a:ext cx="1079280" cy="358920"/>
            <a:chOff x="4140360" y="2320560"/>
            <a:chExt cx="1079280" cy="358920"/>
          </a:xfrm>
        </p:grpSpPr>
        <p:sp>
          <p:nvSpPr>
            <p:cNvPr id="124" name="직선 연결선 62"/>
            <p:cNvSpPr/>
            <p:nvPr/>
          </p:nvSpPr>
          <p:spPr>
            <a:xfrm flipV="1">
              <a:off x="4140360" y="2320560"/>
              <a:ext cx="1079280" cy="35892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 rot="10800000">
              <a:off x="4140360" y="2320560"/>
              <a:ext cx="107928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48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40000" y="4121280"/>
            <a:ext cx="1008000" cy="574560"/>
            <a:chOff x="2340000" y="4121280"/>
            <a:chExt cx="1008000" cy="574560"/>
          </a:xfrm>
        </p:grpSpPr>
        <p:sp>
          <p:nvSpPr>
            <p:cNvPr id="129" name="직선 연결선 58"/>
            <p:cNvSpPr/>
            <p:nvPr/>
          </p:nvSpPr>
          <p:spPr>
            <a:xfrm>
              <a:off x="2340000" y="4121280"/>
              <a:ext cx="1008000" cy="574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340000" y="4121280"/>
              <a:ext cx="100800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그림 5" descr=""/>
          <p:cNvPicPr/>
          <p:nvPr/>
        </p:nvPicPr>
        <p:blipFill>
          <a:blip r:embed="rId2"/>
          <a:stretch/>
        </p:blipFill>
        <p:spPr>
          <a:xfrm>
            <a:off x="966960" y="3247920"/>
            <a:ext cx="1647720" cy="1086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0"/>
          <p:cNvSpPr/>
          <p:nvPr/>
        </p:nvSpPr>
        <p:spPr>
          <a:xfrm>
            <a:off x="1262160" y="34876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2824200"/>
            <a:ext cx="1223640" cy="216000"/>
            <a:chOff x="4140360" y="2824200"/>
            <a:chExt cx="1223640" cy="216000"/>
          </a:xfrm>
        </p:grpSpPr>
        <p:sp>
          <p:nvSpPr>
            <p:cNvPr id="134" name="직선 연결선 69"/>
            <p:cNvSpPr/>
            <p:nvPr/>
          </p:nvSpPr>
          <p:spPr>
            <a:xfrm>
              <a:off x="4140360" y="2824200"/>
              <a:ext cx="1223640" cy="21600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140360" y="2824200"/>
              <a:ext cx="1223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56000" y="3803760"/>
            <a:ext cx="1224000" cy="1440"/>
            <a:chOff x="4356000" y="3803760"/>
            <a:chExt cx="1224000" cy="1440"/>
          </a:xfrm>
        </p:grpSpPr>
        <p:sp>
          <p:nvSpPr>
            <p:cNvPr id="137" name="직선 연결선 72"/>
            <p:cNvSpPr/>
            <p:nvPr/>
          </p:nvSpPr>
          <p:spPr>
            <a:xfrm>
              <a:off x="4356000" y="3803760"/>
              <a:ext cx="1224000" cy="14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356000" y="3803760"/>
              <a:ext cx="122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140360" y="4559040"/>
            <a:ext cx="1079280" cy="360360"/>
            <a:chOff x="4140360" y="4559040"/>
            <a:chExt cx="1079280" cy="360360"/>
          </a:xfrm>
        </p:grpSpPr>
        <p:sp>
          <p:nvSpPr>
            <p:cNvPr id="140" name="직선 연결선 74"/>
            <p:cNvSpPr/>
            <p:nvPr/>
          </p:nvSpPr>
          <p:spPr>
            <a:xfrm flipV="1">
              <a:off x="4140360" y="4559040"/>
              <a:ext cx="1079280" cy="36036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 rot="10800000">
              <a:off x="4140360" y="455904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40360" y="5064120"/>
            <a:ext cx="1223640" cy="216000"/>
            <a:chOff x="4140360" y="5064120"/>
            <a:chExt cx="1223640" cy="216000"/>
          </a:xfrm>
        </p:grpSpPr>
        <p:sp>
          <p:nvSpPr>
            <p:cNvPr id="143" name="직선 연결선 75"/>
            <p:cNvSpPr/>
            <p:nvPr/>
          </p:nvSpPr>
          <p:spPr>
            <a:xfrm>
              <a:off x="4140360" y="5064120"/>
              <a:ext cx="1223640" cy="21600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140360" y="5064120"/>
              <a:ext cx="1223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796000" y="2176200"/>
            <a:ext cx="1008000" cy="215640"/>
            <a:chOff x="5796000" y="2176200"/>
            <a:chExt cx="1008000" cy="215640"/>
          </a:xfrm>
        </p:grpSpPr>
        <p:sp>
          <p:nvSpPr>
            <p:cNvPr id="146" name="직선 연결선 76"/>
            <p:cNvSpPr/>
            <p:nvPr/>
          </p:nvSpPr>
          <p:spPr>
            <a:xfrm flipV="1">
              <a:off x="5796000" y="2176200"/>
              <a:ext cx="1008000" cy="21564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 rot="10800000">
              <a:off x="5796000" y="2176200"/>
              <a:ext cx="100800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796000" y="2392200"/>
            <a:ext cx="1008000" cy="360360"/>
            <a:chOff x="5796000" y="2392200"/>
            <a:chExt cx="1008000" cy="360360"/>
          </a:xfrm>
        </p:grpSpPr>
        <p:sp>
          <p:nvSpPr>
            <p:cNvPr id="149" name="직선 연결선 77"/>
            <p:cNvSpPr/>
            <p:nvPr/>
          </p:nvSpPr>
          <p:spPr>
            <a:xfrm>
              <a:off x="5796000" y="239220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5796000" y="239220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796000" y="2924280"/>
            <a:ext cx="1008000" cy="358560"/>
            <a:chOff x="5796000" y="2924280"/>
            <a:chExt cx="1008000" cy="358560"/>
          </a:xfrm>
        </p:grpSpPr>
        <p:sp>
          <p:nvSpPr>
            <p:cNvPr id="152" name="직선 연결선 86"/>
            <p:cNvSpPr/>
            <p:nvPr/>
          </p:nvSpPr>
          <p:spPr>
            <a:xfrm>
              <a:off x="5796000" y="2924280"/>
              <a:ext cx="1008000" cy="35856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796000" y="2924280"/>
              <a:ext cx="100800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803920" y="4408560"/>
            <a:ext cx="1008000" cy="216000"/>
            <a:chOff x="5803920" y="4408560"/>
            <a:chExt cx="1008000" cy="216000"/>
          </a:xfrm>
        </p:grpSpPr>
        <p:sp>
          <p:nvSpPr>
            <p:cNvPr id="155" name="직선 연결선 87"/>
            <p:cNvSpPr/>
            <p:nvPr/>
          </p:nvSpPr>
          <p:spPr>
            <a:xfrm flipV="1">
              <a:off x="5803920" y="4408560"/>
              <a:ext cx="1008000" cy="21600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5803920" y="4408560"/>
              <a:ext cx="1008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03920" y="4624560"/>
            <a:ext cx="1008000" cy="360360"/>
            <a:chOff x="5803920" y="4624560"/>
            <a:chExt cx="1008000" cy="360360"/>
          </a:xfrm>
        </p:grpSpPr>
        <p:sp>
          <p:nvSpPr>
            <p:cNvPr id="158" name="직선 연결선 88"/>
            <p:cNvSpPr/>
            <p:nvPr/>
          </p:nvSpPr>
          <p:spPr>
            <a:xfrm>
              <a:off x="5803920" y="462456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803920" y="462456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803920" y="5156280"/>
            <a:ext cx="1008000" cy="360360"/>
            <a:chOff x="5803920" y="5156280"/>
            <a:chExt cx="1008000" cy="360360"/>
          </a:xfrm>
        </p:grpSpPr>
        <p:sp>
          <p:nvSpPr>
            <p:cNvPr id="161" name="직선 연결선 89"/>
            <p:cNvSpPr/>
            <p:nvPr/>
          </p:nvSpPr>
          <p:spPr>
            <a:xfrm>
              <a:off x="5803920" y="515628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803920" y="515628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그림 6" descr=""/>
          <p:cNvPicPr/>
          <p:nvPr/>
        </p:nvPicPr>
        <p:blipFill>
          <a:blip r:embed="rId3"/>
          <a:stretch/>
        </p:blipFill>
        <p:spPr>
          <a:xfrm>
            <a:off x="3205080" y="2390760"/>
            <a:ext cx="1152720" cy="76212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7" descr=""/>
          <p:cNvPicPr/>
          <p:nvPr/>
        </p:nvPicPr>
        <p:blipFill>
          <a:blip r:embed="rId4"/>
          <a:stretch/>
        </p:blipFill>
        <p:spPr>
          <a:xfrm>
            <a:off x="3471840" y="3459240"/>
            <a:ext cx="1152720" cy="761760"/>
          </a:xfrm>
          <a:prstGeom prst="rect">
            <a:avLst/>
          </a:prstGeom>
          <a:ln w="0">
            <a:noFill/>
          </a:ln>
        </p:spPr>
      </p:pic>
      <p:pic>
        <p:nvPicPr>
          <p:cNvPr id="165" name="그림 8" descr=""/>
          <p:cNvPicPr/>
          <p:nvPr/>
        </p:nvPicPr>
        <p:blipFill>
          <a:blip r:embed="rId5"/>
          <a:stretch/>
        </p:blipFill>
        <p:spPr>
          <a:xfrm>
            <a:off x="3214800" y="4595760"/>
            <a:ext cx="1152360" cy="762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1"/>
          <p:cNvSpPr/>
          <p:nvPr/>
        </p:nvSpPr>
        <p:spPr>
          <a:xfrm>
            <a:off x="3276720" y="24732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3543480" y="356544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3286080" y="468792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그림 26" descr=""/>
          <p:cNvPicPr/>
          <p:nvPr/>
        </p:nvPicPr>
        <p:blipFill>
          <a:blip r:embed="rId6"/>
          <a:stretch/>
        </p:blipFill>
        <p:spPr>
          <a:xfrm>
            <a:off x="4998960" y="2185920"/>
            <a:ext cx="1028880" cy="447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7"/>
          <p:cNvSpPr/>
          <p:nvPr/>
        </p:nvSpPr>
        <p:spPr>
          <a:xfrm>
            <a:off x="5000760" y="21240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그림 28" descr=""/>
          <p:cNvPicPr/>
          <p:nvPr/>
        </p:nvPicPr>
        <p:blipFill>
          <a:blip r:embed="rId7"/>
          <a:stretch/>
        </p:blipFill>
        <p:spPr>
          <a:xfrm>
            <a:off x="5022720" y="280044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9"/>
          <p:cNvSpPr/>
          <p:nvPr/>
        </p:nvSpPr>
        <p:spPr>
          <a:xfrm>
            <a:off x="5024520" y="273672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그림 36" descr=""/>
          <p:cNvPicPr/>
          <p:nvPr/>
        </p:nvPicPr>
        <p:blipFill>
          <a:blip r:embed="rId8"/>
          <a:stretch/>
        </p:blipFill>
        <p:spPr>
          <a:xfrm>
            <a:off x="5210280" y="358632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7"/>
          <p:cNvSpPr/>
          <p:nvPr/>
        </p:nvSpPr>
        <p:spPr>
          <a:xfrm>
            <a:off x="5210280" y="354816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그림 38" descr=""/>
          <p:cNvPicPr/>
          <p:nvPr/>
        </p:nvPicPr>
        <p:blipFill>
          <a:blip r:embed="rId9"/>
          <a:stretch/>
        </p:blipFill>
        <p:spPr>
          <a:xfrm>
            <a:off x="5045040" y="443880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4879800" y="4394160"/>
            <a:ext cx="128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그림 40" descr=""/>
          <p:cNvPicPr/>
          <p:nvPr/>
        </p:nvPicPr>
        <p:blipFill>
          <a:blip r:embed="rId10"/>
          <a:stretch/>
        </p:blipFill>
        <p:spPr>
          <a:xfrm>
            <a:off x="5046840" y="5052960"/>
            <a:ext cx="1028520" cy="447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1"/>
          <p:cNvSpPr/>
          <p:nvPr/>
        </p:nvSpPr>
        <p:spPr>
          <a:xfrm>
            <a:off x="5048280" y="499104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그림 15" descr=""/>
          <p:cNvPicPr/>
          <p:nvPr/>
        </p:nvPicPr>
        <p:blipFill>
          <a:blip r:embed="rId11"/>
          <a:stretch/>
        </p:blipFill>
        <p:spPr>
          <a:xfrm>
            <a:off x="6572160" y="199548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3"/>
          <p:cNvSpPr/>
          <p:nvPr/>
        </p:nvSpPr>
        <p:spPr>
          <a:xfrm>
            <a:off x="6643800" y="195120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그림 24" descr=""/>
          <p:cNvPicPr/>
          <p:nvPr/>
        </p:nvPicPr>
        <p:blipFill>
          <a:blip r:embed="rId12"/>
          <a:stretch/>
        </p:blipFill>
        <p:spPr>
          <a:xfrm>
            <a:off x="6576840" y="249552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5"/>
          <p:cNvSpPr/>
          <p:nvPr/>
        </p:nvSpPr>
        <p:spPr>
          <a:xfrm>
            <a:off x="6643800" y="2451240"/>
            <a:ext cx="142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림 30" descr=""/>
          <p:cNvPicPr/>
          <p:nvPr/>
        </p:nvPicPr>
        <p:blipFill>
          <a:blip r:embed="rId13"/>
          <a:stretch/>
        </p:blipFill>
        <p:spPr>
          <a:xfrm>
            <a:off x="6572160" y="300996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1"/>
          <p:cNvSpPr/>
          <p:nvPr/>
        </p:nvSpPr>
        <p:spPr>
          <a:xfrm>
            <a:off x="6572160" y="296532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그림 42" descr=""/>
          <p:cNvPicPr/>
          <p:nvPr/>
        </p:nvPicPr>
        <p:blipFill>
          <a:blip r:embed="rId14"/>
          <a:stretch/>
        </p:blipFill>
        <p:spPr>
          <a:xfrm>
            <a:off x="6616800" y="422424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3"/>
          <p:cNvSpPr/>
          <p:nvPr/>
        </p:nvSpPr>
        <p:spPr>
          <a:xfrm>
            <a:off x="6688080" y="417996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그림 44" descr=""/>
          <p:cNvPicPr/>
          <p:nvPr/>
        </p:nvPicPr>
        <p:blipFill>
          <a:blip r:embed="rId15"/>
          <a:stretch/>
        </p:blipFill>
        <p:spPr>
          <a:xfrm>
            <a:off x="6621480" y="472428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5"/>
          <p:cNvSpPr/>
          <p:nvPr/>
        </p:nvSpPr>
        <p:spPr>
          <a:xfrm>
            <a:off x="6688080" y="468000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그림 53" descr=""/>
          <p:cNvPicPr/>
          <p:nvPr/>
        </p:nvPicPr>
        <p:blipFill>
          <a:blip r:embed="rId16"/>
          <a:stretch/>
        </p:blipFill>
        <p:spPr>
          <a:xfrm>
            <a:off x="6620040" y="529596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54"/>
          <p:cNvSpPr/>
          <p:nvPr/>
        </p:nvSpPr>
        <p:spPr>
          <a:xfrm>
            <a:off x="6686640" y="52513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1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97C7-3BEE-474F-B505-9BEF5E75B48E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7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35280" y="2563920"/>
            <a:ext cx="360" cy="2305080"/>
            <a:chOff x="4535280" y="2563920"/>
            <a:chExt cx="360" cy="2305080"/>
          </a:xfrm>
        </p:grpSpPr>
        <p:sp>
          <p:nvSpPr>
            <p:cNvPr id="197" name="직선 연결선 45"/>
            <p:cNvSpPr/>
            <p:nvPr/>
          </p:nvSpPr>
          <p:spPr>
            <a:xfrm>
              <a:off x="4535640" y="2563920"/>
              <a:ext cx="0" cy="230508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5400000">
              <a:off x="3382920" y="371628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348000" y="3760920"/>
            <a:ext cx="2735280" cy="360"/>
            <a:chOff x="3348000" y="3760920"/>
            <a:chExt cx="2735280" cy="360"/>
          </a:xfrm>
        </p:grpSpPr>
        <p:sp>
          <p:nvSpPr>
            <p:cNvPr id="200" name="직선 연결선 41"/>
            <p:cNvSpPr/>
            <p:nvPr/>
          </p:nvSpPr>
          <p:spPr>
            <a:xfrm>
              <a:off x="3348000" y="3760920"/>
              <a:ext cx="2735280" cy="0"/>
            </a:xfrm>
            <a:prstGeom prst="line">
              <a:avLst/>
            </a:prstGeom>
            <a:ln w="15840">
              <a:solidFill>
                <a:srgbClr val="0c0c0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348000" y="3760920"/>
              <a:ext cx="27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그림 10" descr=""/>
          <p:cNvPicPr/>
          <p:nvPr/>
        </p:nvPicPr>
        <p:blipFill>
          <a:blip r:embed="rId2"/>
          <a:stretch/>
        </p:blipFill>
        <p:spPr>
          <a:xfrm>
            <a:off x="3948120" y="3149640"/>
            <a:ext cx="1247760" cy="12380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1"/>
          <p:cNvSpPr/>
          <p:nvPr/>
        </p:nvSpPr>
        <p:spPr>
          <a:xfrm>
            <a:off x="4030560" y="3317760"/>
            <a:ext cx="982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124000" y="2852640"/>
            <a:ext cx="1150920" cy="936720"/>
            <a:chOff x="2124000" y="2852640"/>
            <a:chExt cx="1150920" cy="936720"/>
          </a:xfrm>
        </p:grpSpPr>
        <p:sp>
          <p:nvSpPr>
            <p:cNvPr id="205" name="직선 연결선 46"/>
            <p:cNvSpPr/>
            <p:nvPr/>
          </p:nvSpPr>
          <p:spPr>
            <a:xfrm>
              <a:off x="2124000" y="2852640"/>
              <a:ext cx="1150920" cy="93672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124000" y="2852640"/>
              <a:ext cx="11509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195280" y="3789000"/>
            <a:ext cx="1081440" cy="863640"/>
            <a:chOff x="2195280" y="3789000"/>
            <a:chExt cx="1081440" cy="863640"/>
          </a:xfrm>
        </p:grpSpPr>
        <p:sp>
          <p:nvSpPr>
            <p:cNvPr id="208" name="직선 연결선 49"/>
            <p:cNvSpPr/>
            <p:nvPr/>
          </p:nvSpPr>
          <p:spPr>
            <a:xfrm flipV="1">
              <a:off x="2195640" y="3789000"/>
              <a:ext cx="1081080" cy="86364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10800000">
              <a:off x="2195280" y="3789000"/>
              <a:ext cx="10810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011640" y="2852640"/>
            <a:ext cx="863640" cy="905040"/>
            <a:chOff x="6011640" y="2852640"/>
            <a:chExt cx="863640" cy="905040"/>
          </a:xfrm>
        </p:grpSpPr>
        <p:sp>
          <p:nvSpPr>
            <p:cNvPr id="211" name="직선 연결선 51"/>
            <p:cNvSpPr/>
            <p:nvPr/>
          </p:nvSpPr>
          <p:spPr>
            <a:xfrm flipH="1">
              <a:off x="6011640" y="2852640"/>
              <a:ext cx="863640" cy="90504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 rot="5400000">
              <a:off x="5990760" y="2873160"/>
              <a:ext cx="9050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11640" y="3758760"/>
            <a:ext cx="863640" cy="894240"/>
            <a:chOff x="6011640" y="3758760"/>
            <a:chExt cx="863640" cy="894240"/>
          </a:xfrm>
        </p:grpSpPr>
        <p:sp>
          <p:nvSpPr>
            <p:cNvPr id="214" name="직선 연결선 52"/>
            <p:cNvSpPr/>
            <p:nvPr/>
          </p:nvSpPr>
          <p:spPr>
            <a:xfrm flipH="1" flipV="1">
              <a:off x="6011640" y="3758760"/>
              <a:ext cx="863640" cy="89388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 rot="5400000">
              <a:off x="5996520" y="3774240"/>
              <a:ext cx="8938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그림 22" descr=""/>
          <p:cNvPicPr/>
          <p:nvPr/>
        </p:nvPicPr>
        <p:blipFill>
          <a:blip r:embed="rId3"/>
          <a:stretch/>
        </p:blipFill>
        <p:spPr>
          <a:xfrm>
            <a:off x="1814400" y="429588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3"/>
          <p:cNvSpPr/>
          <p:nvPr/>
        </p:nvSpPr>
        <p:spPr>
          <a:xfrm>
            <a:off x="1644480" y="4356000"/>
            <a:ext cx="98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24" descr=""/>
          <p:cNvPicPr/>
          <p:nvPr/>
        </p:nvPicPr>
        <p:blipFill>
          <a:blip r:embed="rId4"/>
          <a:stretch/>
        </p:blipFill>
        <p:spPr>
          <a:xfrm>
            <a:off x="1808280" y="248904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5"/>
          <p:cNvSpPr/>
          <p:nvPr/>
        </p:nvSpPr>
        <p:spPr>
          <a:xfrm>
            <a:off x="1638360" y="25495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그림 28" descr=""/>
          <p:cNvPicPr/>
          <p:nvPr/>
        </p:nvPicPr>
        <p:blipFill>
          <a:blip r:embed="rId5"/>
          <a:stretch/>
        </p:blipFill>
        <p:spPr>
          <a:xfrm>
            <a:off x="6513480" y="43052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9"/>
          <p:cNvSpPr/>
          <p:nvPr/>
        </p:nvSpPr>
        <p:spPr>
          <a:xfrm>
            <a:off x="6343560" y="43657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그림 30" descr=""/>
          <p:cNvPicPr/>
          <p:nvPr/>
        </p:nvPicPr>
        <p:blipFill>
          <a:blip r:embed="rId6"/>
          <a:stretch/>
        </p:blipFill>
        <p:spPr>
          <a:xfrm>
            <a:off x="6507000" y="249876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1"/>
          <p:cNvSpPr/>
          <p:nvPr/>
        </p:nvSpPr>
        <p:spPr>
          <a:xfrm>
            <a:off x="6338880" y="255888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08360" y="2060640"/>
            <a:ext cx="790560" cy="504720"/>
            <a:chOff x="3708360" y="2060640"/>
            <a:chExt cx="790560" cy="504720"/>
          </a:xfrm>
        </p:grpSpPr>
        <p:sp>
          <p:nvSpPr>
            <p:cNvPr id="225" name="직선 연결선 57"/>
            <p:cNvSpPr/>
            <p:nvPr/>
          </p:nvSpPr>
          <p:spPr>
            <a:xfrm>
              <a:off x="3708360" y="2060640"/>
              <a:ext cx="790560" cy="50472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3708360" y="2060640"/>
              <a:ext cx="7905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572000" y="2060640"/>
            <a:ext cx="792000" cy="504720"/>
            <a:chOff x="4572000" y="2060640"/>
            <a:chExt cx="792000" cy="504720"/>
          </a:xfrm>
        </p:grpSpPr>
        <p:sp>
          <p:nvSpPr>
            <p:cNvPr id="228" name="직선 연결선 59"/>
            <p:cNvSpPr/>
            <p:nvPr/>
          </p:nvSpPr>
          <p:spPr>
            <a:xfrm flipH="1">
              <a:off x="4572000" y="2060640"/>
              <a:ext cx="792000" cy="50472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4572000" y="2060640"/>
              <a:ext cx="792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08360" y="5013000"/>
            <a:ext cx="790560" cy="576360"/>
            <a:chOff x="3708360" y="5013000"/>
            <a:chExt cx="790560" cy="576360"/>
          </a:xfrm>
        </p:grpSpPr>
        <p:sp>
          <p:nvSpPr>
            <p:cNvPr id="231" name="직선 연결선 62"/>
            <p:cNvSpPr/>
            <p:nvPr/>
          </p:nvSpPr>
          <p:spPr>
            <a:xfrm flipV="1">
              <a:off x="3708360" y="5013000"/>
              <a:ext cx="790560" cy="57636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10800000">
              <a:off x="3708360" y="5013000"/>
              <a:ext cx="7905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572000" y="5013000"/>
            <a:ext cx="792000" cy="576360"/>
            <a:chOff x="4572000" y="5013000"/>
            <a:chExt cx="792000" cy="576360"/>
          </a:xfrm>
        </p:grpSpPr>
        <p:sp>
          <p:nvSpPr>
            <p:cNvPr id="234" name="직선 연결선 63"/>
            <p:cNvSpPr/>
            <p:nvPr/>
          </p:nvSpPr>
          <p:spPr>
            <a:xfrm flipH="1" flipV="1">
              <a:off x="4572000" y="5013000"/>
              <a:ext cx="792000" cy="57636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10800000">
              <a:off x="4572000" y="5013000"/>
              <a:ext cx="792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그림 16" descr=""/>
          <p:cNvPicPr/>
          <p:nvPr/>
        </p:nvPicPr>
        <p:blipFill>
          <a:blip r:embed="rId7"/>
          <a:stretch/>
        </p:blipFill>
        <p:spPr>
          <a:xfrm>
            <a:off x="4130640" y="459756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7"/>
          <p:cNvSpPr/>
          <p:nvPr/>
        </p:nvSpPr>
        <p:spPr>
          <a:xfrm>
            <a:off x="4033800" y="469908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그림 32" descr=""/>
          <p:cNvPicPr/>
          <p:nvPr/>
        </p:nvPicPr>
        <p:blipFill>
          <a:blip r:embed="rId8"/>
          <a:stretch/>
        </p:blipFill>
        <p:spPr>
          <a:xfrm>
            <a:off x="3373560" y="522612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3"/>
          <p:cNvSpPr/>
          <p:nvPr/>
        </p:nvSpPr>
        <p:spPr>
          <a:xfrm>
            <a:off x="3222720" y="5286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그림 34" descr=""/>
          <p:cNvPicPr/>
          <p:nvPr/>
        </p:nvPicPr>
        <p:blipFill>
          <a:blip r:embed="rId9"/>
          <a:stretch/>
        </p:blipFill>
        <p:spPr>
          <a:xfrm>
            <a:off x="4992840" y="523548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5"/>
          <p:cNvSpPr/>
          <p:nvPr/>
        </p:nvSpPr>
        <p:spPr>
          <a:xfrm>
            <a:off x="4822920" y="529596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그림 18" descr=""/>
          <p:cNvPicPr/>
          <p:nvPr/>
        </p:nvPicPr>
        <p:blipFill>
          <a:blip r:embed="rId10"/>
          <a:stretch/>
        </p:blipFill>
        <p:spPr>
          <a:xfrm>
            <a:off x="4135320" y="216864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9"/>
          <p:cNvSpPr/>
          <p:nvPr/>
        </p:nvSpPr>
        <p:spPr>
          <a:xfrm>
            <a:off x="4038480" y="22701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그림 36" descr=""/>
          <p:cNvPicPr/>
          <p:nvPr/>
        </p:nvPicPr>
        <p:blipFill>
          <a:blip r:embed="rId11"/>
          <a:stretch/>
        </p:blipFill>
        <p:spPr>
          <a:xfrm>
            <a:off x="3373560" y="176832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7"/>
          <p:cNvSpPr/>
          <p:nvPr/>
        </p:nvSpPr>
        <p:spPr>
          <a:xfrm>
            <a:off x="3222720" y="1830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그림 38" descr=""/>
          <p:cNvPicPr/>
          <p:nvPr/>
        </p:nvPicPr>
        <p:blipFill>
          <a:blip r:embed="rId12"/>
          <a:stretch/>
        </p:blipFill>
        <p:spPr>
          <a:xfrm>
            <a:off x="4992840" y="1758960"/>
            <a:ext cx="71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2124000" y="3760920"/>
            <a:ext cx="935280" cy="360"/>
            <a:chOff x="2124000" y="3760920"/>
            <a:chExt cx="935280" cy="360"/>
          </a:xfrm>
        </p:grpSpPr>
        <p:sp>
          <p:nvSpPr>
            <p:cNvPr id="248" name="직선 연결선 70"/>
            <p:cNvSpPr/>
            <p:nvPr/>
          </p:nvSpPr>
          <p:spPr>
            <a:xfrm>
              <a:off x="2124000" y="3760920"/>
              <a:ext cx="935280" cy="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2124000" y="3760920"/>
              <a:ext cx="9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39"/>
          <p:cNvSpPr/>
          <p:nvPr/>
        </p:nvSpPr>
        <p:spPr>
          <a:xfrm>
            <a:off x="4822920" y="18208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그림 20" descr=""/>
          <p:cNvPicPr/>
          <p:nvPr/>
        </p:nvPicPr>
        <p:blipFill>
          <a:blip r:embed="rId13"/>
          <a:stretch/>
        </p:blipFill>
        <p:spPr>
          <a:xfrm>
            <a:off x="1625760" y="340344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1"/>
          <p:cNvSpPr/>
          <p:nvPr/>
        </p:nvSpPr>
        <p:spPr>
          <a:xfrm>
            <a:off x="1457280" y="346392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그림 12" descr=""/>
          <p:cNvPicPr/>
          <p:nvPr/>
        </p:nvPicPr>
        <p:blipFill>
          <a:blip r:embed="rId14"/>
          <a:stretch/>
        </p:blipFill>
        <p:spPr>
          <a:xfrm>
            <a:off x="2824200" y="336852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3"/>
          <p:cNvSpPr/>
          <p:nvPr/>
        </p:nvSpPr>
        <p:spPr>
          <a:xfrm>
            <a:off x="2728800" y="346860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137280" y="3760920"/>
            <a:ext cx="936720" cy="360"/>
            <a:chOff x="6137280" y="3760920"/>
            <a:chExt cx="936720" cy="360"/>
          </a:xfrm>
        </p:grpSpPr>
        <p:sp>
          <p:nvSpPr>
            <p:cNvPr id="256" name="직선 연결선 72"/>
            <p:cNvSpPr/>
            <p:nvPr/>
          </p:nvSpPr>
          <p:spPr>
            <a:xfrm>
              <a:off x="6137280" y="3760920"/>
              <a:ext cx="936720" cy="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137280" y="37609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그림 14" descr=""/>
          <p:cNvPicPr/>
          <p:nvPr/>
        </p:nvPicPr>
        <p:blipFill>
          <a:blip r:embed="rId15"/>
          <a:stretch/>
        </p:blipFill>
        <p:spPr>
          <a:xfrm>
            <a:off x="5532480" y="336564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5"/>
          <p:cNvSpPr/>
          <p:nvPr/>
        </p:nvSpPr>
        <p:spPr>
          <a:xfrm>
            <a:off x="5435640" y="34653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그림 26" descr=""/>
          <p:cNvPicPr/>
          <p:nvPr/>
        </p:nvPicPr>
        <p:blipFill>
          <a:blip r:embed="rId16"/>
          <a:stretch/>
        </p:blipFill>
        <p:spPr>
          <a:xfrm>
            <a:off x="6838920" y="341316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7"/>
          <p:cNvSpPr/>
          <p:nvPr/>
        </p:nvSpPr>
        <p:spPr>
          <a:xfrm>
            <a:off x="6670800" y="34732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F398-8072-4516-A805-B5089DCD7424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D7C8-B1DC-4F8D-B9BF-BF0B3884CDF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차트 47"/>
          <p:cNvSpPr/>
          <p:nvPr/>
        </p:nvSpPr>
        <p:spPr>
          <a:xfrm>
            <a:off x="1187280" y="1917720"/>
            <a:ext cx="6840720" cy="392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0E75-CBAB-48A9-BDDF-43F672622321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157-6956-4815-A5D0-7B1DE14460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차트 10"/>
          <p:cNvSpPr/>
          <p:nvPr/>
        </p:nvSpPr>
        <p:spPr>
          <a:xfrm>
            <a:off x="1332000" y="1700280"/>
            <a:ext cx="626436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7858-5DC6-44D8-83A4-C6950EB1F363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9ADE-FE45-4D1E-8E38-9AEE1F04C9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9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2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