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169-2087-48B3-BB47-86285DBA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64F-A1AE-4CB1-A019-0CA6D1B5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8F7-00F8-4094-AB5A-13EC680C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8F2-53A7-4C31-A2D9-5B3CA5FF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1E5-2E03-4D33-BD8F-D61EB1C9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6F6-4201-4520-8F4C-F9B9C134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2B9-828C-4F39-8382-05A2EFD8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137-8AB3-48D9-98C6-23391FA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886-EBB0-40D6-8DD0-9CFE8F3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4F9-86A8-45B6-A00D-B853615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49F-8E88-4FCB-9269-032AFEDF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A80-EA8E-4081-87D7-766B6A41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7FEE-08FB-4EF7-B8C8-EB17A2D3DD6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2245-CDCF-4931-BF3C-2ED6BCA4EE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bg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bg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b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6" descr="bg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6" descr="bg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6" descr="bg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71680" y="270972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241200" y="192420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fbda"/>
                </a:solidFill>
                <a:latin typeface="Kunstler Script"/>
                <a:ea typeface="Arial"/>
              </a:rPr>
              <a:t>Powerpoi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928800" y="431316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宋体"/>
              </a:rPr>
              <a:t>A better love I couldn't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宋体"/>
              </a:rPr>
              <a:t>With your sweet and gentl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宋体"/>
              </a:rPr>
              <a:t>And knowing that your love for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宋体"/>
              </a:rPr>
              <a:t>Grows more 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71280" y="2932200"/>
            <a:ext cx="601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fbda"/>
                </a:solidFill>
                <a:latin typeface="Kunstler Script"/>
                <a:ea typeface="Arial"/>
              </a:rPr>
              <a:t>Templat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812340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婚礼企业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6155"/>
          <p:cNvSpPr/>
          <p:nvPr/>
        </p:nvSpPr>
        <p:spPr>
          <a:xfrm>
            <a:off x="17928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3929040" cy="4500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642920" y="1143000"/>
            <a:ext cx="3929400" cy="450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12" descr="t4.png"/>
          <p:cNvPicPr/>
          <p:nvPr/>
        </p:nvPicPr>
        <p:blipFill>
          <a:blip r:embed="rId1"/>
          <a:stretch/>
        </p:blipFill>
        <p:spPr>
          <a:xfrm>
            <a:off x="2643120" y="588960"/>
            <a:ext cx="3873600" cy="1054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3"/>
          <p:cNvSpPr/>
          <p:nvPr/>
        </p:nvSpPr>
        <p:spPr>
          <a:xfrm>
            <a:off x="3143160" y="5643720"/>
            <a:ext cx="37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2251"/>
                </a:solidFill>
                <a:latin typeface="Arial"/>
                <a:ea typeface="Arial"/>
              </a:rPr>
              <a:t>A better love I couldn't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2251"/>
                </a:solidFill>
                <a:latin typeface="Arial"/>
                <a:ea typeface="Arial"/>
              </a:rPr>
              <a:t>With your sweet and gentl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2251"/>
                </a:solidFill>
                <a:latin typeface="Arial"/>
                <a:ea typeface="Arial"/>
              </a:rPr>
              <a:t>And knowing that your love for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2251"/>
                </a:solidFill>
                <a:latin typeface="Arial"/>
                <a:ea typeface="Arial"/>
              </a:rPr>
              <a:t>Grows more 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714680" y="1428480"/>
            <a:ext cx="2643120" cy="1896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785840" y="1428480"/>
            <a:ext cx="2643480" cy="1896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4785840" y="3429000"/>
            <a:ext cx="2643480" cy="18972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1714680" y="3429000"/>
            <a:ext cx="2643120" cy="1897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图片 7" descr="t5.png"/>
          <p:cNvPicPr/>
          <p:nvPr/>
        </p:nvPicPr>
        <p:blipFill>
          <a:blip r:embed="rId1"/>
          <a:stretch/>
        </p:blipFill>
        <p:spPr>
          <a:xfrm>
            <a:off x="0" y="0"/>
            <a:ext cx="7751880" cy="32860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8"/>
          <p:cNvSpPr/>
          <p:nvPr/>
        </p:nvSpPr>
        <p:spPr>
          <a:xfrm>
            <a:off x="5500800" y="5742000"/>
            <a:ext cx="37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1818"/>
                </a:solidFill>
                <a:latin typeface="Arial"/>
                <a:ea typeface="Arial"/>
              </a:rPr>
              <a:t>A better love I couldn't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1818"/>
                </a:solidFill>
                <a:latin typeface="Arial"/>
                <a:ea typeface="Arial"/>
              </a:rPr>
              <a:t>With your sweet and gentl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1818"/>
                </a:solidFill>
                <a:latin typeface="Arial"/>
                <a:ea typeface="Arial"/>
              </a:rPr>
              <a:t>And knowing that your love for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1818"/>
                </a:solidFill>
                <a:latin typeface="Arial"/>
                <a:ea typeface="Arial"/>
              </a:rPr>
              <a:t>Grows more 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357200" y="1428480"/>
            <a:ext cx="6429600" cy="414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8" descr="t3.png"/>
          <p:cNvPicPr/>
          <p:nvPr/>
        </p:nvPicPr>
        <p:blipFill>
          <a:blip r:embed="rId1"/>
          <a:stretch/>
        </p:blipFill>
        <p:spPr>
          <a:xfrm>
            <a:off x="1928880" y="4000680"/>
            <a:ext cx="3860640" cy="2679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571920" y="785880"/>
            <a:ext cx="4643280" cy="5256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958680" y="785880"/>
            <a:ext cx="2541600" cy="525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7" descr="t4.png"/>
          <p:cNvPicPr/>
          <p:nvPr/>
        </p:nvPicPr>
        <p:blipFill>
          <a:blip r:embed="rId1"/>
          <a:stretch/>
        </p:blipFill>
        <p:spPr>
          <a:xfrm>
            <a:off x="142920" y="2000160"/>
            <a:ext cx="3000240" cy="816120"/>
          </a:xfrm>
          <a:prstGeom prst="rect">
            <a:avLst/>
          </a:prstGeom>
          <a:ln w="0">
            <a:noFill/>
          </a:ln>
        </p:spPr>
      </p:pic>
      <p:sp>
        <p:nvSpPr>
          <p:cNvPr id="334" name="TextBox 8"/>
          <p:cNvSpPr/>
          <p:nvPr/>
        </p:nvSpPr>
        <p:spPr>
          <a:xfrm>
            <a:off x="857160" y="2714760"/>
            <a:ext cx="37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767d"/>
                </a:solidFill>
                <a:latin typeface="Arial"/>
                <a:ea typeface="Arial"/>
              </a:rPr>
              <a:t>A better love I couldn't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767d"/>
                </a:solidFill>
                <a:latin typeface="Arial"/>
                <a:ea typeface="Arial"/>
              </a:rPr>
              <a:t>With your sweet and gentl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767d"/>
                </a:solidFill>
                <a:latin typeface="Arial"/>
                <a:ea typeface="Arial"/>
              </a:rPr>
              <a:t>And knowing that your love for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767d"/>
                </a:solidFill>
                <a:latin typeface="Arial"/>
                <a:ea typeface="Arial"/>
              </a:rPr>
              <a:t>Grows more 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928680" y="500040"/>
            <a:ext cx="4429080" cy="5857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28400" y="4000320"/>
            <a:ext cx="2214360" cy="15714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8199"/>
          <p:cNvSpPr/>
          <p:nvPr/>
        </p:nvSpPr>
        <p:spPr>
          <a:xfrm>
            <a:off x="3851280" y="551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3D36-1660-4B77-984D-7ACBB9CB1D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5"/>
          <p:cNvSpPr/>
          <p:nvPr/>
        </p:nvSpPr>
        <p:spPr>
          <a:xfrm>
            <a:off x="5643720" y="6500880"/>
            <a:ext cx="3500280" cy="357120"/>
          </a:xfrm>
          <a:prstGeom prst="rect">
            <a:avLst/>
          </a:prstGeom>
          <a:gradFill rotWithShape="0">
            <a:gsLst>
              <a:gs pos="0">
                <a:srgbClr val="236567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468360" y="2347920"/>
            <a:ext cx="580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efbda"/>
                </a:solidFill>
                <a:latin typeface="Kunstler Script"/>
                <a:ea typeface="Arial"/>
              </a:rPr>
              <a:t>Thanks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54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9:47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