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02E-AD77-4133-83DF-2D1FA0F8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2EC-3EE1-462F-A81C-C4E18AF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627-188F-4856-84CF-BFDB81DD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4ED-01CA-4D83-87D9-2591C7B6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FD9-FFC4-43FA-9C7D-8B35F280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1EDC-A5BB-4B83-9CD3-87998F1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C3BB-D842-4E3C-900B-549E5B2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340-8C86-41EA-8A76-FE301975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C44E-4AB9-4421-998E-1C425638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881-9420-45E7-8639-D56460DA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0E0-EBC5-439E-92AE-1D68555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42C-5442-4B6B-AC8F-D7501A9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2655-CEC1-4170-B02F-94F02D9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C2B1-ADB0-483D-8653-58888B9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EC4-5D26-4757-933B-F8A27C73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6EED-269E-41A1-B699-6E17029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092B-3843-48C6-A08A-54191982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C24C-0F98-4FD0-8523-356FB16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5142-C1DC-40B3-980A-85E4432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B9E4-C95D-46EC-A5C7-649BB2E2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C64F-EEBB-42B2-8619-35AB923C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04DE-49FE-41CC-8980-9D24434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71A-2803-4406-9D9D-866CABC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9BB3-5E53-4EB9-8A32-DA034F9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968C-8DB1-42E9-BF12-E24AB34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423D-4EE8-4765-B90E-05A82A7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0424-1A1C-4990-8E72-BA2EAD4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72A2-0BEB-43F2-BBB3-106A5DC3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F773-FB86-4CD8-9244-AC6263EE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9552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62800" y="83808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24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9552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762800" y="3743640"/>
            <a:ext cx="215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4B56-74C8-4A52-AD86-8C85DB06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11E-7330-4FAD-BA46-218470F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CA9-BED4-4097-94E5-4BABACA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B92-9AC4-4C20-A8E7-0DE3E96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90C-5097-4CC7-8ECB-75A5456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74364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4AC-52E0-44CE-B08A-310B2A3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838080"/>
            <a:ext cx="3272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743640"/>
            <a:ext cx="6705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F86-45DD-4022-8D18-2158BDC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3386-7525-48CE-B126-9B9BC933C9C3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67C-12CA-4B8B-AA23-D6CFA23F15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A8E4-F487-46B8-AEBD-F21CDB319B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C55-C67C-4283-9AA7-428C8FF25081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Impact"/>
              </a:rPr>
              <a:t>UP IN SMOK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320" y="32000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74760" y="6454800"/>
            <a:ext cx="47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57080" y="38088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火山爆发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320" y="31694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699D-D6AE-408D-B06B-679EB6393C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9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