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580D-148F-4E4C-B3F1-CFA5BEA8D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141C3-C840-4D7E-BEEC-52E59BEC8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DB4B2-996D-405A-ACE9-A9F3665C9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9F075-C1C8-4532-B257-8559260B7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BE179-3E80-4FBA-99F0-6264BE98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A7C75D-E9F0-4650-B906-5B87EC9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219E0-4113-4C2F-BFD3-1370993C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21CF0-52BA-476A-ACE0-DE5401D2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4A7D1-FE23-4DC1-AB53-C1B2545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333E-4A94-4B34-8839-2E524AD3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30AA6-FEEC-489B-92AC-EA978CD6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566B-A2B9-4C4C-B317-D3B9D5B96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BC1C-94C3-43E1-9A36-D69DC50B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B5AA1-B26D-49B6-9B82-7ADD6086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4BBED-7D9E-49F5-8DF7-045AE953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449D8-FED2-4F0C-AA6D-C75270D4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CAED2-1BAE-4579-B8FF-3AB56DDB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D0A431-136A-4DBF-9DC2-B3DD1C920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5A2B9-1990-4531-8011-994585B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0B05A-6D44-42B9-B755-5710DCF1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0138A-C3DC-4AFC-8B4B-B34971E2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5732B0-8883-4B58-AC23-B4A0A1F2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8B409-0580-4BBF-B777-001203D0CF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FF4FD9-602B-461A-A664-8CFD6623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DFB087-49FD-41B2-9AF8-0A865451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6BA2A-EFFE-42AB-9563-784C9FBF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AE64F-FF63-4045-A7B0-89FD9C00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F53474-BBDE-4542-9B64-6CD004E6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B11C3-E901-4A9E-B5D3-64D0ACC70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5856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31A8E-B85F-4729-8036-10CA62F7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C6F3-A219-4C44-B297-A7954B92D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B2CB4-6791-4362-B2A3-F1C1B140F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04920"/>
            <a:ext cx="8218440" cy="413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31FF1-895C-4BDB-A13F-D9F35D76B0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C493F-F08F-45BE-BA80-D7B527BD5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5856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CB3DE-A300-4E21-81B3-B5B3DA5F8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5856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0084A-8446-4E83-AB0C-9E4BFA0E9E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1ad6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94324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굴림"/>
              </a:rPr>
              <a:t>Company Lo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200" spc="-1" strike="noStrike">
                <a:solidFill>
                  <a:srgbClr val="ffffff"/>
                </a:solidFill>
                <a:latin typeface="Verdana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05B9-AD80-42CA-B0C6-EC09AF915B1C}" type="slidenum">
              <a:rPr b="1" lang="ko-KR" sz="1200" spc="-1" strike="noStrike">
                <a:solidFill>
                  <a:srgbClr val="ffffff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825D-F9E6-456D-9A9C-A90FD6A6B45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9BC-A9BC-4442-AAE7-6202175AC05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61ad6c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61ad6c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abddce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5146B-95F7-466E-A32A-07CFA15E0F18}" type="slidenum">
              <a:rPr b="1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000" y="2421000"/>
            <a:ext cx="777708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黑色格调报告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굴림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403280" y="426384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4" name="页脚占位符 1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abddc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abddc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Click to add tit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Competitors 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Strengths 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Weaknesses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61ad6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bddce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28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内容占位符 35843" descr=""/>
          <p:cNvPicPr/>
          <p:nvPr/>
        </p:nvPicPr>
        <p:blipFill>
          <a:blip r:embed="rId1"/>
          <a:stretch/>
        </p:blipFill>
        <p:spPr>
          <a:xfrm>
            <a:off x="685800" y="1638360"/>
            <a:ext cx="7772400" cy="4419720"/>
          </a:xfrm>
          <a:prstGeom prst="rect">
            <a:avLst/>
          </a:prstGeom>
          <a:ln w="0">
            <a:noFill/>
          </a:ln>
        </p:spPr>
      </p:pic>
      <p:sp>
        <p:nvSpPr>
          <p:cNvPr id="131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3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1ad6c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61ad6c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abddc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abddc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9C5-1E84-407C-99E2-531FBE554622}" type="slidenum">
              <a:rPr b="0" lang="zh-CN" sz="1400" spc="-1" strike="noStrike">
                <a:solidFill>
                  <a:srgbClr val="abddce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2184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굴림"/>
              </a:rPr>
              <a:t>Schedul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1ad6c"/>
              </a:buClr>
              <a:buSzPct val="8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bddce"/>
                </a:solidFill>
                <a:latin typeface="Arial"/>
                <a:ea typeface="굴림"/>
              </a:rPr>
              <a:t>Review high-level schedule milestones here</a:t>
            </a:r>
            <a:endParaRPr b="0" lang="en-US" sz="2800" spc="-1" strike="noStrike">
              <a:solidFill>
                <a:srgbClr val="abddce"/>
              </a:solidFill>
              <a:latin typeface="Arial"/>
            </a:endParaRPr>
          </a:p>
        </p:txBody>
      </p:sp>
      <p:grpSp>
        <p:nvGrpSpPr>
          <p:cNvPr id="139" name="组合 37891"/>
          <p:cNvGrpSpPr/>
          <p:nvPr/>
        </p:nvGrpSpPr>
        <p:grpSpPr>
          <a:xfrm>
            <a:off x="1256400" y="4483080"/>
            <a:ext cx="6628320" cy="714960"/>
            <a:chOff x="1256400" y="4483080"/>
            <a:chExt cx="6628320" cy="714960"/>
          </a:xfrm>
        </p:grpSpPr>
        <p:sp>
          <p:nvSpPr>
            <p:cNvPr id="140" name="右箭头 37892"/>
            <p:cNvSpPr/>
            <p:nvPr/>
          </p:nvSpPr>
          <p:spPr>
            <a:xfrm>
              <a:off x="1333080" y="4483080"/>
              <a:ext cx="6551640" cy="557640"/>
            </a:xfrm>
            <a:prstGeom prst="rightArrow">
              <a:avLst>
                <a:gd name="adj1" fmla="val 36602"/>
                <a:gd name="adj2" fmla="val 48192"/>
              </a:avLst>
            </a:prstGeom>
            <a:gradFill rotWithShape="0">
              <a:gsLst>
                <a:gs pos="0">
                  <a:srgbClr val="336699"/>
                </a:gs>
                <a:gs pos="100000">
                  <a:srgbClr val="53b9c7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1f3d5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1" name="文本框 37893"/>
            <p:cNvSpPr/>
            <p:nvPr/>
          </p:nvSpPr>
          <p:spPr>
            <a:xfrm>
              <a:off x="1256400" y="489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an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2" name="文本框 37894"/>
            <p:cNvSpPr/>
            <p:nvPr/>
          </p:nvSpPr>
          <p:spPr>
            <a:xfrm>
              <a:off x="1796040" y="48909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Feb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3" name="文本框 37895"/>
            <p:cNvSpPr/>
            <p:nvPr/>
          </p:nvSpPr>
          <p:spPr>
            <a:xfrm>
              <a:off x="2369880" y="4890960"/>
              <a:ext cx="49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Mar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4" name="文本框 37896"/>
            <p:cNvSpPr/>
            <p:nvPr/>
          </p:nvSpPr>
          <p:spPr>
            <a:xfrm>
              <a:off x="2979720" y="48909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Apr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5" name="文本框 37897"/>
            <p:cNvSpPr/>
            <p:nvPr/>
          </p:nvSpPr>
          <p:spPr>
            <a:xfrm>
              <a:off x="3563280" y="489096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May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6" name="文本框 37898"/>
            <p:cNvSpPr/>
            <p:nvPr/>
          </p:nvSpPr>
          <p:spPr>
            <a:xfrm>
              <a:off x="4208760" y="4890960"/>
              <a:ext cx="49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un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7" name="文本框 37899"/>
            <p:cNvSpPr/>
            <p:nvPr/>
          </p:nvSpPr>
          <p:spPr>
            <a:xfrm>
              <a:off x="4758840" y="489096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July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8" name="文本框 37900"/>
            <p:cNvSpPr/>
            <p:nvPr/>
          </p:nvSpPr>
          <p:spPr>
            <a:xfrm>
              <a:off x="5369760" y="48909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Sep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49" name="文本框 37901"/>
            <p:cNvSpPr/>
            <p:nvPr/>
          </p:nvSpPr>
          <p:spPr>
            <a:xfrm>
              <a:off x="5941800" y="48909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Oct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50" name="文本框 37902"/>
            <p:cNvSpPr/>
            <p:nvPr/>
          </p:nvSpPr>
          <p:spPr>
            <a:xfrm>
              <a:off x="6504840" y="4890960"/>
              <a:ext cx="5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Nov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  <p:sp>
          <p:nvSpPr>
            <p:cNvPr id="151" name="文本框 37903"/>
            <p:cNvSpPr/>
            <p:nvPr/>
          </p:nvSpPr>
          <p:spPr>
            <a:xfrm>
              <a:off x="7126200" y="4890960"/>
              <a:ext cx="50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abddce"/>
                  </a:solidFill>
                  <a:latin typeface="Arial"/>
                  <a:ea typeface="굴림"/>
                </a:rPr>
                <a:t>Dec</a:t>
              </a:r>
              <a:endParaRPr b="0" lang="en-US" sz="1400" spc="-1" strike="noStrike">
                <a:solidFill>
                  <a:srgbClr val="abddce"/>
                </a:solidFill>
                <a:latin typeface="Arial"/>
              </a:endParaRPr>
            </a:p>
          </p:txBody>
        </p:sp>
      </p:grpSp>
      <p:sp>
        <p:nvSpPr>
          <p:cNvPr id="152" name="流程图: 过程 37904"/>
          <p:cNvSpPr/>
          <p:nvPr/>
        </p:nvSpPr>
        <p:spPr>
          <a:xfrm>
            <a:off x="1406520" y="2916360"/>
            <a:ext cx="2379600" cy="347400"/>
          </a:xfrm>
          <a:prstGeom prst="flowChartProcess">
            <a:avLst/>
          </a:prstGeom>
          <a:solidFill>
            <a:srgbClr val="336699"/>
          </a:solidFill>
          <a:ln w="0">
            <a:noFill/>
          </a:ln>
          <a:effectLst>
            <a:outerShdw dist="17819" dir="2700000" blurRad="0" rotWithShape="0">
              <a:srgbClr val="1f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1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3" name="流程图: 过程 37905"/>
          <p:cNvSpPr/>
          <p:nvPr/>
        </p:nvSpPr>
        <p:spPr>
          <a:xfrm>
            <a:off x="4016520" y="3395520"/>
            <a:ext cx="1860480" cy="347760"/>
          </a:xfrm>
          <a:prstGeom prst="flowChartProcess">
            <a:avLst/>
          </a:prstGeom>
          <a:solidFill>
            <a:srgbClr val="53b9c7"/>
          </a:solidFill>
          <a:ln w="0">
            <a:noFill/>
          </a:ln>
          <a:effectLst>
            <a:outerShdw dist="17819" dir="2700000" blurRad="0" rotWithShape="0">
              <a:srgbClr val="326f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2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4" name="流程图: 过程 37906"/>
          <p:cNvSpPr/>
          <p:nvPr/>
        </p:nvSpPr>
        <p:spPr>
          <a:xfrm>
            <a:off x="6056280" y="3873600"/>
            <a:ext cx="1636920" cy="347400"/>
          </a:xfrm>
          <a:prstGeom prst="flowChartProcess">
            <a:avLst/>
          </a:prstGeom>
          <a:solidFill>
            <a:srgbClr val="61ad6c"/>
          </a:solidFill>
          <a:ln w="0">
            <a:noFill/>
          </a:ln>
          <a:effectLst>
            <a:outerShdw dist="17819" dir="2700000" blurRad="0" rotWithShape="0">
              <a:srgbClr val="3a68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abddce"/>
                </a:solidFill>
                <a:latin typeface="Arial"/>
                <a:ea typeface="굴림"/>
              </a:rPr>
              <a:t>Phase 3</a:t>
            </a:r>
            <a:endParaRPr b="0" lang="en-US" sz="1400" spc="-1" strike="noStrike">
              <a:solidFill>
                <a:srgbClr val="abddce"/>
              </a:solidFill>
              <a:latin typeface="Arial"/>
            </a:endParaRPr>
          </a:p>
        </p:txBody>
      </p:sp>
      <p:sp>
        <p:nvSpPr>
          <p:cNvPr id="155" name="页脚占位符 1"/>
          <p:cNvSpPr/>
          <p:nvPr/>
        </p:nvSpPr>
        <p:spPr>
          <a:xfrm>
            <a:off x="5943600" y="6477120"/>
            <a:ext cx="2895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200" spc="-1" strike="noStrike">
              <a:solidFill>
                <a:srgbClr val="abddc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1T04:13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9:52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