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F40-D263-4732-A762-AC9406ED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60E-D863-44E3-BD99-6ED5DEE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E02-58E1-4415-B1C4-97EA040F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48D-B337-4979-855C-E4E21AF4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D568-0537-4CDF-AEA3-F47917F0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C79-4357-47A4-B812-F8FFC4F9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E1A1-3C9B-4CF0-B00F-FE663E4B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ECE5-3AB7-49DB-94CC-F1655A56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E623-5518-4E7F-B44B-F3247516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E43D-22D6-4C95-98BD-FB2620D9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97F-8C12-42DD-BFD4-C1E31B17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E89-4E7B-4823-9FEC-FA374074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02A0-7004-4EFE-A313-CEF483F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9B59-AB88-429C-A00B-37E34B9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4578-3C8A-42DE-AE84-F03C72D4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5A06-32AD-462A-A4A8-123A2FE0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C824-A961-4949-8FE5-CBF99105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D68-6EBF-4D29-99F1-F30C885D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362-54FA-4971-85C4-EA69AF2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4C1-4937-453C-AB91-C14AE813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E45-BE17-471A-BD6A-7376909F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E60-F644-47CF-8B5E-A6E2AF09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9B0-5E35-4BE7-8124-B38B6D1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C01-830D-4397-B063-B1DFD52A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B9C-AC04-4DF0-882A-DB8259E1DF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EA9C-DE30-479E-8905-B1EE9FEB1F3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9D77-6357-46D1-AD19-8267961FA8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857680" y="64296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143160" y="14065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抽象简约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"/>
          <p:cNvSpPr/>
          <p:nvPr/>
        </p:nvSpPr>
        <p:spPr>
          <a:xfrm>
            <a:off x="2114280" y="1773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红色花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839F-04FC-4C11-9195-A6CB67983B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6:44Z</dcterms:modified>
  <cp:revision>68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