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D74-5B9D-46E0-A216-C4C86904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C76-2379-4E68-ADA1-A15A76FB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AE3-7F89-48E6-A970-D4D3206E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6C9-2101-49E2-8585-BAD4BDBC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C3A-251F-4F45-A9C9-3F97DD9A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8A0-CDA6-4CF5-B066-245A5973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CD5-897E-442D-844B-8CA9BDA9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2BA-752A-4A5B-B972-9BA4B540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E3F-3140-4259-A73D-C7549662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80A-7480-44C8-8CA1-29F871A1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6C0D-2CBA-48B9-ACAB-DE4ED7E2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70F-99D0-4F21-B23A-8BE4778E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EE4E-65AE-406D-A88A-329ADFA1552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342E-3987-46F2-89B8-C7B39454270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剪去单角的矩形 3"/>
          <p:cNvSpPr/>
          <p:nvPr/>
        </p:nvSpPr>
        <p:spPr>
          <a:xfrm>
            <a:off x="0" y="2997360"/>
            <a:ext cx="4608360" cy="502920"/>
          </a:xfrm>
          <a:custGeom>
            <a:avLst/>
            <a:gdLst/>
            <a:ahLst/>
            <a:rect l="l" t="t" r="r" b="b"/>
            <a:pathLst>
              <a:path w="4608512" h="503237">
                <a:moveTo>
                  <a:pt x="0" y="0"/>
                </a:moveTo>
                <a:lnTo>
                  <a:pt x="4524637" y="0"/>
                </a:lnTo>
                <a:lnTo>
                  <a:pt x="4608512" y="83874"/>
                </a:lnTo>
                <a:lnTo>
                  <a:pt x="4608512" y="503237"/>
                </a:lnTo>
                <a:lnTo>
                  <a:pt x="0" y="503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4"/>
          <p:cNvSpPr/>
          <p:nvPr/>
        </p:nvSpPr>
        <p:spPr>
          <a:xfrm rot="21403200">
            <a:off x="1689120" y="1436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268640" y="2997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剪去单角的矩形 6"/>
          <p:cNvSpPr/>
          <p:nvPr/>
        </p:nvSpPr>
        <p:spPr>
          <a:xfrm>
            <a:off x="4608360" y="4325760"/>
            <a:ext cx="3973680" cy="433440"/>
          </a:xfrm>
          <a:custGeom>
            <a:avLst/>
            <a:gdLst/>
            <a:ahLst/>
            <a:rect l="l" t="t" r="r" b="b"/>
            <a:pathLst>
              <a:path w="3973512" h="433387">
                <a:moveTo>
                  <a:pt x="0" y="0"/>
                </a:moveTo>
                <a:lnTo>
                  <a:pt x="3901279" y="0"/>
                </a:lnTo>
                <a:lnTo>
                  <a:pt x="3973512" y="72232"/>
                </a:lnTo>
                <a:lnTo>
                  <a:pt x="3973512" y="433387"/>
                </a:lnTo>
                <a:lnTo>
                  <a:pt x="0" y="4333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5496120" y="4297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告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剪去单角的矩形 8"/>
          <p:cNvSpPr/>
          <p:nvPr/>
        </p:nvSpPr>
        <p:spPr>
          <a:xfrm>
            <a:off x="5667480" y="4896000"/>
            <a:ext cx="2914560" cy="360360"/>
          </a:xfrm>
          <a:custGeom>
            <a:avLst/>
            <a:gdLst/>
            <a:ahLst/>
            <a:rect l="l" t="t" r="r" b="b"/>
            <a:pathLst>
              <a:path w="2914650" h="360362">
                <a:moveTo>
                  <a:pt x="0" y="0"/>
                </a:moveTo>
                <a:lnTo>
                  <a:pt x="2854588" y="0"/>
                </a:lnTo>
                <a:lnTo>
                  <a:pt x="2914650" y="60061"/>
                </a:lnTo>
                <a:lnTo>
                  <a:pt x="2914650" y="360362"/>
                </a:lnTo>
                <a:lnTo>
                  <a:pt x="0" y="3603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6491880" y="4896000"/>
            <a:ext cx="16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   月    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任意多边形 14"/>
          <p:cNvSpPr/>
          <p:nvPr/>
        </p:nvSpPr>
        <p:spPr>
          <a:xfrm>
            <a:off x="-17640" y="4019400"/>
            <a:ext cx="9161640" cy="2624400"/>
          </a:xfrm>
          <a:custGeom>
            <a:avLst/>
            <a:gdLst/>
            <a:ahLst/>
            <a:rect l="l" t="t" r="r" b="b"/>
            <a:pathLst>
              <a:path w="9162107" h="2623298">
                <a:moveTo>
                  <a:pt x="0" y="0"/>
                </a:moveTo>
                <a:cubicBezTo>
                  <a:pt x="187105" y="452673"/>
                  <a:pt x="374211" y="905347"/>
                  <a:pt x="923454" y="1068309"/>
                </a:cubicBezTo>
                <a:cubicBezTo>
                  <a:pt x="1472698" y="1231271"/>
                  <a:pt x="2506301" y="728804"/>
                  <a:pt x="3295461" y="977774"/>
                </a:cubicBezTo>
                <a:cubicBezTo>
                  <a:pt x="4084621" y="1226744"/>
                  <a:pt x="4680642" y="2367481"/>
                  <a:pt x="5658416" y="2562130"/>
                </a:cubicBezTo>
                <a:cubicBezTo>
                  <a:pt x="6636190" y="2756780"/>
                  <a:pt x="7899148" y="2451225"/>
                  <a:pt x="9162107" y="2145671"/>
                </a:cubicBezTo>
              </a:path>
            </a:pathLst>
          </a:custGeom>
          <a:noFill/>
          <a:ln w="12600">
            <a:solidFill>
              <a:srgbClr val="ddd9c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任意多边形 16"/>
          <p:cNvSpPr/>
          <p:nvPr/>
        </p:nvSpPr>
        <p:spPr>
          <a:xfrm>
            <a:off x="-54000" y="4065480"/>
            <a:ext cx="3811680" cy="2806920"/>
          </a:xfrm>
          <a:custGeom>
            <a:avLst/>
            <a:gdLst/>
            <a:ahLst/>
            <a:rect l="l" t="t" r="r" b="b"/>
            <a:pathLst>
              <a:path w="3811509" h="2806574">
                <a:moveTo>
                  <a:pt x="0" y="0"/>
                </a:moveTo>
                <a:cubicBezTo>
                  <a:pt x="47531" y="663166"/>
                  <a:pt x="95062" y="1326333"/>
                  <a:pt x="497941" y="1629624"/>
                </a:cubicBezTo>
                <a:cubicBezTo>
                  <a:pt x="900820" y="1932915"/>
                  <a:pt x="1865014" y="1623588"/>
                  <a:pt x="2417275" y="1819746"/>
                </a:cubicBezTo>
                <a:cubicBezTo>
                  <a:pt x="2969536" y="2015904"/>
                  <a:pt x="3390522" y="2411239"/>
                  <a:pt x="3811509" y="2806574"/>
                </a:cubicBezTo>
              </a:path>
            </a:pathLst>
          </a:custGeom>
          <a:noFill/>
          <a:ln w="12600">
            <a:solidFill>
              <a:srgbClr val="ddd9c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椭圆 17"/>
          <p:cNvSpPr/>
          <p:nvPr/>
        </p:nvSpPr>
        <p:spPr>
          <a:xfrm>
            <a:off x="755640" y="499572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椭圆 18"/>
          <p:cNvSpPr/>
          <p:nvPr/>
        </p:nvSpPr>
        <p:spPr>
          <a:xfrm>
            <a:off x="1908000" y="497520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椭圆 19"/>
          <p:cNvSpPr/>
          <p:nvPr/>
        </p:nvSpPr>
        <p:spPr>
          <a:xfrm>
            <a:off x="2050920" y="4938840"/>
            <a:ext cx="100080" cy="9972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椭圆 20"/>
          <p:cNvSpPr/>
          <p:nvPr/>
        </p:nvSpPr>
        <p:spPr>
          <a:xfrm>
            <a:off x="3276720" y="4975200"/>
            <a:ext cx="9972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椭圆 21"/>
          <p:cNvSpPr/>
          <p:nvPr/>
        </p:nvSpPr>
        <p:spPr>
          <a:xfrm>
            <a:off x="5364000" y="6453360"/>
            <a:ext cx="100080" cy="9972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椭圆 22"/>
          <p:cNvSpPr/>
          <p:nvPr/>
        </p:nvSpPr>
        <p:spPr>
          <a:xfrm>
            <a:off x="5486400" y="652464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椭圆 23"/>
          <p:cNvSpPr/>
          <p:nvPr/>
        </p:nvSpPr>
        <p:spPr>
          <a:xfrm>
            <a:off x="7332840" y="6513480"/>
            <a:ext cx="9972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椭圆 24"/>
          <p:cNvSpPr/>
          <p:nvPr/>
        </p:nvSpPr>
        <p:spPr>
          <a:xfrm>
            <a:off x="7524720" y="647532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椭圆 25"/>
          <p:cNvSpPr/>
          <p:nvPr/>
        </p:nvSpPr>
        <p:spPr>
          <a:xfrm>
            <a:off x="7074000" y="652464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椭圆 26"/>
          <p:cNvSpPr/>
          <p:nvPr/>
        </p:nvSpPr>
        <p:spPr>
          <a:xfrm>
            <a:off x="8964720" y="616572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椭圆 27"/>
          <p:cNvSpPr/>
          <p:nvPr/>
        </p:nvSpPr>
        <p:spPr>
          <a:xfrm>
            <a:off x="611280" y="5732640"/>
            <a:ext cx="100080" cy="10152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椭圆 28"/>
          <p:cNvSpPr/>
          <p:nvPr/>
        </p:nvSpPr>
        <p:spPr>
          <a:xfrm>
            <a:off x="855720" y="5783400"/>
            <a:ext cx="100080" cy="9972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椭圆 29"/>
          <p:cNvSpPr/>
          <p:nvPr/>
        </p:nvSpPr>
        <p:spPr>
          <a:xfrm>
            <a:off x="1258920" y="578628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椭圆 30"/>
          <p:cNvSpPr/>
          <p:nvPr/>
        </p:nvSpPr>
        <p:spPr>
          <a:xfrm>
            <a:off x="2916360" y="6162840"/>
            <a:ext cx="99720" cy="9972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椭圆 31"/>
          <p:cNvSpPr/>
          <p:nvPr/>
        </p:nvSpPr>
        <p:spPr>
          <a:xfrm>
            <a:off x="3132000" y="635328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任意多边形 33"/>
          <p:cNvSpPr/>
          <p:nvPr/>
        </p:nvSpPr>
        <p:spPr>
          <a:xfrm>
            <a:off x="3168720" y="27000"/>
            <a:ext cx="5984640" cy="679320"/>
          </a:xfrm>
          <a:custGeom>
            <a:avLst/>
            <a:gdLst/>
            <a:ahLst/>
            <a:rect l="l" t="t" r="r" b="b"/>
            <a:pathLst>
              <a:path w="5984340" h="678869">
                <a:moveTo>
                  <a:pt x="0" y="0"/>
                </a:moveTo>
                <a:cubicBezTo>
                  <a:pt x="806512" y="301782"/>
                  <a:pt x="1613025" y="603565"/>
                  <a:pt x="2381061" y="669957"/>
                </a:cubicBezTo>
                <a:cubicBezTo>
                  <a:pt x="3149097" y="736349"/>
                  <a:pt x="4007668" y="410424"/>
                  <a:pt x="4608214" y="398353"/>
                </a:cubicBezTo>
                <a:cubicBezTo>
                  <a:pt x="5208760" y="386282"/>
                  <a:pt x="5596550" y="491905"/>
                  <a:pt x="5984340" y="597529"/>
                </a:cubicBezTo>
              </a:path>
            </a:pathLst>
          </a:custGeom>
          <a:noFill/>
          <a:ln w="1260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任意多边形 35"/>
          <p:cNvSpPr/>
          <p:nvPr/>
        </p:nvSpPr>
        <p:spPr>
          <a:xfrm>
            <a:off x="-63360" y="9360"/>
            <a:ext cx="5694120" cy="741600"/>
          </a:xfrm>
          <a:custGeom>
            <a:avLst/>
            <a:gdLst/>
            <a:ahLst/>
            <a:rect l="l" t="t" r="r" b="b"/>
            <a:pathLst>
              <a:path w="5694629" h="742385">
                <a:moveTo>
                  <a:pt x="5694629" y="0"/>
                </a:moveTo>
                <a:cubicBezTo>
                  <a:pt x="4949227" y="212002"/>
                  <a:pt x="4203826" y="424005"/>
                  <a:pt x="3558012" y="488888"/>
                </a:cubicBezTo>
                <a:cubicBezTo>
                  <a:pt x="2912198" y="553771"/>
                  <a:pt x="2412748" y="347050"/>
                  <a:pt x="1819746" y="389299"/>
                </a:cubicBezTo>
                <a:cubicBezTo>
                  <a:pt x="1226744" y="431548"/>
                  <a:pt x="613372" y="586966"/>
                  <a:pt x="0" y="742385"/>
                </a:cubicBezTo>
              </a:path>
            </a:pathLst>
          </a:custGeom>
          <a:noFill/>
          <a:ln w="1260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椭圆 36"/>
          <p:cNvSpPr/>
          <p:nvPr/>
        </p:nvSpPr>
        <p:spPr>
          <a:xfrm>
            <a:off x="4067280" y="366840"/>
            <a:ext cx="100080" cy="9972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椭圆 37"/>
          <p:cNvSpPr/>
          <p:nvPr/>
        </p:nvSpPr>
        <p:spPr>
          <a:xfrm>
            <a:off x="1979640" y="34920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椭圆 38"/>
          <p:cNvSpPr/>
          <p:nvPr/>
        </p:nvSpPr>
        <p:spPr>
          <a:xfrm>
            <a:off x="65160" y="65088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椭圆 39"/>
          <p:cNvSpPr/>
          <p:nvPr/>
        </p:nvSpPr>
        <p:spPr>
          <a:xfrm>
            <a:off x="5140440" y="606600"/>
            <a:ext cx="99720" cy="9972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椭圆 40"/>
          <p:cNvSpPr/>
          <p:nvPr/>
        </p:nvSpPr>
        <p:spPr>
          <a:xfrm>
            <a:off x="5630760" y="67140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椭圆 41"/>
          <p:cNvSpPr/>
          <p:nvPr/>
        </p:nvSpPr>
        <p:spPr>
          <a:xfrm>
            <a:off x="7310520" y="40464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椭圆 42"/>
          <p:cNvSpPr/>
          <p:nvPr/>
        </p:nvSpPr>
        <p:spPr>
          <a:xfrm>
            <a:off x="7524720" y="38088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椭圆 43"/>
          <p:cNvSpPr/>
          <p:nvPr/>
        </p:nvSpPr>
        <p:spPr>
          <a:xfrm>
            <a:off x="7684920" y="38088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任意多边形 46"/>
          <p:cNvSpPr/>
          <p:nvPr/>
        </p:nvSpPr>
        <p:spPr>
          <a:xfrm>
            <a:off x="0" y="736560"/>
            <a:ext cx="9153360" cy="495360"/>
          </a:xfrm>
          <a:custGeom>
            <a:avLst/>
            <a:gdLst/>
            <a:ahLst/>
            <a:rect l="l" t="t" r="r" b="b"/>
            <a:pathLst>
              <a:path w="9153053" h="496817">
                <a:moveTo>
                  <a:pt x="0" y="232878"/>
                </a:moveTo>
                <a:cubicBezTo>
                  <a:pt x="618653" y="100848"/>
                  <a:pt x="1237307" y="-31182"/>
                  <a:pt x="1837853" y="6541"/>
                </a:cubicBezTo>
                <a:cubicBezTo>
                  <a:pt x="2438400" y="44264"/>
                  <a:pt x="2859386" y="418473"/>
                  <a:pt x="3603279" y="459214"/>
                </a:cubicBezTo>
                <a:cubicBezTo>
                  <a:pt x="4347172" y="499955"/>
                  <a:pt x="5483382" y="244949"/>
                  <a:pt x="6301212" y="250985"/>
                </a:cubicBezTo>
                <a:cubicBezTo>
                  <a:pt x="7119042" y="257021"/>
                  <a:pt x="8034950" y="481848"/>
                  <a:pt x="8510257" y="495428"/>
                </a:cubicBezTo>
                <a:cubicBezTo>
                  <a:pt x="8985564" y="509008"/>
                  <a:pt x="9069308" y="420737"/>
                  <a:pt x="9153053" y="332466"/>
                </a:cubicBezTo>
              </a:path>
            </a:pathLst>
          </a:custGeom>
          <a:noFill/>
          <a:ln w="1260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椭圆 47"/>
          <p:cNvSpPr/>
          <p:nvPr/>
        </p:nvSpPr>
        <p:spPr>
          <a:xfrm>
            <a:off x="6227640" y="933480"/>
            <a:ext cx="100080" cy="10152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469800"/>
            <a:ext cx="7705800" cy="12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黑色实木报告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3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1619280" y="0"/>
            <a:ext cx="68403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直接连接符 6"/>
          <p:cNvSpPr/>
          <p:nvPr/>
        </p:nvSpPr>
        <p:spPr>
          <a:xfrm flipV="1">
            <a:off x="514440" y="83628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221760" y="275868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接连接符 9"/>
          <p:cNvSpPr/>
          <p:nvPr/>
        </p:nvSpPr>
        <p:spPr>
          <a:xfrm>
            <a:off x="517680" y="4149720"/>
            <a:ext cx="0" cy="20160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剪去单角的矩形 12"/>
          <p:cNvSpPr/>
          <p:nvPr/>
        </p:nvSpPr>
        <p:spPr>
          <a:xfrm rot="21074400">
            <a:off x="1636200" y="890280"/>
            <a:ext cx="6550200" cy="731880"/>
          </a:xfrm>
          <a:custGeom>
            <a:avLst/>
            <a:gdLst/>
            <a:ahLst/>
            <a:rect l="l" t="t" r="r" b="b"/>
            <a:pathLst>
              <a:path w="6550025" h="731837">
                <a:moveTo>
                  <a:pt x="0" y="0"/>
                </a:moveTo>
                <a:lnTo>
                  <a:pt x="6428049" y="0"/>
                </a:lnTo>
                <a:lnTo>
                  <a:pt x="6550025" y="121975"/>
                </a:lnTo>
                <a:lnTo>
                  <a:pt x="6550025" y="731837"/>
                </a:lnTo>
                <a:lnTo>
                  <a:pt x="0" y="7318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剪去单角的矩形 13"/>
          <p:cNvSpPr/>
          <p:nvPr/>
        </p:nvSpPr>
        <p:spPr>
          <a:xfrm rot="21074400">
            <a:off x="1636200" y="1753920"/>
            <a:ext cx="6550200" cy="731880"/>
          </a:xfrm>
          <a:custGeom>
            <a:avLst/>
            <a:gdLst/>
            <a:ahLst/>
            <a:rect l="l" t="t" r="r" b="b"/>
            <a:pathLst>
              <a:path w="6550025" h="731837">
                <a:moveTo>
                  <a:pt x="0" y="0"/>
                </a:moveTo>
                <a:lnTo>
                  <a:pt x="6428049" y="0"/>
                </a:lnTo>
                <a:lnTo>
                  <a:pt x="6550025" y="121975"/>
                </a:lnTo>
                <a:lnTo>
                  <a:pt x="6550025" y="731837"/>
                </a:lnTo>
                <a:lnTo>
                  <a:pt x="0" y="7318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剪去单角的矩形 14"/>
          <p:cNvSpPr/>
          <p:nvPr/>
        </p:nvSpPr>
        <p:spPr>
          <a:xfrm rot="21074400">
            <a:off x="1636200" y="2690280"/>
            <a:ext cx="6550200" cy="731880"/>
          </a:xfrm>
          <a:custGeom>
            <a:avLst/>
            <a:gdLst/>
            <a:ahLst/>
            <a:rect l="l" t="t" r="r" b="b"/>
            <a:pathLst>
              <a:path w="6550025" h="731837">
                <a:moveTo>
                  <a:pt x="0" y="0"/>
                </a:moveTo>
                <a:lnTo>
                  <a:pt x="6428049" y="0"/>
                </a:lnTo>
                <a:lnTo>
                  <a:pt x="6550025" y="121975"/>
                </a:lnTo>
                <a:lnTo>
                  <a:pt x="6550025" y="731837"/>
                </a:lnTo>
                <a:lnTo>
                  <a:pt x="0" y="7318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剪去单角的矩形 15"/>
          <p:cNvSpPr/>
          <p:nvPr/>
        </p:nvSpPr>
        <p:spPr>
          <a:xfrm rot="21074400">
            <a:off x="1636200" y="3625560"/>
            <a:ext cx="6550200" cy="733320"/>
          </a:xfrm>
          <a:custGeom>
            <a:avLst/>
            <a:gdLst/>
            <a:ahLst/>
            <a:rect l="l" t="t" r="r" b="b"/>
            <a:pathLst>
              <a:path w="6550025" h="733425">
                <a:moveTo>
                  <a:pt x="0" y="0"/>
                </a:moveTo>
                <a:lnTo>
                  <a:pt x="6427785" y="0"/>
                </a:lnTo>
                <a:lnTo>
                  <a:pt x="6550025" y="122239"/>
                </a:lnTo>
                <a:lnTo>
                  <a:pt x="6550025" y="733425"/>
                </a:lnTo>
                <a:lnTo>
                  <a:pt x="0" y="7334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剪去单角的矩形 16"/>
          <p:cNvSpPr/>
          <p:nvPr/>
        </p:nvSpPr>
        <p:spPr>
          <a:xfrm rot="21074400">
            <a:off x="1636200" y="4633560"/>
            <a:ext cx="6550200" cy="733320"/>
          </a:xfrm>
          <a:custGeom>
            <a:avLst/>
            <a:gdLst/>
            <a:ahLst/>
            <a:rect l="l" t="t" r="r" b="b"/>
            <a:pathLst>
              <a:path w="6550025" h="733425">
                <a:moveTo>
                  <a:pt x="0" y="0"/>
                </a:moveTo>
                <a:lnTo>
                  <a:pt x="6427785" y="0"/>
                </a:lnTo>
                <a:lnTo>
                  <a:pt x="6550025" y="122239"/>
                </a:lnTo>
                <a:lnTo>
                  <a:pt x="6550025" y="733425"/>
                </a:lnTo>
                <a:lnTo>
                  <a:pt x="0" y="7334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接连接符 17"/>
          <p:cNvSpPr/>
          <p:nvPr/>
        </p:nvSpPr>
        <p:spPr>
          <a:xfrm>
            <a:off x="8820000" y="0"/>
            <a:ext cx="0" cy="686916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8194"/>
          <p:cNvSpPr/>
          <p:nvPr/>
        </p:nvSpPr>
        <p:spPr>
          <a:xfrm>
            <a:off x="1835280" y="3068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6A8E-6938-4AB8-8B4A-5AA3F8EE2B8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剪去单角的矩形 3"/>
          <p:cNvSpPr/>
          <p:nvPr/>
        </p:nvSpPr>
        <p:spPr>
          <a:xfrm>
            <a:off x="4284720" y="2492280"/>
            <a:ext cx="4871880" cy="1505160"/>
          </a:xfrm>
          <a:custGeom>
            <a:avLst/>
            <a:gdLst/>
            <a:ahLst/>
            <a:rect l="l" t="t" r="r" b="b"/>
            <a:pathLst>
              <a:path w="4872037" h="1504950">
                <a:moveTo>
                  <a:pt x="0" y="0"/>
                </a:moveTo>
                <a:lnTo>
                  <a:pt x="4621207" y="0"/>
                </a:lnTo>
                <a:lnTo>
                  <a:pt x="4872037" y="250830"/>
                </a:lnTo>
                <a:lnTo>
                  <a:pt x="4872037" y="1504950"/>
                </a:lnTo>
                <a:lnTo>
                  <a:pt x="0" y="15049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5542920" y="25718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4608360" y="4325760"/>
            <a:ext cx="3973680" cy="433440"/>
          </a:xfrm>
          <a:custGeom>
            <a:avLst/>
            <a:gdLst/>
            <a:ahLst/>
            <a:rect l="l" t="t" r="r" b="b"/>
            <a:pathLst>
              <a:path w="3973512" h="433387">
                <a:moveTo>
                  <a:pt x="0" y="0"/>
                </a:moveTo>
                <a:lnTo>
                  <a:pt x="3901279" y="0"/>
                </a:lnTo>
                <a:lnTo>
                  <a:pt x="3973512" y="72232"/>
                </a:lnTo>
                <a:lnTo>
                  <a:pt x="3973512" y="433387"/>
                </a:lnTo>
                <a:lnTo>
                  <a:pt x="0" y="4333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5496120" y="4297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告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剪去单角的矩形 8"/>
          <p:cNvSpPr/>
          <p:nvPr/>
        </p:nvSpPr>
        <p:spPr>
          <a:xfrm>
            <a:off x="5667480" y="4896000"/>
            <a:ext cx="2914560" cy="360360"/>
          </a:xfrm>
          <a:custGeom>
            <a:avLst/>
            <a:gdLst/>
            <a:ahLst/>
            <a:rect l="l" t="t" r="r" b="b"/>
            <a:pathLst>
              <a:path w="2914650" h="360362">
                <a:moveTo>
                  <a:pt x="0" y="0"/>
                </a:moveTo>
                <a:lnTo>
                  <a:pt x="2854588" y="0"/>
                </a:lnTo>
                <a:lnTo>
                  <a:pt x="2914650" y="60061"/>
                </a:lnTo>
                <a:lnTo>
                  <a:pt x="2914650" y="360362"/>
                </a:lnTo>
                <a:lnTo>
                  <a:pt x="0" y="3603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6491880" y="4896000"/>
            <a:ext cx="16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   月    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任意多边形 10"/>
          <p:cNvSpPr/>
          <p:nvPr/>
        </p:nvSpPr>
        <p:spPr>
          <a:xfrm>
            <a:off x="-17640" y="4019400"/>
            <a:ext cx="9161640" cy="2624400"/>
          </a:xfrm>
          <a:custGeom>
            <a:avLst/>
            <a:gdLst/>
            <a:ahLst/>
            <a:rect l="l" t="t" r="r" b="b"/>
            <a:pathLst>
              <a:path w="9162107" h="2623298">
                <a:moveTo>
                  <a:pt x="0" y="0"/>
                </a:moveTo>
                <a:cubicBezTo>
                  <a:pt x="187105" y="452673"/>
                  <a:pt x="374211" y="905347"/>
                  <a:pt x="923454" y="1068309"/>
                </a:cubicBezTo>
                <a:cubicBezTo>
                  <a:pt x="1472698" y="1231271"/>
                  <a:pt x="2506301" y="728804"/>
                  <a:pt x="3295461" y="977774"/>
                </a:cubicBezTo>
                <a:cubicBezTo>
                  <a:pt x="4084621" y="1226744"/>
                  <a:pt x="4680642" y="2367481"/>
                  <a:pt x="5658416" y="2562130"/>
                </a:cubicBezTo>
                <a:cubicBezTo>
                  <a:pt x="6636190" y="2756780"/>
                  <a:pt x="7899148" y="2451225"/>
                  <a:pt x="9162107" y="2145671"/>
                </a:cubicBezTo>
              </a:path>
            </a:pathLst>
          </a:custGeom>
          <a:noFill/>
          <a:ln w="12600">
            <a:solidFill>
              <a:srgbClr val="ddd9c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椭圆 11"/>
          <p:cNvSpPr/>
          <p:nvPr/>
        </p:nvSpPr>
        <p:spPr>
          <a:xfrm>
            <a:off x="755640" y="499572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椭圆 12"/>
          <p:cNvSpPr/>
          <p:nvPr/>
        </p:nvSpPr>
        <p:spPr>
          <a:xfrm>
            <a:off x="1908000" y="497520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椭圆 13"/>
          <p:cNvSpPr/>
          <p:nvPr/>
        </p:nvSpPr>
        <p:spPr>
          <a:xfrm>
            <a:off x="2050920" y="4938840"/>
            <a:ext cx="100080" cy="9972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椭圆 14"/>
          <p:cNvSpPr/>
          <p:nvPr/>
        </p:nvSpPr>
        <p:spPr>
          <a:xfrm>
            <a:off x="3276720" y="4975200"/>
            <a:ext cx="9972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椭圆 15"/>
          <p:cNvSpPr/>
          <p:nvPr/>
        </p:nvSpPr>
        <p:spPr>
          <a:xfrm>
            <a:off x="5364000" y="6453360"/>
            <a:ext cx="100080" cy="9972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椭圆 16"/>
          <p:cNvSpPr/>
          <p:nvPr/>
        </p:nvSpPr>
        <p:spPr>
          <a:xfrm>
            <a:off x="5486400" y="652464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椭圆 17"/>
          <p:cNvSpPr/>
          <p:nvPr/>
        </p:nvSpPr>
        <p:spPr>
          <a:xfrm>
            <a:off x="7332840" y="6513480"/>
            <a:ext cx="9972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椭圆 18"/>
          <p:cNvSpPr/>
          <p:nvPr/>
        </p:nvSpPr>
        <p:spPr>
          <a:xfrm>
            <a:off x="7524720" y="647532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椭圆 19"/>
          <p:cNvSpPr/>
          <p:nvPr/>
        </p:nvSpPr>
        <p:spPr>
          <a:xfrm>
            <a:off x="7074000" y="652464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椭圆 20"/>
          <p:cNvSpPr/>
          <p:nvPr/>
        </p:nvSpPr>
        <p:spPr>
          <a:xfrm>
            <a:off x="8964720" y="616572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椭圆 21"/>
          <p:cNvSpPr/>
          <p:nvPr/>
        </p:nvSpPr>
        <p:spPr>
          <a:xfrm>
            <a:off x="611280" y="5732640"/>
            <a:ext cx="100080" cy="10152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椭圆 22"/>
          <p:cNvSpPr/>
          <p:nvPr/>
        </p:nvSpPr>
        <p:spPr>
          <a:xfrm>
            <a:off x="855720" y="5783400"/>
            <a:ext cx="100080" cy="9972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椭圆 23"/>
          <p:cNvSpPr/>
          <p:nvPr/>
        </p:nvSpPr>
        <p:spPr>
          <a:xfrm>
            <a:off x="1258920" y="578628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椭圆 24"/>
          <p:cNvSpPr/>
          <p:nvPr/>
        </p:nvSpPr>
        <p:spPr>
          <a:xfrm>
            <a:off x="2916360" y="6162840"/>
            <a:ext cx="99720" cy="9972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椭圆 25"/>
          <p:cNvSpPr/>
          <p:nvPr/>
        </p:nvSpPr>
        <p:spPr>
          <a:xfrm>
            <a:off x="3132000" y="635328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任意多边形 26"/>
          <p:cNvSpPr/>
          <p:nvPr/>
        </p:nvSpPr>
        <p:spPr>
          <a:xfrm>
            <a:off x="3168720" y="27000"/>
            <a:ext cx="5984640" cy="679320"/>
          </a:xfrm>
          <a:custGeom>
            <a:avLst/>
            <a:gdLst/>
            <a:ahLst/>
            <a:rect l="l" t="t" r="r" b="b"/>
            <a:pathLst>
              <a:path w="5984340" h="678869">
                <a:moveTo>
                  <a:pt x="0" y="0"/>
                </a:moveTo>
                <a:cubicBezTo>
                  <a:pt x="806512" y="301782"/>
                  <a:pt x="1613025" y="603565"/>
                  <a:pt x="2381061" y="669957"/>
                </a:cubicBezTo>
                <a:cubicBezTo>
                  <a:pt x="3149097" y="736349"/>
                  <a:pt x="4007668" y="410424"/>
                  <a:pt x="4608214" y="398353"/>
                </a:cubicBezTo>
                <a:cubicBezTo>
                  <a:pt x="5208760" y="386282"/>
                  <a:pt x="5596550" y="491905"/>
                  <a:pt x="5984340" y="597529"/>
                </a:cubicBezTo>
              </a:path>
            </a:pathLst>
          </a:custGeom>
          <a:noFill/>
          <a:ln w="1260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任意多边形 27"/>
          <p:cNvSpPr/>
          <p:nvPr/>
        </p:nvSpPr>
        <p:spPr>
          <a:xfrm>
            <a:off x="-63360" y="9360"/>
            <a:ext cx="5694120" cy="741600"/>
          </a:xfrm>
          <a:custGeom>
            <a:avLst/>
            <a:gdLst/>
            <a:ahLst/>
            <a:rect l="l" t="t" r="r" b="b"/>
            <a:pathLst>
              <a:path w="5694629" h="742385">
                <a:moveTo>
                  <a:pt x="5694629" y="0"/>
                </a:moveTo>
                <a:cubicBezTo>
                  <a:pt x="4949227" y="212002"/>
                  <a:pt x="4203826" y="424005"/>
                  <a:pt x="3558012" y="488888"/>
                </a:cubicBezTo>
                <a:cubicBezTo>
                  <a:pt x="2912198" y="553771"/>
                  <a:pt x="2412748" y="347050"/>
                  <a:pt x="1819746" y="389299"/>
                </a:cubicBezTo>
                <a:cubicBezTo>
                  <a:pt x="1226744" y="431548"/>
                  <a:pt x="613372" y="586966"/>
                  <a:pt x="0" y="742385"/>
                </a:cubicBezTo>
              </a:path>
            </a:pathLst>
          </a:custGeom>
          <a:noFill/>
          <a:ln w="1260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椭圆 28"/>
          <p:cNvSpPr/>
          <p:nvPr/>
        </p:nvSpPr>
        <p:spPr>
          <a:xfrm>
            <a:off x="4067280" y="366840"/>
            <a:ext cx="100080" cy="9972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椭圆 29"/>
          <p:cNvSpPr/>
          <p:nvPr/>
        </p:nvSpPr>
        <p:spPr>
          <a:xfrm>
            <a:off x="1979640" y="34920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椭圆 30"/>
          <p:cNvSpPr/>
          <p:nvPr/>
        </p:nvSpPr>
        <p:spPr>
          <a:xfrm>
            <a:off x="65160" y="65088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椭圆 31"/>
          <p:cNvSpPr/>
          <p:nvPr/>
        </p:nvSpPr>
        <p:spPr>
          <a:xfrm>
            <a:off x="5140440" y="606600"/>
            <a:ext cx="99720" cy="9972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椭圆 32"/>
          <p:cNvSpPr/>
          <p:nvPr/>
        </p:nvSpPr>
        <p:spPr>
          <a:xfrm>
            <a:off x="5630760" y="67140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椭圆 33"/>
          <p:cNvSpPr/>
          <p:nvPr/>
        </p:nvSpPr>
        <p:spPr>
          <a:xfrm>
            <a:off x="7310520" y="40464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椭圆 34"/>
          <p:cNvSpPr/>
          <p:nvPr/>
        </p:nvSpPr>
        <p:spPr>
          <a:xfrm>
            <a:off x="7524720" y="38088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椭圆 35"/>
          <p:cNvSpPr/>
          <p:nvPr/>
        </p:nvSpPr>
        <p:spPr>
          <a:xfrm>
            <a:off x="7684920" y="380880"/>
            <a:ext cx="100080" cy="1000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任意多边形 36"/>
          <p:cNvSpPr/>
          <p:nvPr/>
        </p:nvSpPr>
        <p:spPr>
          <a:xfrm>
            <a:off x="0" y="736560"/>
            <a:ext cx="9153360" cy="495360"/>
          </a:xfrm>
          <a:custGeom>
            <a:avLst/>
            <a:gdLst/>
            <a:ahLst/>
            <a:rect l="l" t="t" r="r" b="b"/>
            <a:pathLst>
              <a:path w="9153053" h="496817">
                <a:moveTo>
                  <a:pt x="0" y="232878"/>
                </a:moveTo>
                <a:cubicBezTo>
                  <a:pt x="618653" y="100848"/>
                  <a:pt x="1237307" y="-31182"/>
                  <a:pt x="1837853" y="6541"/>
                </a:cubicBezTo>
                <a:cubicBezTo>
                  <a:pt x="2438400" y="44264"/>
                  <a:pt x="2859386" y="418473"/>
                  <a:pt x="3603279" y="459214"/>
                </a:cubicBezTo>
                <a:cubicBezTo>
                  <a:pt x="4347172" y="499955"/>
                  <a:pt x="5483382" y="244949"/>
                  <a:pt x="6301212" y="250985"/>
                </a:cubicBezTo>
                <a:cubicBezTo>
                  <a:pt x="7119042" y="257021"/>
                  <a:pt x="8034950" y="481848"/>
                  <a:pt x="8510257" y="495428"/>
                </a:cubicBezTo>
                <a:cubicBezTo>
                  <a:pt x="8985564" y="509008"/>
                  <a:pt x="9069308" y="420737"/>
                  <a:pt x="9153053" y="332466"/>
                </a:cubicBezTo>
              </a:path>
            </a:pathLst>
          </a:custGeom>
          <a:noFill/>
          <a:ln w="1260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椭圆 37"/>
          <p:cNvSpPr/>
          <p:nvPr/>
        </p:nvSpPr>
        <p:spPr>
          <a:xfrm>
            <a:off x="6227640" y="933480"/>
            <a:ext cx="100080" cy="10152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9T06:24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9:51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